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94EF-CD3D-49D0-B756-8055CD66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17C6-0116-4D2A-87F4-EC4CD50E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0136-3C0E-4105-8A80-A1FBC6A7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9993-B6CB-4D94-817A-31E73E35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761B-2281-4DBD-A5A1-CADFD6E9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B449-B613-47AC-A3C1-A2A759CA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4A00-84AD-4FFF-B9BE-3527A361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45CF-6E9F-4ED4-8DF7-6CBD0A7A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BBDA-169D-48C8-A5F3-C4797344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DEAD-7715-4837-94EF-64632C56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AFBC-C55E-44B3-8AD2-BD2345C5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49E23-9453-468C-9385-9CB48E6E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78F7-6299-401D-8F36-BC1B627A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C5A4-DDA8-49CB-81EC-E1196706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F6A5-1F4C-4425-8F9B-330494D1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865F-A257-4016-AF61-CE5E297D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0A89-6040-4D35-8CF5-A1C4B49B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5977-4F13-4905-8B8C-1534B574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15A9-7CC7-41C2-A85A-A31EDC33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3FEF-9375-44AE-95F7-09D370D0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51C0-2A8F-473C-AEF0-18980CA9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7BEF-75ED-402A-8A71-8481C497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666F-550C-4AF5-83B4-F4DFB238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3C06-F1AB-4906-9DF8-0756FD03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C9BE-42AD-4535-9B1A-6DBBE2A4D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0B92-EC73-4720-9467-0F6D6D93CA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295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remaining trig fun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sc 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= 5 and cos 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&gt; 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Ink 4"/>
          <p:cNvSpPr/>
          <p:nvPr/>
        </p:nvSpPr>
        <p:spPr>
          <a:xfrm>
            <a:off x="741240" y="3598920"/>
            <a:ext cx="1928880" cy="608040"/>
          </a:xfrm>
          <a:custGeom>
            <a:avLst/>
            <a:gdLst/>
            <a:ahLst/>
            <a:rect l="l" t="t" r="r" b="b"/>
            <a:pathLst>
              <a:path w="5359" h="1688">
                <a:moveTo>
                  <a:pt x="2679" y="10344"/>
                </a:moveTo>
                <a:cubicBezTo>
                  <a:pt x="2700" y="10371"/>
                  <a:pt x="2723" y="10459"/>
                  <a:pt x="2704" y="10393"/>
                </a:cubicBezTo>
                <a:cubicBezTo>
                  <a:pt x="2693" y="10353"/>
                  <a:pt x="2706" y="10317"/>
                  <a:pt x="2654" y="10294"/>
                </a:cubicBezTo>
                <a:cubicBezTo>
                  <a:pt x="2621" y="10279"/>
                  <a:pt x="2566" y="10272"/>
                  <a:pt x="2530" y="10269"/>
                </a:cubicBezTo>
                <a:cubicBezTo>
                  <a:pt x="2471" y="10264"/>
                  <a:pt x="2435" y="10282"/>
                  <a:pt x="2381" y="10294"/>
                </a:cubicBezTo>
                <a:cubicBezTo>
                  <a:pt x="2334" y="10305"/>
                  <a:pt x="2292" y="10313"/>
                  <a:pt x="2257" y="10344"/>
                </a:cubicBezTo>
                <a:cubicBezTo>
                  <a:pt x="2224" y="10372"/>
                  <a:pt x="2188" y="10401"/>
                  <a:pt x="2183" y="10443"/>
                </a:cubicBezTo>
                <a:cubicBezTo>
                  <a:pt x="2177" y="10493"/>
                  <a:pt x="2198" y="10507"/>
                  <a:pt x="2232" y="10542"/>
                </a:cubicBezTo>
                <a:cubicBezTo>
                  <a:pt x="2276" y="10587"/>
                  <a:pt x="2299" y="10589"/>
                  <a:pt x="2356" y="10616"/>
                </a:cubicBezTo>
                <a:cubicBezTo>
                  <a:pt x="2417" y="10644"/>
                  <a:pt x="2478" y="10663"/>
                  <a:pt x="2530" y="10691"/>
                </a:cubicBezTo>
                <a:cubicBezTo>
                  <a:pt x="2601" y="10729"/>
                  <a:pt x="2663" y="10747"/>
                  <a:pt x="2729" y="10790"/>
                </a:cubicBezTo>
                <a:cubicBezTo>
                  <a:pt x="2777" y="10821"/>
                  <a:pt x="2797" y="10857"/>
                  <a:pt x="2803" y="10914"/>
                </a:cubicBezTo>
                <a:cubicBezTo>
                  <a:pt x="2810" y="10979"/>
                  <a:pt x="2795" y="10995"/>
                  <a:pt x="2753" y="11038"/>
                </a:cubicBezTo>
                <a:cubicBezTo>
                  <a:pt x="2715" y="11077"/>
                  <a:pt x="2634" y="11125"/>
                  <a:pt x="2580" y="11137"/>
                </a:cubicBezTo>
                <a:cubicBezTo>
                  <a:pt x="2495" y="11156"/>
                  <a:pt x="2410" y="11125"/>
                  <a:pt x="2332" y="11112"/>
                </a:cubicBezTo>
                <a:cubicBezTo>
                  <a:pt x="2278" y="11103"/>
                  <a:pt x="2205" y="11091"/>
                  <a:pt x="2158" y="11063"/>
                </a:cubicBezTo>
                <a:cubicBezTo>
                  <a:pt x="2119" y="11039"/>
                  <a:pt x="2073" y="11006"/>
                  <a:pt x="2059" y="10964"/>
                </a:cubicBezTo>
                <a:cubicBezTo>
                  <a:pt x="2059" y="10939"/>
                  <a:pt x="2059" y="10931"/>
                  <a:pt x="2059" y="10914"/>
                </a:cubicBezTo>
              </a:path>
              <a:path w="5359" h="1688">
                <a:moveTo>
                  <a:pt x="3175" y="10616"/>
                </a:moveTo>
                <a:cubicBezTo>
                  <a:pt x="3182" y="10689"/>
                  <a:pt x="3200" y="10742"/>
                  <a:pt x="3200" y="10815"/>
                </a:cubicBezTo>
                <a:cubicBezTo>
                  <a:pt x="3200" y="10913"/>
                  <a:pt x="3199" y="11004"/>
                  <a:pt x="3225" y="11088"/>
                </a:cubicBezTo>
                <a:cubicBezTo>
                  <a:pt x="3252" y="11176"/>
                  <a:pt x="3214" y="11085"/>
                  <a:pt x="3200" y="11038"/>
                </a:cubicBezTo>
              </a:path>
              <a:path w="5359" h="1688">
                <a:moveTo>
                  <a:pt x="3175" y="10170"/>
                </a:moveTo>
                <a:cubicBezTo>
                  <a:pt x="3200" y="10170"/>
                  <a:pt x="3208" y="10170"/>
                  <a:pt x="3200" y="10145"/>
                </a:cubicBezTo>
              </a:path>
              <a:path w="5359" h="1688">
                <a:moveTo>
                  <a:pt x="3448" y="10815"/>
                </a:moveTo>
                <a:cubicBezTo>
                  <a:pt x="3448" y="10898"/>
                  <a:pt x="3448" y="10980"/>
                  <a:pt x="3448" y="11063"/>
                </a:cubicBezTo>
                <a:cubicBezTo>
                  <a:pt x="3497" y="11047"/>
                  <a:pt x="3457" y="11034"/>
                  <a:pt x="3473" y="10988"/>
                </a:cubicBezTo>
                <a:cubicBezTo>
                  <a:pt x="3494" y="10926"/>
                  <a:pt x="3497" y="10906"/>
                  <a:pt x="3497" y="10840"/>
                </a:cubicBezTo>
                <a:cubicBezTo>
                  <a:pt x="3497" y="10781"/>
                  <a:pt x="3516" y="10746"/>
                  <a:pt x="3522" y="10691"/>
                </a:cubicBezTo>
                <a:cubicBezTo>
                  <a:pt x="3525" y="10659"/>
                  <a:pt x="3539" y="10583"/>
                  <a:pt x="3572" y="10567"/>
                </a:cubicBezTo>
                <a:cubicBezTo>
                  <a:pt x="3602" y="10552"/>
                  <a:pt x="3684" y="10524"/>
                  <a:pt x="3721" y="10542"/>
                </a:cubicBezTo>
                <a:cubicBezTo>
                  <a:pt x="3772" y="10567"/>
                  <a:pt x="3812" y="10627"/>
                  <a:pt x="3845" y="10666"/>
                </a:cubicBezTo>
                <a:cubicBezTo>
                  <a:pt x="3881" y="10708"/>
                  <a:pt x="3892" y="10782"/>
                  <a:pt x="3894" y="10840"/>
                </a:cubicBezTo>
                <a:cubicBezTo>
                  <a:pt x="3897" y="10921"/>
                  <a:pt x="3915" y="10986"/>
                  <a:pt x="3919" y="11063"/>
                </a:cubicBezTo>
                <a:cubicBezTo>
                  <a:pt x="3922" y="11112"/>
                  <a:pt x="3919" y="11163"/>
                  <a:pt x="3919" y="11212"/>
                </a:cubicBezTo>
                <a:cubicBezTo>
                  <a:pt x="3929" y="11181"/>
                  <a:pt x="3968" y="11158"/>
                  <a:pt x="3994" y="11112"/>
                </a:cubicBezTo>
              </a:path>
              <a:path w="5359" h="1688">
                <a:moveTo>
                  <a:pt x="4539" y="10319"/>
                </a:moveTo>
                <a:cubicBezTo>
                  <a:pt x="4572" y="10373"/>
                  <a:pt x="4560" y="10429"/>
                  <a:pt x="4539" y="10492"/>
                </a:cubicBezTo>
                <a:cubicBezTo>
                  <a:pt x="4517" y="10559"/>
                  <a:pt x="4493" y="10620"/>
                  <a:pt x="4490" y="10691"/>
                </a:cubicBezTo>
                <a:cubicBezTo>
                  <a:pt x="4486" y="10783"/>
                  <a:pt x="4447" y="10868"/>
                  <a:pt x="4465" y="10964"/>
                </a:cubicBezTo>
                <a:cubicBezTo>
                  <a:pt x="4480" y="11044"/>
                  <a:pt x="4497" y="11158"/>
                  <a:pt x="4564" y="11212"/>
                </a:cubicBezTo>
                <a:cubicBezTo>
                  <a:pt x="4617" y="11254"/>
                  <a:pt x="4699" y="11237"/>
                  <a:pt x="4762" y="11237"/>
                </a:cubicBezTo>
                <a:cubicBezTo>
                  <a:pt x="4853" y="11237"/>
                  <a:pt x="4884" y="11199"/>
                  <a:pt x="4936" y="11137"/>
                </a:cubicBezTo>
                <a:cubicBezTo>
                  <a:pt x="4985" y="11078"/>
                  <a:pt x="5025" y="11015"/>
                  <a:pt x="5035" y="10939"/>
                </a:cubicBezTo>
                <a:cubicBezTo>
                  <a:pt x="5046" y="10852"/>
                  <a:pt x="5042" y="10748"/>
                  <a:pt x="5011" y="10666"/>
                </a:cubicBezTo>
                <a:cubicBezTo>
                  <a:pt x="4975" y="10570"/>
                  <a:pt x="4934" y="10515"/>
                  <a:pt x="4862" y="10443"/>
                </a:cubicBezTo>
                <a:cubicBezTo>
                  <a:pt x="4807" y="10388"/>
                  <a:pt x="4753" y="10333"/>
                  <a:pt x="4688" y="10294"/>
                </a:cubicBezTo>
                <a:cubicBezTo>
                  <a:pt x="4675" y="10286"/>
                  <a:pt x="4547" y="10242"/>
                  <a:pt x="4539" y="10244"/>
                </a:cubicBezTo>
                <a:cubicBezTo>
                  <a:pt x="4531" y="10252"/>
                  <a:pt x="4522" y="10261"/>
                  <a:pt x="4514" y="10269"/>
                </a:cubicBezTo>
              </a:path>
              <a:path w="5359" h="1688">
                <a:moveTo>
                  <a:pt x="4341" y="10790"/>
                </a:moveTo>
                <a:cubicBezTo>
                  <a:pt x="4446" y="10813"/>
                  <a:pt x="4531" y="10815"/>
                  <a:pt x="4638" y="10815"/>
                </a:cubicBezTo>
                <a:cubicBezTo>
                  <a:pt x="4832" y="10815"/>
                  <a:pt x="5021" y="10819"/>
                  <a:pt x="5209" y="10840"/>
                </a:cubicBezTo>
                <a:cubicBezTo>
                  <a:pt x="5302" y="10850"/>
                  <a:pt x="5391" y="10851"/>
                  <a:pt x="5482" y="10864"/>
                </a:cubicBezTo>
                <a:cubicBezTo>
                  <a:pt x="5498" y="10864"/>
                  <a:pt x="5515" y="10864"/>
                  <a:pt x="5531" y="10864"/>
                </a:cubicBezTo>
              </a:path>
              <a:path w="5359" h="1688">
                <a:moveTo>
                  <a:pt x="5879" y="10592"/>
                </a:moveTo>
                <a:cubicBezTo>
                  <a:pt x="5962" y="10592"/>
                  <a:pt x="6044" y="10592"/>
                  <a:pt x="6127" y="10592"/>
                </a:cubicBezTo>
              </a:path>
              <a:path w="5359" h="1688">
                <a:moveTo>
                  <a:pt x="5854" y="10765"/>
                </a:moveTo>
                <a:cubicBezTo>
                  <a:pt x="5930" y="10794"/>
                  <a:pt x="5994" y="10790"/>
                  <a:pt x="6077" y="10790"/>
                </a:cubicBezTo>
                <a:cubicBezTo>
                  <a:pt x="6144" y="10790"/>
                  <a:pt x="6178" y="10786"/>
                  <a:pt x="6226" y="10765"/>
                </a:cubicBezTo>
              </a:path>
              <a:path w="5359" h="1688">
                <a:moveTo>
                  <a:pt x="7069" y="9996"/>
                </a:moveTo>
                <a:cubicBezTo>
                  <a:pt x="7091" y="10075"/>
                  <a:pt x="7056" y="10072"/>
                  <a:pt x="7045" y="10145"/>
                </a:cubicBezTo>
                <a:cubicBezTo>
                  <a:pt x="7032" y="10237"/>
                  <a:pt x="7000" y="10323"/>
                  <a:pt x="6995" y="10418"/>
                </a:cubicBezTo>
                <a:cubicBezTo>
                  <a:pt x="6992" y="10483"/>
                  <a:pt x="7009" y="10518"/>
                  <a:pt x="7020" y="10567"/>
                </a:cubicBezTo>
                <a:cubicBezTo>
                  <a:pt x="7020" y="10583"/>
                  <a:pt x="7020" y="10600"/>
                  <a:pt x="7020" y="10616"/>
                </a:cubicBezTo>
              </a:path>
              <a:path w="5359" h="1688">
                <a:moveTo>
                  <a:pt x="6747" y="10716"/>
                </a:moveTo>
                <a:cubicBezTo>
                  <a:pt x="6957" y="10716"/>
                  <a:pt x="7163" y="10712"/>
                  <a:pt x="7367" y="10740"/>
                </a:cubicBezTo>
                <a:cubicBezTo>
                  <a:pt x="7384" y="10740"/>
                  <a:pt x="7400" y="10740"/>
                  <a:pt x="7417" y="10740"/>
                </a:cubicBezTo>
              </a:path>
              <a:path w="5359" h="1688">
                <a:moveTo>
                  <a:pt x="7020" y="10864"/>
                </a:moveTo>
                <a:cubicBezTo>
                  <a:pt x="7133" y="10880"/>
                  <a:pt x="7229" y="10889"/>
                  <a:pt x="7342" y="10889"/>
                </a:cubicBezTo>
                <a:cubicBezTo>
                  <a:pt x="7350" y="10889"/>
                  <a:pt x="7359" y="10889"/>
                  <a:pt x="7367" y="10889"/>
                </a:cubicBezTo>
              </a:path>
              <a:path w="5359" h="1688">
                <a:moveTo>
                  <a:pt x="6970" y="10914"/>
                </a:moveTo>
                <a:cubicBezTo>
                  <a:pt x="6943" y="10988"/>
                  <a:pt x="6921" y="11035"/>
                  <a:pt x="6921" y="11112"/>
                </a:cubicBezTo>
                <a:cubicBezTo>
                  <a:pt x="6921" y="11149"/>
                  <a:pt x="6905" y="11217"/>
                  <a:pt x="6945" y="11237"/>
                </a:cubicBezTo>
                <a:cubicBezTo>
                  <a:pt x="6991" y="11260"/>
                  <a:pt x="7033" y="11218"/>
                  <a:pt x="7045" y="11212"/>
                </a:cubicBezTo>
                <a:cubicBezTo>
                  <a:pt x="7065" y="11201"/>
                  <a:pt x="7122" y="11189"/>
                  <a:pt x="7144" y="11187"/>
                </a:cubicBezTo>
                <a:cubicBezTo>
                  <a:pt x="7179" y="11183"/>
                  <a:pt x="7219" y="11196"/>
                  <a:pt x="7243" y="11212"/>
                </a:cubicBezTo>
                <a:cubicBezTo>
                  <a:pt x="7278" y="11235"/>
                  <a:pt x="7329" y="11321"/>
                  <a:pt x="7342" y="11361"/>
                </a:cubicBezTo>
                <a:cubicBezTo>
                  <a:pt x="7365" y="11428"/>
                  <a:pt x="7332" y="11499"/>
                  <a:pt x="7317" y="11559"/>
                </a:cubicBezTo>
                <a:cubicBezTo>
                  <a:pt x="7300" y="11626"/>
                  <a:pt x="7248" y="11620"/>
                  <a:pt x="7193" y="11658"/>
                </a:cubicBezTo>
                <a:cubicBezTo>
                  <a:pt x="7141" y="11694"/>
                  <a:pt x="7086" y="11683"/>
                  <a:pt x="7020" y="11683"/>
                </a:cubicBezTo>
                <a:cubicBezTo>
                  <a:pt x="6949" y="11683"/>
                  <a:pt x="6905" y="11676"/>
                  <a:pt x="6846" y="11658"/>
                </a:cubicBezTo>
                <a:cubicBezTo>
                  <a:pt x="6819" y="11650"/>
                  <a:pt x="6800" y="11639"/>
                  <a:pt x="6796" y="11609"/>
                </a:cubicBezTo>
                <a:cubicBezTo>
                  <a:pt x="6796" y="11601"/>
                  <a:pt x="6796" y="11592"/>
                  <a:pt x="6796" y="115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Ink 5"/>
          <p:cNvSpPr/>
          <p:nvPr/>
        </p:nvSpPr>
        <p:spPr>
          <a:xfrm>
            <a:off x="704880" y="4626000"/>
            <a:ext cx="1162080" cy="347760"/>
          </a:xfrm>
          <a:custGeom>
            <a:avLst/>
            <a:gdLst/>
            <a:ahLst/>
            <a:rect l="l" t="t" r="r" b="b"/>
            <a:pathLst>
              <a:path w="3225" h="968">
                <a:moveTo>
                  <a:pt x="2356" y="12923"/>
                </a:moveTo>
                <a:cubicBezTo>
                  <a:pt x="2356" y="12969"/>
                  <a:pt x="2375" y="13049"/>
                  <a:pt x="2356" y="13022"/>
                </a:cubicBezTo>
                <a:cubicBezTo>
                  <a:pt x="2336" y="12994"/>
                  <a:pt x="2331" y="12914"/>
                  <a:pt x="2307" y="12898"/>
                </a:cubicBezTo>
                <a:cubicBezTo>
                  <a:pt x="2299" y="12893"/>
                  <a:pt x="2190" y="12847"/>
                  <a:pt x="2183" y="12849"/>
                </a:cubicBezTo>
                <a:cubicBezTo>
                  <a:pt x="2138" y="12862"/>
                  <a:pt x="2110" y="12884"/>
                  <a:pt x="2084" y="12923"/>
                </a:cubicBezTo>
                <a:cubicBezTo>
                  <a:pt x="2042" y="12985"/>
                  <a:pt x="2031" y="13031"/>
                  <a:pt x="2009" y="13097"/>
                </a:cubicBezTo>
                <a:cubicBezTo>
                  <a:pt x="1988" y="13160"/>
                  <a:pt x="1946" y="13250"/>
                  <a:pt x="1960" y="13320"/>
                </a:cubicBezTo>
                <a:cubicBezTo>
                  <a:pt x="1975" y="13394"/>
                  <a:pt x="1988" y="13477"/>
                  <a:pt x="2034" y="13543"/>
                </a:cubicBezTo>
                <a:cubicBezTo>
                  <a:pt x="2087" y="13618"/>
                  <a:pt x="2134" y="13619"/>
                  <a:pt x="2208" y="13643"/>
                </a:cubicBezTo>
                <a:cubicBezTo>
                  <a:pt x="2291" y="13670"/>
                  <a:pt x="2322" y="13653"/>
                  <a:pt x="2406" y="13643"/>
                </a:cubicBezTo>
              </a:path>
              <a:path w="3225" h="968">
                <a:moveTo>
                  <a:pt x="2729" y="13196"/>
                </a:moveTo>
                <a:cubicBezTo>
                  <a:pt x="2692" y="13282"/>
                  <a:pt x="2659" y="13352"/>
                  <a:pt x="2654" y="13444"/>
                </a:cubicBezTo>
                <a:cubicBezTo>
                  <a:pt x="2650" y="13515"/>
                  <a:pt x="2638" y="13606"/>
                  <a:pt x="2679" y="13667"/>
                </a:cubicBezTo>
                <a:cubicBezTo>
                  <a:pt x="2714" y="13719"/>
                  <a:pt x="2746" y="13717"/>
                  <a:pt x="2803" y="13717"/>
                </a:cubicBezTo>
                <a:cubicBezTo>
                  <a:pt x="2886" y="13717"/>
                  <a:pt x="2891" y="13703"/>
                  <a:pt x="2952" y="13643"/>
                </a:cubicBezTo>
                <a:cubicBezTo>
                  <a:pt x="3030" y="13566"/>
                  <a:pt x="3026" y="13494"/>
                  <a:pt x="3026" y="13395"/>
                </a:cubicBezTo>
                <a:cubicBezTo>
                  <a:pt x="3026" y="13318"/>
                  <a:pt x="3022" y="13262"/>
                  <a:pt x="2977" y="13196"/>
                </a:cubicBezTo>
                <a:cubicBezTo>
                  <a:pt x="2953" y="13162"/>
                  <a:pt x="2868" y="13110"/>
                  <a:pt x="2828" y="13097"/>
                </a:cubicBezTo>
                <a:cubicBezTo>
                  <a:pt x="2777" y="13080"/>
                  <a:pt x="2755" y="13056"/>
                  <a:pt x="2704" y="13097"/>
                </a:cubicBezTo>
                <a:cubicBezTo>
                  <a:pt x="2696" y="13105"/>
                  <a:pt x="2687" y="13114"/>
                  <a:pt x="2679" y="13122"/>
                </a:cubicBezTo>
              </a:path>
              <a:path w="3225" h="968">
                <a:moveTo>
                  <a:pt x="3671" y="13171"/>
                </a:moveTo>
                <a:cubicBezTo>
                  <a:pt x="3613" y="13146"/>
                  <a:pt x="3586" y="13146"/>
                  <a:pt x="3522" y="13146"/>
                </a:cubicBezTo>
                <a:cubicBezTo>
                  <a:pt x="3496" y="13146"/>
                  <a:pt x="3435" y="13154"/>
                  <a:pt x="3423" y="13171"/>
                </a:cubicBezTo>
                <a:cubicBezTo>
                  <a:pt x="3406" y="13197"/>
                  <a:pt x="3427" y="13256"/>
                  <a:pt x="3448" y="13271"/>
                </a:cubicBezTo>
                <a:cubicBezTo>
                  <a:pt x="3498" y="13305"/>
                  <a:pt x="3552" y="13328"/>
                  <a:pt x="3597" y="13370"/>
                </a:cubicBezTo>
                <a:cubicBezTo>
                  <a:pt x="3658" y="13427"/>
                  <a:pt x="3675" y="13477"/>
                  <a:pt x="3721" y="13543"/>
                </a:cubicBezTo>
                <a:cubicBezTo>
                  <a:pt x="3757" y="13595"/>
                  <a:pt x="3796" y="13604"/>
                  <a:pt x="3746" y="13667"/>
                </a:cubicBezTo>
                <a:cubicBezTo>
                  <a:pt x="3717" y="13704"/>
                  <a:pt x="3661" y="13701"/>
                  <a:pt x="3621" y="13717"/>
                </a:cubicBezTo>
                <a:cubicBezTo>
                  <a:pt x="3530" y="13754"/>
                  <a:pt x="3470" y="13724"/>
                  <a:pt x="3373" y="13717"/>
                </a:cubicBezTo>
                <a:cubicBezTo>
                  <a:pt x="3330" y="13714"/>
                  <a:pt x="3332" y="13692"/>
                  <a:pt x="3349" y="13667"/>
                </a:cubicBezTo>
              </a:path>
              <a:path w="3225" h="968">
                <a:moveTo>
                  <a:pt x="4390" y="13196"/>
                </a:moveTo>
                <a:cubicBezTo>
                  <a:pt x="4338" y="13285"/>
                  <a:pt x="4283" y="13369"/>
                  <a:pt x="4266" y="13469"/>
                </a:cubicBezTo>
                <a:cubicBezTo>
                  <a:pt x="4256" y="13530"/>
                  <a:pt x="4273" y="13612"/>
                  <a:pt x="4291" y="13667"/>
                </a:cubicBezTo>
                <a:cubicBezTo>
                  <a:pt x="4307" y="13714"/>
                  <a:pt x="4392" y="13802"/>
                  <a:pt x="4440" y="13816"/>
                </a:cubicBezTo>
                <a:cubicBezTo>
                  <a:pt x="4498" y="13833"/>
                  <a:pt x="4569" y="13815"/>
                  <a:pt x="4614" y="13791"/>
                </a:cubicBezTo>
                <a:cubicBezTo>
                  <a:pt x="4675" y="13759"/>
                  <a:pt x="4722" y="13715"/>
                  <a:pt x="4738" y="13643"/>
                </a:cubicBezTo>
                <a:cubicBezTo>
                  <a:pt x="4758" y="13555"/>
                  <a:pt x="4746" y="13424"/>
                  <a:pt x="4713" y="13345"/>
                </a:cubicBezTo>
                <a:cubicBezTo>
                  <a:pt x="4688" y="13285"/>
                  <a:pt x="4663" y="13168"/>
                  <a:pt x="4614" y="13122"/>
                </a:cubicBezTo>
                <a:cubicBezTo>
                  <a:pt x="4585" y="13095"/>
                  <a:pt x="4500" y="13036"/>
                  <a:pt x="4465" y="13022"/>
                </a:cubicBezTo>
                <a:cubicBezTo>
                  <a:pt x="4440" y="13022"/>
                  <a:pt x="4432" y="13022"/>
                  <a:pt x="4415" y="13022"/>
                </a:cubicBezTo>
              </a:path>
              <a:path w="3225" h="968">
                <a:moveTo>
                  <a:pt x="4118" y="13444"/>
                </a:moveTo>
                <a:cubicBezTo>
                  <a:pt x="4278" y="13444"/>
                  <a:pt x="4434" y="13454"/>
                  <a:pt x="4589" y="13469"/>
                </a:cubicBezTo>
                <a:cubicBezTo>
                  <a:pt x="4698" y="13479"/>
                  <a:pt x="4807" y="13506"/>
                  <a:pt x="4911" y="13519"/>
                </a:cubicBezTo>
                <a:cubicBezTo>
                  <a:pt x="4993" y="13529"/>
                  <a:pt x="5064" y="13522"/>
                  <a:pt x="5135" y="13543"/>
                </a:cubicBezTo>
                <a:cubicBezTo>
                  <a:pt x="5193" y="13560"/>
                  <a:pt x="5184" y="13531"/>
                  <a:pt x="5135" y="135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Ink 6"/>
          <p:cNvSpPr/>
          <p:nvPr/>
        </p:nvSpPr>
        <p:spPr>
          <a:xfrm>
            <a:off x="714240" y="5491080"/>
            <a:ext cx="1251000" cy="455760"/>
          </a:xfrm>
          <a:custGeom>
            <a:avLst/>
            <a:gdLst/>
            <a:ahLst/>
            <a:rect l="l" t="t" r="r" b="b"/>
            <a:pathLst>
              <a:path w="3474" h="1266">
                <a:moveTo>
                  <a:pt x="2480" y="15255"/>
                </a:moveTo>
                <a:cubicBezTo>
                  <a:pt x="2480" y="15302"/>
                  <a:pt x="2459" y="15334"/>
                  <a:pt x="2456" y="15379"/>
                </a:cubicBezTo>
                <a:cubicBezTo>
                  <a:pt x="2450" y="15467"/>
                  <a:pt x="2443" y="15542"/>
                  <a:pt x="2431" y="15627"/>
                </a:cubicBezTo>
                <a:cubicBezTo>
                  <a:pt x="2417" y="15727"/>
                  <a:pt x="2422" y="15829"/>
                  <a:pt x="2406" y="15925"/>
                </a:cubicBezTo>
                <a:cubicBezTo>
                  <a:pt x="2397" y="15979"/>
                  <a:pt x="2406" y="16043"/>
                  <a:pt x="2406" y="16098"/>
                </a:cubicBezTo>
              </a:path>
              <a:path w="3474" h="1266">
                <a:moveTo>
                  <a:pt x="1984" y="15577"/>
                </a:moveTo>
                <a:cubicBezTo>
                  <a:pt x="2092" y="15631"/>
                  <a:pt x="2188" y="15688"/>
                  <a:pt x="2307" y="15701"/>
                </a:cubicBezTo>
                <a:cubicBezTo>
                  <a:pt x="2456" y="15718"/>
                  <a:pt x="2547" y="15715"/>
                  <a:pt x="2704" y="15701"/>
                </a:cubicBezTo>
                <a:cubicBezTo>
                  <a:pt x="2758" y="15696"/>
                  <a:pt x="2799" y="15683"/>
                  <a:pt x="2853" y="15677"/>
                </a:cubicBezTo>
              </a:path>
              <a:path w="3474" h="1266">
                <a:moveTo>
                  <a:pt x="3175" y="15974"/>
                </a:moveTo>
                <a:cubicBezTo>
                  <a:pt x="3175" y="15937"/>
                  <a:pt x="3165" y="15880"/>
                  <a:pt x="3150" y="15850"/>
                </a:cubicBezTo>
                <a:cubicBezTo>
                  <a:pt x="3128" y="15806"/>
                  <a:pt x="3093" y="15801"/>
                  <a:pt x="3051" y="15801"/>
                </a:cubicBezTo>
                <a:cubicBezTo>
                  <a:pt x="2994" y="15801"/>
                  <a:pt x="2961" y="15797"/>
                  <a:pt x="2927" y="15850"/>
                </a:cubicBezTo>
                <a:cubicBezTo>
                  <a:pt x="2888" y="15910"/>
                  <a:pt x="2858" y="15951"/>
                  <a:pt x="2853" y="16024"/>
                </a:cubicBezTo>
                <a:cubicBezTo>
                  <a:pt x="2848" y="16089"/>
                  <a:pt x="2864" y="16143"/>
                  <a:pt x="2902" y="16197"/>
                </a:cubicBezTo>
                <a:cubicBezTo>
                  <a:pt x="2923" y="16228"/>
                  <a:pt x="2985" y="16289"/>
                  <a:pt x="3026" y="16272"/>
                </a:cubicBezTo>
                <a:cubicBezTo>
                  <a:pt x="3070" y="16254"/>
                  <a:pt x="3100" y="16203"/>
                  <a:pt x="3125" y="16173"/>
                </a:cubicBezTo>
                <a:cubicBezTo>
                  <a:pt x="3150" y="16142"/>
                  <a:pt x="3163" y="16085"/>
                  <a:pt x="3175" y="16049"/>
                </a:cubicBezTo>
                <a:cubicBezTo>
                  <a:pt x="3181" y="16030"/>
                  <a:pt x="3175" y="15994"/>
                  <a:pt x="3175" y="15974"/>
                </a:cubicBezTo>
                <a:cubicBezTo>
                  <a:pt x="3226" y="15991"/>
                  <a:pt x="3183" y="16022"/>
                  <a:pt x="3200" y="16073"/>
                </a:cubicBezTo>
                <a:cubicBezTo>
                  <a:pt x="3218" y="16127"/>
                  <a:pt x="3235" y="16179"/>
                  <a:pt x="3274" y="16222"/>
                </a:cubicBezTo>
                <a:cubicBezTo>
                  <a:pt x="3297" y="16248"/>
                  <a:pt x="3324" y="16272"/>
                  <a:pt x="3349" y="16297"/>
                </a:cubicBezTo>
              </a:path>
              <a:path w="3474" h="1266">
                <a:moveTo>
                  <a:pt x="3522" y="15925"/>
                </a:moveTo>
                <a:cubicBezTo>
                  <a:pt x="3522" y="16016"/>
                  <a:pt x="3522" y="16106"/>
                  <a:pt x="3522" y="16197"/>
                </a:cubicBezTo>
                <a:cubicBezTo>
                  <a:pt x="3550" y="16188"/>
                  <a:pt x="3561" y="16140"/>
                  <a:pt x="3572" y="16098"/>
                </a:cubicBezTo>
                <a:cubicBezTo>
                  <a:pt x="3582" y="16057"/>
                  <a:pt x="3603" y="15984"/>
                  <a:pt x="3621" y="15949"/>
                </a:cubicBezTo>
                <a:cubicBezTo>
                  <a:pt x="3629" y="15933"/>
                  <a:pt x="3726" y="15856"/>
                  <a:pt x="3746" y="15850"/>
                </a:cubicBezTo>
                <a:cubicBezTo>
                  <a:pt x="3790" y="15837"/>
                  <a:pt x="3840" y="15848"/>
                  <a:pt x="3870" y="15875"/>
                </a:cubicBezTo>
                <a:cubicBezTo>
                  <a:pt x="3931" y="15931"/>
                  <a:pt x="3941" y="15965"/>
                  <a:pt x="3944" y="16049"/>
                </a:cubicBezTo>
                <a:cubicBezTo>
                  <a:pt x="3946" y="16108"/>
                  <a:pt x="3988" y="16189"/>
                  <a:pt x="3969" y="16247"/>
                </a:cubicBezTo>
                <a:cubicBezTo>
                  <a:pt x="3946" y="16317"/>
                  <a:pt x="3969" y="16303"/>
                  <a:pt x="3969" y="16371"/>
                </a:cubicBezTo>
              </a:path>
              <a:path w="3474" h="1266">
                <a:moveTo>
                  <a:pt x="4812" y="15652"/>
                </a:moveTo>
                <a:cubicBezTo>
                  <a:pt x="4849" y="15701"/>
                  <a:pt x="4840" y="15702"/>
                  <a:pt x="4812" y="15751"/>
                </a:cubicBezTo>
                <a:cubicBezTo>
                  <a:pt x="4768" y="15828"/>
                  <a:pt x="4725" y="15896"/>
                  <a:pt x="4688" y="15974"/>
                </a:cubicBezTo>
                <a:cubicBezTo>
                  <a:pt x="4652" y="16050"/>
                  <a:pt x="4642" y="16138"/>
                  <a:pt x="4638" y="16222"/>
                </a:cubicBezTo>
                <a:cubicBezTo>
                  <a:pt x="4634" y="16318"/>
                  <a:pt x="4677" y="16380"/>
                  <a:pt x="4738" y="16446"/>
                </a:cubicBezTo>
                <a:cubicBezTo>
                  <a:pt x="4780" y="16491"/>
                  <a:pt x="4873" y="16538"/>
                  <a:pt x="4936" y="16520"/>
                </a:cubicBezTo>
                <a:cubicBezTo>
                  <a:pt x="4973" y="16509"/>
                  <a:pt x="5053" y="16412"/>
                  <a:pt x="5060" y="16371"/>
                </a:cubicBezTo>
                <a:cubicBezTo>
                  <a:pt x="5077" y="16279"/>
                  <a:pt x="5085" y="16194"/>
                  <a:pt x="5085" y="16098"/>
                </a:cubicBezTo>
                <a:cubicBezTo>
                  <a:pt x="5085" y="16008"/>
                  <a:pt x="5080" y="15932"/>
                  <a:pt x="5035" y="15850"/>
                </a:cubicBezTo>
                <a:cubicBezTo>
                  <a:pt x="5010" y="15805"/>
                  <a:pt x="4973" y="15763"/>
                  <a:pt x="4936" y="15726"/>
                </a:cubicBezTo>
                <a:cubicBezTo>
                  <a:pt x="4906" y="15696"/>
                  <a:pt x="4892" y="15685"/>
                  <a:pt x="4862" y="15677"/>
                </a:cubicBezTo>
              </a:path>
              <a:path w="3474" h="1266">
                <a:moveTo>
                  <a:pt x="4341" y="15974"/>
                </a:moveTo>
                <a:cubicBezTo>
                  <a:pt x="4451" y="15981"/>
                  <a:pt x="4579" y="15978"/>
                  <a:pt x="4688" y="15999"/>
                </a:cubicBezTo>
                <a:cubicBezTo>
                  <a:pt x="4787" y="16018"/>
                  <a:pt x="4886" y="16059"/>
                  <a:pt x="4986" y="16073"/>
                </a:cubicBezTo>
                <a:cubicBezTo>
                  <a:pt x="5079" y="16086"/>
                  <a:pt x="5147" y="16128"/>
                  <a:pt x="5234" y="16148"/>
                </a:cubicBezTo>
                <a:cubicBezTo>
                  <a:pt x="5266" y="16155"/>
                  <a:pt x="5411" y="16199"/>
                  <a:pt x="5432" y="16173"/>
                </a:cubicBezTo>
                <a:cubicBezTo>
                  <a:pt x="5432" y="16145"/>
                  <a:pt x="5434" y="16134"/>
                  <a:pt x="5457" y="161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Ink 7"/>
          <p:cNvSpPr/>
          <p:nvPr/>
        </p:nvSpPr>
        <p:spPr>
          <a:xfrm>
            <a:off x="4653000" y="5776920"/>
            <a:ext cx="1071360" cy="331920"/>
          </a:xfrm>
          <a:custGeom>
            <a:avLst/>
            <a:gdLst/>
            <a:ahLst/>
            <a:rect l="l" t="t" r="r" b="b"/>
            <a:pathLst>
              <a:path w="2978" h="918">
                <a:moveTo>
                  <a:pt x="13345" y="16197"/>
                </a:moveTo>
                <a:cubicBezTo>
                  <a:pt x="13345" y="16205"/>
                  <a:pt x="13345" y="16214"/>
                  <a:pt x="13345" y="16222"/>
                </a:cubicBezTo>
                <a:cubicBezTo>
                  <a:pt x="13371" y="16213"/>
                  <a:pt x="13391" y="16204"/>
                  <a:pt x="13395" y="16173"/>
                </a:cubicBezTo>
                <a:cubicBezTo>
                  <a:pt x="13399" y="16142"/>
                  <a:pt x="13348" y="16086"/>
                  <a:pt x="13320" y="16073"/>
                </a:cubicBezTo>
                <a:cubicBezTo>
                  <a:pt x="13273" y="16052"/>
                  <a:pt x="13224" y="16049"/>
                  <a:pt x="13171" y="16049"/>
                </a:cubicBezTo>
                <a:cubicBezTo>
                  <a:pt x="13124" y="16049"/>
                  <a:pt x="13050" y="16083"/>
                  <a:pt x="13022" y="16123"/>
                </a:cubicBezTo>
                <a:cubicBezTo>
                  <a:pt x="12982" y="16180"/>
                  <a:pt x="12937" y="16250"/>
                  <a:pt x="12923" y="16321"/>
                </a:cubicBezTo>
                <a:cubicBezTo>
                  <a:pt x="12913" y="16373"/>
                  <a:pt x="12944" y="16502"/>
                  <a:pt x="12973" y="16545"/>
                </a:cubicBezTo>
                <a:cubicBezTo>
                  <a:pt x="13030" y="16628"/>
                  <a:pt x="13111" y="16678"/>
                  <a:pt x="13196" y="16718"/>
                </a:cubicBezTo>
                <a:cubicBezTo>
                  <a:pt x="13267" y="16754"/>
                  <a:pt x="13307" y="16757"/>
                  <a:pt x="13370" y="16718"/>
                </a:cubicBezTo>
              </a:path>
              <a:path w="2978" h="918">
                <a:moveTo>
                  <a:pt x="13692" y="16297"/>
                </a:moveTo>
                <a:cubicBezTo>
                  <a:pt x="13643" y="16396"/>
                  <a:pt x="13618" y="16439"/>
                  <a:pt x="13618" y="16545"/>
                </a:cubicBezTo>
                <a:cubicBezTo>
                  <a:pt x="13618" y="16632"/>
                  <a:pt x="13651" y="16676"/>
                  <a:pt x="13692" y="16743"/>
                </a:cubicBezTo>
                <a:cubicBezTo>
                  <a:pt x="13726" y="16799"/>
                  <a:pt x="13814" y="16871"/>
                  <a:pt x="13891" y="16867"/>
                </a:cubicBezTo>
                <a:cubicBezTo>
                  <a:pt x="13939" y="16865"/>
                  <a:pt x="14005" y="16785"/>
                  <a:pt x="14015" y="16743"/>
                </a:cubicBezTo>
                <a:cubicBezTo>
                  <a:pt x="14043" y="16627"/>
                  <a:pt x="14040" y="16594"/>
                  <a:pt x="13990" y="16470"/>
                </a:cubicBezTo>
                <a:cubicBezTo>
                  <a:pt x="13954" y="16382"/>
                  <a:pt x="13912" y="16351"/>
                  <a:pt x="13841" y="16297"/>
                </a:cubicBezTo>
                <a:cubicBezTo>
                  <a:pt x="13814" y="16277"/>
                  <a:pt x="13764" y="16208"/>
                  <a:pt x="13717" y="16247"/>
                </a:cubicBezTo>
                <a:cubicBezTo>
                  <a:pt x="13670" y="16287"/>
                  <a:pt x="13692" y="16337"/>
                  <a:pt x="13717" y="16371"/>
                </a:cubicBezTo>
              </a:path>
              <a:path w="2978" h="918">
                <a:moveTo>
                  <a:pt x="14387" y="16073"/>
                </a:moveTo>
                <a:cubicBezTo>
                  <a:pt x="14365" y="16175"/>
                  <a:pt x="14381" y="16271"/>
                  <a:pt x="14362" y="16371"/>
                </a:cubicBezTo>
                <a:cubicBezTo>
                  <a:pt x="14340" y="16489"/>
                  <a:pt x="14346" y="16552"/>
                  <a:pt x="14362" y="16669"/>
                </a:cubicBezTo>
                <a:cubicBezTo>
                  <a:pt x="14370" y="16724"/>
                  <a:pt x="14362" y="16786"/>
                  <a:pt x="14362" y="16842"/>
                </a:cubicBezTo>
                <a:cubicBezTo>
                  <a:pt x="14326" y="16808"/>
                  <a:pt x="14313" y="16786"/>
                  <a:pt x="14312" y="16743"/>
                </a:cubicBezTo>
              </a:path>
              <a:path w="2978" h="918">
                <a:moveTo>
                  <a:pt x="14089" y="16346"/>
                </a:moveTo>
                <a:cubicBezTo>
                  <a:pt x="14191" y="16346"/>
                  <a:pt x="14198" y="16395"/>
                  <a:pt x="14312" y="16421"/>
                </a:cubicBezTo>
                <a:cubicBezTo>
                  <a:pt x="14382" y="16437"/>
                  <a:pt x="14463" y="16440"/>
                  <a:pt x="14536" y="16446"/>
                </a:cubicBezTo>
              </a:path>
              <a:path w="2978" h="918">
                <a:moveTo>
                  <a:pt x="14957" y="16247"/>
                </a:moveTo>
                <a:cubicBezTo>
                  <a:pt x="14945" y="16294"/>
                  <a:pt x="14909" y="16328"/>
                  <a:pt x="14883" y="16371"/>
                </a:cubicBezTo>
                <a:cubicBezTo>
                  <a:pt x="14847" y="16432"/>
                  <a:pt x="14837" y="16524"/>
                  <a:pt x="14833" y="16594"/>
                </a:cubicBezTo>
                <a:cubicBezTo>
                  <a:pt x="14830" y="16654"/>
                  <a:pt x="14827" y="16768"/>
                  <a:pt x="14858" y="16818"/>
                </a:cubicBezTo>
                <a:cubicBezTo>
                  <a:pt x="14908" y="16898"/>
                  <a:pt x="14989" y="16961"/>
                  <a:pt x="15081" y="16966"/>
                </a:cubicBezTo>
                <a:cubicBezTo>
                  <a:pt x="15146" y="16969"/>
                  <a:pt x="15194" y="16921"/>
                  <a:pt x="15230" y="16867"/>
                </a:cubicBezTo>
                <a:cubicBezTo>
                  <a:pt x="15268" y="16810"/>
                  <a:pt x="15299" y="16714"/>
                  <a:pt x="15280" y="16644"/>
                </a:cubicBezTo>
                <a:cubicBezTo>
                  <a:pt x="15260" y="16571"/>
                  <a:pt x="15217" y="16508"/>
                  <a:pt x="15180" y="16446"/>
                </a:cubicBezTo>
                <a:cubicBezTo>
                  <a:pt x="15142" y="16382"/>
                  <a:pt x="15096" y="16358"/>
                  <a:pt x="15032" y="16321"/>
                </a:cubicBezTo>
              </a:path>
              <a:path w="2978" h="918">
                <a:moveTo>
                  <a:pt x="14709" y="16470"/>
                </a:moveTo>
                <a:cubicBezTo>
                  <a:pt x="14830" y="16521"/>
                  <a:pt x="14954" y="16579"/>
                  <a:pt x="15081" y="16594"/>
                </a:cubicBezTo>
                <a:cubicBezTo>
                  <a:pt x="15151" y="16602"/>
                  <a:pt x="15221" y="16607"/>
                  <a:pt x="15280" y="16619"/>
                </a:cubicBezTo>
                <a:cubicBezTo>
                  <a:pt x="15340" y="16631"/>
                  <a:pt x="15397" y="16604"/>
                  <a:pt x="15453" y="16594"/>
                </a:cubicBezTo>
              </a:path>
              <a:path w="2978" h="918">
                <a:moveTo>
                  <a:pt x="15677" y="16421"/>
                </a:moveTo>
                <a:cubicBezTo>
                  <a:pt x="15714" y="16441"/>
                  <a:pt x="15844" y="16531"/>
                  <a:pt x="15900" y="16545"/>
                </a:cubicBezTo>
              </a:path>
              <a:path w="2978" h="918">
                <a:moveTo>
                  <a:pt x="15652" y="16768"/>
                </a:moveTo>
                <a:cubicBezTo>
                  <a:pt x="15725" y="16832"/>
                  <a:pt x="15736" y="16855"/>
                  <a:pt x="15825" y="168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Ink 8"/>
          <p:cNvSpPr/>
          <p:nvPr/>
        </p:nvSpPr>
        <p:spPr>
          <a:xfrm>
            <a:off x="4232160" y="3938760"/>
            <a:ext cx="920880" cy="241200"/>
          </a:xfrm>
          <a:custGeom>
            <a:avLst/>
            <a:gdLst/>
            <a:ahLst/>
            <a:rect l="l" t="t" r="r" b="b"/>
            <a:pathLst>
              <a:path w="2556" h="671">
                <a:moveTo>
                  <a:pt x="12229" y="11013"/>
                </a:moveTo>
                <a:cubicBezTo>
                  <a:pt x="12229" y="11071"/>
                  <a:pt x="12229" y="11113"/>
                  <a:pt x="12229" y="11063"/>
                </a:cubicBezTo>
              </a:path>
              <a:path w="2556" h="671">
                <a:moveTo>
                  <a:pt x="12030" y="10964"/>
                </a:moveTo>
                <a:cubicBezTo>
                  <a:pt x="11908" y="11021"/>
                  <a:pt x="11854" y="11047"/>
                  <a:pt x="11782" y="11162"/>
                </a:cubicBezTo>
                <a:cubicBezTo>
                  <a:pt x="11748" y="11216"/>
                  <a:pt x="11756" y="11285"/>
                  <a:pt x="11782" y="11336"/>
                </a:cubicBezTo>
                <a:cubicBezTo>
                  <a:pt x="11812" y="11396"/>
                  <a:pt x="11897" y="11446"/>
                  <a:pt x="11956" y="11460"/>
                </a:cubicBezTo>
                <a:cubicBezTo>
                  <a:pt x="12030" y="11478"/>
                  <a:pt x="12125" y="11503"/>
                  <a:pt x="12204" y="11485"/>
                </a:cubicBezTo>
                <a:cubicBezTo>
                  <a:pt x="12221" y="11477"/>
                  <a:pt x="12237" y="11468"/>
                  <a:pt x="12254" y="11460"/>
                </a:cubicBezTo>
              </a:path>
              <a:path w="2556" h="671">
                <a:moveTo>
                  <a:pt x="12626" y="11063"/>
                </a:moveTo>
                <a:cubicBezTo>
                  <a:pt x="12575" y="11063"/>
                  <a:pt x="12567" y="11074"/>
                  <a:pt x="12526" y="11088"/>
                </a:cubicBezTo>
                <a:cubicBezTo>
                  <a:pt x="12478" y="11104"/>
                  <a:pt x="12477" y="11109"/>
                  <a:pt x="12477" y="11162"/>
                </a:cubicBezTo>
                <a:cubicBezTo>
                  <a:pt x="12477" y="11210"/>
                  <a:pt x="12568" y="11284"/>
                  <a:pt x="12601" y="11311"/>
                </a:cubicBezTo>
                <a:cubicBezTo>
                  <a:pt x="12631" y="11336"/>
                  <a:pt x="12730" y="11405"/>
                  <a:pt x="12725" y="11460"/>
                </a:cubicBezTo>
                <a:cubicBezTo>
                  <a:pt x="12721" y="11514"/>
                  <a:pt x="12667" y="11509"/>
                  <a:pt x="12626" y="11509"/>
                </a:cubicBezTo>
                <a:cubicBezTo>
                  <a:pt x="12568" y="11509"/>
                  <a:pt x="12547" y="11499"/>
                  <a:pt x="12502" y="11485"/>
                </a:cubicBezTo>
                <a:cubicBezTo>
                  <a:pt x="12494" y="11485"/>
                  <a:pt x="12485" y="11485"/>
                  <a:pt x="12477" y="11485"/>
                </a:cubicBezTo>
              </a:path>
              <a:path w="2556" h="671">
                <a:moveTo>
                  <a:pt x="13196" y="11112"/>
                </a:moveTo>
                <a:cubicBezTo>
                  <a:pt x="13247" y="11141"/>
                  <a:pt x="13256" y="11167"/>
                  <a:pt x="13271" y="11137"/>
                </a:cubicBezTo>
                <a:cubicBezTo>
                  <a:pt x="13222" y="11100"/>
                  <a:pt x="13188" y="11106"/>
                  <a:pt x="13146" y="11112"/>
                </a:cubicBezTo>
                <a:cubicBezTo>
                  <a:pt x="13081" y="11121"/>
                  <a:pt x="13069" y="11139"/>
                  <a:pt x="13022" y="11187"/>
                </a:cubicBezTo>
                <a:cubicBezTo>
                  <a:pt x="12968" y="11242"/>
                  <a:pt x="12973" y="11289"/>
                  <a:pt x="12973" y="11361"/>
                </a:cubicBezTo>
                <a:cubicBezTo>
                  <a:pt x="12973" y="11406"/>
                  <a:pt x="13035" y="11461"/>
                  <a:pt x="13072" y="11485"/>
                </a:cubicBezTo>
                <a:cubicBezTo>
                  <a:pt x="13127" y="11521"/>
                  <a:pt x="13204" y="11553"/>
                  <a:pt x="13271" y="11534"/>
                </a:cubicBezTo>
                <a:cubicBezTo>
                  <a:pt x="13287" y="11526"/>
                  <a:pt x="13304" y="11517"/>
                  <a:pt x="13320" y="11509"/>
                </a:cubicBezTo>
              </a:path>
              <a:path w="2556" h="671">
                <a:moveTo>
                  <a:pt x="13643" y="10988"/>
                </a:moveTo>
                <a:cubicBezTo>
                  <a:pt x="13625" y="11087"/>
                  <a:pt x="13618" y="11163"/>
                  <a:pt x="13618" y="11261"/>
                </a:cubicBezTo>
                <a:cubicBezTo>
                  <a:pt x="13618" y="11350"/>
                  <a:pt x="13627" y="11381"/>
                  <a:pt x="13667" y="11460"/>
                </a:cubicBezTo>
                <a:cubicBezTo>
                  <a:pt x="13703" y="11532"/>
                  <a:pt x="13771" y="11549"/>
                  <a:pt x="13841" y="11584"/>
                </a:cubicBezTo>
                <a:cubicBezTo>
                  <a:pt x="13926" y="11626"/>
                  <a:pt x="13962" y="11602"/>
                  <a:pt x="14039" y="11559"/>
                </a:cubicBezTo>
                <a:cubicBezTo>
                  <a:pt x="14123" y="11511"/>
                  <a:pt x="14112" y="11466"/>
                  <a:pt x="14139" y="11385"/>
                </a:cubicBezTo>
                <a:cubicBezTo>
                  <a:pt x="14169" y="11293"/>
                  <a:pt x="14157" y="11253"/>
                  <a:pt x="14114" y="11162"/>
                </a:cubicBezTo>
                <a:cubicBezTo>
                  <a:pt x="14074" y="11078"/>
                  <a:pt x="14042" y="11038"/>
                  <a:pt x="13965" y="10988"/>
                </a:cubicBezTo>
                <a:cubicBezTo>
                  <a:pt x="13890" y="10939"/>
                  <a:pt x="13891" y="10939"/>
                  <a:pt x="13816" y="10939"/>
                </a:cubicBezTo>
                <a:cubicBezTo>
                  <a:pt x="13808" y="10939"/>
                  <a:pt x="13799" y="10939"/>
                  <a:pt x="13791" y="10939"/>
                </a:cubicBezTo>
              </a:path>
              <a:path w="2556" h="671">
                <a:moveTo>
                  <a:pt x="13568" y="11261"/>
                </a:moveTo>
                <a:cubicBezTo>
                  <a:pt x="13667" y="11261"/>
                  <a:pt x="13746" y="11281"/>
                  <a:pt x="13841" y="11286"/>
                </a:cubicBezTo>
                <a:cubicBezTo>
                  <a:pt x="13936" y="11291"/>
                  <a:pt x="14021" y="11308"/>
                  <a:pt x="14114" y="11311"/>
                </a:cubicBezTo>
                <a:cubicBezTo>
                  <a:pt x="14187" y="11314"/>
                  <a:pt x="14239" y="11336"/>
                  <a:pt x="14312" y="113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Ink 9"/>
          <p:cNvSpPr/>
          <p:nvPr/>
        </p:nvSpPr>
        <p:spPr>
          <a:xfrm>
            <a:off x="5357880" y="3840120"/>
            <a:ext cx="446040" cy="320760"/>
          </a:xfrm>
          <a:custGeom>
            <a:avLst/>
            <a:gdLst/>
            <a:ahLst/>
            <a:rect l="l" t="t" r="r" b="b"/>
            <a:pathLst>
              <a:path w="1241" h="894">
                <a:moveTo>
                  <a:pt x="14932" y="11088"/>
                </a:moveTo>
                <a:cubicBezTo>
                  <a:pt x="14996" y="11097"/>
                  <a:pt x="15035" y="11112"/>
                  <a:pt x="15106" y="11112"/>
                </a:cubicBezTo>
                <a:cubicBezTo>
                  <a:pt x="15147" y="11112"/>
                  <a:pt x="15189" y="11112"/>
                  <a:pt x="15230" y="11112"/>
                </a:cubicBezTo>
              </a:path>
              <a:path w="1241" h="894">
                <a:moveTo>
                  <a:pt x="14883" y="11336"/>
                </a:moveTo>
                <a:cubicBezTo>
                  <a:pt x="14966" y="11336"/>
                  <a:pt x="14982" y="11336"/>
                  <a:pt x="15032" y="11336"/>
                </a:cubicBezTo>
              </a:path>
              <a:path w="1241" h="894">
                <a:moveTo>
                  <a:pt x="15726" y="10691"/>
                </a:moveTo>
                <a:cubicBezTo>
                  <a:pt x="15785" y="10691"/>
                  <a:pt x="15820" y="10670"/>
                  <a:pt x="15875" y="10666"/>
                </a:cubicBezTo>
                <a:cubicBezTo>
                  <a:pt x="15949" y="10661"/>
                  <a:pt x="16024" y="10666"/>
                  <a:pt x="16098" y="10666"/>
                </a:cubicBezTo>
              </a:path>
              <a:path w="1241" h="894">
                <a:moveTo>
                  <a:pt x="15627" y="10691"/>
                </a:moveTo>
                <a:cubicBezTo>
                  <a:pt x="15620" y="10777"/>
                  <a:pt x="15602" y="10809"/>
                  <a:pt x="15602" y="10889"/>
                </a:cubicBezTo>
                <a:cubicBezTo>
                  <a:pt x="15602" y="10928"/>
                  <a:pt x="15627" y="10943"/>
                  <a:pt x="15627" y="10988"/>
                </a:cubicBezTo>
                <a:cubicBezTo>
                  <a:pt x="15627" y="11030"/>
                  <a:pt x="15662" y="11059"/>
                  <a:pt x="15701" y="11063"/>
                </a:cubicBezTo>
                <a:cubicBezTo>
                  <a:pt x="15708" y="11064"/>
                  <a:pt x="15760" y="11047"/>
                  <a:pt x="15776" y="11038"/>
                </a:cubicBezTo>
                <a:cubicBezTo>
                  <a:pt x="15818" y="11015"/>
                  <a:pt x="15824" y="11013"/>
                  <a:pt x="15875" y="11013"/>
                </a:cubicBezTo>
                <a:cubicBezTo>
                  <a:pt x="15904" y="11013"/>
                  <a:pt x="16002" y="11040"/>
                  <a:pt x="16024" y="11063"/>
                </a:cubicBezTo>
                <a:cubicBezTo>
                  <a:pt x="16077" y="11119"/>
                  <a:pt x="16119" y="11211"/>
                  <a:pt x="16123" y="11286"/>
                </a:cubicBezTo>
                <a:cubicBezTo>
                  <a:pt x="16125" y="11325"/>
                  <a:pt x="16119" y="11435"/>
                  <a:pt x="16098" y="11460"/>
                </a:cubicBezTo>
                <a:cubicBezTo>
                  <a:pt x="16071" y="11492"/>
                  <a:pt x="15964" y="11550"/>
                  <a:pt x="15925" y="11559"/>
                </a:cubicBezTo>
                <a:cubicBezTo>
                  <a:pt x="15856" y="11574"/>
                  <a:pt x="15729" y="11574"/>
                  <a:pt x="15677" y="115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Ink 10"/>
          <p:cNvSpPr/>
          <p:nvPr/>
        </p:nvSpPr>
        <p:spPr>
          <a:xfrm>
            <a:off x="6786720" y="4054320"/>
            <a:ext cx="1697040" cy="561960"/>
          </a:xfrm>
          <a:custGeom>
            <a:avLst/>
            <a:gdLst/>
            <a:ahLst/>
            <a:rect l="l" t="t" r="r" b="b"/>
            <a:pathLst>
              <a:path w="4713" h="1564">
                <a:moveTo>
                  <a:pt x="19670" y="11559"/>
                </a:moveTo>
                <a:cubicBezTo>
                  <a:pt x="19653" y="11621"/>
                  <a:pt x="19639" y="11679"/>
                  <a:pt x="19621" y="11733"/>
                </a:cubicBezTo>
                <a:cubicBezTo>
                  <a:pt x="19608" y="11772"/>
                  <a:pt x="19600" y="11840"/>
                  <a:pt x="19596" y="11881"/>
                </a:cubicBezTo>
                <a:cubicBezTo>
                  <a:pt x="19594" y="11905"/>
                  <a:pt x="19596" y="11932"/>
                  <a:pt x="19596" y="11956"/>
                </a:cubicBezTo>
              </a:path>
              <a:path w="4713" h="1564">
                <a:moveTo>
                  <a:pt x="19273" y="12080"/>
                </a:moveTo>
                <a:cubicBezTo>
                  <a:pt x="19438" y="12080"/>
                  <a:pt x="19604" y="12080"/>
                  <a:pt x="19769" y="12080"/>
                </a:cubicBezTo>
              </a:path>
              <a:path w="4713" h="1564">
                <a:moveTo>
                  <a:pt x="19422" y="12303"/>
                </a:moveTo>
                <a:cubicBezTo>
                  <a:pt x="19482" y="12303"/>
                  <a:pt x="19654" y="12327"/>
                  <a:pt x="19670" y="12278"/>
                </a:cubicBezTo>
              </a:path>
              <a:path w="4713" h="1564">
                <a:moveTo>
                  <a:pt x="19422" y="12303"/>
                </a:moveTo>
                <a:cubicBezTo>
                  <a:pt x="19400" y="12355"/>
                  <a:pt x="19397" y="12373"/>
                  <a:pt x="19397" y="12427"/>
                </a:cubicBezTo>
                <a:cubicBezTo>
                  <a:pt x="19435" y="12414"/>
                  <a:pt x="19418" y="12402"/>
                  <a:pt x="19472" y="12402"/>
                </a:cubicBezTo>
                <a:cubicBezTo>
                  <a:pt x="19524" y="12402"/>
                  <a:pt x="19524" y="12397"/>
                  <a:pt x="19546" y="12427"/>
                </a:cubicBezTo>
                <a:cubicBezTo>
                  <a:pt x="19580" y="12472"/>
                  <a:pt x="19615" y="12489"/>
                  <a:pt x="19621" y="12551"/>
                </a:cubicBezTo>
                <a:cubicBezTo>
                  <a:pt x="19626" y="12605"/>
                  <a:pt x="19628" y="12660"/>
                  <a:pt x="19596" y="12700"/>
                </a:cubicBezTo>
                <a:cubicBezTo>
                  <a:pt x="19562" y="12742"/>
                  <a:pt x="19516" y="12761"/>
                  <a:pt x="19472" y="12774"/>
                </a:cubicBezTo>
                <a:cubicBezTo>
                  <a:pt x="19412" y="12791"/>
                  <a:pt x="19345" y="12762"/>
                  <a:pt x="19298" y="12750"/>
                </a:cubicBezTo>
                <a:cubicBezTo>
                  <a:pt x="19261" y="12740"/>
                  <a:pt x="19253" y="12730"/>
                  <a:pt x="19224" y="12700"/>
                </a:cubicBezTo>
              </a:path>
              <a:path w="4713" h="1564">
                <a:moveTo>
                  <a:pt x="19075" y="11584"/>
                </a:moveTo>
                <a:cubicBezTo>
                  <a:pt x="19035" y="11633"/>
                  <a:pt x="19026" y="11677"/>
                  <a:pt x="19000" y="11733"/>
                </a:cubicBezTo>
                <a:cubicBezTo>
                  <a:pt x="18965" y="11808"/>
                  <a:pt x="18917" y="11899"/>
                  <a:pt x="18901" y="11981"/>
                </a:cubicBezTo>
                <a:cubicBezTo>
                  <a:pt x="18884" y="12069"/>
                  <a:pt x="18862" y="12165"/>
                  <a:pt x="18852" y="12254"/>
                </a:cubicBezTo>
                <a:cubicBezTo>
                  <a:pt x="18842" y="12346"/>
                  <a:pt x="18848" y="12441"/>
                  <a:pt x="18876" y="12526"/>
                </a:cubicBezTo>
                <a:cubicBezTo>
                  <a:pt x="18906" y="12616"/>
                  <a:pt x="18936" y="12681"/>
                  <a:pt x="19000" y="12750"/>
                </a:cubicBezTo>
                <a:cubicBezTo>
                  <a:pt x="19048" y="12802"/>
                  <a:pt x="19108" y="12805"/>
                  <a:pt x="19174" y="12824"/>
                </a:cubicBezTo>
              </a:path>
              <a:path w="4713" h="1564">
                <a:moveTo>
                  <a:pt x="19745" y="11460"/>
                </a:moveTo>
                <a:cubicBezTo>
                  <a:pt x="19795" y="11485"/>
                  <a:pt x="19862" y="11507"/>
                  <a:pt x="19893" y="11559"/>
                </a:cubicBezTo>
                <a:cubicBezTo>
                  <a:pt x="19934" y="11630"/>
                  <a:pt x="20004" y="11750"/>
                  <a:pt x="20017" y="11832"/>
                </a:cubicBezTo>
                <a:cubicBezTo>
                  <a:pt x="20036" y="11947"/>
                  <a:pt x="20042" y="12058"/>
                  <a:pt x="20042" y="12179"/>
                </a:cubicBezTo>
                <a:cubicBezTo>
                  <a:pt x="20042" y="12273"/>
                  <a:pt x="20037" y="12363"/>
                  <a:pt x="20017" y="12452"/>
                </a:cubicBezTo>
                <a:cubicBezTo>
                  <a:pt x="19999" y="12531"/>
                  <a:pt x="19954" y="12603"/>
                  <a:pt x="19918" y="12675"/>
                </a:cubicBezTo>
                <a:cubicBezTo>
                  <a:pt x="19904" y="12703"/>
                  <a:pt x="19872" y="12783"/>
                  <a:pt x="19844" y="12799"/>
                </a:cubicBezTo>
                <a:cubicBezTo>
                  <a:pt x="19815" y="12815"/>
                  <a:pt x="19819" y="12831"/>
                  <a:pt x="19819" y="12799"/>
                </a:cubicBezTo>
              </a:path>
              <a:path w="4713" h="1564">
                <a:moveTo>
                  <a:pt x="20067" y="11261"/>
                </a:moveTo>
                <a:cubicBezTo>
                  <a:pt x="20133" y="11261"/>
                  <a:pt x="20139" y="11269"/>
                  <a:pt x="20191" y="11286"/>
                </a:cubicBezTo>
                <a:cubicBezTo>
                  <a:pt x="20231" y="11299"/>
                  <a:pt x="20260" y="11312"/>
                  <a:pt x="20265" y="11361"/>
                </a:cubicBezTo>
                <a:cubicBezTo>
                  <a:pt x="20269" y="11399"/>
                  <a:pt x="20258" y="11457"/>
                  <a:pt x="20241" y="11485"/>
                </a:cubicBezTo>
                <a:cubicBezTo>
                  <a:pt x="20216" y="11526"/>
                  <a:pt x="20172" y="11533"/>
                  <a:pt x="20166" y="11584"/>
                </a:cubicBezTo>
                <a:cubicBezTo>
                  <a:pt x="20160" y="11638"/>
                  <a:pt x="20185" y="11644"/>
                  <a:pt x="20241" y="11658"/>
                </a:cubicBezTo>
                <a:cubicBezTo>
                  <a:pt x="20285" y="11669"/>
                  <a:pt x="20343" y="11658"/>
                  <a:pt x="20389" y="11658"/>
                </a:cubicBezTo>
              </a:path>
              <a:path w="4713" h="1564">
                <a:moveTo>
                  <a:pt x="20638" y="12030"/>
                </a:moveTo>
                <a:cubicBezTo>
                  <a:pt x="20632" y="12126"/>
                  <a:pt x="20613" y="12168"/>
                  <a:pt x="20613" y="12254"/>
                </a:cubicBezTo>
                <a:cubicBezTo>
                  <a:pt x="20613" y="12314"/>
                  <a:pt x="20632" y="12328"/>
                  <a:pt x="20638" y="12378"/>
                </a:cubicBezTo>
                <a:cubicBezTo>
                  <a:pt x="20643" y="12422"/>
                  <a:pt x="20635" y="12414"/>
                  <a:pt x="20662" y="12452"/>
                </a:cubicBezTo>
              </a:path>
              <a:path w="4713" h="1564">
                <a:moveTo>
                  <a:pt x="20389" y="12179"/>
                </a:moveTo>
                <a:cubicBezTo>
                  <a:pt x="20459" y="12186"/>
                  <a:pt x="20493" y="12204"/>
                  <a:pt x="20563" y="12204"/>
                </a:cubicBezTo>
                <a:cubicBezTo>
                  <a:pt x="20633" y="12204"/>
                  <a:pt x="20700" y="12260"/>
                  <a:pt x="20762" y="12229"/>
                </a:cubicBezTo>
                <a:cubicBezTo>
                  <a:pt x="20776" y="12222"/>
                  <a:pt x="20762" y="12226"/>
                  <a:pt x="20762" y="12204"/>
                </a:cubicBezTo>
              </a:path>
              <a:path w="4713" h="1564">
                <a:moveTo>
                  <a:pt x="21258" y="12154"/>
                </a:moveTo>
                <a:cubicBezTo>
                  <a:pt x="21258" y="12121"/>
                  <a:pt x="21258" y="12105"/>
                  <a:pt x="21258" y="12080"/>
                </a:cubicBezTo>
                <a:cubicBezTo>
                  <a:pt x="21220" y="12067"/>
                  <a:pt x="21237" y="12055"/>
                  <a:pt x="21183" y="12055"/>
                </a:cubicBezTo>
                <a:cubicBezTo>
                  <a:pt x="21175" y="12055"/>
                  <a:pt x="21166" y="12055"/>
                  <a:pt x="21158" y="12055"/>
                </a:cubicBezTo>
              </a:path>
              <a:path w="4713" h="1564">
                <a:moveTo>
                  <a:pt x="21109" y="12105"/>
                </a:moveTo>
                <a:cubicBezTo>
                  <a:pt x="21033" y="12154"/>
                  <a:pt x="21070" y="12155"/>
                  <a:pt x="21034" y="12229"/>
                </a:cubicBezTo>
                <a:cubicBezTo>
                  <a:pt x="21009" y="12281"/>
                  <a:pt x="21010" y="12316"/>
                  <a:pt x="21010" y="12378"/>
                </a:cubicBezTo>
                <a:cubicBezTo>
                  <a:pt x="21010" y="12418"/>
                  <a:pt x="21040" y="12445"/>
                  <a:pt x="21059" y="12477"/>
                </a:cubicBezTo>
                <a:cubicBezTo>
                  <a:pt x="21102" y="12551"/>
                  <a:pt x="21119" y="12558"/>
                  <a:pt x="21208" y="12576"/>
                </a:cubicBezTo>
                <a:cubicBezTo>
                  <a:pt x="21216" y="12576"/>
                  <a:pt x="21225" y="12576"/>
                  <a:pt x="21233" y="12576"/>
                </a:cubicBezTo>
              </a:path>
              <a:path w="4713" h="1564">
                <a:moveTo>
                  <a:pt x="21456" y="12154"/>
                </a:moveTo>
                <a:cubicBezTo>
                  <a:pt x="21424" y="12197"/>
                  <a:pt x="21411" y="12222"/>
                  <a:pt x="21406" y="12278"/>
                </a:cubicBezTo>
                <a:cubicBezTo>
                  <a:pt x="21402" y="12323"/>
                  <a:pt x="21382" y="12355"/>
                  <a:pt x="21382" y="12402"/>
                </a:cubicBezTo>
                <a:cubicBezTo>
                  <a:pt x="21382" y="12461"/>
                  <a:pt x="21427" y="12525"/>
                  <a:pt x="21456" y="12551"/>
                </a:cubicBezTo>
                <a:cubicBezTo>
                  <a:pt x="21508" y="12597"/>
                  <a:pt x="21505" y="12568"/>
                  <a:pt x="21555" y="12551"/>
                </a:cubicBezTo>
                <a:cubicBezTo>
                  <a:pt x="21573" y="12545"/>
                  <a:pt x="21616" y="12508"/>
                  <a:pt x="21630" y="12477"/>
                </a:cubicBezTo>
                <a:cubicBezTo>
                  <a:pt x="21656" y="12420"/>
                  <a:pt x="21619" y="12322"/>
                  <a:pt x="21605" y="12278"/>
                </a:cubicBezTo>
                <a:cubicBezTo>
                  <a:pt x="21595" y="12246"/>
                  <a:pt x="21591" y="12172"/>
                  <a:pt x="21555" y="12154"/>
                </a:cubicBezTo>
                <a:cubicBezTo>
                  <a:pt x="21523" y="12138"/>
                  <a:pt x="21496" y="12129"/>
                  <a:pt x="21456" y="12129"/>
                </a:cubicBezTo>
                <a:cubicBezTo>
                  <a:pt x="21448" y="12129"/>
                  <a:pt x="21439" y="12129"/>
                  <a:pt x="21431" y="12129"/>
                </a:cubicBezTo>
              </a:path>
              <a:path w="4713" h="1564">
                <a:moveTo>
                  <a:pt x="21878" y="12154"/>
                </a:moveTo>
                <a:cubicBezTo>
                  <a:pt x="21810" y="12154"/>
                  <a:pt x="21784" y="12161"/>
                  <a:pt x="21729" y="12179"/>
                </a:cubicBezTo>
                <a:cubicBezTo>
                  <a:pt x="21701" y="12188"/>
                  <a:pt x="21682" y="12230"/>
                  <a:pt x="21729" y="12254"/>
                </a:cubicBezTo>
                <a:cubicBezTo>
                  <a:pt x="21759" y="12269"/>
                  <a:pt x="21768" y="12272"/>
                  <a:pt x="21803" y="12303"/>
                </a:cubicBezTo>
                <a:cubicBezTo>
                  <a:pt x="21828" y="12326"/>
                  <a:pt x="21890" y="12353"/>
                  <a:pt x="21903" y="12378"/>
                </a:cubicBezTo>
                <a:cubicBezTo>
                  <a:pt x="21914" y="12399"/>
                  <a:pt x="21947" y="12455"/>
                  <a:pt x="21952" y="12477"/>
                </a:cubicBezTo>
                <a:cubicBezTo>
                  <a:pt x="21962" y="12522"/>
                  <a:pt x="21950" y="12580"/>
                  <a:pt x="21903" y="12601"/>
                </a:cubicBezTo>
                <a:cubicBezTo>
                  <a:pt x="21853" y="12623"/>
                  <a:pt x="21690" y="12608"/>
                  <a:pt x="21679" y="12576"/>
                </a:cubicBezTo>
              </a:path>
              <a:path w="4713" h="1564">
                <a:moveTo>
                  <a:pt x="22002" y="11832"/>
                </a:moveTo>
                <a:cubicBezTo>
                  <a:pt x="22010" y="11815"/>
                  <a:pt x="22019" y="11799"/>
                  <a:pt x="22027" y="11782"/>
                </a:cubicBezTo>
                <a:cubicBezTo>
                  <a:pt x="22062" y="11809"/>
                  <a:pt x="22057" y="11807"/>
                  <a:pt x="22101" y="11807"/>
                </a:cubicBezTo>
                <a:cubicBezTo>
                  <a:pt x="22101" y="11832"/>
                  <a:pt x="22101" y="11840"/>
                  <a:pt x="22126" y="11832"/>
                </a:cubicBezTo>
              </a:path>
              <a:path w="4713" h="1564">
                <a:moveTo>
                  <a:pt x="22101" y="11931"/>
                </a:moveTo>
                <a:cubicBezTo>
                  <a:pt x="22082" y="11977"/>
                  <a:pt x="22061" y="12013"/>
                  <a:pt x="22051" y="12055"/>
                </a:cubicBezTo>
                <a:cubicBezTo>
                  <a:pt x="22019" y="12066"/>
                  <a:pt x="22029" y="12070"/>
                  <a:pt x="22002" y="12105"/>
                </a:cubicBezTo>
                <a:cubicBezTo>
                  <a:pt x="22027" y="12137"/>
                  <a:pt x="22034" y="12165"/>
                  <a:pt x="22076" y="12179"/>
                </a:cubicBezTo>
                <a:cubicBezTo>
                  <a:pt x="22095" y="12185"/>
                  <a:pt x="22131" y="12179"/>
                  <a:pt x="22151" y="12179"/>
                </a:cubicBezTo>
              </a:path>
              <a:path w="4713" h="1564">
                <a:moveTo>
                  <a:pt x="22299" y="12179"/>
                </a:moveTo>
                <a:cubicBezTo>
                  <a:pt x="22299" y="12256"/>
                  <a:pt x="22327" y="12281"/>
                  <a:pt x="22349" y="12353"/>
                </a:cubicBezTo>
                <a:cubicBezTo>
                  <a:pt x="22368" y="12413"/>
                  <a:pt x="22399" y="12436"/>
                  <a:pt x="22448" y="12477"/>
                </a:cubicBezTo>
                <a:cubicBezTo>
                  <a:pt x="22509" y="12528"/>
                  <a:pt x="22507" y="12543"/>
                  <a:pt x="22572" y="12576"/>
                </a:cubicBezTo>
                <a:cubicBezTo>
                  <a:pt x="22602" y="12591"/>
                  <a:pt x="22625" y="12652"/>
                  <a:pt x="22671" y="12626"/>
                </a:cubicBezTo>
                <a:cubicBezTo>
                  <a:pt x="22679" y="12618"/>
                  <a:pt x="22688" y="12609"/>
                  <a:pt x="22696" y="12601"/>
                </a:cubicBezTo>
              </a:path>
              <a:path w="4713" h="1564">
                <a:moveTo>
                  <a:pt x="22572" y="12154"/>
                </a:moveTo>
                <a:cubicBezTo>
                  <a:pt x="22487" y="12223"/>
                  <a:pt x="22482" y="12266"/>
                  <a:pt x="22423" y="12353"/>
                </a:cubicBezTo>
                <a:cubicBezTo>
                  <a:pt x="22384" y="12411"/>
                  <a:pt x="22341" y="12470"/>
                  <a:pt x="22299" y="12526"/>
                </a:cubicBezTo>
                <a:cubicBezTo>
                  <a:pt x="22263" y="12573"/>
                  <a:pt x="22251" y="12602"/>
                  <a:pt x="22225" y="12650"/>
                </a:cubicBezTo>
                <a:cubicBezTo>
                  <a:pt x="22197" y="12702"/>
                  <a:pt x="22182" y="12711"/>
                  <a:pt x="22225" y="12725"/>
                </a:cubicBezTo>
              </a:path>
              <a:path w="4713" h="1564">
                <a:moveTo>
                  <a:pt x="22845" y="12303"/>
                </a:moveTo>
                <a:cubicBezTo>
                  <a:pt x="22911" y="12303"/>
                  <a:pt x="22978" y="12303"/>
                  <a:pt x="23044" y="12303"/>
                </a:cubicBezTo>
              </a:path>
              <a:path w="4713" h="1564">
                <a:moveTo>
                  <a:pt x="22870" y="12477"/>
                </a:moveTo>
                <a:cubicBezTo>
                  <a:pt x="22951" y="12502"/>
                  <a:pt x="23008" y="12502"/>
                  <a:pt x="23093" y="12502"/>
                </a:cubicBezTo>
                <a:cubicBezTo>
                  <a:pt x="23110" y="12502"/>
                  <a:pt x="23126" y="12502"/>
                  <a:pt x="23143" y="12502"/>
                </a:cubicBezTo>
              </a:path>
              <a:path w="4713" h="1564">
                <a:moveTo>
                  <a:pt x="23564" y="11807"/>
                </a:moveTo>
                <a:cubicBezTo>
                  <a:pt x="23564" y="11900"/>
                  <a:pt x="23545" y="11968"/>
                  <a:pt x="23540" y="12055"/>
                </a:cubicBezTo>
                <a:cubicBezTo>
                  <a:pt x="23536" y="12129"/>
                  <a:pt x="23504" y="12207"/>
                  <a:pt x="23515" y="12278"/>
                </a:cubicBezTo>
                <a:cubicBezTo>
                  <a:pt x="23526" y="12352"/>
                  <a:pt x="23523" y="12453"/>
                  <a:pt x="23540" y="12526"/>
                </a:cubicBezTo>
                <a:cubicBezTo>
                  <a:pt x="23553" y="12583"/>
                  <a:pt x="23564" y="12613"/>
                  <a:pt x="23564" y="126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Ink 11"/>
          <p:cNvSpPr/>
          <p:nvPr/>
        </p:nvSpPr>
        <p:spPr>
          <a:xfrm>
            <a:off x="3963960" y="4803840"/>
            <a:ext cx="814320" cy="287280"/>
          </a:xfrm>
          <a:custGeom>
            <a:avLst/>
            <a:gdLst/>
            <a:ahLst/>
            <a:rect l="l" t="t" r="r" b="b"/>
            <a:pathLst>
              <a:path w="2259" h="795">
                <a:moveTo>
                  <a:pt x="11286" y="13370"/>
                </a:moveTo>
                <a:cubicBezTo>
                  <a:pt x="11273" y="13332"/>
                  <a:pt x="11257" y="13345"/>
                  <a:pt x="11212" y="13345"/>
                </a:cubicBezTo>
                <a:cubicBezTo>
                  <a:pt x="11150" y="13345"/>
                  <a:pt x="11113" y="13364"/>
                  <a:pt x="11063" y="13370"/>
                </a:cubicBezTo>
                <a:cubicBezTo>
                  <a:pt x="11017" y="13375"/>
                  <a:pt x="10992" y="13419"/>
                  <a:pt x="11013" y="13469"/>
                </a:cubicBezTo>
                <a:cubicBezTo>
                  <a:pt x="11049" y="13555"/>
                  <a:pt x="11179" y="13618"/>
                  <a:pt x="11237" y="13692"/>
                </a:cubicBezTo>
                <a:cubicBezTo>
                  <a:pt x="11285" y="13752"/>
                  <a:pt x="11368" y="13835"/>
                  <a:pt x="11385" y="13915"/>
                </a:cubicBezTo>
                <a:cubicBezTo>
                  <a:pt x="11396" y="13967"/>
                  <a:pt x="11426" y="14028"/>
                  <a:pt x="11361" y="14064"/>
                </a:cubicBezTo>
                <a:cubicBezTo>
                  <a:pt x="11328" y="14083"/>
                  <a:pt x="11238" y="14054"/>
                  <a:pt x="11212" y="14039"/>
                </a:cubicBezTo>
                <a:cubicBezTo>
                  <a:pt x="11175" y="14017"/>
                  <a:pt x="11146" y="13976"/>
                  <a:pt x="11137" y="13940"/>
                </a:cubicBezTo>
              </a:path>
              <a:path w="2259" h="795">
                <a:moveTo>
                  <a:pt x="11435" y="13816"/>
                </a:moveTo>
                <a:cubicBezTo>
                  <a:pt x="11556" y="13795"/>
                  <a:pt x="11656" y="13788"/>
                  <a:pt x="11757" y="13717"/>
                </a:cubicBezTo>
                <a:cubicBezTo>
                  <a:pt x="11799" y="13687"/>
                  <a:pt x="11820" y="13634"/>
                  <a:pt x="11832" y="13593"/>
                </a:cubicBezTo>
                <a:cubicBezTo>
                  <a:pt x="11832" y="13568"/>
                  <a:pt x="11832" y="13560"/>
                  <a:pt x="11832" y="13543"/>
                </a:cubicBezTo>
                <a:cubicBezTo>
                  <a:pt x="11809" y="13527"/>
                  <a:pt x="11766" y="13501"/>
                  <a:pt x="11733" y="13519"/>
                </a:cubicBezTo>
                <a:cubicBezTo>
                  <a:pt x="11688" y="13543"/>
                  <a:pt x="11625" y="13620"/>
                  <a:pt x="11609" y="13667"/>
                </a:cubicBezTo>
                <a:cubicBezTo>
                  <a:pt x="11579" y="13759"/>
                  <a:pt x="11572" y="13829"/>
                  <a:pt x="11609" y="13915"/>
                </a:cubicBezTo>
                <a:cubicBezTo>
                  <a:pt x="11641" y="13989"/>
                  <a:pt x="11681" y="14033"/>
                  <a:pt x="11757" y="14039"/>
                </a:cubicBezTo>
                <a:cubicBezTo>
                  <a:pt x="11765" y="14039"/>
                  <a:pt x="11774" y="14039"/>
                  <a:pt x="11782" y="14039"/>
                </a:cubicBezTo>
              </a:path>
              <a:path w="2259" h="795">
                <a:moveTo>
                  <a:pt x="12402" y="13593"/>
                </a:moveTo>
                <a:cubicBezTo>
                  <a:pt x="12434" y="13582"/>
                  <a:pt x="12441" y="13575"/>
                  <a:pt x="12452" y="13543"/>
                </a:cubicBezTo>
                <a:cubicBezTo>
                  <a:pt x="12408" y="13500"/>
                  <a:pt x="12387" y="13485"/>
                  <a:pt x="12328" y="13519"/>
                </a:cubicBezTo>
                <a:cubicBezTo>
                  <a:pt x="12280" y="13547"/>
                  <a:pt x="12218" y="13583"/>
                  <a:pt x="12204" y="13643"/>
                </a:cubicBezTo>
                <a:cubicBezTo>
                  <a:pt x="12179" y="13750"/>
                  <a:pt x="12176" y="13765"/>
                  <a:pt x="12229" y="13866"/>
                </a:cubicBezTo>
                <a:cubicBezTo>
                  <a:pt x="12272" y="13947"/>
                  <a:pt x="12322" y="13976"/>
                  <a:pt x="12402" y="14015"/>
                </a:cubicBezTo>
                <a:cubicBezTo>
                  <a:pt x="12443" y="14035"/>
                  <a:pt x="12449" y="14043"/>
                  <a:pt x="12477" y="14039"/>
                </a:cubicBezTo>
              </a:path>
              <a:path w="2259" h="795">
                <a:moveTo>
                  <a:pt x="12849" y="13494"/>
                </a:moveTo>
                <a:cubicBezTo>
                  <a:pt x="12838" y="13539"/>
                  <a:pt x="12815" y="13596"/>
                  <a:pt x="12799" y="13643"/>
                </a:cubicBezTo>
                <a:cubicBezTo>
                  <a:pt x="12778" y="13706"/>
                  <a:pt x="12754" y="13796"/>
                  <a:pt x="12774" y="13866"/>
                </a:cubicBezTo>
                <a:cubicBezTo>
                  <a:pt x="12792" y="13931"/>
                  <a:pt x="12845" y="14023"/>
                  <a:pt x="12898" y="14064"/>
                </a:cubicBezTo>
                <a:cubicBezTo>
                  <a:pt x="12940" y="14096"/>
                  <a:pt x="13021" y="14136"/>
                  <a:pt x="13072" y="14139"/>
                </a:cubicBezTo>
                <a:cubicBezTo>
                  <a:pt x="13162" y="14145"/>
                  <a:pt x="13186" y="14034"/>
                  <a:pt x="13221" y="13965"/>
                </a:cubicBezTo>
                <a:cubicBezTo>
                  <a:pt x="13262" y="13884"/>
                  <a:pt x="13255" y="13798"/>
                  <a:pt x="13221" y="13717"/>
                </a:cubicBezTo>
                <a:cubicBezTo>
                  <a:pt x="13190" y="13642"/>
                  <a:pt x="13158" y="13567"/>
                  <a:pt x="13097" y="13519"/>
                </a:cubicBezTo>
                <a:cubicBezTo>
                  <a:pt x="13034" y="13469"/>
                  <a:pt x="13003" y="13469"/>
                  <a:pt x="12923" y="13469"/>
                </a:cubicBezTo>
              </a:path>
              <a:path w="2259" h="795">
                <a:moveTo>
                  <a:pt x="12551" y="13692"/>
                </a:moveTo>
                <a:cubicBezTo>
                  <a:pt x="12598" y="13704"/>
                  <a:pt x="12648" y="13735"/>
                  <a:pt x="12700" y="13742"/>
                </a:cubicBezTo>
                <a:cubicBezTo>
                  <a:pt x="12801" y="13755"/>
                  <a:pt x="12894" y="13767"/>
                  <a:pt x="12998" y="13767"/>
                </a:cubicBezTo>
                <a:cubicBezTo>
                  <a:pt x="13089" y="13767"/>
                  <a:pt x="13180" y="13767"/>
                  <a:pt x="13271" y="137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Ink 12"/>
          <p:cNvSpPr/>
          <p:nvPr/>
        </p:nvSpPr>
        <p:spPr>
          <a:xfrm>
            <a:off x="4938840" y="4929120"/>
            <a:ext cx="98280" cy="108000"/>
          </a:xfrm>
          <a:custGeom>
            <a:avLst/>
            <a:gdLst/>
            <a:ahLst/>
            <a:rect l="l" t="t" r="r" b="b"/>
            <a:pathLst>
              <a:path w="274" h="299">
                <a:moveTo>
                  <a:pt x="13791" y="13692"/>
                </a:moveTo>
                <a:cubicBezTo>
                  <a:pt x="13832" y="13700"/>
                  <a:pt x="13874" y="13709"/>
                  <a:pt x="13915" y="13717"/>
                </a:cubicBezTo>
              </a:path>
              <a:path w="274" h="299">
                <a:moveTo>
                  <a:pt x="13717" y="13940"/>
                </a:moveTo>
                <a:cubicBezTo>
                  <a:pt x="13878" y="13982"/>
                  <a:pt x="13870" y="14010"/>
                  <a:pt x="13990" y="139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Ink 13"/>
          <p:cNvSpPr/>
          <p:nvPr/>
        </p:nvSpPr>
        <p:spPr>
          <a:xfrm>
            <a:off x="6946920" y="4714920"/>
            <a:ext cx="1403280" cy="519120"/>
          </a:xfrm>
          <a:custGeom>
            <a:avLst/>
            <a:gdLst/>
            <a:ahLst/>
            <a:rect l="l" t="t" r="r" b="b"/>
            <a:pathLst>
              <a:path w="3895" h="1440">
                <a:moveTo>
                  <a:pt x="19769" y="13097"/>
                </a:moveTo>
                <a:cubicBezTo>
                  <a:pt x="19794" y="13155"/>
                  <a:pt x="19794" y="13182"/>
                  <a:pt x="19794" y="13246"/>
                </a:cubicBezTo>
                <a:cubicBezTo>
                  <a:pt x="19794" y="13304"/>
                  <a:pt x="19769" y="13332"/>
                  <a:pt x="19769" y="13395"/>
                </a:cubicBezTo>
                <a:cubicBezTo>
                  <a:pt x="19769" y="13461"/>
                  <a:pt x="19769" y="13527"/>
                  <a:pt x="19769" y="13593"/>
                </a:cubicBezTo>
              </a:path>
              <a:path w="3895" h="1440">
                <a:moveTo>
                  <a:pt x="19422" y="13717"/>
                </a:moveTo>
                <a:cubicBezTo>
                  <a:pt x="19571" y="13717"/>
                  <a:pt x="19701" y="13715"/>
                  <a:pt x="19844" y="13742"/>
                </a:cubicBezTo>
                <a:cubicBezTo>
                  <a:pt x="19883" y="13749"/>
                  <a:pt x="19928" y="13742"/>
                  <a:pt x="19968" y="13742"/>
                </a:cubicBezTo>
              </a:path>
              <a:path w="3895" h="1440">
                <a:moveTo>
                  <a:pt x="19298" y="13965"/>
                </a:moveTo>
                <a:cubicBezTo>
                  <a:pt x="19336" y="13952"/>
                  <a:pt x="19319" y="13940"/>
                  <a:pt x="19372" y="13940"/>
                </a:cubicBezTo>
                <a:cubicBezTo>
                  <a:pt x="19445" y="13940"/>
                  <a:pt x="19479" y="13948"/>
                  <a:pt x="19546" y="13965"/>
                </a:cubicBezTo>
                <a:cubicBezTo>
                  <a:pt x="19587" y="13975"/>
                  <a:pt x="19616" y="13993"/>
                  <a:pt x="19621" y="14039"/>
                </a:cubicBezTo>
                <a:cubicBezTo>
                  <a:pt x="19627" y="14093"/>
                  <a:pt x="19609" y="14112"/>
                  <a:pt x="19596" y="14163"/>
                </a:cubicBezTo>
                <a:cubicBezTo>
                  <a:pt x="19586" y="14202"/>
                  <a:pt x="19547" y="14253"/>
                  <a:pt x="19521" y="14288"/>
                </a:cubicBezTo>
                <a:cubicBezTo>
                  <a:pt x="19509" y="14303"/>
                  <a:pt x="19451" y="14384"/>
                  <a:pt x="19447" y="14387"/>
                </a:cubicBezTo>
                <a:cubicBezTo>
                  <a:pt x="19428" y="14400"/>
                  <a:pt x="19378" y="14423"/>
                  <a:pt x="19372" y="14436"/>
                </a:cubicBezTo>
                <a:cubicBezTo>
                  <a:pt x="19372" y="14444"/>
                  <a:pt x="19372" y="14453"/>
                  <a:pt x="19372" y="14461"/>
                </a:cubicBezTo>
                <a:cubicBezTo>
                  <a:pt x="19400" y="14483"/>
                  <a:pt x="19464" y="14532"/>
                  <a:pt x="19496" y="14536"/>
                </a:cubicBezTo>
                <a:cubicBezTo>
                  <a:pt x="19585" y="14547"/>
                  <a:pt x="19625" y="14528"/>
                  <a:pt x="19695" y="14511"/>
                </a:cubicBezTo>
              </a:path>
              <a:path w="3895" h="1440">
                <a:moveTo>
                  <a:pt x="19869" y="14015"/>
                </a:moveTo>
                <a:cubicBezTo>
                  <a:pt x="19918" y="14015"/>
                  <a:pt x="19968" y="14015"/>
                  <a:pt x="20017" y="14015"/>
                </a:cubicBezTo>
              </a:path>
              <a:path w="3895" h="1440">
                <a:moveTo>
                  <a:pt x="19769" y="14015"/>
                </a:moveTo>
                <a:cubicBezTo>
                  <a:pt x="19746" y="14038"/>
                  <a:pt x="19668" y="14091"/>
                  <a:pt x="19695" y="14139"/>
                </a:cubicBezTo>
                <a:cubicBezTo>
                  <a:pt x="19722" y="14186"/>
                  <a:pt x="19751" y="14164"/>
                  <a:pt x="19769" y="14188"/>
                </a:cubicBezTo>
                <a:cubicBezTo>
                  <a:pt x="19792" y="14217"/>
                  <a:pt x="19791" y="14213"/>
                  <a:pt x="19844" y="14213"/>
                </a:cubicBezTo>
                <a:cubicBezTo>
                  <a:pt x="19888" y="14213"/>
                  <a:pt x="19906" y="14251"/>
                  <a:pt x="19943" y="14263"/>
                </a:cubicBezTo>
                <a:cubicBezTo>
                  <a:pt x="19985" y="14277"/>
                  <a:pt x="20024" y="14316"/>
                  <a:pt x="20042" y="14362"/>
                </a:cubicBezTo>
                <a:cubicBezTo>
                  <a:pt x="20052" y="14386"/>
                  <a:pt x="20084" y="14455"/>
                  <a:pt x="20067" y="14486"/>
                </a:cubicBezTo>
                <a:cubicBezTo>
                  <a:pt x="20036" y="14542"/>
                  <a:pt x="19971" y="14536"/>
                  <a:pt x="19918" y="14536"/>
                </a:cubicBezTo>
                <a:cubicBezTo>
                  <a:pt x="19870" y="14536"/>
                  <a:pt x="19809" y="14535"/>
                  <a:pt x="19769" y="14511"/>
                </a:cubicBezTo>
                <a:cubicBezTo>
                  <a:pt x="19761" y="14503"/>
                  <a:pt x="19753" y="14494"/>
                  <a:pt x="19745" y="14486"/>
                </a:cubicBezTo>
              </a:path>
              <a:path w="3895" h="1440">
                <a:moveTo>
                  <a:pt x="20439" y="13643"/>
                </a:moveTo>
                <a:cubicBezTo>
                  <a:pt x="20439" y="13770"/>
                  <a:pt x="20449" y="13873"/>
                  <a:pt x="20464" y="13990"/>
                </a:cubicBezTo>
                <a:cubicBezTo>
                  <a:pt x="20464" y="14048"/>
                  <a:pt x="20464" y="14056"/>
                  <a:pt x="20464" y="14089"/>
                </a:cubicBezTo>
              </a:path>
              <a:path w="3895" h="1440">
                <a:moveTo>
                  <a:pt x="20290" y="13891"/>
                </a:moveTo>
                <a:cubicBezTo>
                  <a:pt x="20381" y="13891"/>
                  <a:pt x="20472" y="13891"/>
                  <a:pt x="20563" y="13891"/>
                </a:cubicBezTo>
              </a:path>
              <a:path w="3895" h="1440">
                <a:moveTo>
                  <a:pt x="21233" y="13791"/>
                </a:moveTo>
                <a:cubicBezTo>
                  <a:pt x="21220" y="13742"/>
                  <a:pt x="21208" y="13742"/>
                  <a:pt x="21158" y="13742"/>
                </a:cubicBezTo>
                <a:cubicBezTo>
                  <a:pt x="21111" y="13742"/>
                  <a:pt x="21072" y="13759"/>
                  <a:pt x="21034" y="13791"/>
                </a:cubicBezTo>
                <a:cubicBezTo>
                  <a:pt x="20998" y="13821"/>
                  <a:pt x="20929" y="13924"/>
                  <a:pt x="20935" y="13965"/>
                </a:cubicBezTo>
                <a:cubicBezTo>
                  <a:pt x="20944" y="14036"/>
                  <a:pt x="20986" y="14073"/>
                  <a:pt x="21034" y="14114"/>
                </a:cubicBezTo>
                <a:cubicBezTo>
                  <a:pt x="21068" y="14143"/>
                  <a:pt x="21091" y="14155"/>
                  <a:pt x="21134" y="14163"/>
                </a:cubicBezTo>
              </a:path>
              <a:path w="3895" h="1440">
                <a:moveTo>
                  <a:pt x="21382" y="13841"/>
                </a:moveTo>
                <a:cubicBezTo>
                  <a:pt x="21346" y="13886"/>
                  <a:pt x="21322" y="13941"/>
                  <a:pt x="21307" y="13990"/>
                </a:cubicBezTo>
                <a:cubicBezTo>
                  <a:pt x="21296" y="14026"/>
                  <a:pt x="21335" y="14089"/>
                  <a:pt x="21357" y="14114"/>
                </a:cubicBezTo>
                <a:cubicBezTo>
                  <a:pt x="21391" y="14152"/>
                  <a:pt x="21432" y="14139"/>
                  <a:pt x="21481" y="14139"/>
                </a:cubicBezTo>
                <a:cubicBezTo>
                  <a:pt x="21577" y="14139"/>
                  <a:pt x="21549" y="14100"/>
                  <a:pt x="21580" y="14039"/>
                </a:cubicBezTo>
                <a:cubicBezTo>
                  <a:pt x="21610" y="13981"/>
                  <a:pt x="21616" y="13963"/>
                  <a:pt x="21605" y="13915"/>
                </a:cubicBezTo>
                <a:cubicBezTo>
                  <a:pt x="21592" y="13858"/>
                  <a:pt x="21563" y="13814"/>
                  <a:pt x="21506" y="13791"/>
                </a:cubicBezTo>
                <a:cubicBezTo>
                  <a:pt x="21489" y="13784"/>
                  <a:pt x="21450" y="13791"/>
                  <a:pt x="21431" y="13791"/>
                </a:cubicBezTo>
              </a:path>
              <a:path w="3895" h="1440">
                <a:moveTo>
                  <a:pt x="21828" y="13742"/>
                </a:moveTo>
                <a:cubicBezTo>
                  <a:pt x="21767" y="13742"/>
                  <a:pt x="21751" y="13733"/>
                  <a:pt x="21729" y="13767"/>
                </a:cubicBezTo>
                <a:cubicBezTo>
                  <a:pt x="21764" y="13823"/>
                  <a:pt x="21785" y="13854"/>
                  <a:pt x="21828" y="13915"/>
                </a:cubicBezTo>
                <a:cubicBezTo>
                  <a:pt x="21875" y="13982"/>
                  <a:pt x="21909" y="14035"/>
                  <a:pt x="21927" y="14114"/>
                </a:cubicBezTo>
                <a:cubicBezTo>
                  <a:pt x="21937" y="14159"/>
                  <a:pt x="21921" y="14183"/>
                  <a:pt x="21878" y="14188"/>
                </a:cubicBezTo>
                <a:cubicBezTo>
                  <a:pt x="21818" y="14195"/>
                  <a:pt x="21825" y="14159"/>
                  <a:pt x="21779" y="14139"/>
                </a:cubicBezTo>
                <a:cubicBezTo>
                  <a:pt x="21745" y="14124"/>
                  <a:pt x="21754" y="14134"/>
                  <a:pt x="21754" y="14089"/>
                </a:cubicBezTo>
              </a:path>
              <a:path w="3895" h="1440">
                <a:moveTo>
                  <a:pt x="22027" y="13419"/>
                </a:moveTo>
                <a:cubicBezTo>
                  <a:pt x="22089" y="13401"/>
                  <a:pt x="22115" y="13395"/>
                  <a:pt x="22175" y="13395"/>
                </a:cubicBezTo>
                <a:cubicBezTo>
                  <a:pt x="22175" y="13439"/>
                  <a:pt x="22160" y="13455"/>
                  <a:pt x="22151" y="13494"/>
                </a:cubicBezTo>
                <a:cubicBezTo>
                  <a:pt x="22113" y="13507"/>
                  <a:pt x="22126" y="13523"/>
                  <a:pt x="22126" y="13568"/>
                </a:cubicBezTo>
                <a:cubicBezTo>
                  <a:pt x="22126" y="13622"/>
                  <a:pt x="22183" y="13645"/>
                  <a:pt x="22225" y="13667"/>
                </a:cubicBezTo>
                <a:cubicBezTo>
                  <a:pt x="22274" y="13693"/>
                  <a:pt x="22306" y="13691"/>
                  <a:pt x="22349" y="13717"/>
                </a:cubicBezTo>
              </a:path>
              <a:path w="3895" h="1440">
                <a:moveTo>
                  <a:pt x="22423" y="13915"/>
                </a:moveTo>
                <a:cubicBezTo>
                  <a:pt x="22492" y="13984"/>
                  <a:pt x="22486" y="14005"/>
                  <a:pt x="22523" y="14089"/>
                </a:cubicBezTo>
                <a:cubicBezTo>
                  <a:pt x="22560" y="14175"/>
                  <a:pt x="22618" y="14215"/>
                  <a:pt x="22671" y="14288"/>
                </a:cubicBezTo>
                <a:cubicBezTo>
                  <a:pt x="22705" y="14335"/>
                  <a:pt x="22726" y="14351"/>
                  <a:pt x="22771" y="14387"/>
                </a:cubicBezTo>
              </a:path>
              <a:path w="3895" h="1440">
                <a:moveTo>
                  <a:pt x="22622" y="13841"/>
                </a:moveTo>
                <a:cubicBezTo>
                  <a:pt x="22570" y="13920"/>
                  <a:pt x="22500" y="13986"/>
                  <a:pt x="22448" y="14064"/>
                </a:cubicBezTo>
                <a:cubicBezTo>
                  <a:pt x="22411" y="14120"/>
                  <a:pt x="22389" y="14184"/>
                  <a:pt x="22349" y="14238"/>
                </a:cubicBezTo>
                <a:cubicBezTo>
                  <a:pt x="22320" y="14276"/>
                  <a:pt x="22324" y="14289"/>
                  <a:pt x="22324" y="14337"/>
                </a:cubicBezTo>
              </a:path>
              <a:path w="3895" h="1440">
                <a:moveTo>
                  <a:pt x="22920" y="13990"/>
                </a:moveTo>
                <a:cubicBezTo>
                  <a:pt x="22980" y="13994"/>
                  <a:pt x="23104" y="14044"/>
                  <a:pt x="23068" y="13990"/>
                </a:cubicBezTo>
              </a:path>
              <a:path w="3895" h="1440">
                <a:moveTo>
                  <a:pt x="22895" y="14163"/>
                </a:moveTo>
                <a:cubicBezTo>
                  <a:pt x="23029" y="14203"/>
                  <a:pt x="23072" y="14234"/>
                  <a:pt x="23192" y="141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Ink 14"/>
          <p:cNvSpPr/>
          <p:nvPr/>
        </p:nvSpPr>
        <p:spPr>
          <a:xfrm>
            <a:off x="8491680" y="4911840"/>
            <a:ext cx="9360" cy="258480"/>
          </a:xfrm>
          <a:custGeom>
            <a:avLst/>
            <a:gdLst/>
            <a:ahLst/>
            <a:rect l="l" t="t" r="r" b="b"/>
            <a:pathLst>
              <a:path w="26" h="720">
                <a:moveTo>
                  <a:pt x="23614" y="13643"/>
                </a:moveTo>
                <a:cubicBezTo>
                  <a:pt x="23614" y="13769"/>
                  <a:pt x="23594" y="13869"/>
                  <a:pt x="23589" y="13990"/>
                </a:cubicBezTo>
                <a:cubicBezTo>
                  <a:pt x="23584" y="14117"/>
                  <a:pt x="23583" y="14240"/>
                  <a:pt x="23614" y="143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Ink 15"/>
          <p:cNvSpPr/>
          <p:nvPr/>
        </p:nvSpPr>
        <p:spPr>
          <a:xfrm>
            <a:off x="6697800" y="4759200"/>
            <a:ext cx="482400" cy="1019160"/>
          </a:xfrm>
          <a:custGeom>
            <a:avLst/>
            <a:gdLst/>
            <a:ahLst/>
            <a:rect l="l" t="t" r="r" b="b"/>
            <a:pathLst>
              <a:path w="1340" h="2829">
                <a:moveTo>
                  <a:pt x="18604" y="14833"/>
                </a:moveTo>
                <a:cubicBezTo>
                  <a:pt x="18709" y="14833"/>
                  <a:pt x="18804" y="14838"/>
                  <a:pt x="18901" y="14858"/>
                </a:cubicBezTo>
              </a:path>
              <a:path w="1340" h="2829">
                <a:moveTo>
                  <a:pt x="19496" y="14784"/>
                </a:moveTo>
                <a:cubicBezTo>
                  <a:pt x="19496" y="14854"/>
                  <a:pt x="19477" y="14893"/>
                  <a:pt x="19472" y="14957"/>
                </a:cubicBezTo>
                <a:cubicBezTo>
                  <a:pt x="19468" y="15006"/>
                  <a:pt x="19472" y="15057"/>
                  <a:pt x="19472" y="15106"/>
                </a:cubicBezTo>
              </a:path>
              <a:path w="1340" h="2829">
                <a:moveTo>
                  <a:pt x="19174" y="15156"/>
                </a:moveTo>
                <a:cubicBezTo>
                  <a:pt x="19311" y="15156"/>
                  <a:pt x="19436" y="15164"/>
                  <a:pt x="19571" y="15180"/>
                </a:cubicBezTo>
                <a:cubicBezTo>
                  <a:pt x="19627" y="15187"/>
                  <a:pt x="19672" y="15200"/>
                  <a:pt x="19720" y="15205"/>
                </a:cubicBezTo>
                <a:cubicBezTo>
                  <a:pt x="19728" y="15205"/>
                  <a:pt x="19737" y="15205"/>
                  <a:pt x="19745" y="15205"/>
                </a:cubicBezTo>
              </a:path>
              <a:path w="1340" h="2829">
                <a:moveTo>
                  <a:pt x="19273" y="15478"/>
                </a:moveTo>
                <a:cubicBezTo>
                  <a:pt x="19300" y="15458"/>
                  <a:pt x="19341" y="15418"/>
                  <a:pt x="19372" y="15404"/>
                </a:cubicBezTo>
                <a:cubicBezTo>
                  <a:pt x="19398" y="15392"/>
                  <a:pt x="19486" y="15397"/>
                  <a:pt x="19496" y="15429"/>
                </a:cubicBezTo>
                <a:cubicBezTo>
                  <a:pt x="19520" y="15507"/>
                  <a:pt x="19506" y="15547"/>
                  <a:pt x="19496" y="15627"/>
                </a:cubicBezTo>
                <a:cubicBezTo>
                  <a:pt x="19482" y="15735"/>
                  <a:pt x="19449" y="15757"/>
                  <a:pt x="19397" y="15850"/>
                </a:cubicBezTo>
                <a:cubicBezTo>
                  <a:pt x="19378" y="15884"/>
                  <a:pt x="19316" y="15962"/>
                  <a:pt x="19273" y="15974"/>
                </a:cubicBezTo>
                <a:cubicBezTo>
                  <a:pt x="19205" y="15994"/>
                  <a:pt x="19199" y="15948"/>
                  <a:pt x="19199" y="15900"/>
                </a:cubicBezTo>
                <a:cubicBezTo>
                  <a:pt x="19199" y="15875"/>
                  <a:pt x="19199" y="15867"/>
                  <a:pt x="19199" y="15850"/>
                </a:cubicBezTo>
                <a:cubicBezTo>
                  <a:pt x="19246" y="15850"/>
                  <a:pt x="19262" y="15867"/>
                  <a:pt x="19298" y="15875"/>
                </a:cubicBezTo>
                <a:cubicBezTo>
                  <a:pt x="19351" y="15886"/>
                  <a:pt x="19394" y="15904"/>
                  <a:pt x="19447" y="15925"/>
                </a:cubicBezTo>
                <a:cubicBezTo>
                  <a:pt x="19511" y="15950"/>
                  <a:pt x="19496" y="15961"/>
                  <a:pt x="19546" y="15925"/>
                </a:cubicBezTo>
              </a:path>
              <a:path w="1340" h="2829">
                <a:moveTo>
                  <a:pt x="19720" y="15429"/>
                </a:moveTo>
                <a:cubicBezTo>
                  <a:pt x="19815" y="15416"/>
                  <a:pt x="19863" y="15404"/>
                  <a:pt x="19943" y="15404"/>
                </a:cubicBezTo>
              </a:path>
              <a:path w="1340" h="2829">
                <a:moveTo>
                  <a:pt x="19670" y="15453"/>
                </a:moveTo>
                <a:cubicBezTo>
                  <a:pt x="19642" y="15490"/>
                  <a:pt x="19631" y="15496"/>
                  <a:pt x="19621" y="15528"/>
                </a:cubicBezTo>
                <a:cubicBezTo>
                  <a:pt x="19633" y="15567"/>
                  <a:pt x="19642" y="15556"/>
                  <a:pt x="19670" y="15577"/>
                </a:cubicBezTo>
                <a:cubicBezTo>
                  <a:pt x="19719" y="15614"/>
                  <a:pt x="19768" y="15642"/>
                  <a:pt x="19819" y="15677"/>
                </a:cubicBezTo>
                <a:cubicBezTo>
                  <a:pt x="19871" y="15712"/>
                  <a:pt x="19929" y="15787"/>
                  <a:pt x="19943" y="15850"/>
                </a:cubicBezTo>
                <a:cubicBezTo>
                  <a:pt x="19951" y="15886"/>
                  <a:pt x="19960" y="16003"/>
                  <a:pt x="19918" y="16024"/>
                </a:cubicBezTo>
                <a:cubicBezTo>
                  <a:pt x="19873" y="16046"/>
                  <a:pt x="19821" y="16049"/>
                  <a:pt x="19769" y="16049"/>
                </a:cubicBezTo>
                <a:cubicBezTo>
                  <a:pt x="19733" y="16049"/>
                  <a:pt x="19666" y="16060"/>
                  <a:pt x="19670" y="16024"/>
                </a:cubicBezTo>
                <a:cubicBezTo>
                  <a:pt x="19678" y="16007"/>
                  <a:pt x="19687" y="15991"/>
                  <a:pt x="19695" y="15974"/>
                </a:cubicBezTo>
              </a:path>
              <a:path w="1340" h="2829">
                <a:moveTo>
                  <a:pt x="19794" y="13221"/>
                </a:moveTo>
                <a:cubicBezTo>
                  <a:pt x="19774" y="13342"/>
                  <a:pt x="19754" y="13473"/>
                  <a:pt x="19745" y="13593"/>
                </a:cubicBezTo>
                <a:cubicBezTo>
                  <a:pt x="19734" y="13742"/>
                  <a:pt x="19716" y="13891"/>
                  <a:pt x="19695" y="14039"/>
                </a:cubicBezTo>
                <a:cubicBezTo>
                  <a:pt x="19670" y="14211"/>
                  <a:pt x="19623" y="14396"/>
                  <a:pt x="19571" y="14560"/>
                </a:cubicBezTo>
                <a:cubicBezTo>
                  <a:pt x="19522" y="14714"/>
                  <a:pt x="19483" y="14882"/>
                  <a:pt x="19422" y="15032"/>
                </a:cubicBezTo>
                <a:cubicBezTo>
                  <a:pt x="19364" y="15175"/>
                  <a:pt x="19300" y="15309"/>
                  <a:pt x="19248" y="15453"/>
                </a:cubicBezTo>
                <a:cubicBezTo>
                  <a:pt x="19215" y="15544"/>
                  <a:pt x="19172" y="15718"/>
                  <a:pt x="19124" y="15801"/>
                </a:cubicBezTo>
                <a:cubicBezTo>
                  <a:pt x="19107" y="15831"/>
                  <a:pt x="19088" y="15845"/>
                  <a:pt x="19075" y="158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Ink 16"/>
          <p:cNvSpPr/>
          <p:nvPr/>
        </p:nvSpPr>
        <p:spPr>
          <a:xfrm>
            <a:off x="7456320" y="5892840"/>
            <a:ext cx="1231920" cy="822240"/>
          </a:xfrm>
          <a:custGeom>
            <a:avLst/>
            <a:gdLst/>
            <a:ahLst/>
            <a:rect l="l" t="t" r="r" b="b"/>
            <a:pathLst>
              <a:path w="3424" h="2283">
                <a:moveTo>
                  <a:pt x="21010" y="16570"/>
                </a:moveTo>
                <a:cubicBezTo>
                  <a:pt x="21010" y="16619"/>
                  <a:pt x="21013" y="16536"/>
                  <a:pt x="21010" y="16520"/>
                </a:cubicBezTo>
                <a:cubicBezTo>
                  <a:pt x="21005" y="16495"/>
                  <a:pt x="20969" y="16476"/>
                  <a:pt x="20935" y="16495"/>
                </a:cubicBezTo>
                <a:cubicBezTo>
                  <a:pt x="20895" y="16517"/>
                  <a:pt x="20845" y="16564"/>
                  <a:pt x="20811" y="16594"/>
                </a:cubicBezTo>
                <a:cubicBezTo>
                  <a:pt x="20754" y="16645"/>
                  <a:pt x="20758" y="16706"/>
                  <a:pt x="20737" y="16768"/>
                </a:cubicBezTo>
                <a:cubicBezTo>
                  <a:pt x="20712" y="16842"/>
                  <a:pt x="20695" y="16892"/>
                  <a:pt x="20737" y="16966"/>
                </a:cubicBezTo>
                <a:cubicBezTo>
                  <a:pt x="20763" y="17013"/>
                  <a:pt x="20836" y="17135"/>
                  <a:pt x="20910" y="17115"/>
                </a:cubicBezTo>
                <a:cubicBezTo>
                  <a:pt x="20954" y="17093"/>
                  <a:pt x="20965" y="17090"/>
                  <a:pt x="20985" y="17066"/>
                </a:cubicBezTo>
              </a:path>
              <a:path w="3424" h="2283">
                <a:moveTo>
                  <a:pt x="21258" y="16619"/>
                </a:moveTo>
                <a:cubicBezTo>
                  <a:pt x="21185" y="16637"/>
                  <a:pt x="21203" y="16682"/>
                  <a:pt x="21183" y="16743"/>
                </a:cubicBezTo>
                <a:cubicBezTo>
                  <a:pt x="21161" y="16810"/>
                  <a:pt x="21139" y="16852"/>
                  <a:pt x="21183" y="16917"/>
                </a:cubicBezTo>
                <a:cubicBezTo>
                  <a:pt x="21235" y="16995"/>
                  <a:pt x="21236" y="17010"/>
                  <a:pt x="21332" y="17016"/>
                </a:cubicBezTo>
                <a:cubicBezTo>
                  <a:pt x="21385" y="17020"/>
                  <a:pt x="21394" y="17002"/>
                  <a:pt x="21431" y="16966"/>
                </a:cubicBezTo>
                <a:cubicBezTo>
                  <a:pt x="21469" y="16929"/>
                  <a:pt x="21477" y="16847"/>
                  <a:pt x="21481" y="16793"/>
                </a:cubicBezTo>
                <a:cubicBezTo>
                  <a:pt x="21484" y="16758"/>
                  <a:pt x="21453" y="16696"/>
                  <a:pt x="21431" y="16669"/>
                </a:cubicBezTo>
                <a:cubicBezTo>
                  <a:pt x="21398" y="16628"/>
                  <a:pt x="21382" y="16619"/>
                  <a:pt x="21332" y="16619"/>
                </a:cubicBezTo>
                <a:cubicBezTo>
                  <a:pt x="21307" y="16619"/>
                  <a:pt x="21299" y="16619"/>
                  <a:pt x="21282" y="16619"/>
                </a:cubicBezTo>
              </a:path>
              <a:path w="3424" h="2283">
                <a:moveTo>
                  <a:pt x="21729" y="16644"/>
                </a:moveTo>
                <a:cubicBezTo>
                  <a:pt x="21691" y="16631"/>
                  <a:pt x="21708" y="16619"/>
                  <a:pt x="21654" y="16619"/>
                </a:cubicBezTo>
                <a:cubicBezTo>
                  <a:pt x="21646" y="16619"/>
                  <a:pt x="21638" y="16619"/>
                  <a:pt x="21630" y="16619"/>
                </a:cubicBezTo>
                <a:cubicBezTo>
                  <a:pt x="21630" y="16672"/>
                  <a:pt x="21630" y="16693"/>
                  <a:pt x="21654" y="16743"/>
                </a:cubicBezTo>
                <a:cubicBezTo>
                  <a:pt x="21680" y="16798"/>
                  <a:pt x="21715" y="16882"/>
                  <a:pt x="21729" y="16942"/>
                </a:cubicBezTo>
                <a:cubicBezTo>
                  <a:pt x="21744" y="17007"/>
                  <a:pt x="21764" y="17087"/>
                  <a:pt x="21729" y="17140"/>
                </a:cubicBezTo>
                <a:cubicBezTo>
                  <a:pt x="21682" y="17210"/>
                  <a:pt x="21610" y="17132"/>
                  <a:pt x="21580" y="17090"/>
                </a:cubicBezTo>
                <a:cubicBezTo>
                  <a:pt x="21580" y="17082"/>
                  <a:pt x="21580" y="17074"/>
                  <a:pt x="21580" y="17066"/>
                </a:cubicBezTo>
              </a:path>
              <a:path w="3424" h="2283">
                <a:moveTo>
                  <a:pt x="21952" y="16371"/>
                </a:moveTo>
                <a:cubicBezTo>
                  <a:pt x="21976" y="16371"/>
                  <a:pt x="22077" y="16359"/>
                  <a:pt x="22051" y="16421"/>
                </a:cubicBezTo>
                <a:cubicBezTo>
                  <a:pt x="22030" y="16471"/>
                  <a:pt x="21999" y="16452"/>
                  <a:pt x="21977" y="16495"/>
                </a:cubicBezTo>
                <a:cubicBezTo>
                  <a:pt x="21955" y="16538"/>
                  <a:pt x="22002" y="16569"/>
                  <a:pt x="22027" y="16594"/>
                </a:cubicBezTo>
                <a:cubicBezTo>
                  <a:pt x="22066" y="16633"/>
                  <a:pt x="22120" y="16637"/>
                  <a:pt x="22175" y="16644"/>
                </a:cubicBezTo>
              </a:path>
              <a:path w="3424" h="2283">
                <a:moveTo>
                  <a:pt x="22250" y="16768"/>
                </a:moveTo>
                <a:cubicBezTo>
                  <a:pt x="22282" y="16879"/>
                  <a:pt x="22317" y="16942"/>
                  <a:pt x="22374" y="17041"/>
                </a:cubicBezTo>
                <a:cubicBezTo>
                  <a:pt x="22414" y="17111"/>
                  <a:pt x="22463" y="17212"/>
                  <a:pt x="22523" y="17264"/>
                </a:cubicBezTo>
                <a:cubicBezTo>
                  <a:pt x="22574" y="17308"/>
                  <a:pt x="22563" y="17304"/>
                  <a:pt x="22622" y="17314"/>
                </a:cubicBezTo>
              </a:path>
              <a:path w="3424" h="2283">
                <a:moveTo>
                  <a:pt x="22423" y="16793"/>
                </a:moveTo>
                <a:cubicBezTo>
                  <a:pt x="22329" y="16867"/>
                  <a:pt x="22272" y="16928"/>
                  <a:pt x="22200" y="17016"/>
                </a:cubicBezTo>
                <a:cubicBezTo>
                  <a:pt x="22159" y="17066"/>
                  <a:pt x="22100" y="17130"/>
                  <a:pt x="22076" y="17190"/>
                </a:cubicBezTo>
                <a:cubicBezTo>
                  <a:pt x="22060" y="17230"/>
                  <a:pt x="22032" y="17249"/>
                  <a:pt x="22076" y="17264"/>
                </a:cubicBezTo>
              </a:path>
              <a:path w="3424" h="2283">
                <a:moveTo>
                  <a:pt x="22671" y="17041"/>
                </a:moveTo>
                <a:cubicBezTo>
                  <a:pt x="22753" y="17056"/>
                  <a:pt x="22796" y="17066"/>
                  <a:pt x="22870" y="17066"/>
                </a:cubicBezTo>
              </a:path>
              <a:path w="3424" h="2283">
                <a:moveTo>
                  <a:pt x="22721" y="17239"/>
                </a:moveTo>
                <a:cubicBezTo>
                  <a:pt x="22800" y="17287"/>
                  <a:pt x="22778" y="17289"/>
                  <a:pt x="22845" y="17289"/>
                </a:cubicBezTo>
                <a:cubicBezTo>
                  <a:pt x="22857" y="17325"/>
                  <a:pt x="22858" y="17325"/>
                  <a:pt x="22870" y="17289"/>
                </a:cubicBezTo>
              </a:path>
              <a:path w="3424" h="2283">
                <a:moveTo>
                  <a:pt x="23267" y="16991"/>
                </a:moveTo>
                <a:cubicBezTo>
                  <a:pt x="23326" y="17021"/>
                  <a:pt x="23301" y="16973"/>
                  <a:pt x="23366" y="16966"/>
                </a:cubicBezTo>
                <a:cubicBezTo>
                  <a:pt x="23398" y="16962"/>
                  <a:pt x="23448" y="16956"/>
                  <a:pt x="23465" y="16991"/>
                </a:cubicBezTo>
                <a:cubicBezTo>
                  <a:pt x="23501" y="17063"/>
                  <a:pt x="23459" y="17221"/>
                  <a:pt x="23440" y="17289"/>
                </a:cubicBezTo>
                <a:cubicBezTo>
                  <a:pt x="23416" y="17376"/>
                  <a:pt x="23396" y="17413"/>
                  <a:pt x="23366" y="17487"/>
                </a:cubicBezTo>
                <a:cubicBezTo>
                  <a:pt x="23355" y="17513"/>
                  <a:pt x="23338" y="17563"/>
                  <a:pt x="23292" y="17537"/>
                </a:cubicBezTo>
                <a:cubicBezTo>
                  <a:pt x="23247" y="17512"/>
                  <a:pt x="23242" y="17498"/>
                  <a:pt x="23217" y="17462"/>
                </a:cubicBezTo>
                <a:cubicBezTo>
                  <a:pt x="23190" y="17423"/>
                  <a:pt x="23192" y="17413"/>
                  <a:pt x="23192" y="17363"/>
                </a:cubicBezTo>
                <a:cubicBezTo>
                  <a:pt x="23243" y="17363"/>
                  <a:pt x="23251" y="17374"/>
                  <a:pt x="23292" y="17388"/>
                </a:cubicBezTo>
                <a:cubicBezTo>
                  <a:pt x="23334" y="17402"/>
                  <a:pt x="23357" y="17428"/>
                  <a:pt x="23391" y="17462"/>
                </a:cubicBezTo>
                <a:cubicBezTo>
                  <a:pt x="23427" y="17498"/>
                  <a:pt x="23402" y="17499"/>
                  <a:pt x="23440" y="17512"/>
                </a:cubicBezTo>
              </a:path>
              <a:path w="3424" h="2283">
                <a:moveTo>
                  <a:pt x="23614" y="17066"/>
                </a:moveTo>
                <a:cubicBezTo>
                  <a:pt x="23614" y="17150"/>
                  <a:pt x="23615" y="17218"/>
                  <a:pt x="23639" y="17289"/>
                </a:cubicBezTo>
                <a:cubicBezTo>
                  <a:pt x="23656" y="17340"/>
                  <a:pt x="23675" y="17338"/>
                  <a:pt x="23713" y="17363"/>
                </a:cubicBezTo>
                <a:cubicBezTo>
                  <a:pt x="23765" y="17398"/>
                  <a:pt x="23745" y="17392"/>
                  <a:pt x="23812" y="17363"/>
                </a:cubicBezTo>
              </a:path>
              <a:path w="3424" h="2283">
                <a:moveTo>
                  <a:pt x="23912" y="17066"/>
                </a:moveTo>
                <a:cubicBezTo>
                  <a:pt x="23880" y="17105"/>
                  <a:pt x="23844" y="17171"/>
                  <a:pt x="23837" y="17214"/>
                </a:cubicBezTo>
                <a:cubicBezTo>
                  <a:pt x="23820" y="17329"/>
                  <a:pt x="23812" y="17445"/>
                  <a:pt x="23812" y="17562"/>
                </a:cubicBezTo>
                <a:cubicBezTo>
                  <a:pt x="23812" y="17628"/>
                  <a:pt x="23812" y="17645"/>
                  <a:pt x="23812" y="17686"/>
                </a:cubicBezTo>
              </a:path>
              <a:path w="3424" h="2283">
                <a:moveTo>
                  <a:pt x="23143" y="17711"/>
                </a:moveTo>
                <a:cubicBezTo>
                  <a:pt x="23204" y="17665"/>
                  <a:pt x="23223" y="17702"/>
                  <a:pt x="23292" y="17711"/>
                </a:cubicBezTo>
                <a:cubicBezTo>
                  <a:pt x="23396" y="17725"/>
                  <a:pt x="23478" y="17735"/>
                  <a:pt x="23589" y="17735"/>
                </a:cubicBezTo>
                <a:cubicBezTo>
                  <a:pt x="23704" y="17735"/>
                  <a:pt x="23804" y="17735"/>
                  <a:pt x="23912" y="17760"/>
                </a:cubicBezTo>
                <a:cubicBezTo>
                  <a:pt x="23937" y="17760"/>
                  <a:pt x="23945" y="17760"/>
                  <a:pt x="23961" y="17760"/>
                </a:cubicBezTo>
              </a:path>
              <a:path w="3424" h="2283">
                <a:moveTo>
                  <a:pt x="23416" y="17959"/>
                </a:moveTo>
                <a:cubicBezTo>
                  <a:pt x="23463" y="17959"/>
                  <a:pt x="23495" y="17939"/>
                  <a:pt x="23540" y="17934"/>
                </a:cubicBezTo>
                <a:cubicBezTo>
                  <a:pt x="23568" y="17931"/>
                  <a:pt x="23625" y="17943"/>
                  <a:pt x="23639" y="17959"/>
                </a:cubicBezTo>
                <a:cubicBezTo>
                  <a:pt x="23688" y="18017"/>
                  <a:pt x="23666" y="18097"/>
                  <a:pt x="23639" y="18157"/>
                </a:cubicBezTo>
                <a:cubicBezTo>
                  <a:pt x="23612" y="18218"/>
                  <a:pt x="23585" y="18335"/>
                  <a:pt x="23540" y="18380"/>
                </a:cubicBezTo>
                <a:cubicBezTo>
                  <a:pt x="23514" y="18406"/>
                  <a:pt x="23425" y="18466"/>
                  <a:pt x="23391" y="18479"/>
                </a:cubicBezTo>
                <a:cubicBezTo>
                  <a:pt x="23373" y="18486"/>
                  <a:pt x="23335" y="18479"/>
                  <a:pt x="23316" y="18479"/>
                </a:cubicBezTo>
                <a:cubicBezTo>
                  <a:pt x="23316" y="18398"/>
                  <a:pt x="23325" y="18442"/>
                  <a:pt x="23366" y="18380"/>
                </a:cubicBezTo>
                <a:cubicBezTo>
                  <a:pt x="23387" y="18349"/>
                  <a:pt x="23389" y="18355"/>
                  <a:pt x="23440" y="18355"/>
                </a:cubicBezTo>
                <a:cubicBezTo>
                  <a:pt x="23479" y="18355"/>
                  <a:pt x="23536" y="18386"/>
                  <a:pt x="23564" y="18405"/>
                </a:cubicBezTo>
                <a:cubicBezTo>
                  <a:pt x="23609" y="18436"/>
                  <a:pt x="23630" y="18450"/>
                  <a:pt x="23688" y="18455"/>
                </a:cubicBezTo>
                <a:cubicBezTo>
                  <a:pt x="23696" y="18455"/>
                  <a:pt x="23705" y="18455"/>
                  <a:pt x="23713" y="18455"/>
                </a:cubicBezTo>
              </a:path>
              <a:path w="3424" h="2283">
                <a:moveTo>
                  <a:pt x="23937" y="18033"/>
                </a:moveTo>
                <a:cubicBezTo>
                  <a:pt x="24017" y="18033"/>
                  <a:pt x="24064" y="18039"/>
                  <a:pt x="24135" y="18008"/>
                </a:cubicBezTo>
              </a:path>
              <a:path w="3424" h="2283">
                <a:moveTo>
                  <a:pt x="23837" y="18008"/>
                </a:moveTo>
                <a:cubicBezTo>
                  <a:pt x="23818" y="18085"/>
                  <a:pt x="23825" y="18102"/>
                  <a:pt x="23788" y="18132"/>
                </a:cubicBezTo>
                <a:cubicBezTo>
                  <a:pt x="23789" y="18135"/>
                  <a:pt x="23809" y="18204"/>
                  <a:pt x="23812" y="18207"/>
                </a:cubicBezTo>
                <a:cubicBezTo>
                  <a:pt x="23838" y="18228"/>
                  <a:pt x="23853" y="18212"/>
                  <a:pt x="23887" y="18231"/>
                </a:cubicBezTo>
                <a:cubicBezTo>
                  <a:pt x="23923" y="18251"/>
                  <a:pt x="23996" y="18287"/>
                  <a:pt x="24011" y="18331"/>
                </a:cubicBezTo>
                <a:cubicBezTo>
                  <a:pt x="24030" y="18388"/>
                  <a:pt x="24036" y="18439"/>
                  <a:pt x="24036" y="18504"/>
                </a:cubicBezTo>
                <a:cubicBezTo>
                  <a:pt x="24036" y="18563"/>
                  <a:pt x="24026" y="18583"/>
                  <a:pt x="24011" y="18628"/>
                </a:cubicBezTo>
                <a:cubicBezTo>
                  <a:pt x="23998" y="18666"/>
                  <a:pt x="23982" y="18653"/>
                  <a:pt x="23937" y="18653"/>
                </a:cubicBezTo>
                <a:cubicBezTo>
                  <a:pt x="23886" y="18653"/>
                  <a:pt x="23878" y="18642"/>
                  <a:pt x="23837" y="18628"/>
                </a:cubicBezTo>
                <a:cubicBezTo>
                  <a:pt x="23795" y="18614"/>
                  <a:pt x="23803" y="18648"/>
                  <a:pt x="23788" y="186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Ink 17"/>
          <p:cNvSpPr/>
          <p:nvPr/>
        </p:nvSpPr>
        <p:spPr>
          <a:xfrm>
            <a:off x="8259840" y="5456160"/>
            <a:ext cx="473040" cy="615960"/>
          </a:xfrm>
          <a:custGeom>
            <a:avLst/>
            <a:gdLst/>
            <a:ahLst/>
            <a:rect l="l" t="t" r="r" b="b"/>
            <a:pathLst>
              <a:path w="1316" h="1712">
                <a:moveTo>
                  <a:pt x="22944" y="15627"/>
                </a:moveTo>
                <a:cubicBezTo>
                  <a:pt x="23045" y="15627"/>
                  <a:pt x="23125" y="15618"/>
                  <a:pt x="23217" y="15602"/>
                </a:cubicBezTo>
                <a:cubicBezTo>
                  <a:pt x="23314" y="15585"/>
                  <a:pt x="23341" y="15547"/>
                  <a:pt x="23416" y="15478"/>
                </a:cubicBezTo>
              </a:path>
              <a:path w="1316" h="1712">
                <a:moveTo>
                  <a:pt x="23639" y="15156"/>
                </a:moveTo>
                <a:cubicBezTo>
                  <a:pt x="23655" y="15217"/>
                  <a:pt x="23642" y="15233"/>
                  <a:pt x="23639" y="15304"/>
                </a:cubicBezTo>
                <a:cubicBezTo>
                  <a:pt x="23634" y="15426"/>
                  <a:pt x="23641" y="15537"/>
                  <a:pt x="23614" y="15652"/>
                </a:cubicBezTo>
                <a:cubicBezTo>
                  <a:pt x="23614" y="15677"/>
                  <a:pt x="23614" y="15685"/>
                  <a:pt x="23614" y="15701"/>
                </a:cubicBezTo>
              </a:path>
              <a:path w="1316" h="1712">
                <a:moveTo>
                  <a:pt x="23416" y="15751"/>
                </a:moveTo>
                <a:cubicBezTo>
                  <a:pt x="23535" y="15775"/>
                  <a:pt x="23645" y="15829"/>
                  <a:pt x="23763" y="15850"/>
                </a:cubicBezTo>
                <a:cubicBezTo>
                  <a:pt x="23834" y="15863"/>
                  <a:pt x="23884" y="15869"/>
                  <a:pt x="23961" y="15875"/>
                </a:cubicBezTo>
              </a:path>
              <a:path w="1316" h="1712">
                <a:moveTo>
                  <a:pt x="23589" y="16098"/>
                </a:moveTo>
                <a:cubicBezTo>
                  <a:pt x="23606" y="16048"/>
                  <a:pt x="23659" y="16052"/>
                  <a:pt x="23713" y="16073"/>
                </a:cubicBezTo>
                <a:cubicBezTo>
                  <a:pt x="23760" y="16091"/>
                  <a:pt x="23818" y="16150"/>
                  <a:pt x="23812" y="16197"/>
                </a:cubicBezTo>
                <a:cubicBezTo>
                  <a:pt x="23806" y="16244"/>
                  <a:pt x="23780" y="16301"/>
                  <a:pt x="23763" y="16346"/>
                </a:cubicBezTo>
              </a:path>
              <a:path w="1316" h="1712">
                <a:moveTo>
                  <a:pt x="23589" y="16421"/>
                </a:moveTo>
                <a:cubicBezTo>
                  <a:pt x="23531" y="16421"/>
                  <a:pt x="23507" y="16437"/>
                  <a:pt x="23515" y="16396"/>
                </a:cubicBezTo>
                <a:cubicBezTo>
                  <a:pt x="23523" y="16371"/>
                  <a:pt x="23541" y="16328"/>
                  <a:pt x="23589" y="16346"/>
                </a:cubicBezTo>
                <a:cubicBezTo>
                  <a:pt x="23652" y="16369"/>
                  <a:pt x="23721" y="16420"/>
                  <a:pt x="23788" y="16446"/>
                </a:cubicBezTo>
                <a:cubicBezTo>
                  <a:pt x="23850" y="16470"/>
                  <a:pt x="23898" y="16487"/>
                  <a:pt x="23961" y="16495"/>
                </a:cubicBezTo>
              </a:path>
              <a:path w="1316" h="1712">
                <a:moveTo>
                  <a:pt x="24061" y="16222"/>
                </a:moveTo>
                <a:cubicBezTo>
                  <a:pt x="24115" y="16239"/>
                  <a:pt x="24179" y="16266"/>
                  <a:pt x="24234" y="16272"/>
                </a:cubicBezTo>
                <a:cubicBezTo>
                  <a:pt x="24242" y="16272"/>
                  <a:pt x="24251" y="16272"/>
                  <a:pt x="24259" y="16272"/>
                </a:cubicBezTo>
              </a:path>
              <a:path w="1316" h="1712">
                <a:moveTo>
                  <a:pt x="24185" y="16173"/>
                </a:moveTo>
                <a:cubicBezTo>
                  <a:pt x="24124" y="16197"/>
                  <a:pt x="24050" y="16218"/>
                  <a:pt x="24036" y="16297"/>
                </a:cubicBezTo>
                <a:cubicBezTo>
                  <a:pt x="24016" y="16405"/>
                  <a:pt x="24050" y="16516"/>
                  <a:pt x="24061" y="16619"/>
                </a:cubicBezTo>
                <a:cubicBezTo>
                  <a:pt x="24070" y="16706"/>
                  <a:pt x="24070" y="16777"/>
                  <a:pt x="24011" y="16842"/>
                </a:cubicBezTo>
                <a:cubicBezTo>
                  <a:pt x="23937" y="16923"/>
                  <a:pt x="23759" y="16769"/>
                  <a:pt x="23713" y="167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Ink 18"/>
          <p:cNvSpPr/>
          <p:nvPr/>
        </p:nvSpPr>
        <p:spPr>
          <a:xfrm>
            <a:off x="6813720" y="6269040"/>
            <a:ext cx="1169640" cy="544680"/>
          </a:xfrm>
          <a:custGeom>
            <a:avLst/>
            <a:gdLst/>
            <a:ahLst/>
            <a:rect l="l" t="t" r="r" b="b"/>
            <a:pathLst>
              <a:path w="3250" h="1514">
                <a:moveTo>
                  <a:pt x="19224" y="18008"/>
                </a:moveTo>
                <a:cubicBezTo>
                  <a:pt x="19248" y="18008"/>
                  <a:pt x="19257" y="18008"/>
                  <a:pt x="19273" y="18008"/>
                </a:cubicBezTo>
                <a:cubicBezTo>
                  <a:pt x="19287" y="17926"/>
                  <a:pt x="19297" y="17981"/>
                  <a:pt x="19273" y="17909"/>
                </a:cubicBezTo>
                <a:cubicBezTo>
                  <a:pt x="19273" y="17901"/>
                  <a:pt x="19273" y="17892"/>
                  <a:pt x="19273" y="17884"/>
                </a:cubicBezTo>
              </a:path>
              <a:path w="3250" h="1514">
                <a:moveTo>
                  <a:pt x="19124" y="17884"/>
                </a:moveTo>
                <a:cubicBezTo>
                  <a:pt x="19078" y="17931"/>
                  <a:pt x="19033" y="17978"/>
                  <a:pt x="19000" y="18033"/>
                </a:cubicBezTo>
                <a:cubicBezTo>
                  <a:pt x="18963" y="18095"/>
                  <a:pt x="18929" y="18160"/>
                  <a:pt x="18926" y="18231"/>
                </a:cubicBezTo>
                <a:cubicBezTo>
                  <a:pt x="18923" y="18293"/>
                  <a:pt x="18937" y="18384"/>
                  <a:pt x="18976" y="18430"/>
                </a:cubicBezTo>
                <a:cubicBezTo>
                  <a:pt x="19029" y="18491"/>
                  <a:pt x="19074" y="18543"/>
                  <a:pt x="19149" y="18554"/>
                </a:cubicBezTo>
              </a:path>
              <a:path w="3250" h="1514">
                <a:moveTo>
                  <a:pt x="19472" y="18058"/>
                </a:moveTo>
                <a:cubicBezTo>
                  <a:pt x="19432" y="18156"/>
                  <a:pt x="19406" y="18227"/>
                  <a:pt x="19372" y="18331"/>
                </a:cubicBezTo>
                <a:cubicBezTo>
                  <a:pt x="19353" y="18387"/>
                  <a:pt x="19356" y="18428"/>
                  <a:pt x="19397" y="18479"/>
                </a:cubicBezTo>
                <a:cubicBezTo>
                  <a:pt x="19414" y="18501"/>
                  <a:pt x="19467" y="18520"/>
                  <a:pt x="19496" y="18504"/>
                </a:cubicBezTo>
                <a:cubicBezTo>
                  <a:pt x="19524" y="18488"/>
                  <a:pt x="19566" y="18384"/>
                  <a:pt x="19571" y="18355"/>
                </a:cubicBezTo>
                <a:cubicBezTo>
                  <a:pt x="19586" y="18271"/>
                  <a:pt x="19597" y="18190"/>
                  <a:pt x="19571" y="18107"/>
                </a:cubicBezTo>
                <a:cubicBezTo>
                  <a:pt x="19556" y="18061"/>
                  <a:pt x="19519" y="18013"/>
                  <a:pt x="19472" y="18008"/>
                </a:cubicBezTo>
                <a:cubicBezTo>
                  <a:pt x="19408" y="18001"/>
                  <a:pt x="19416" y="17899"/>
                  <a:pt x="19397" y="18008"/>
                </a:cubicBezTo>
              </a:path>
              <a:path w="3250" h="1514">
                <a:moveTo>
                  <a:pt x="19869" y="18033"/>
                </a:moveTo>
                <a:cubicBezTo>
                  <a:pt x="19855" y="17991"/>
                  <a:pt x="19820" y="18008"/>
                  <a:pt x="19769" y="18008"/>
                </a:cubicBezTo>
                <a:cubicBezTo>
                  <a:pt x="19744" y="18008"/>
                  <a:pt x="19720" y="18008"/>
                  <a:pt x="19695" y="18008"/>
                </a:cubicBezTo>
                <a:cubicBezTo>
                  <a:pt x="19695" y="18067"/>
                  <a:pt x="19719" y="18103"/>
                  <a:pt x="19745" y="18157"/>
                </a:cubicBezTo>
                <a:cubicBezTo>
                  <a:pt x="19785" y="18238"/>
                  <a:pt x="19833" y="18294"/>
                  <a:pt x="19869" y="18380"/>
                </a:cubicBezTo>
                <a:cubicBezTo>
                  <a:pt x="19888" y="18425"/>
                  <a:pt x="19945" y="18484"/>
                  <a:pt x="19893" y="18529"/>
                </a:cubicBezTo>
                <a:cubicBezTo>
                  <a:pt x="19873" y="18546"/>
                  <a:pt x="19800" y="18570"/>
                  <a:pt x="19769" y="18554"/>
                </a:cubicBezTo>
                <a:cubicBezTo>
                  <a:pt x="19725" y="18532"/>
                  <a:pt x="19720" y="18527"/>
                  <a:pt x="19720" y="18479"/>
                </a:cubicBezTo>
              </a:path>
              <a:path w="3250" h="1514">
                <a:moveTo>
                  <a:pt x="20117" y="18033"/>
                </a:moveTo>
                <a:cubicBezTo>
                  <a:pt x="20131" y="18103"/>
                  <a:pt x="20161" y="18189"/>
                  <a:pt x="20191" y="18256"/>
                </a:cubicBezTo>
                <a:cubicBezTo>
                  <a:pt x="20243" y="18371"/>
                  <a:pt x="20308" y="18469"/>
                  <a:pt x="20365" y="18579"/>
                </a:cubicBezTo>
                <a:cubicBezTo>
                  <a:pt x="20389" y="18628"/>
                  <a:pt x="20398" y="18645"/>
                  <a:pt x="20439" y="18653"/>
                </a:cubicBezTo>
              </a:path>
              <a:path w="3250" h="1514">
                <a:moveTo>
                  <a:pt x="20389" y="18008"/>
                </a:moveTo>
                <a:cubicBezTo>
                  <a:pt x="20335" y="18094"/>
                  <a:pt x="20277" y="18152"/>
                  <a:pt x="20216" y="18231"/>
                </a:cubicBezTo>
                <a:cubicBezTo>
                  <a:pt x="20163" y="18299"/>
                  <a:pt x="20109" y="18381"/>
                  <a:pt x="20067" y="18455"/>
                </a:cubicBezTo>
                <a:cubicBezTo>
                  <a:pt x="20039" y="18505"/>
                  <a:pt x="19960" y="18523"/>
                  <a:pt x="19968" y="18579"/>
                </a:cubicBezTo>
                <a:cubicBezTo>
                  <a:pt x="19976" y="18587"/>
                  <a:pt x="19985" y="18596"/>
                  <a:pt x="19993" y="18604"/>
                </a:cubicBezTo>
              </a:path>
              <a:path w="3250" h="1514">
                <a:moveTo>
                  <a:pt x="20538" y="18207"/>
                </a:moveTo>
                <a:cubicBezTo>
                  <a:pt x="20714" y="18207"/>
                  <a:pt x="20680" y="18220"/>
                  <a:pt x="20786" y="18231"/>
                </a:cubicBezTo>
                <a:cubicBezTo>
                  <a:pt x="20794" y="18231"/>
                  <a:pt x="20803" y="18231"/>
                  <a:pt x="20811" y="18231"/>
                </a:cubicBezTo>
              </a:path>
              <a:path w="3250" h="1514">
                <a:moveTo>
                  <a:pt x="20613" y="18430"/>
                </a:moveTo>
                <a:cubicBezTo>
                  <a:pt x="20697" y="18450"/>
                  <a:pt x="20711" y="18455"/>
                  <a:pt x="20786" y="18455"/>
                </a:cubicBezTo>
              </a:path>
              <a:path w="3250" h="1514">
                <a:moveTo>
                  <a:pt x="21084" y="18207"/>
                </a:moveTo>
                <a:cubicBezTo>
                  <a:pt x="21152" y="18148"/>
                  <a:pt x="21147" y="18157"/>
                  <a:pt x="21233" y="18157"/>
                </a:cubicBezTo>
                <a:cubicBezTo>
                  <a:pt x="21345" y="18157"/>
                  <a:pt x="21450" y="18169"/>
                  <a:pt x="21555" y="18182"/>
                </a:cubicBezTo>
                <a:cubicBezTo>
                  <a:pt x="21672" y="18197"/>
                  <a:pt x="21786" y="18212"/>
                  <a:pt x="21903" y="18231"/>
                </a:cubicBezTo>
                <a:cubicBezTo>
                  <a:pt x="21983" y="18244"/>
                  <a:pt x="22056" y="18285"/>
                  <a:pt x="22126" y="18306"/>
                </a:cubicBezTo>
                <a:cubicBezTo>
                  <a:pt x="22167" y="18318"/>
                  <a:pt x="22136" y="18317"/>
                  <a:pt x="22175" y="18331"/>
                </a:cubicBezTo>
              </a:path>
              <a:path w="3250" h="1514">
                <a:moveTo>
                  <a:pt x="21506" y="18380"/>
                </a:moveTo>
                <a:cubicBezTo>
                  <a:pt x="21571" y="18380"/>
                  <a:pt x="21595" y="18390"/>
                  <a:pt x="21654" y="18405"/>
                </a:cubicBezTo>
                <a:cubicBezTo>
                  <a:pt x="21701" y="18417"/>
                  <a:pt x="21743" y="18402"/>
                  <a:pt x="21779" y="18380"/>
                </a:cubicBezTo>
              </a:path>
              <a:path w="3250" h="1514">
                <a:moveTo>
                  <a:pt x="21506" y="18380"/>
                </a:moveTo>
                <a:cubicBezTo>
                  <a:pt x="21452" y="18422"/>
                  <a:pt x="21413" y="18438"/>
                  <a:pt x="21406" y="18504"/>
                </a:cubicBezTo>
                <a:cubicBezTo>
                  <a:pt x="21406" y="18512"/>
                  <a:pt x="21406" y="18521"/>
                  <a:pt x="21406" y="18529"/>
                </a:cubicBezTo>
                <a:cubicBezTo>
                  <a:pt x="21439" y="18529"/>
                  <a:pt x="21485" y="18494"/>
                  <a:pt x="21506" y="18504"/>
                </a:cubicBezTo>
                <a:cubicBezTo>
                  <a:pt x="21561" y="18529"/>
                  <a:pt x="21628" y="18628"/>
                  <a:pt x="21654" y="18678"/>
                </a:cubicBezTo>
                <a:cubicBezTo>
                  <a:pt x="21688" y="18743"/>
                  <a:pt x="21685" y="18768"/>
                  <a:pt x="21654" y="18827"/>
                </a:cubicBezTo>
                <a:cubicBezTo>
                  <a:pt x="21621" y="18889"/>
                  <a:pt x="21599" y="18908"/>
                  <a:pt x="21530" y="18926"/>
                </a:cubicBezTo>
                <a:cubicBezTo>
                  <a:pt x="21486" y="18937"/>
                  <a:pt x="21470" y="18905"/>
                  <a:pt x="21431" y="18901"/>
                </a:cubicBezTo>
                <a:cubicBezTo>
                  <a:pt x="21398" y="18897"/>
                  <a:pt x="21378" y="18901"/>
                  <a:pt x="21357" y="18876"/>
                </a:cubicBezTo>
                <a:cubicBezTo>
                  <a:pt x="21357" y="18852"/>
                  <a:pt x="21357" y="18844"/>
                  <a:pt x="21332" y="18852"/>
                </a:cubicBezTo>
              </a:path>
              <a:path w="3250" h="1514">
                <a:moveTo>
                  <a:pt x="20836" y="17438"/>
                </a:moveTo>
                <a:cubicBezTo>
                  <a:pt x="20874" y="17447"/>
                  <a:pt x="20905" y="17460"/>
                  <a:pt x="20935" y="17487"/>
                </a:cubicBezTo>
                <a:cubicBezTo>
                  <a:pt x="20976" y="17524"/>
                  <a:pt x="21053" y="17583"/>
                  <a:pt x="21059" y="17636"/>
                </a:cubicBezTo>
                <a:cubicBezTo>
                  <a:pt x="21065" y="17687"/>
                  <a:pt x="20974" y="17742"/>
                  <a:pt x="20935" y="17760"/>
                </a:cubicBezTo>
                <a:cubicBezTo>
                  <a:pt x="20907" y="17773"/>
                  <a:pt x="20891" y="17792"/>
                  <a:pt x="20886" y="17835"/>
                </a:cubicBezTo>
                <a:cubicBezTo>
                  <a:pt x="20882" y="17869"/>
                  <a:pt x="20932" y="17916"/>
                  <a:pt x="20960" y="17934"/>
                </a:cubicBezTo>
                <a:cubicBezTo>
                  <a:pt x="21020" y="17972"/>
                  <a:pt x="21061" y="17959"/>
                  <a:pt x="21134" y="17959"/>
                </a:cubicBezTo>
              </a:path>
              <a:path w="3250" h="1514">
                <a:moveTo>
                  <a:pt x="21282" y="17661"/>
                </a:moveTo>
                <a:cubicBezTo>
                  <a:pt x="21267" y="17726"/>
                  <a:pt x="21297" y="17805"/>
                  <a:pt x="21258" y="17859"/>
                </a:cubicBezTo>
                <a:cubicBezTo>
                  <a:pt x="21233" y="17893"/>
                  <a:pt x="21233" y="17878"/>
                  <a:pt x="21233" y="17835"/>
                </a:cubicBezTo>
                <a:cubicBezTo>
                  <a:pt x="21233" y="17781"/>
                  <a:pt x="21244" y="17690"/>
                  <a:pt x="21258" y="17636"/>
                </a:cubicBezTo>
                <a:cubicBezTo>
                  <a:pt x="21273" y="17581"/>
                  <a:pt x="21280" y="17472"/>
                  <a:pt x="21332" y="17438"/>
                </a:cubicBezTo>
                <a:cubicBezTo>
                  <a:pt x="21374" y="17411"/>
                  <a:pt x="21427" y="17413"/>
                  <a:pt x="21481" y="17413"/>
                </a:cubicBezTo>
                <a:cubicBezTo>
                  <a:pt x="21528" y="17413"/>
                  <a:pt x="21608" y="17425"/>
                  <a:pt x="21654" y="17438"/>
                </a:cubicBezTo>
                <a:cubicBezTo>
                  <a:pt x="21705" y="17452"/>
                  <a:pt x="21706" y="17462"/>
                  <a:pt x="21754" y="17462"/>
                </a:cubicBezTo>
              </a:path>
              <a:path w="3250" h="1514">
                <a:moveTo>
                  <a:pt x="21630" y="17537"/>
                </a:moveTo>
                <a:cubicBezTo>
                  <a:pt x="21556" y="17590"/>
                  <a:pt x="21503" y="17634"/>
                  <a:pt x="21456" y="17711"/>
                </a:cubicBezTo>
                <a:cubicBezTo>
                  <a:pt x="21420" y="17770"/>
                  <a:pt x="21425" y="17811"/>
                  <a:pt x="21431" y="17859"/>
                </a:cubicBezTo>
                <a:cubicBezTo>
                  <a:pt x="21442" y="17944"/>
                  <a:pt x="21468" y="17912"/>
                  <a:pt x="21506" y="17959"/>
                </a:cubicBezTo>
                <a:cubicBezTo>
                  <a:pt x="21514" y="17975"/>
                  <a:pt x="21522" y="17992"/>
                  <a:pt x="21530" y="18008"/>
                </a:cubicBezTo>
                <a:cubicBezTo>
                  <a:pt x="21582" y="18008"/>
                  <a:pt x="21617" y="17985"/>
                  <a:pt x="21654" y="17959"/>
                </a:cubicBezTo>
                <a:cubicBezTo>
                  <a:pt x="21695" y="17930"/>
                  <a:pt x="21679" y="17879"/>
                  <a:pt x="21679" y="17835"/>
                </a:cubicBezTo>
                <a:cubicBezTo>
                  <a:pt x="21679" y="17810"/>
                  <a:pt x="21679" y="17802"/>
                  <a:pt x="21679" y="17785"/>
                </a:cubicBezTo>
                <a:cubicBezTo>
                  <a:pt x="21645" y="17785"/>
                  <a:pt x="21599" y="17772"/>
                  <a:pt x="21580" y="17810"/>
                </a:cubicBezTo>
                <a:cubicBezTo>
                  <a:pt x="21543" y="17883"/>
                  <a:pt x="21525" y="17971"/>
                  <a:pt x="21506" y="180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Ink 19"/>
          <p:cNvSpPr/>
          <p:nvPr/>
        </p:nvSpPr>
        <p:spPr>
          <a:xfrm>
            <a:off x="2044800" y="4537080"/>
            <a:ext cx="866520" cy="1919160"/>
          </a:xfrm>
          <a:custGeom>
            <a:avLst/>
            <a:gdLst/>
            <a:ahLst/>
            <a:rect l="l" t="t" r="r" b="b"/>
            <a:pathLst>
              <a:path w="2407" h="5334">
                <a:moveTo>
                  <a:pt x="7665" y="12601"/>
                </a:moveTo>
                <a:cubicBezTo>
                  <a:pt x="7665" y="12709"/>
                  <a:pt x="7657" y="12756"/>
                  <a:pt x="7640" y="12849"/>
                </a:cubicBezTo>
                <a:cubicBezTo>
                  <a:pt x="7626" y="12925"/>
                  <a:pt x="7596" y="12996"/>
                  <a:pt x="7590" y="13072"/>
                </a:cubicBezTo>
                <a:cubicBezTo>
                  <a:pt x="7587" y="13116"/>
                  <a:pt x="7599" y="13147"/>
                  <a:pt x="7640" y="13171"/>
                </a:cubicBezTo>
                <a:cubicBezTo>
                  <a:pt x="7708" y="13211"/>
                  <a:pt x="7805" y="13244"/>
                  <a:pt x="7888" y="13221"/>
                </a:cubicBezTo>
                <a:cubicBezTo>
                  <a:pt x="7937" y="13207"/>
                  <a:pt x="8000" y="13155"/>
                  <a:pt x="8037" y="13122"/>
                </a:cubicBezTo>
                <a:cubicBezTo>
                  <a:pt x="8054" y="13107"/>
                  <a:pt x="8095" y="13019"/>
                  <a:pt x="8086" y="12998"/>
                </a:cubicBezTo>
                <a:cubicBezTo>
                  <a:pt x="8076" y="12974"/>
                  <a:pt x="8042" y="12907"/>
                  <a:pt x="8012" y="12898"/>
                </a:cubicBezTo>
                <a:cubicBezTo>
                  <a:pt x="7960" y="12883"/>
                  <a:pt x="7926" y="12926"/>
                  <a:pt x="7888" y="12948"/>
                </a:cubicBezTo>
                <a:cubicBezTo>
                  <a:pt x="7845" y="12972"/>
                  <a:pt x="7802" y="13040"/>
                  <a:pt x="7789" y="13097"/>
                </a:cubicBezTo>
                <a:cubicBezTo>
                  <a:pt x="7777" y="13150"/>
                  <a:pt x="7797" y="13225"/>
                  <a:pt x="7813" y="13271"/>
                </a:cubicBezTo>
                <a:cubicBezTo>
                  <a:pt x="7833" y="13311"/>
                  <a:pt x="7842" y="13317"/>
                  <a:pt x="7838" y="13345"/>
                </a:cubicBezTo>
              </a:path>
              <a:path w="2407" h="5334">
                <a:moveTo>
                  <a:pt x="6672" y="13419"/>
                </a:moveTo>
                <a:cubicBezTo>
                  <a:pt x="6836" y="13419"/>
                  <a:pt x="6981" y="13433"/>
                  <a:pt x="7144" y="13444"/>
                </a:cubicBezTo>
                <a:cubicBezTo>
                  <a:pt x="7268" y="13453"/>
                  <a:pt x="7390" y="13419"/>
                  <a:pt x="7516" y="13419"/>
                </a:cubicBezTo>
                <a:cubicBezTo>
                  <a:pt x="7665" y="13419"/>
                  <a:pt x="7813" y="13419"/>
                  <a:pt x="7962" y="13419"/>
                </a:cubicBezTo>
              </a:path>
              <a:path w="2407" h="5334">
                <a:moveTo>
                  <a:pt x="7119" y="13742"/>
                </a:moveTo>
                <a:cubicBezTo>
                  <a:pt x="7202" y="13772"/>
                  <a:pt x="7254" y="13791"/>
                  <a:pt x="7342" y="13791"/>
                </a:cubicBezTo>
                <a:cubicBezTo>
                  <a:pt x="7378" y="13791"/>
                  <a:pt x="7470" y="13798"/>
                  <a:pt x="7491" y="13767"/>
                </a:cubicBezTo>
                <a:cubicBezTo>
                  <a:pt x="7491" y="13759"/>
                  <a:pt x="7491" y="13750"/>
                  <a:pt x="7491" y="13742"/>
                </a:cubicBezTo>
              </a:path>
              <a:path w="2407" h="5334">
                <a:moveTo>
                  <a:pt x="7069" y="13841"/>
                </a:moveTo>
                <a:cubicBezTo>
                  <a:pt x="7040" y="13889"/>
                  <a:pt x="7011" y="13942"/>
                  <a:pt x="6995" y="13990"/>
                </a:cubicBezTo>
                <a:cubicBezTo>
                  <a:pt x="6980" y="14034"/>
                  <a:pt x="7005" y="14059"/>
                  <a:pt x="7045" y="14064"/>
                </a:cubicBezTo>
                <a:cubicBezTo>
                  <a:pt x="7095" y="14070"/>
                  <a:pt x="7105" y="14052"/>
                  <a:pt x="7144" y="14039"/>
                </a:cubicBezTo>
                <a:cubicBezTo>
                  <a:pt x="7192" y="14023"/>
                  <a:pt x="7284" y="14034"/>
                  <a:pt x="7317" y="14064"/>
                </a:cubicBezTo>
                <a:cubicBezTo>
                  <a:pt x="7357" y="14100"/>
                  <a:pt x="7412" y="14151"/>
                  <a:pt x="7441" y="14188"/>
                </a:cubicBezTo>
                <a:cubicBezTo>
                  <a:pt x="7478" y="14235"/>
                  <a:pt x="7506" y="14401"/>
                  <a:pt x="7516" y="14461"/>
                </a:cubicBezTo>
                <a:cubicBezTo>
                  <a:pt x="7523" y="14503"/>
                  <a:pt x="7502" y="14585"/>
                  <a:pt x="7466" y="14610"/>
                </a:cubicBezTo>
                <a:cubicBezTo>
                  <a:pt x="7408" y="14650"/>
                  <a:pt x="7363" y="14679"/>
                  <a:pt x="7293" y="14684"/>
                </a:cubicBezTo>
                <a:cubicBezTo>
                  <a:pt x="7234" y="14688"/>
                  <a:pt x="7163" y="14699"/>
                  <a:pt x="7119" y="14660"/>
                </a:cubicBezTo>
                <a:cubicBezTo>
                  <a:pt x="7099" y="14643"/>
                  <a:pt x="7047" y="14590"/>
                  <a:pt x="7045" y="14585"/>
                </a:cubicBezTo>
                <a:cubicBezTo>
                  <a:pt x="7028" y="14549"/>
                  <a:pt x="7020" y="14544"/>
                  <a:pt x="6995" y="14486"/>
                </a:cubicBezTo>
              </a:path>
              <a:path w="2407" h="5334">
                <a:moveTo>
                  <a:pt x="5730" y="16073"/>
                </a:moveTo>
                <a:cubicBezTo>
                  <a:pt x="5793" y="16049"/>
                  <a:pt x="5832" y="16086"/>
                  <a:pt x="5904" y="16098"/>
                </a:cubicBezTo>
                <a:cubicBezTo>
                  <a:pt x="5948" y="16098"/>
                  <a:pt x="5962" y="16095"/>
                  <a:pt x="5978" y="16123"/>
                </a:cubicBezTo>
              </a:path>
              <a:path w="2407" h="5334">
                <a:moveTo>
                  <a:pt x="5680" y="16396"/>
                </a:moveTo>
                <a:cubicBezTo>
                  <a:pt x="5745" y="16449"/>
                  <a:pt x="5810" y="16509"/>
                  <a:pt x="5904" y="16495"/>
                </a:cubicBezTo>
                <a:cubicBezTo>
                  <a:pt x="5937" y="16487"/>
                  <a:pt x="5970" y="16478"/>
                  <a:pt x="6003" y="16470"/>
                </a:cubicBezTo>
              </a:path>
              <a:path w="2407" h="5334">
                <a:moveTo>
                  <a:pt x="6672" y="15652"/>
                </a:moveTo>
                <a:cubicBezTo>
                  <a:pt x="6703" y="15683"/>
                  <a:pt x="6734" y="15680"/>
                  <a:pt x="6747" y="15726"/>
                </a:cubicBezTo>
                <a:cubicBezTo>
                  <a:pt x="6769" y="15802"/>
                  <a:pt x="6720" y="15973"/>
                  <a:pt x="6697" y="16049"/>
                </a:cubicBezTo>
                <a:cubicBezTo>
                  <a:pt x="6681" y="16100"/>
                  <a:pt x="6660" y="16145"/>
                  <a:pt x="6648" y="16197"/>
                </a:cubicBezTo>
                <a:cubicBezTo>
                  <a:pt x="6648" y="16205"/>
                  <a:pt x="6648" y="16214"/>
                  <a:pt x="6648" y="16222"/>
                </a:cubicBezTo>
                <a:cubicBezTo>
                  <a:pt x="6619" y="16174"/>
                  <a:pt x="6623" y="16161"/>
                  <a:pt x="6623" y="16098"/>
                </a:cubicBezTo>
                <a:cubicBezTo>
                  <a:pt x="6623" y="15945"/>
                  <a:pt x="6627" y="15800"/>
                  <a:pt x="6648" y="15652"/>
                </a:cubicBezTo>
                <a:cubicBezTo>
                  <a:pt x="6661" y="15561"/>
                  <a:pt x="6658" y="15467"/>
                  <a:pt x="6672" y="15379"/>
                </a:cubicBezTo>
                <a:cubicBezTo>
                  <a:pt x="6682" y="15316"/>
                  <a:pt x="6676" y="15349"/>
                  <a:pt x="6722" y="15304"/>
                </a:cubicBezTo>
                <a:cubicBezTo>
                  <a:pt x="6754" y="15273"/>
                  <a:pt x="6803" y="15263"/>
                  <a:pt x="6846" y="15255"/>
                </a:cubicBezTo>
                <a:cubicBezTo>
                  <a:pt x="6989" y="15228"/>
                  <a:pt x="7158" y="15263"/>
                  <a:pt x="7293" y="15280"/>
                </a:cubicBezTo>
                <a:cubicBezTo>
                  <a:pt x="7364" y="15289"/>
                  <a:pt x="7444" y="15280"/>
                  <a:pt x="7516" y="15280"/>
                </a:cubicBezTo>
              </a:path>
              <a:path w="2407" h="5334">
                <a:moveTo>
                  <a:pt x="7268" y="15577"/>
                </a:moveTo>
                <a:cubicBezTo>
                  <a:pt x="7234" y="15662"/>
                  <a:pt x="7214" y="15703"/>
                  <a:pt x="7169" y="15776"/>
                </a:cubicBezTo>
                <a:cubicBezTo>
                  <a:pt x="7129" y="15841"/>
                  <a:pt x="7077" y="15924"/>
                  <a:pt x="7069" y="15999"/>
                </a:cubicBezTo>
                <a:cubicBezTo>
                  <a:pt x="7063" y="16064"/>
                  <a:pt x="7076" y="16080"/>
                  <a:pt x="7119" y="16123"/>
                </a:cubicBezTo>
                <a:cubicBezTo>
                  <a:pt x="7147" y="16151"/>
                  <a:pt x="7237" y="16201"/>
                  <a:pt x="7268" y="16197"/>
                </a:cubicBezTo>
                <a:cubicBezTo>
                  <a:pt x="7354" y="16186"/>
                  <a:pt x="7370" y="16162"/>
                  <a:pt x="7417" y="16098"/>
                </a:cubicBezTo>
                <a:cubicBezTo>
                  <a:pt x="7459" y="16041"/>
                  <a:pt x="7466" y="16019"/>
                  <a:pt x="7466" y="15949"/>
                </a:cubicBezTo>
                <a:cubicBezTo>
                  <a:pt x="7466" y="15909"/>
                  <a:pt x="7433" y="15843"/>
                  <a:pt x="7392" y="15825"/>
                </a:cubicBezTo>
                <a:cubicBezTo>
                  <a:pt x="7351" y="15807"/>
                  <a:pt x="7285" y="15873"/>
                  <a:pt x="7268" y="15900"/>
                </a:cubicBezTo>
                <a:cubicBezTo>
                  <a:pt x="7235" y="15953"/>
                  <a:pt x="7227" y="16062"/>
                  <a:pt x="7218" y="16123"/>
                </a:cubicBezTo>
                <a:cubicBezTo>
                  <a:pt x="7211" y="16170"/>
                  <a:pt x="7218" y="16225"/>
                  <a:pt x="7218" y="16272"/>
                </a:cubicBezTo>
              </a:path>
              <a:path w="2407" h="5334">
                <a:moveTo>
                  <a:pt x="6573" y="16297"/>
                </a:moveTo>
                <a:cubicBezTo>
                  <a:pt x="6638" y="16324"/>
                  <a:pt x="6700" y="16343"/>
                  <a:pt x="6772" y="16346"/>
                </a:cubicBezTo>
                <a:cubicBezTo>
                  <a:pt x="6867" y="16350"/>
                  <a:pt x="6954" y="16362"/>
                  <a:pt x="7045" y="16371"/>
                </a:cubicBezTo>
                <a:cubicBezTo>
                  <a:pt x="7150" y="16381"/>
                  <a:pt x="7268" y="16387"/>
                  <a:pt x="7367" y="16396"/>
                </a:cubicBezTo>
                <a:cubicBezTo>
                  <a:pt x="7439" y="16402"/>
                  <a:pt x="7517" y="16396"/>
                  <a:pt x="7590" y="16396"/>
                </a:cubicBezTo>
                <a:cubicBezTo>
                  <a:pt x="7579" y="16364"/>
                  <a:pt x="7556" y="16356"/>
                  <a:pt x="7516" y="16346"/>
                </a:cubicBezTo>
              </a:path>
              <a:path w="2407" h="5334">
                <a:moveTo>
                  <a:pt x="6871" y="16793"/>
                </a:moveTo>
                <a:cubicBezTo>
                  <a:pt x="6871" y="16946"/>
                  <a:pt x="6866" y="17090"/>
                  <a:pt x="6846" y="17239"/>
                </a:cubicBezTo>
                <a:cubicBezTo>
                  <a:pt x="6832" y="17338"/>
                  <a:pt x="6809" y="17438"/>
                  <a:pt x="6796" y="17537"/>
                </a:cubicBezTo>
                <a:cubicBezTo>
                  <a:pt x="6789" y="17592"/>
                  <a:pt x="6783" y="17613"/>
                  <a:pt x="6772" y="17661"/>
                </a:cubicBezTo>
              </a:path>
              <a:path w="2407" h="5334">
                <a:moveTo>
                  <a:pt x="7218" y="17041"/>
                </a:moveTo>
                <a:cubicBezTo>
                  <a:pt x="7349" y="17072"/>
                  <a:pt x="7400" y="17072"/>
                  <a:pt x="7466" y="17190"/>
                </a:cubicBezTo>
                <a:cubicBezTo>
                  <a:pt x="7522" y="17289"/>
                  <a:pt x="7523" y="17356"/>
                  <a:pt x="7491" y="17462"/>
                </a:cubicBezTo>
                <a:cubicBezTo>
                  <a:pt x="7459" y="17568"/>
                  <a:pt x="7385" y="17685"/>
                  <a:pt x="7268" y="17711"/>
                </a:cubicBezTo>
                <a:cubicBezTo>
                  <a:pt x="7187" y="17729"/>
                  <a:pt x="7202" y="17687"/>
                  <a:pt x="7144" y="17661"/>
                </a:cubicBezTo>
                <a:cubicBezTo>
                  <a:pt x="7096" y="17640"/>
                  <a:pt x="7110" y="17607"/>
                  <a:pt x="7119" y="17562"/>
                </a:cubicBezTo>
                <a:cubicBezTo>
                  <a:pt x="7128" y="17519"/>
                  <a:pt x="7162" y="17468"/>
                  <a:pt x="7218" y="17487"/>
                </a:cubicBezTo>
                <a:cubicBezTo>
                  <a:pt x="7265" y="17503"/>
                  <a:pt x="7362" y="17570"/>
                  <a:pt x="7392" y="17611"/>
                </a:cubicBezTo>
                <a:cubicBezTo>
                  <a:pt x="7452" y="17695"/>
                  <a:pt x="7521" y="17820"/>
                  <a:pt x="7565" y="17909"/>
                </a:cubicBezTo>
                <a:cubicBezTo>
                  <a:pt x="7565" y="17917"/>
                  <a:pt x="7565" y="17926"/>
                  <a:pt x="7565" y="179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Ink 20"/>
          <p:cNvSpPr/>
          <p:nvPr/>
        </p:nvSpPr>
        <p:spPr>
          <a:xfrm>
            <a:off x="1990800" y="4446720"/>
            <a:ext cx="903240" cy="393480"/>
          </a:xfrm>
          <a:custGeom>
            <a:avLst/>
            <a:gdLst/>
            <a:ahLst/>
            <a:rect l="l" t="t" r="r" b="b"/>
            <a:pathLst>
              <a:path w="2507" h="1092">
                <a:moveTo>
                  <a:pt x="5531" y="13146"/>
                </a:moveTo>
                <a:cubicBezTo>
                  <a:pt x="5622" y="13146"/>
                  <a:pt x="5713" y="13146"/>
                  <a:pt x="5804" y="13146"/>
                </a:cubicBezTo>
              </a:path>
              <a:path w="2507" h="1092">
                <a:moveTo>
                  <a:pt x="5655" y="13370"/>
                </a:moveTo>
                <a:cubicBezTo>
                  <a:pt x="5693" y="13398"/>
                  <a:pt x="5772" y="13459"/>
                  <a:pt x="5829" y="13444"/>
                </a:cubicBezTo>
                <a:cubicBezTo>
                  <a:pt x="5846" y="13436"/>
                  <a:pt x="5862" y="13427"/>
                  <a:pt x="5879" y="13419"/>
                </a:cubicBezTo>
              </a:path>
              <a:path w="2507" h="1092">
                <a:moveTo>
                  <a:pt x="6499" y="12700"/>
                </a:moveTo>
                <a:cubicBezTo>
                  <a:pt x="6468" y="12639"/>
                  <a:pt x="6524" y="12645"/>
                  <a:pt x="6548" y="12601"/>
                </a:cubicBezTo>
                <a:cubicBezTo>
                  <a:pt x="6567" y="12567"/>
                  <a:pt x="6573" y="12576"/>
                  <a:pt x="6623" y="12576"/>
                </a:cubicBezTo>
                <a:cubicBezTo>
                  <a:pt x="6670" y="12576"/>
                  <a:pt x="6687" y="12634"/>
                  <a:pt x="6697" y="12675"/>
                </a:cubicBezTo>
                <a:cubicBezTo>
                  <a:pt x="6719" y="12764"/>
                  <a:pt x="6686" y="12866"/>
                  <a:pt x="6672" y="12948"/>
                </a:cubicBezTo>
                <a:cubicBezTo>
                  <a:pt x="6652" y="13070"/>
                  <a:pt x="6602" y="13065"/>
                  <a:pt x="6499" y="13146"/>
                </a:cubicBezTo>
                <a:cubicBezTo>
                  <a:pt x="6440" y="13192"/>
                  <a:pt x="6427" y="13164"/>
                  <a:pt x="6375" y="13146"/>
                </a:cubicBezTo>
                <a:cubicBezTo>
                  <a:pt x="6327" y="13130"/>
                  <a:pt x="6325" y="13125"/>
                  <a:pt x="6325" y="13072"/>
                </a:cubicBezTo>
                <a:cubicBezTo>
                  <a:pt x="6325" y="13029"/>
                  <a:pt x="6361" y="13002"/>
                  <a:pt x="6400" y="12998"/>
                </a:cubicBezTo>
                <a:cubicBezTo>
                  <a:pt x="6471" y="12990"/>
                  <a:pt x="6463" y="13007"/>
                  <a:pt x="6524" y="13047"/>
                </a:cubicBezTo>
                <a:cubicBezTo>
                  <a:pt x="6581" y="13084"/>
                  <a:pt x="6591" y="13098"/>
                  <a:pt x="6623" y="13146"/>
                </a:cubicBezTo>
                <a:cubicBezTo>
                  <a:pt x="6637" y="13167"/>
                  <a:pt x="6678" y="13236"/>
                  <a:pt x="6697" y="13246"/>
                </a:cubicBezTo>
                <a:cubicBezTo>
                  <a:pt x="6705" y="13246"/>
                  <a:pt x="6714" y="13246"/>
                  <a:pt x="6722" y="13246"/>
                </a:cubicBezTo>
              </a:path>
              <a:path w="2507" h="1092">
                <a:moveTo>
                  <a:pt x="6871" y="12626"/>
                </a:moveTo>
                <a:cubicBezTo>
                  <a:pt x="6959" y="12610"/>
                  <a:pt x="6950" y="12594"/>
                  <a:pt x="7020" y="12626"/>
                </a:cubicBezTo>
                <a:cubicBezTo>
                  <a:pt x="7071" y="12649"/>
                  <a:pt x="7076" y="12710"/>
                  <a:pt x="7094" y="12750"/>
                </a:cubicBezTo>
                <a:cubicBezTo>
                  <a:pt x="7126" y="12820"/>
                  <a:pt x="7141" y="12922"/>
                  <a:pt x="7144" y="12998"/>
                </a:cubicBezTo>
                <a:cubicBezTo>
                  <a:pt x="7147" y="13055"/>
                  <a:pt x="7144" y="13113"/>
                  <a:pt x="7144" y="13171"/>
                </a:cubicBezTo>
                <a:cubicBezTo>
                  <a:pt x="7144" y="13081"/>
                  <a:pt x="7158" y="13012"/>
                  <a:pt x="7169" y="12923"/>
                </a:cubicBezTo>
                <a:cubicBezTo>
                  <a:pt x="7180" y="12833"/>
                  <a:pt x="7183" y="12736"/>
                  <a:pt x="7193" y="12650"/>
                </a:cubicBezTo>
                <a:cubicBezTo>
                  <a:pt x="7198" y="12610"/>
                  <a:pt x="7161" y="12369"/>
                  <a:pt x="7218" y="12353"/>
                </a:cubicBezTo>
                <a:cubicBezTo>
                  <a:pt x="7358" y="12314"/>
                  <a:pt x="7553" y="12363"/>
                  <a:pt x="7689" y="12378"/>
                </a:cubicBezTo>
                <a:cubicBezTo>
                  <a:pt x="7802" y="12391"/>
                  <a:pt x="7923" y="12378"/>
                  <a:pt x="8037" y="123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Ink 21"/>
          <p:cNvSpPr/>
          <p:nvPr/>
        </p:nvSpPr>
        <p:spPr>
          <a:xfrm>
            <a:off x="5153040" y="4483080"/>
            <a:ext cx="901800" cy="1000080"/>
          </a:xfrm>
          <a:custGeom>
            <a:avLst/>
            <a:gdLst/>
            <a:ahLst/>
            <a:rect l="l" t="t" r="r" b="b"/>
            <a:pathLst>
              <a:path w="2507" h="2779">
                <a:moveTo>
                  <a:pt x="14511" y="13940"/>
                </a:moveTo>
                <a:cubicBezTo>
                  <a:pt x="14663" y="13940"/>
                  <a:pt x="14807" y="13949"/>
                  <a:pt x="14957" y="13965"/>
                </a:cubicBezTo>
                <a:cubicBezTo>
                  <a:pt x="15071" y="13977"/>
                  <a:pt x="15191" y="13981"/>
                  <a:pt x="15304" y="13990"/>
                </a:cubicBezTo>
                <a:cubicBezTo>
                  <a:pt x="15485" y="14005"/>
                  <a:pt x="15670" y="14001"/>
                  <a:pt x="15850" y="14015"/>
                </a:cubicBezTo>
                <a:cubicBezTo>
                  <a:pt x="16038" y="14030"/>
                  <a:pt x="16237" y="14030"/>
                  <a:pt x="16421" y="14039"/>
                </a:cubicBezTo>
                <a:cubicBezTo>
                  <a:pt x="16518" y="14044"/>
                  <a:pt x="16723" y="14055"/>
                  <a:pt x="16793" y="14015"/>
                </a:cubicBezTo>
                <a:cubicBezTo>
                  <a:pt x="16836" y="13990"/>
                  <a:pt x="16797" y="14035"/>
                  <a:pt x="16793" y="14039"/>
                </a:cubicBezTo>
              </a:path>
              <a:path w="2507" h="2779">
                <a:moveTo>
                  <a:pt x="14436" y="12700"/>
                </a:moveTo>
                <a:cubicBezTo>
                  <a:pt x="14518" y="12700"/>
                  <a:pt x="14591" y="12711"/>
                  <a:pt x="14660" y="12725"/>
                </a:cubicBezTo>
                <a:cubicBezTo>
                  <a:pt x="14713" y="12736"/>
                  <a:pt x="14779" y="12725"/>
                  <a:pt x="14833" y="12725"/>
                </a:cubicBezTo>
              </a:path>
              <a:path w="2507" h="2779">
                <a:moveTo>
                  <a:pt x="14362" y="12700"/>
                </a:moveTo>
                <a:cubicBezTo>
                  <a:pt x="14356" y="12746"/>
                  <a:pt x="14353" y="12806"/>
                  <a:pt x="14337" y="12849"/>
                </a:cubicBezTo>
                <a:cubicBezTo>
                  <a:pt x="14318" y="12902"/>
                  <a:pt x="14312" y="12918"/>
                  <a:pt x="14312" y="12973"/>
                </a:cubicBezTo>
                <a:cubicBezTo>
                  <a:pt x="14312" y="12998"/>
                  <a:pt x="14312" y="13006"/>
                  <a:pt x="14312" y="13022"/>
                </a:cubicBezTo>
                <a:cubicBezTo>
                  <a:pt x="14361" y="13022"/>
                  <a:pt x="14372" y="13011"/>
                  <a:pt x="14412" y="12998"/>
                </a:cubicBezTo>
                <a:cubicBezTo>
                  <a:pt x="14443" y="12988"/>
                  <a:pt x="14481" y="12976"/>
                  <a:pt x="14511" y="12973"/>
                </a:cubicBezTo>
                <a:cubicBezTo>
                  <a:pt x="14528" y="12971"/>
                  <a:pt x="14618" y="12990"/>
                  <a:pt x="14635" y="12998"/>
                </a:cubicBezTo>
                <a:cubicBezTo>
                  <a:pt x="14716" y="13038"/>
                  <a:pt x="14779" y="13082"/>
                  <a:pt x="14833" y="13146"/>
                </a:cubicBezTo>
                <a:cubicBezTo>
                  <a:pt x="14863" y="13182"/>
                  <a:pt x="14920" y="13227"/>
                  <a:pt x="14932" y="13271"/>
                </a:cubicBezTo>
                <a:cubicBezTo>
                  <a:pt x="14944" y="13315"/>
                  <a:pt x="14972" y="13394"/>
                  <a:pt x="14957" y="13444"/>
                </a:cubicBezTo>
                <a:cubicBezTo>
                  <a:pt x="14946" y="13481"/>
                  <a:pt x="14924" y="13550"/>
                  <a:pt x="14883" y="13568"/>
                </a:cubicBezTo>
                <a:cubicBezTo>
                  <a:pt x="14824" y="13594"/>
                  <a:pt x="14835" y="13579"/>
                  <a:pt x="14784" y="13568"/>
                </a:cubicBezTo>
                <a:cubicBezTo>
                  <a:pt x="14721" y="13554"/>
                  <a:pt x="14694" y="13542"/>
                  <a:pt x="14635" y="13519"/>
                </a:cubicBezTo>
                <a:cubicBezTo>
                  <a:pt x="14598" y="13505"/>
                  <a:pt x="14555" y="13455"/>
                  <a:pt x="14536" y="13444"/>
                </a:cubicBezTo>
                <a:cubicBezTo>
                  <a:pt x="14528" y="13444"/>
                  <a:pt x="14519" y="13444"/>
                  <a:pt x="14511" y="13444"/>
                </a:cubicBezTo>
              </a:path>
              <a:path w="2507" h="2779">
                <a:moveTo>
                  <a:pt x="15205" y="12750"/>
                </a:moveTo>
                <a:cubicBezTo>
                  <a:pt x="15243" y="12740"/>
                  <a:pt x="15262" y="12712"/>
                  <a:pt x="15304" y="12750"/>
                </a:cubicBezTo>
                <a:cubicBezTo>
                  <a:pt x="15328" y="12772"/>
                  <a:pt x="15372" y="12841"/>
                  <a:pt x="15379" y="12874"/>
                </a:cubicBezTo>
                <a:cubicBezTo>
                  <a:pt x="15394" y="12943"/>
                  <a:pt x="15401" y="13027"/>
                  <a:pt x="15404" y="13097"/>
                </a:cubicBezTo>
                <a:cubicBezTo>
                  <a:pt x="15408" y="13183"/>
                  <a:pt x="15425" y="13261"/>
                  <a:pt x="15429" y="13345"/>
                </a:cubicBezTo>
                <a:cubicBezTo>
                  <a:pt x="15434" y="13453"/>
                  <a:pt x="15429" y="13510"/>
                  <a:pt x="15429" y="13618"/>
                </a:cubicBezTo>
                <a:cubicBezTo>
                  <a:pt x="15444" y="13561"/>
                  <a:pt x="15453" y="13512"/>
                  <a:pt x="15453" y="13444"/>
                </a:cubicBezTo>
                <a:cubicBezTo>
                  <a:pt x="15453" y="13291"/>
                  <a:pt x="15461" y="13146"/>
                  <a:pt x="15478" y="12998"/>
                </a:cubicBezTo>
                <a:cubicBezTo>
                  <a:pt x="15495" y="12850"/>
                  <a:pt x="15438" y="12655"/>
                  <a:pt x="15503" y="12526"/>
                </a:cubicBezTo>
                <a:cubicBezTo>
                  <a:pt x="15515" y="12502"/>
                  <a:pt x="15558" y="12462"/>
                  <a:pt x="15602" y="12452"/>
                </a:cubicBezTo>
                <a:cubicBezTo>
                  <a:pt x="15722" y="12425"/>
                  <a:pt x="15859" y="12464"/>
                  <a:pt x="15974" y="12477"/>
                </a:cubicBezTo>
                <a:cubicBezTo>
                  <a:pt x="16073" y="12488"/>
                  <a:pt x="16178" y="12491"/>
                  <a:pt x="16272" y="12502"/>
                </a:cubicBezTo>
                <a:cubicBezTo>
                  <a:pt x="16332" y="12509"/>
                  <a:pt x="16451" y="12523"/>
                  <a:pt x="16495" y="12477"/>
                </a:cubicBezTo>
                <a:cubicBezTo>
                  <a:pt x="16487" y="12477"/>
                  <a:pt x="16478" y="12477"/>
                  <a:pt x="16470" y="12477"/>
                </a:cubicBezTo>
              </a:path>
              <a:path w="2507" h="2779">
                <a:moveTo>
                  <a:pt x="16073" y="12650"/>
                </a:moveTo>
                <a:cubicBezTo>
                  <a:pt x="16050" y="12737"/>
                  <a:pt x="16035" y="12814"/>
                  <a:pt x="15999" y="12898"/>
                </a:cubicBezTo>
                <a:cubicBezTo>
                  <a:pt x="15965" y="12977"/>
                  <a:pt x="15933" y="13074"/>
                  <a:pt x="15900" y="13146"/>
                </a:cubicBezTo>
                <a:cubicBezTo>
                  <a:pt x="15866" y="13219"/>
                  <a:pt x="15882" y="13241"/>
                  <a:pt x="15900" y="13320"/>
                </a:cubicBezTo>
                <a:cubicBezTo>
                  <a:pt x="15918" y="13396"/>
                  <a:pt x="16005" y="13431"/>
                  <a:pt x="16073" y="13469"/>
                </a:cubicBezTo>
                <a:cubicBezTo>
                  <a:pt x="16119" y="13494"/>
                  <a:pt x="16219" y="13514"/>
                  <a:pt x="16272" y="13494"/>
                </a:cubicBezTo>
                <a:cubicBezTo>
                  <a:pt x="16338" y="13469"/>
                  <a:pt x="16349" y="13389"/>
                  <a:pt x="16371" y="13345"/>
                </a:cubicBezTo>
                <a:cubicBezTo>
                  <a:pt x="16395" y="13297"/>
                  <a:pt x="16398" y="13249"/>
                  <a:pt x="16371" y="13196"/>
                </a:cubicBezTo>
                <a:cubicBezTo>
                  <a:pt x="16345" y="13144"/>
                  <a:pt x="16300" y="13122"/>
                  <a:pt x="16247" y="13122"/>
                </a:cubicBezTo>
                <a:cubicBezTo>
                  <a:pt x="16178" y="13122"/>
                  <a:pt x="16171" y="13123"/>
                  <a:pt x="16123" y="13171"/>
                </a:cubicBezTo>
                <a:cubicBezTo>
                  <a:pt x="16075" y="13218"/>
                  <a:pt x="16076" y="13303"/>
                  <a:pt x="16073" y="13370"/>
                </a:cubicBezTo>
                <a:cubicBezTo>
                  <a:pt x="16069" y="13461"/>
                  <a:pt x="16076" y="13532"/>
                  <a:pt x="16049" y="13618"/>
                </a:cubicBezTo>
              </a:path>
              <a:path w="2507" h="2779">
                <a:moveTo>
                  <a:pt x="15205" y="14337"/>
                </a:moveTo>
                <a:cubicBezTo>
                  <a:pt x="15205" y="14564"/>
                  <a:pt x="15231" y="14815"/>
                  <a:pt x="15180" y="15032"/>
                </a:cubicBezTo>
                <a:cubicBezTo>
                  <a:pt x="15176" y="15050"/>
                  <a:pt x="15180" y="15170"/>
                  <a:pt x="15180" y="15106"/>
                </a:cubicBezTo>
              </a:path>
              <a:path w="2507" h="2779">
                <a:moveTo>
                  <a:pt x="15528" y="14536"/>
                </a:moveTo>
                <a:cubicBezTo>
                  <a:pt x="15632" y="14491"/>
                  <a:pt x="15672" y="14464"/>
                  <a:pt x="15776" y="14511"/>
                </a:cubicBezTo>
                <a:cubicBezTo>
                  <a:pt x="15837" y="14538"/>
                  <a:pt x="15906" y="14593"/>
                  <a:pt x="15925" y="14660"/>
                </a:cubicBezTo>
                <a:cubicBezTo>
                  <a:pt x="15947" y="14738"/>
                  <a:pt x="15931" y="14862"/>
                  <a:pt x="15900" y="14932"/>
                </a:cubicBezTo>
                <a:cubicBezTo>
                  <a:pt x="15876" y="14986"/>
                  <a:pt x="15824" y="15047"/>
                  <a:pt x="15776" y="15081"/>
                </a:cubicBezTo>
                <a:cubicBezTo>
                  <a:pt x="15741" y="15105"/>
                  <a:pt x="15667" y="15128"/>
                  <a:pt x="15627" y="15131"/>
                </a:cubicBezTo>
                <a:cubicBezTo>
                  <a:pt x="15570" y="15135"/>
                  <a:pt x="15568" y="15136"/>
                  <a:pt x="15528" y="15106"/>
                </a:cubicBezTo>
                <a:cubicBezTo>
                  <a:pt x="15539" y="15061"/>
                  <a:pt x="15552" y="15051"/>
                  <a:pt x="15577" y="15032"/>
                </a:cubicBezTo>
                <a:cubicBezTo>
                  <a:pt x="15608" y="15008"/>
                  <a:pt x="15663" y="14986"/>
                  <a:pt x="15701" y="14982"/>
                </a:cubicBezTo>
                <a:cubicBezTo>
                  <a:pt x="15744" y="14977"/>
                  <a:pt x="15789" y="14992"/>
                  <a:pt x="15825" y="15007"/>
                </a:cubicBezTo>
                <a:cubicBezTo>
                  <a:pt x="15891" y="15034"/>
                  <a:pt x="15938" y="15045"/>
                  <a:pt x="15999" y="15081"/>
                </a:cubicBezTo>
                <a:cubicBezTo>
                  <a:pt x="16078" y="15128"/>
                  <a:pt x="16142" y="15114"/>
                  <a:pt x="16222" y="15156"/>
                </a:cubicBezTo>
                <a:cubicBezTo>
                  <a:pt x="16259" y="15176"/>
                  <a:pt x="16282" y="15217"/>
                  <a:pt x="16321" y="15230"/>
                </a:cubicBezTo>
                <a:cubicBezTo>
                  <a:pt x="16372" y="15247"/>
                  <a:pt x="16371" y="15219"/>
                  <a:pt x="16371" y="151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Ink 22"/>
          <p:cNvSpPr/>
          <p:nvPr/>
        </p:nvSpPr>
        <p:spPr>
          <a:xfrm>
            <a:off x="5786280" y="5823000"/>
            <a:ext cx="455760" cy="374760"/>
          </a:xfrm>
          <a:custGeom>
            <a:avLst/>
            <a:gdLst/>
            <a:ahLst/>
            <a:rect l="l" t="t" r="r" b="b"/>
            <a:pathLst>
              <a:path w="1266" h="1042">
                <a:moveTo>
                  <a:pt x="16073" y="16222"/>
                </a:moveTo>
                <a:cubicBezTo>
                  <a:pt x="16105" y="16198"/>
                  <a:pt x="16158" y="16177"/>
                  <a:pt x="16197" y="16173"/>
                </a:cubicBezTo>
                <a:cubicBezTo>
                  <a:pt x="16281" y="16164"/>
                  <a:pt x="16301" y="16190"/>
                  <a:pt x="16371" y="16222"/>
                </a:cubicBezTo>
                <a:cubicBezTo>
                  <a:pt x="16410" y="16240"/>
                  <a:pt x="16416" y="16265"/>
                  <a:pt x="16421" y="16321"/>
                </a:cubicBezTo>
                <a:cubicBezTo>
                  <a:pt x="16424" y="16361"/>
                  <a:pt x="16413" y="16402"/>
                  <a:pt x="16371" y="16421"/>
                </a:cubicBezTo>
                <a:cubicBezTo>
                  <a:pt x="16331" y="16439"/>
                  <a:pt x="16307" y="16460"/>
                  <a:pt x="16272" y="16495"/>
                </a:cubicBezTo>
                <a:cubicBezTo>
                  <a:pt x="16239" y="16528"/>
                  <a:pt x="16199" y="16579"/>
                  <a:pt x="16173" y="16619"/>
                </a:cubicBezTo>
                <a:cubicBezTo>
                  <a:pt x="16124" y="16697"/>
                  <a:pt x="16095" y="16761"/>
                  <a:pt x="16123" y="16842"/>
                </a:cubicBezTo>
                <a:cubicBezTo>
                  <a:pt x="16148" y="16914"/>
                  <a:pt x="16207" y="16940"/>
                  <a:pt x="16247" y="16991"/>
                </a:cubicBezTo>
                <a:cubicBezTo>
                  <a:pt x="16298" y="17054"/>
                  <a:pt x="16311" y="17041"/>
                  <a:pt x="16396" y="17041"/>
                </a:cubicBezTo>
              </a:path>
              <a:path w="1266" h="1042">
                <a:moveTo>
                  <a:pt x="16669" y="16421"/>
                </a:moveTo>
                <a:cubicBezTo>
                  <a:pt x="16669" y="16533"/>
                  <a:pt x="16654" y="16632"/>
                  <a:pt x="16644" y="16743"/>
                </a:cubicBezTo>
                <a:cubicBezTo>
                  <a:pt x="16637" y="16822"/>
                  <a:pt x="16607" y="16899"/>
                  <a:pt x="16594" y="16966"/>
                </a:cubicBezTo>
                <a:cubicBezTo>
                  <a:pt x="16570" y="17093"/>
                  <a:pt x="16611" y="16889"/>
                  <a:pt x="16619" y="16867"/>
                </a:cubicBezTo>
                <a:cubicBezTo>
                  <a:pt x="16651" y="16777"/>
                  <a:pt x="16645" y="16682"/>
                  <a:pt x="16669" y="16594"/>
                </a:cubicBezTo>
                <a:cubicBezTo>
                  <a:pt x="16690" y="16518"/>
                  <a:pt x="16733" y="16442"/>
                  <a:pt x="16768" y="16371"/>
                </a:cubicBezTo>
                <a:cubicBezTo>
                  <a:pt x="16796" y="16315"/>
                  <a:pt x="16841" y="16260"/>
                  <a:pt x="16892" y="16222"/>
                </a:cubicBezTo>
                <a:cubicBezTo>
                  <a:pt x="16973" y="16163"/>
                  <a:pt x="17021" y="16173"/>
                  <a:pt x="17115" y="16173"/>
                </a:cubicBezTo>
                <a:cubicBezTo>
                  <a:pt x="17176" y="16173"/>
                  <a:pt x="17215" y="16168"/>
                  <a:pt x="17264" y="16197"/>
                </a:cubicBezTo>
              </a:path>
              <a:path w="1266" h="1042">
                <a:moveTo>
                  <a:pt x="17165" y="16371"/>
                </a:moveTo>
                <a:cubicBezTo>
                  <a:pt x="17137" y="16449"/>
                  <a:pt x="17103" y="16520"/>
                  <a:pt x="17066" y="16594"/>
                </a:cubicBezTo>
                <a:cubicBezTo>
                  <a:pt x="17030" y="16666"/>
                  <a:pt x="17041" y="16745"/>
                  <a:pt x="17016" y="16818"/>
                </a:cubicBezTo>
                <a:cubicBezTo>
                  <a:pt x="17002" y="16860"/>
                  <a:pt x="16992" y="16944"/>
                  <a:pt x="17016" y="16991"/>
                </a:cubicBezTo>
                <a:cubicBezTo>
                  <a:pt x="17034" y="17026"/>
                  <a:pt x="17056" y="17027"/>
                  <a:pt x="17066" y="17066"/>
                </a:cubicBezTo>
                <a:cubicBezTo>
                  <a:pt x="17122" y="17052"/>
                  <a:pt x="17172" y="17042"/>
                  <a:pt x="17214" y="16991"/>
                </a:cubicBezTo>
                <a:cubicBezTo>
                  <a:pt x="17242" y="16956"/>
                  <a:pt x="17290" y="16905"/>
                  <a:pt x="17314" y="16867"/>
                </a:cubicBezTo>
                <a:cubicBezTo>
                  <a:pt x="17343" y="16822"/>
                  <a:pt x="17338" y="16792"/>
                  <a:pt x="17338" y="16743"/>
                </a:cubicBezTo>
                <a:cubicBezTo>
                  <a:pt x="17338" y="16702"/>
                  <a:pt x="17326" y="16730"/>
                  <a:pt x="17314" y="16694"/>
                </a:cubicBezTo>
                <a:cubicBezTo>
                  <a:pt x="17262" y="16694"/>
                  <a:pt x="17251" y="16705"/>
                  <a:pt x="17214" y="16743"/>
                </a:cubicBezTo>
                <a:cubicBezTo>
                  <a:pt x="17166" y="16792"/>
                  <a:pt x="17143" y="16820"/>
                  <a:pt x="17140" y="16892"/>
                </a:cubicBezTo>
                <a:cubicBezTo>
                  <a:pt x="17135" y="16999"/>
                  <a:pt x="17140" y="17107"/>
                  <a:pt x="17140" y="172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uotient Identi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97" name="Object 3"/>
          <p:cNvGraphicFramePr/>
          <p:nvPr/>
        </p:nvGraphicFramePr>
        <p:xfrm>
          <a:off x="2540160" y="1830240"/>
          <a:ext cx="4063680" cy="40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0160" y="1830240"/>
                    <a:ext cx="406368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ythagorean Identi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700" name="Object 3"/>
          <p:cNvGraphicFramePr/>
          <p:nvPr/>
        </p:nvGraphicFramePr>
        <p:xfrm>
          <a:off x="1523880" y="1913040"/>
          <a:ext cx="6096240" cy="39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13040"/>
                    <a:ext cx="6096240" cy="39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Odd trigonometric functions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f(-x)=-f(x)  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NOT symmetric about y axi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(-x)= -sin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(-x)= -tan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(-x)= -csc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(-x)= -cot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ven trigonometric functions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f(-x)=f(x)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YMMETRIC about y axi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(-x) = cos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(-x) = sec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function Identi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os 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sin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ot (x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tan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sc (x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sec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f the problem is in radians, 90° will be replaced with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/2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Ink 4"/>
          <p:cNvSpPr/>
          <p:nvPr/>
        </p:nvSpPr>
        <p:spPr>
          <a:xfrm>
            <a:off x="1241280" y="6848640"/>
            <a:ext cx="97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3448" y="19025"/>
                </a:moveTo>
                <a:cubicBezTo>
                  <a:pt x="3473" y="19025"/>
                  <a:pt x="3481" y="19025"/>
                  <a:pt x="3448" y="190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def6"/>
                </a:solidFill>
                <a:latin typeface="Arial"/>
              </a:rPr>
              <a:t>Lesson 5.1</a:t>
            </a:r>
            <a:br>
              <a:rPr sz="8500"/>
            </a:br>
            <a:r>
              <a:rPr b="0" lang="en-US" sz="8500" spc="-1" strike="noStrike">
                <a:solidFill>
                  <a:srgbClr val="dfdef6"/>
                </a:solidFill>
                <a:latin typeface="Arial"/>
              </a:rPr>
              <a:t>part two</a:t>
            </a:r>
            <a:endParaRPr b="0" lang="en-US" sz="85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fdef6"/>
                </a:solidFill>
                <a:latin typeface="Arial"/>
              </a:rPr>
              <a:t>Simplifying Trigonometric Identities</a:t>
            </a:r>
            <a:endParaRPr b="0" lang="en-US" sz="65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fdef6"/>
                </a:solidFill>
                <a:latin typeface="Arial"/>
              </a:rPr>
              <a:t>To simplify a trig identity means to rewrite it in as few terms/quantities as possible</a:t>
            </a:r>
            <a:endParaRPr b="0" lang="en-US" sz="55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To do this we use trig identity properti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1.  Simplify: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s 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 Tan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4" name="Ink 5"/>
          <p:cNvSpPr/>
          <p:nvPr/>
        </p:nvSpPr>
        <p:spPr>
          <a:xfrm>
            <a:off x="3116160" y="2384280"/>
            <a:ext cx="1054080" cy="277920"/>
          </a:xfrm>
          <a:custGeom>
            <a:avLst/>
            <a:gdLst/>
            <a:ahLst/>
            <a:rect l="l" t="t" r="r" b="b"/>
            <a:pathLst>
              <a:path w="2928" h="770">
                <a:moveTo>
                  <a:pt x="9079" y="6796"/>
                </a:moveTo>
                <a:cubicBezTo>
                  <a:pt x="9079" y="6821"/>
                  <a:pt x="9079" y="6846"/>
                  <a:pt x="9079" y="6871"/>
                </a:cubicBezTo>
                <a:cubicBezTo>
                  <a:pt x="9066" y="6833"/>
                  <a:pt x="9054" y="6850"/>
                  <a:pt x="9054" y="6796"/>
                </a:cubicBezTo>
                <a:cubicBezTo>
                  <a:pt x="9054" y="6740"/>
                  <a:pt x="9019" y="6723"/>
                  <a:pt x="9004" y="6697"/>
                </a:cubicBezTo>
                <a:cubicBezTo>
                  <a:pt x="8992" y="6676"/>
                  <a:pt x="8967" y="6630"/>
                  <a:pt x="8954" y="6623"/>
                </a:cubicBezTo>
                <a:cubicBezTo>
                  <a:pt x="8926" y="6608"/>
                  <a:pt x="8879" y="6664"/>
                  <a:pt x="8855" y="6672"/>
                </a:cubicBezTo>
                <a:cubicBezTo>
                  <a:pt x="8807" y="6687"/>
                  <a:pt x="8784" y="6726"/>
                  <a:pt x="8756" y="6772"/>
                </a:cubicBezTo>
                <a:cubicBezTo>
                  <a:pt x="8720" y="6832"/>
                  <a:pt x="8715" y="6904"/>
                  <a:pt x="8682" y="6970"/>
                </a:cubicBezTo>
                <a:cubicBezTo>
                  <a:pt x="8656" y="7023"/>
                  <a:pt x="8640" y="7109"/>
                  <a:pt x="8657" y="7169"/>
                </a:cubicBezTo>
                <a:cubicBezTo>
                  <a:pt x="8675" y="7234"/>
                  <a:pt x="8710" y="7291"/>
                  <a:pt x="8756" y="7342"/>
                </a:cubicBezTo>
                <a:cubicBezTo>
                  <a:pt x="8784" y="7372"/>
                  <a:pt x="8839" y="7389"/>
                  <a:pt x="8880" y="7392"/>
                </a:cubicBezTo>
                <a:cubicBezTo>
                  <a:pt x="8962" y="7398"/>
                  <a:pt x="8985" y="7379"/>
                  <a:pt x="9054" y="7342"/>
                </a:cubicBezTo>
                <a:cubicBezTo>
                  <a:pt x="9070" y="7334"/>
                  <a:pt x="9087" y="7325"/>
                  <a:pt x="9103" y="7317"/>
                </a:cubicBezTo>
              </a:path>
              <a:path w="2928" h="770">
                <a:moveTo>
                  <a:pt x="9550" y="6796"/>
                </a:moveTo>
                <a:cubicBezTo>
                  <a:pt x="9495" y="6876"/>
                  <a:pt x="9445" y="6946"/>
                  <a:pt x="9426" y="7045"/>
                </a:cubicBezTo>
                <a:cubicBezTo>
                  <a:pt x="9414" y="7106"/>
                  <a:pt x="9421" y="7177"/>
                  <a:pt x="9426" y="7218"/>
                </a:cubicBezTo>
                <a:cubicBezTo>
                  <a:pt x="9434" y="7276"/>
                  <a:pt x="9414" y="7297"/>
                  <a:pt x="9475" y="7317"/>
                </a:cubicBezTo>
                <a:cubicBezTo>
                  <a:pt x="9514" y="7329"/>
                  <a:pt x="9569" y="7261"/>
                  <a:pt x="9599" y="7243"/>
                </a:cubicBezTo>
                <a:cubicBezTo>
                  <a:pt x="9654" y="7210"/>
                  <a:pt x="9723" y="7155"/>
                  <a:pt x="9748" y="7094"/>
                </a:cubicBezTo>
                <a:cubicBezTo>
                  <a:pt x="9765" y="7052"/>
                  <a:pt x="9792" y="6969"/>
                  <a:pt x="9773" y="6921"/>
                </a:cubicBezTo>
                <a:cubicBezTo>
                  <a:pt x="9752" y="6866"/>
                  <a:pt x="9720" y="6834"/>
                  <a:pt x="9674" y="6796"/>
                </a:cubicBezTo>
                <a:cubicBezTo>
                  <a:pt x="9655" y="6780"/>
                  <a:pt x="9613" y="6740"/>
                  <a:pt x="9599" y="6747"/>
                </a:cubicBezTo>
                <a:cubicBezTo>
                  <a:pt x="9548" y="6773"/>
                  <a:pt x="9541" y="6776"/>
                  <a:pt x="9575" y="6821"/>
                </a:cubicBezTo>
              </a:path>
              <a:path w="2928" h="770">
                <a:moveTo>
                  <a:pt x="10443" y="6747"/>
                </a:moveTo>
                <a:cubicBezTo>
                  <a:pt x="10375" y="6747"/>
                  <a:pt x="10324" y="6741"/>
                  <a:pt x="10269" y="6772"/>
                </a:cubicBezTo>
                <a:cubicBezTo>
                  <a:pt x="10214" y="6803"/>
                  <a:pt x="10191" y="6800"/>
                  <a:pt x="10145" y="6846"/>
                </a:cubicBezTo>
                <a:cubicBezTo>
                  <a:pt x="10122" y="6869"/>
                  <a:pt x="10114" y="6873"/>
                  <a:pt x="10120" y="6896"/>
                </a:cubicBezTo>
                <a:cubicBezTo>
                  <a:pt x="10155" y="6922"/>
                  <a:pt x="10224" y="6955"/>
                  <a:pt x="10269" y="6970"/>
                </a:cubicBezTo>
                <a:cubicBezTo>
                  <a:pt x="10334" y="6992"/>
                  <a:pt x="10367" y="7018"/>
                  <a:pt x="10418" y="7069"/>
                </a:cubicBezTo>
                <a:cubicBezTo>
                  <a:pt x="10469" y="7120"/>
                  <a:pt x="10511" y="7146"/>
                  <a:pt x="10517" y="7218"/>
                </a:cubicBezTo>
                <a:cubicBezTo>
                  <a:pt x="10522" y="7278"/>
                  <a:pt x="10438" y="7308"/>
                  <a:pt x="10393" y="7317"/>
                </a:cubicBezTo>
                <a:cubicBezTo>
                  <a:pt x="10298" y="7336"/>
                  <a:pt x="10177" y="7319"/>
                  <a:pt x="10096" y="7293"/>
                </a:cubicBezTo>
                <a:cubicBezTo>
                  <a:pt x="10060" y="7281"/>
                  <a:pt x="10060" y="7280"/>
                  <a:pt x="10096" y="7268"/>
                </a:cubicBezTo>
              </a:path>
              <a:path w="2928" h="770">
                <a:moveTo>
                  <a:pt x="11162" y="6697"/>
                </a:moveTo>
                <a:cubicBezTo>
                  <a:pt x="11086" y="6758"/>
                  <a:pt x="11078" y="6777"/>
                  <a:pt x="11038" y="6871"/>
                </a:cubicBezTo>
                <a:cubicBezTo>
                  <a:pt x="10989" y="6984"/>
                  <a:pt x="10969" y="7043"/>
                  <a:pt x="10964" y="7169"/>
                </a:cubicBezTo>
                <a:cubicBezTo>
                  <a:pt x="10962" y="7229"/>
                  <a:pt x="10998" y="7273"/>
                  <a:pt x="11038" y="7317"/>
                </a:cubicBezTo>
                <a:cubicBezTo>
                  <a:pt x="11090" y="7374"/>
                  <a:pt x="11137" y="7327"/>
                  <a:pt x="11187" y="7317"/>
                </a:cubicBezTo>
                <a:cubicBezTo>
                  <a:pt x="11294" y="7296"/>
                  <a:pt x="11276" y="7279"/>
                  <a:pt x="11336" y="7193"/>
                </a:cubicBezTo>
                <a:cubicBezTo>
                  <a:pt x="11379" y="7131"/>
                  <a:pt x="11404" y="7077"/>
                  <a:pt x="11385" y="6995"/>
                </a:cubicBezTo>
                <a:cubicBezTo>
                  <a:pt x="11367" y="6915"/>
                  <a:pt x="11303" y="6859"/>
                  <a:pt x="11261" y="6796"/>
                </a:cubicBezTo>
                <a:cubicBezTo>
                  <a:pt x="11216" y="6728"/>
                  <a:pt x="11211" y="6727"/>
                  <a:pt x="11137" y="6697"/>
                </a:cubicBezTo>
                <a:cubicBezTo>
                  <a:pt x="11083" y="6675"/>
                  <a:pt x="11078" y="6651"/>
                  <a:pt x="11063" y="6697"/>
                </a:cubicBezTo>
              </a:path>
              <a:path w="2928" h="770">
                <a:moveTo>
                  <a:pt x="10691" y="7020"/>
                </a:moveTo>
                <a:cubicBezTo>
                  <a:pt x="10899" y="7020"/>
                  <a:pt x="11111" y="7030"/>
                  <a:pt x="11311" y="7045"/>
                </a:cubicBezTo>
                <a:cubicBezTo>
                  <a:pt x="11410" y="7053"/>
                  <a:pt x="11658" y="7045"/>
                  <a:pt x="11559" y="70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Ink 6"/>
          <p:cNvSpPr/>
          <p:nvPr/>
        </p:nvSpPr>
        <p:spPr>
          <a:xfrm>
            <a:off x="4545000" y="2276640"/>
            <a:ext cx="1189080" cy="947520"/>
          </a:xfrm>
          <a:custGeom>
            <a:avLst/>
            <a:gdLst/>
            <a:ahLst/>
            <a:rect l="l" t="t" r="r" b="b"/>
            <a:pathLst>
              <a:path w="3300" h="2630">
                <a:moveTo>
                  <a:pt x="12675" y="7392"/>
                </a:moveTo>
                <a:cubicBezTo>
                  <a:pt x="12708" y="7359"/>
                  <a:pt x="12740" y="7347"/>
                  <a:pt x="12750" y="7317"/>
                </a:cubicBezTo>
                <a:cubicBezTo>
                  <a:pt x="12731" y="7293"/>
                  <a:pt x="12718" y="7244"/>
                  <a:pt x="12675" y="7268"/>
                </a:cubicBezTo>
                <a:cubicBezTo>
                  <a:pt x="12631" y="7292"/>
                  <a:pt x="12626" y="7293"/>
                  <a:pt x="12626" y="7342"/>
                </a:cubicBezTo>
                <a:cubicBezTo>
                  <a:pt x="12626" y="7395"/>
                  <a:pt x="12638" y="7380"/>
                  <a:pt x="12650" y="7417"/>
                </a:cubicBezTo>
                <a:cubicBezTo>
                  <a:pt x="12702" y="7417"/>
                  <a:pt x="12703" y="7422"/>
                  <a:pt x="12725" y="7392"/>
                </a:cubicBezTo>
                <a:cubicBezTo>
                  <a:pt x="12746" y="7364"/>
                  <a:pt x="12760" y="7316"/>
                  <a:pt x="12725" y="7293"/>
                </a:cubicBezTo>
                <a:cubicBezTo>
                  <a:pt x="12713" y="7286"/>
                  <a:pt x="12664" y="7293"/>
                  <a:pt x="12650" y="7293"/>
                </a:cubicBezTo>
                <a:cubicBezTo>
                  <a:pt x="12643" y="7320"/>
                  <a:pt x="12609" y="7360"/>
                  <a:pt x="12626" y="7392"/>
                </a:cubicBezTo>
                <a:cubicBezTo>
                  <a:pt x="12644" y="7425"/>
                  <a:pt x="12663" y="7454"/>
                  <a:pt x="12700" y="7466"/>
                </a:cubicBezTo>
                <a:cubicBezTo>
                  <a:pt x="12724" y="7474"/>
                  <a:pt x="12748" y="7435"/>
                  <a:pt x="12750" y="7417"/>
                </a:cubicBezTo>
                <a:cubicBezTo>
                  <a:pt x="12750" y="7392"/>
                  <a:pt x="12750" y="7384"/>
                  <a:pt x="12750" y="7367"/>
                </a:cubicBezTo>
                <a:cubicBezTo>
                  <a:pt x="12737" y="7329"/>
                  <a:pt x="12720" y="7342"/>
                  <a:pt x="12675" y="7342"/>
                </a:cubicBezTo>
                <a:cubicBezTo>
                  <a:pt x="12647" y="7342"/>
                  <a:pt x="12636" y="7344"/>
                  <a:pt x="12626" y="7367"/>
                </a:cubicBezTo>
              </a:path>
              <a:path w="3300" h="2630">
                <a:moveTo>
                  <a:pt x="13940" y="6623"/>
                </a:moveTo>
                <a:cubicBezTo>
                  <a:pt x="13940" y="6639"/>
                  <a:pt x="13940" y="6656"/>
                  <a:pt x="13940" y="6672"/>
                </a:cubicBezTo>
                <a:cubicBezTo>
                  <a:pt x="13940" y="6641"/>
                  <a:pt x="13932" y="6607"/>
                  <a:pt x="13915" y="6598"/>
                </a:cubicBezTo>
                <a:cubicBezTo>
                  <a:pt x="13875" y="6577"/>
                  <a:pt x="13886" y="6573"/>
                  <a:pt x="13816" y="6573"/>
                </a:cubicBezTo>
                <a:cubicBezTo>
                  <a:pt x="13759" y="6573"/>
                  <a:pt x="13739" y="6604"/>
                  <a:pt x="13692" y="6623"/>
                </a:cubicBezTo>
                <a:cubicBezTo>
                  <a:pt x="13654" y="6638"/>
                  <a:pt x="13631" y="6680"/>
                  <a:pt x="13593" y="6697"/>
                </a:cubicBezTo>
                <a:cubicBezTo>
                  <a:pt x="13565" y="6697"/>
                  <a:pt x="13554" y="6699"/>
                  <a:pt x="13543" y="6722"/>
                </a:cubicBezTo>
                <a:cubicBezTo>
                  <a:pt x="13556" y="6772"/>
                  <a:pt x="13575" y="6778"/>
                  <a:pt x="13618" y="6796"/>
                </a:cubicBezTo>
                <a:cubicBezTo>
                  <a:pt x="13678" y="6822"/>
                  <a:pt x="13744" y="6852"/>
                  <a:pt x="13791" y="6896"/>
                </a:cubicBezTo>
                <a:cubicBezTo>
                  <a:pt x="13864" y="6963"/>
                  <a:pt x="13855" y="6990"/>
                  <a:pt x="13891" y="7069"/>
                </a:cubicBezTo>
                <a:cubicBezTo>
                  <a:pt x="13932" y="7159"/>
                  <a:pt x="13906" y="7184"/>
                  <a:pt x="13816" y="7243"/>
                </a:cubicBezTo>
                <a:cubicBezTo>
                  <a:pt x="13757" y="7282"/>
                  <a:pt x="13684" y="7302"/>
                  <a:pt x="13618" y="7317"/>
                </a:cubicBezTo>
                <a:cubicBezTo>
                  <a:pt x="13572" y="7327"/>
                  <a:pt x="13507" y="7283"/>
                  <a:pt x="13494" y="7268"/>
                </a:cubicBezTo>
                <a:cubicBezTo>
                  <a:pt x="13454" y="7222"/>
                  <a:pt x="13444" y="7243"/>
                  <a:pt x="13469" y="7193"/>
                </a:cubicBezTo>
              </a:path>
              <a:path w="3300" h="2630">
                <a:moveTo>
                  <a:pt x="14213" y="6722"/>
                </a:moveTo>
                <a:cubicBezTo>
                  <a:pt x="14213" y="6827"/>
                  <a:pt x="14200" y="6922"/>
                  <a:pt x="14188" y="7020"/>
                </a:cubicBezTo>
                <a:cubicBezTo>
                  <a:pt x="14178" y="7099"/>
                  <a:pt x="14188" y="7188"/>
                  <a:pt x="14188" y="7268"/>
                </a:cubicBezTo>
                <a:cubicBezTo>
                  <a:pt x="14147" y="7254"/>
                  <a:pt x="14158" y="7234"/>
                  <a:pt x="14139" y="7169"/>
                </a:cubicBezTo>
              </a:path>
              <a:path w="3300" h="2630">
                <a:moveTo>
                  <a:pt x="14288" y="6350"/>
                </a:moveTo>
                <a:cubicBezTo>
                  <a:pt x="14296" y="6342"/>
                  <a:pt x="14304" y="6333"/>
                  <a:pt x="14312" y="6325"/>
                </a:cubicBezTo>
              </a:path>
              <a:path w="3300" h="2630">
                <a:moveTo>
                  <a:pt x="14511" y="7020"/>
                </a:moveTo>
                <a:cubicBezTo>
                  <a:pt x="14505" y="7129"/>
                  <a:pt x="14487" y="7200"/>
                  <a:pt x="14461" y="7293"/>
                </a:cubicBezTo>
                <a:cubicBezTo>
                  <a:pt x="14461" y="7301"/>
                  <a:pt x="14461" y="7309"/>
                  <a:pt x="14461" y="7317"/>
                </a:cubicBezTo>
                <a:cubicBezTo>
                  <a:pt x="14461" y="7264"/>
                  <a:pt x="14481" y="7247"/>
                  <a:pt x="14486" y="7193"/>
                </a:cubicBezTo>
                <a:cubicBezTo>
                  <a:pt x="14495" y="7090"/>
                  <a:pt x="14468" y="6991"/>
                  <a:pt x="14511" y="6896"/>
                </a:cubicBezTo>
                <a:cubicBezTo>
                  <a:pt x="14545" y="6820"/>
                  <a:pt x="14546" y="6800"/>
                  <a:pt x="14610" y="6747"/>
                </a:cubicBezTo>
                <a:cubicBezTo>
                  <a:pt x="14665" y="6701"/>
                  <a:pt x="14668" y="6711"/>
                  <a:pt x="14734" y="6722"/>
                </a:cubicBezTo>
                <a:cubicBezTo>
                  <a:pt x="14838" y="6739"/>
                  <a:pt x="14838" y="6820"/>
                  <a:pt x="14858" y="6896"/>
                </a:cubicBezTo>
                <a:cubicBezTo>
                  <a:pt x="14881" y="6984"/>
                  <a:pt x="14883" y="7052"/>
                  <a:pt x="14883" y="7144"/>
                </a:cubicBezTo>
                <a:cubicBezTo>
                  <a:pt x="14883" y="7211"/>
                  <a:pt x="14876" y="7241"/>
                  <a:pt x="14858" y="7293"/>
                </a:cubicBezTo>
                <a:cubicBezTo>
                  <a:pt x="14842" y="7339"/>
                  <a:pt x="14851" y="7339"/>
                  <a:pt x="14883" y="7317"/>
                </a:cubicBezTo>
              </a:path>
              <a:path w="3300" h="2630">
                <a:moveTo>
                  <a:pt x="15354" y="6747"/>
                </a:moveTo>
                <a:cubicBezTo>
                  <a:pt x="15296" y="6878"/>
                  <a:pt x="15232" y="7004"/>
                  <a:pt x="15205" y="7144"/>
                </a:cubicBezTo>
                <a:cubicBezTo>
                  <a:pt x="15191" y="7218"/>
                  <a:pt x="15215" y="7282"/>
                  <a:pt x="15230" y="7342"/>
                </a:cubicBezTo>
                <a:cubicBezTo>
                  <a:pt x="15297" y="7342"/>
                  <a:pt x="15349" y="7346"/>
                  <a:pt x="15404" y="7317"/>
                </a:cubicBezTo>
                <a:cubicBezTo>
                  <a:pt x="15477" y="7278"/>
                  <a:pt x="15532" y="7212"/>
                  <a:pt x="15577" y="7144"/>
                </a:cubicBezTo>
                <a:cubicBezTo>
                  <a:pt x="15619" y="7081"/>
                  <a:pt x="15643" y="6991"/>
                  <a:pt x="15652" y="6921"/>
                </a:cubicBezTo>
                <a:cubicBezTo>
                  <a:pt x="15661" y="6850"/>
                  <a:pt x="15649" y="6761"/>
                  <a:pt x="15627" y="6697"/>
                </a:cubicBezTo>
                <a:cubicBezTo>
                  <a:pt x="15603" y="6626"/>
                  <a:pt x="15556" y="6613"/>
                  <a:pt x="15503" y="6573"/>
                </a:cubicBezTo>
                <a:cubicBezTo>
                  <a:pt x="15467" y="6546"/>
                  <a:pt x="15429" y="6536"/>
                  <a:pt x="15379" y="6548"/>
                </a:cubicBezTo>
                <a:cubicBezTo>
                  <a:pt x="15339" y="6558"/>
                  <a:pt x="15259" y="6564"/>
                  <a:pt x="15255" y="6598"/>
                </a:cubicBezTo>
                <a:cubicBezTo>
                  <a:pt x="15255" y="6623"/>
                  <a:pt x="15255" y="6631"/>
                  <a:pt x="15255" y="6648"/>
                </a:cubicBezTo>
              </a:path>
              <a:path w="3300" h="2630">
                <a:moveTo>
                  <a:pt x="15056" y="7020"/>
                </a:moveTo>
                <a:cubicBezTo>
                  <a:pt x="15072" y="6971"/>
                  <a:pt x="15148" y="6995"/>
                  <a:pt x="15205" y="6995"/>
                </a:cubicBezTo>
                <a:cubicBezTo>
                  <a:pt x="15373" y="6995"/>
                  <a:pt x="15538" y="7004"/>
                  <a:pt x="15701" y="7020"/>
                </a:cubicBezTo>
                <a:cubicBezTo>
                  <a:pt x="15774" y="7027"/>
                  <a:pt x="15851" y="7020"/>
                  <a:pt x="15925" y="7020"/>
                </a:cubicBezTo>
              </a:path>
              <a:path w="3300" h="2630">
                <a:moveTo>
                  <a:pt x="13618" y="7516"/>
                </a:moveTo>
                <a:cubicBezTo>
                  <a:pt x="13608" y="7545"/>
                  <a:pt x="13619" y="7557"/>
                  <a:pt x="13692" y="7565"/>
                </a:cubicBezTo>
                <a:cubicBezTo>
                  <a:pt x="13879" y="7584"/>
                  <a:pt x="14077" y="7576"/>
                  <a:pt x="14263" y="7590"/>
                </a:cubicBezTo>
                <a:cubicBezTo>
                  <a:pt x="14428" y="7602"/>
                  <a:pt x="14595" y="7603"/>
                  <a:pt x="14759" y="7615"/>
                </a:cubicBezTo>
                <a:cubicBezTo>
                  <a:pt x="14982" y="7632"/>
                  <a:pt x="15622" y="7637"/>
                  <a:pt x="15404" y="7590"/>
                </a:cubicBezTo>
                <a:cubicBezTo>
                  <a:pt x="15371" y="7590"/>
                  <a:pt x="15337" y="7590"/>
                  <a:pt x="15304" y="7590"/>
                </a:cubicBezTo>
              </a:path>
              <a:path w="3300" h="2630">
                <a:moveTo>
                  <a:pt x="13866" y="8210"/>
                </a:moveTo>
                <a:cubicBezTo>
                  <a:pt x="13866" y="8268"/>
                  <a:pt x="13866" y="8392"/>
                  <a:pt x="13866" y="8334"/>
                </a:cubicBezTo>
                <a:cubicBezTo>
                  <a:pt x="13866" y="8292"/>
                  <a:pt x="13827" y="8255"/>
                  <a:pt x="13816" y="8210"/>
                </a:cubicBezTo>
                <a:cubicBezTo>
                  <a:pt x="13809" y="8182"/>
                  <a:pt x="13780" y="8165"/>
                  <a:pt x="13742" y="8161"/>
                </a:cubicBezTo>
                <a:cubicBezTo>
                  <a:pt x="13695" y="8156"/>
                  <a:pt x="13647" y="8170"/>
                  <a:pt x="13618" y="8210"/>
                </a:cubicBezTo>
                <a:cubicBezTo>
                  <a:pt x="13571" y="8275"/>
                  <a:pt x="13511" y="8309"/>
                  <a:pt x="13469" y="8384"/>
                </a:cubicBezTo>
                <a:cubicBezTo>
                  <a:pt x="13433" y="8448"/>
                  <a:pt x="13397" y="8509"/>
                  <a:pt x="13395" y="8582"/>
                </a:cubicBezTo>
                <a:cubicBezTo>
                  <a:pt x="13392" y="8672"/>
                  <a:pt x="13382" y="8751"/>
                  <a:pt x="13419" y="8830"/>
                </a:cubicBezTo>
                <a:cubicBezTo>
                  <a:pt x="13459" y="8917"/>
                  <a:pt x="13488" y="8904"/>
                  <a:pt x="13568" y="8930"/>
                </a:cubicBezTo>
                <a:cubicBezTo>
                  <a:pt x="13623" y="8948"/>
                  <a:pt x="13680" y="8971"/>
                  <a:pt x="13742" y="8954"/>
                </a:cubicBezTo>
                <a:cubicBezTo>
                  <a:pt x="13758" y="8946"/>
                  <a:pt x="13775" y="8938"/>
                  <a:pt x="13791" y="89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Ink 7"/>
          <p:cNvSpPr/>
          <p:nvPr/>
        </p:nvSpPr>
        <p:spPr>
          <a:xfrm>
            <a:off x="2982960" y="2276640"/>
            <a:ext cx="2963880" cy="965160"/>
          </a:xfrm>
          <a:custGeom>
            <a:avLst/>
            <a:gdLst/>
            <a:ahLst/>
            <a:rect l="l" t="t" r="r" b="b"/>
            <a:pathLst>
              <a:path w="8236" h="2680">
                <a:moveTo>
                  <a:pt x="14188" y="8384"/>
                </a:moveTo>
                <a:cubicBezTo>
                  <a:pt x="14142" y="8430"/>
                  <a:pt x="14119" y="8475"/>
                  <a:pt x="14089" y="8533"/>
                </a:cubicBezTo>
                <a:cubicBezTo>
                  <a:pt x="14061" y="8588"/>
                  <a:pt x="14042" y="8648"/>
                  <a:pt x="14039" y="8706"/>
                </a:cubicBezTo>
                <a:cubicBezTo>
                  <a:pt x="14036" y="8753"/>
                  <a:pt x="14041" y="8817"/>
                  <a:pt x="14064" y="8855"/>
                </a:cubicBezTo>
                <a:cubicBezTo>
                  <a:pt x="14097" y="8910"/>
                  <a:pt x="14159" y="8905"/>
                  <a:pt x="14213" y="8905"/>
                </a:cubicBezTo>
                <a:cubicBezTo>
                  <a:pt x="14280" y="8905"/>
                  <a:pt x="14320" y="8882"/>
                  <a:pt x="14362" y="8830"/>
                </a:cubicBezTo>
                <a:cubicBezTo>
                  <a:pt x="14414" y="8766"/>
                  <a:pt x="14453" y="8688"/>
                  <a:pt x="14461" y="8607"/>
                </a:cubicBezTo>
                <a:cubicBezTo>
                  <a:pt x="14468" y="8535"/>
                  <a:pt x="14452" y="8498"/>
                  <a:pt x="14436" y="8434"/>
                </a:cubicBezTo>
                <a:cubicBezTo>
                  <a:pt x="14424" y="8385"/>
                  <a:pt x="14391" y="8352"/>
                  <a:pt x="14337" y="8334"/>
                </a:cubicBezTo>
                <a:cubicBezTo>
                  <a:pt x="14282" y="8316"/>
                  <a:pt x="14233" y="8349"/>
                  <a:pt x="14213" y="8359"/>
                </a:cubicBezTo>
                <a:cubicBezTo>
                  <a:pt x="14188" y="8359"/>
                  <a:pt x="14180" y="8359"/>
                  <a:pt x="14188" y="8384"/>
                </a:cubicBezTo>
              </a:path>
              <a:path w="8236" h="2680">
                <a:moveTo>
                  <a:pt x="14957" y="8359"/>
                </a:moveTo>
                <a:cubicBezTo>
                  <a:pt x="14875" y="8359"/>
                  <a:pt x="14784" y="8346"/>
                  <a:pt x="14709" y="8384"/>
                </a:cubicBezTo>
                <a:cubicBezTo>
                  <a:pt x="14683" y="8397"/>
                  <a:pt x="14639" y="8419"/>
                  <a:pt x="14660" y="8458"/>
                </a:cubicBezTo>
                <a:cubicBezTo>
                  <a:pt x="14687" y="8507"/>
                  <a:pt x="14745" y="8526"/>
                  <a:pt x="14784" y="8558"/>
                </a:cubicBezTo>
                <a:cubicBezTo>
                  <a:pt x="14837" y="8601"/>
                  <a:pt x="14877" y="8671"/>
                  <a:pt x="14908" y="8731"/>
                </a:cubicBezTo>
                <a:cubicBezTo>
                  <a:pt x="14939" y="8791"/>
                  <a:pt x="14969" y="8816"/>
                  <a:pt x="14932" y="8880"/>
                </a:cubicBezTo>
                <a:cubicBezTo>
                  <a:pt x="14913" y="8912"/>
                  <a:pt x="14842" y="8928"/>
                  <a:pt x="14808" y="8930"/>
                </a:cubicBezTo>
                <a:cubicBezTo>
                  <a:pt x="14731" y="8935"/>
                  <a:pt x="14673" y="8926"/>
                  <a:pt x="14610" y="8905"/>
                </a:cubicBezTo>
                <a:cubicBezTo>
                  <a:pt x="14558" y="8888"/>
                  <a:pt x="14592" y="8884"/>
                  <a:pt x="14635" y="8855"/>
                </a:cubicBezTo>
              </a:path>
              <a:path w="8236" h="2680">
                <a:moveTo>
                  <a:pt x="15652" y="8260"/>
                </a:moveTo>
                <a:cubicBezTo>
                  <a:pt x="15618" y="8294"/>
                  <a:pt x="15548" y="8351"/>
                  <a:pt x="15528" y="8384"/>
                </a:cubicBezTo>
                <a:cubicBezTo>
                  <a:pt x="15481" y="8462"/>
                  <a:pt x="15437" y="8544"/>
                  <a:pt x="15404" y="8632"/>
                </a:cubicBezTo>
                <a:cubicBezTo>
                  <a:pt x="15381" y="8692"/>
                  <a:pt x="15361" y="8790"/>
                  <a:pt x="15379" y="8855"/>
                </a:cubicBezTo>
                <a:cubicBezTo>
                  <a:pt x="15397" y="8919"/>
                  <a:pt x="15422" y="8945"/>
                  <a:pt x="15478" y="8979"/>
                </a:cubicBezTo>
                <a:cubicBezTo>
                  <a:pt x="15584" y="9043"/>
                  <a:pt x="15652" y="8970"/>
                  <a:pt x="15751" y="8930"/>
                </a:cubicBezTo>
                <a:cubicBezTo>
                  <a:pt x="15872" y="8882"/>
                  <a:pt x="15946" y="8762"/>
                  <a:pt x="15974" y="8632"/>
                </a:cubicBezTo>
                <a:cubicBezTo>
                  <a:pt x="15990" y="8557"/>
                  <a:pt x="15946" y="8420"/>
                  <a:pt x="15900" y="8359"/>
                </a:cubicBezTo>
                <a:cubicBezTo>
                  <a:pt x="15861" y="8306"/>
                  <a:pt x="15761" y="8234"/>
                  <a:pt x="15701" y="8210"/>
                </a:cubicBezTo>
                <a:cubicBezTo>
                  <a:pt x="15679" y="8201"/>
                  <a:pt x="15632" y="8170"/>
                  <a:pt x="15602" y="8186"/>
                </a:cubicBezTo>
                <a:cubicBezTo>
                  <a:pt x="15594" y="8194"/>
                  <a:pt x="15585" y="8202"/>
                  <a:pt x="15577" y="8210"/>
                </a:cubicBezTo>
              </a:path>
              <a:path w="8236" h="2680">
                <a:moveTo>
                  <a:pt x="15156" y="8582"/>
                </a:moveTo>
                <a:cubicBezTo>
                  <a:pt x="15156" y="8646"/>
                  <a:pt x="15163" y="8632"/>
                  <a:pt x="15230" y="8632"/>
                </a:cubicBezTo>
                <a:cubicBezTo>
                  <a:pt x="15349" y="8632"/>
                  <a:pt x="15461" y="8648"/>
                  <a:pt x="15577" y="8657"/>
                </a:cubicBezTo>
                <a:cubicBezTo>
                  <a:pt x="15847" y="8677"/>
                  <a:pt x="16124" y="8657"/>
                  <a:pt x="16396" y="8657"/>
                </a:cubicBezTo>
                <a:cubicBezTo>
                  <a:pt x="16353" y="8625"/>
                  <a:pt x="16356" y="8632"/>
                  <a:pt x="16297" y="8632"/>
                </a:cubicBezTo>
              </a:path>
              <a:path w="8236" h="2680">
                <a:moveTo>
                  <a:pt x="8310" y="7665"/>
                </a:moveTo>
                <a:cubicBezTo>
                  <a:pt x="8336" y="7634"/>
                  <a:pt x="8326" y="7638"/>
                  <a:pt x="8359" y="7615"/>
                </a:cubicBezTo>
                <a:cubicBezTo>
                  <a:pt x="8395" y="7589"/>
                  <a:pt x="8436" y="7556"/>
                  <a:pt x="8483" y="7541"/>
                </a:cubicBezTo>
                <a:cubicBezTo>
                  <a:pt x="8603" y="7502"/>
                  <a:pt x="8714" y="7477"/>
                  <a:pt x="8830" y="7417"/>
                </a:cubicBezTo>
                <a:cubicBezTo>
                  <a:pt x="8977" y="7341"/>
                  <a:pt x="9146" y="7306"/>
                  <a:pt x="9302" y="7243"/>
                </a:cubicBezTo>
                <a:cubicBezTo>
                  <a:pt x="9499" y="7164"/>
                  <a:pt x="9702" y="7099"/>
                  <a:pt x="9897" y="7020"/>
                </a:cubicBezTo>
                <a:cubicBezTo>
                  <a:pt x="10103" y="6937"/>
                  <a:pt x="10314" y="6862"/>
                  <a:pt x="10517" y="6772"/>
                </a:cubicBezTo>
                <a:cubicBezTo>
                  <a:pt x="10732" y="6676"/>
                  <a:pt x="10989" y="6593"/>
                  <a:pt x="11187" y="6474"/>
                </a:cubicBezTo>
                <a:cubicBezTo>
                  <a:pt x="11243" y="6440"/>
                  <a:pt x="11310" y="6383"/>
                  <a:pt x="11361" y="6350"/>
                </a:cubicBezTo>
                <a:cubicBezTo>
                  <a:pt x="11361" y="6325"/>
                  <a:pt x="11361" y="6317"/>
                  <a:pt x="11361" y="6350"/>
                </a:cubicBezTo>
              </a:path>
              <a:path w="8236" h="2680">
                <a:moveTo>
                  <a:pt x="12849" y="8954"/>
                </a:moveTo>
                <a:cubicBezTo>
                  <a:pt x="12892" y="8941"/>
                  <a:pt x="12930" y="8943"/>
                  <a:pt x="12973" y="8930"/>
                </a:cubicBezTo>
                <a:cubicBezTo>
                  <a:pt x="13046" y="8908"/>
                  <a:pt x="13121" y="8880"/>
                  <a:pt x="13196" y="8855"/>
                </a:cubicBezTo>
                <a:cubicBezTo>
                  <a:pt x="13326" y="8812"/>
                  <a:pt x="13459" y="8784"/>
                  <a:pt x="13593" y="8756"/>
                </a:cubicBezTo>
                <a:cubicBezTo>
                  <a:pt x="13791" y="8715"/>
                  <a:pt x="13994" y="8683"/>
                  <a:pt x="14188" y="8632"/>
                </a:cubicBezTo>
                <a:cubicBezTo>
                  <a:pt x="14410" y="8573"/>
                  <a:pt x="14634" y="8558"/>
                  <a:pt x="14858" y="8508"/>
                </a:cubicBezTo>
                <a:cubicBezTo>
                  <a:pt x="15073" y="8460"/>
                  <a:pt x="15285" y="8418"/>
                  <a:pt x="15503" y="8384"/>
                </a:cubicBezTo>
                <a:cubicBezTo>
                  <a:pt x="15685" y="8356"/>
                  <a:pt x="15869" y="8362"/>
                  <a:pt x="16049" y="8334"/>
                </a:cubicBezTo>
                <a:cubicBezTo>
                  <a:pt x="16168" y="8315"/>
                  <a:pt x="16319" y="8287"/>
                  <a:pt x="16421" y="8260"/>
                </a:cubicBezTo>
                <a:cubicBezTo>
                  <a:pt x="16440" y="8255"/>
                  <a:pt x="16505" y="8250"/>
                  <a:pt x="16520" y="8235"/>
                </a:cubicBezTo>
                <a:cubicBezTo>
                  <a:pt x="16557" y="8198"/>
                  <a:pt x="16503" y="8243"/>
                  <a:pt x="16495" y="82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Ink 8"/>
          <p:cNvSpPr/>
          <p:nvPr/>
        </p:nvSpPr>
        <p:spPr>
          <a:xfrm>
            <a:off x="3571920" y="3732120"/>
            <a:ext cx="1438200" cy="598680"/>
          </a:xfrm>
          <a:custGeom>
            <a:avLst/>
            <a:gdLst/>
            <a:ahLst/>
            <a:rect l="l" t="t" r="r" b="b"/>
            <a:pathLst>
              <a:path w="3994" h="1663">
                <a:moveTo>
                  <a:pt x="11261" y="10988"/>
                </a:moveTo>
                <a:cubicBezTo>
                  <a:pt x="11268" y="11018"/>
                  <a:pt x="11279" y="11033"/>
                  <a:pt x="11286" y="11063"/>
                </a:cubicBezTo>
                <a:cubicBezTo>
                  <a:pt x="11286" y="11019"/>
                  <a:pt x="11280" y="11013"/>
                  <a:pt x="11261" y="10988"/>
                </a:cubicBezTo>
                <a:cubicBezTo>
                  <a:pt x="11243" y="10964"/>
                  <a:pt x="11164" y="10941"/>
                  <a:pt x="11137" y="10939"/>
                </a:cubicBezTo>
                <a:cubicBezTo>
                  <a:pt x="11053" y="10933"/>
                  <a:pt x="10991" y="10950"/>
                  <a:pt x="10914" y="10964"/>
                </a:cubicBezTo>
                <a:cubicBezTo>
                  <a:pt x="10867" y="10972"/>
                  <a:pt x="10807" y="10988"/>
                  <a:pt x="10765" y="11013"/>
                </a:cubicBezTo>
                <a:cubicBezTo>
                  <a:pt x="10725" y="11037"/>
                  <a:pt x="10716" y="11080"/>
                  <a:pt x="10691" y="11112"/>
                </a:cubicBezTo>
                <a:cubicBezTo>
                  <a:pt x="10725" y="11123"/>
                  <a:pt x="10721" y="11147"/>
                  <a:pt x="10765" y="11162"/>
                </a:cubicBezTo>
                <a:cubicBezTo>
                  <a:pt x="10824" y="11182"/>
                  <a:pt x="10872" y="11205"/>
                  <a:pt x="10939" y="11237"/>
                </a:cubicBezTo>
                <a:cubicBezTo>
                  <a:pt x="10994" y="11263"/>
                  <a:pt x="11042" y="11267"/>
                  <a:pt x="11088" y="11311"/>
                </a:cubicBezTo>
                <a:cubicBezTo>
                  <a:pt x="11150" y="11370"/>
                  <a:pt x="11185" y="11395"/>
                  <a:pt x="11212" y="11460"/>
                </a:cubicBezTo>
                <a:cubicBezTo>
                  <a:pt x="11235" y="11515"/>
                  <a:pt x="11307" y="11565"/>
                  <a:pt x="11286" y="11633"/>
                </a:cubicBezTo>
                <a:cubicBezTo>
                  <a:pt x="11276" y="11667"/>
                  <a:pt x="11256" y="11738"/>
                  <a:pt x="11212" y="11757"/>
                </a:cubicBezTo>
                <a:cubicBezTo>
                  <a:pt x="11157" y="11781"/>
                  <a:pt x="11100" y="11782"/>
                  <a:pt x="11038" y="11782"/>
                </a:cubicBezTo>
                <a:cubicBezTo>
                  <a:pt x="10964" y="11782"/>
                  <a:pt x="10885" y="11756"/>
                  <a:pt x="10815" y="11733"/>
                </a:cubicBezTo>
                <a:cubicBezTo>
                  <a:pt x="10756" y="11713"/>
                  <a:pt x="10659" y="11695"/>
                  <a:pt x="10616" y="11658"/>
                </a:cubicBezTo>
                <a:cubicBezTo>
                  <a:pt x="10609" y="11652"/>
                  <a:pt x="10504" y="11589"/>
                  <a:pt x="10542" y="11559"/>
                </a:cubicBezTo>
                <a:cubicBezTo>
                  <a:pt x="10550" y="11559"/>
                  <a:pt x="10559" y="11559"/>
                  <a:pt x="10567" y="11559"/>
                </a:cubicBezTo>
              </a:path>
              <a:path w="3994" h="1663">
                <a:moveTo>
                  <a:pt x="11633" y="11162"/>
                </a:moveTo>
                <a:cubicBezTo>
                  <a:pt x="11633" y="11394"/>
                  <a:pt x="11633" y="11625"/>
                  <a:pt x="11633" y="11857"/>
                </a:cubicBezTo>
                <a:cubicBezTo>
                  <a:pt x="11586" y="11841"/>
                  <a:pt x="11609" y="11735"/>
                  <a:pt x="11609" y="11683"/>
                </a:cubicBezTo>
              </a:path>
              <a:path w="3994" h="1663">
                <a:moveTo>
                  <a:pt x="11683" y="10790"/>
                </a:moveTo>
                <a:cubicBezTo>
                  <a:pt x="11683" y="10773"/>
                  <a:pt x="11683" y="10757"/>
                  <a:pt x="11683" y="10740"/>
                </a:cubicBezTo>
              </a:path>
              <a:path w="3994" h="1663">
                <a:moveTo>
                  <a:pt x="11881" y="11435"/>
                </a:moveTo>
                <a:cubicBezTo>
                  <a:pt x="11865" y="11512"/>
                  <a:pt x="11832" y="11736"/>
                  <a:pt x="11832" y="11658"/>
                </a:cubicBezTo>
                <a:cubicBezTo>
                  <a:pt x="11832" y="11650"/>
                  <a:pt x="11832" y="11641"/>
                  <a:pt x="11832" y="11633"/>
                </a:cubicBezTo>
                <a:cubicBezTo>
                  <a:pt x="11832" y="11577"/>
                  <a:pt x="11853" y="11537"/>
                  <a:pt x="11857" y="11485"/>
                </a:cubicBezTo>
                <a:cubicBezTo>
                  <a:pt x="11861" y="11422"/>
                  <a:pt x="11855" y="11342"/>
                  <a:pt x="11881" y="11286"/>
                </a:cubicBezTo>
                <a:cubicBezTo>
                  <a:pt x="11908" y="11227"/>
                  <a:pt x="11957" y="11159"/>
                  <a:pt x="12005" y="11112"/>
                </a:cubicBezTo>
                <a:cubicBezTo>
                  <a:pt x="12062" y="11056"/>
                  <a:pt x="12088" y="11057"/>
                  <a:pt x="12154" y="11088"/>
                </a:cubicBezTo>
                <a:cubicBezTo>
                  <a:pt x="12254" y="11134"/>
                  <a:pt x="12260" y="11175"/>
                  <a:pt x="12328" y="11261"/>
                </a:cubicBezTo>
                <a:cubicBezTo>
                  <a:pt x="12395" y="11347"/>
                  <a:pt x="12373" y="11408"/>
                  <a:pt x="12402" y="11509"/>
                </a:cubicBezTo>
                <a:cubicBezTo>
                  <a:pt x="12422" y="11580"/>
                  <a:pt x="12427" y="11631"/>
                  <a:pt x="12427" y="11708"/>
                </a:cubicBezTo>
                <a:cubicBezTo>
                  <a:pt x="12427" y="11764"/>
                  <a:pt x="12388" y="11761"/>
                  <a:pt x="12402" y="11733"/>
                </a:cubicBezTo>
                <a:cubicBezTo>
                  <a:pt x="12410" y="11725"/>
                  <a:pt x="12419" y="11716"/>
                  <a:pt x="12427" y="11708"/>
                </a:cubicBezTo>
              </a:path>
              <a:path w="3994" h="1663">
                <a:moveTo>
                  <a:pt x="13171" y="10988"/>
                </a:moveTo>
                <a:cubicBezTo>
                  <a:pt x="13139" y="11102"/>
                  <a:pt x="13089" y="11201"/>
                  <a:pt x="13047" y="11311"/>
                </a:cubicBezTo>
                <a:cubicBezTo>
                  <a:pt x="12981" y="11486"/>
                  <a:pt x="12987" y="11656"/>
                  <a:pt x="12998" y="11832"/>
                </a:cubicBezTo>
                <a:cubicBezTo>
                  <a:pt x="13003" y="11916"/>
                  <a:pt x="13025" y="11963"/>
                  <a:pt x="13097" y="12005"/>
                </a:cubicBezTo>
                <a:cubicBezTo>
                  <a:pt x="13170" y="12048"/>
                  <a:pt x="13244" y="12033"/>
                  <a:pt x="13320" y="12005"/>
                </a:cubicBezTo>
                <a:cubicBezTo>
                  <a:pt x="13394" y="11977"/>
                  <a:pt x="13491" y="11914"/>
                  <a:pt x="13543" y="11857"/>
                </a:cubicBezTo>
                <a:cubicBezTo>
                  <a:pt x="13613" y="11781"/>
                  <a:pt x="13654" y="11634"/>
                  <a:pt x="13667" y="11534"/>
                </a:cubicBezTo>
                <a:cubicBezTo>
                  <a:pt x="13680" y="11436"/>
                  <a:pt x="13670" y="11330"/>
                  <a:pt x="13643" y="11237"/>
                </a:cubicBezTo>
                <a:cubicBezTo>
                  <a:pt x="13617" y="11148"/>
                  <a:pt x="13583" y="11079"/>
                  <a:pt x="13519" y="11013"/>
                </a:cubicBezTo>
                <a:cubicBezTo>
                  <a:pt x="13482" y="10975"/>
                  <a:pt x="13377" y="10881"/>
                  <a:pt x="13320" y="10889"/>
                </a:cubicBezTo>
                <a:cubicBezTo>
                  <a:pt x="13284" y="10894"/>
                  <a:pt x="13248" y="10921"/>
                  <a:pt x="13221" y="10939"/>
                </a:cubicBezTo>
              </a:path>
              <a:path w="3994" h="1663">
                <a:moveTo>
                  <a:pt x="12774" y="11435"/>
                </a:moveTo>
                <a:cubicBezTo>
                  <a:pt x="12845" y="11466"/>
                  <a:pt x="12893" y="11460"/>
                  <a:pt x="12973" y="11460"/>
                </a:cubicBezTo>
                <a:cubicBezTo>
                  <a:pt x="13199" y="11460"/>
                  <a:pt x="13420" y="11463"/>
                  <a:pt x="13643" y="11485"/>
                </a:cubicBezTo>
                <a:cubicBezTo>
                  <a:pt x="13691" y="11490"/>
                  <a:pt x="13921" y="11463"/>
                  <a:pt x="13915" y="11460"/>
                </a:cubicBezTo>
                <a:cubicBezTo>
                  <a:pt x="13882" y="11452"/>
                  <a:pt x="13849" y="11443"/>
                  <a:pt x="13816" y="11435"/>
                </a:cubicBezTo>
              </a:path>
              <a:path w="3994" h="1663">
                <a:moveTo>
                  <a:pt x="10046" y="10368"/>
                </a:moveTo>
                <a:cubicBezTo>
                  <a:pt x="10038" y="10445"/>
                  <a:pt x="10021" y="10487"/>
                  <a:pt x="10021" y="10567"/>
                </a:cubicBezTo>
                <a:cubicBezTo>
                  <a:pt x="10021" y="10708"/>
                  <a:pt x="9996" y="10841"/>
                  <a:pt x="9996" y="10988"/>
                </a:cubicBezTo>
                <a:cubicBezTo>
                  <a:pt x="9996" y="11125"/>
                  <a:pt x="9982" y="11252"/>
                  <a:pt x="9971" y="11385"/>
                </a:cubicBezTo>
                <a:cubicBezTo>
                  <a:pt x="9960" y="11511"/>
                  <a:pt x="9961" y="11632"/>
                  <a:pt x="9947" y="11757"/>
                </a:cubicBezTo>
                <a:cubicBezTo>
                  <a:pt x="9939" y="11830"/>
                  <a:pt x="9946" y="11891"/>
                  <a:pt x="9922" y="11931"/>
                </a:cubicBezTo>
                <a:cubicBezTo>
                  <a:pt x="9922" y="11811"/>
                  <a:pt x="9923" y="11702"/>
                  <a:pt x="9947" y="115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Ink 9"/>
          <p:cNvSpPr/>
          <p:nvPr/>
        </p:nvSpPr>
        <p:spPr>
          <a:xfrm>
            <a:off x="3581280" y="3652920"/>
            <a:ext cx="1687680" cy="892080"/>
          </a:xfrm>
          <a:custGeom>
            <a:avLst/>
            <a:gdLst/>
            <a:ahLst/>
            <a:rect l="l" t="t" r="r" b="b"/>
            <a:pathLst>
              <a:path w="4689" h="2482">
                <a:moveTo>
                  <a:pt x="10071" y="10244"/>
                </a:moveTo>
                <a:cubicBezTo>
                  <a:pt x="10099" y="10232"/>
                  <a:pt x="10116" y="10210"/>
                  <a:pt x="10170" y="10195"/>
                </a:cubicBezTo>
                <a:cubicBezTo>
                  <a:pt x="10241" y="10175"/>
                  <a:pt x="10309" y="10172"/>
                  <a:pt x="10393" y="10170"/>
                </a:cubicBezTo>
                <a:cubicBezTo>
                  <a:pt x="10659" y="10165"/>
                  <a:pt x="10923" y="10160"/>
                  <a:pt x="11187" y="10145"/>
                </a:cubicBezTo>
                <a:cubicBezTo>
                  <a:pt x="11395" y="10133"/>
                  <a:pt x="11602" y="10152"/>
                  <a:pt x="11807" y="10145"/>
                </a:cubicBezTo>
                <a:cubicBezTo>
                  <a:pt x="12038" y="10137"/>
                  <a:pt x="12269" y="10170"/>
                  <a:pt x="12502" y="10170"/>
                </a:cubicBezTo>
                <a:cubicBezTo>
                  <a:pt x="13032" y="10170"/>
                  <a:pt x="13560" y="10169"/>
                  <a:pt x="14089" y="10195"/>
                </a:cubicBezTo>
                <a:cubicBezTo>
                  <a:pt x="14270" y="10204"/>
                  <a:pt x="14454" y="10195"/>
                  <a:pt x="14635" y="10195"/>
                </a:cubicBezTo>
                <a:cubicBezTo>
                  <a:pt x="14618" y="10231"/>
                  <a:pt x="14610" y="10236"/>
                  <a:pt x="14585" y="10294"/>
                </a:cubicBezTo>
                <a:cubicBezTo>
                  <a:pt x="14547" y="10381"/>
                  <a:pt x="14549" y="10449"/>
                  <a:pt x="14536" y="10542"/>
                </a:cubicBezTo>
                <a:cubicBezTo>
                  <a:pt x="14522" y="10642"/>
                  <a:pt x="14521" y="10738"/>
                  <a:pt x="14511" y="10840"/>
                </a:cubicBezTo>
                <a:cubicBezTo>
                  <a:pt x="14498" y="10974"/>
                  <a:pt x="14488" y="11100"/>
                  <a:pt x="14486" y="11237"/>
                </a:cubicBezTo>
                <a:cubicBezTo>
                  <a:pt x="14484" y="11422"/>
                  <a:pt x="14508" y="11599"/>
                  <a:pt x="14511" y="11782"/>
                </a:cubicBezTo>
                <a:cubicBezTo>
                  <a:pt x="14514" y="11966"/>
                  <a:pt x="14526" y="12148"/>
                  <a:pt x="14536" y="12328"/>
                </a:cubicBezTo>
                <a:cubicBezTo>
                  <a:pt x="14540" y="12402"/>
                  <a:pt x="14520" y="12468"/>
                  <a:pt x="14511" y="12526"/>
                </a:cubicBezTo>
                <a:cubicBezTo>
                  <a:pt x="14503" y="12574"/>
                  <a:pt x="14495" y="12585"/>
                  <a:pt x="14486" y="12626"/>
                </a:cubicBezTo>
                <a:cubicBezTo>
                  <a:pt x="14432" y="12616"/>
                  <a:pt x="14385" y="12611"/>
                  <a:pt x="14337" y="12601"/>
                </a:cubicBezTo>
                <a:cubicBezTo>
                  <a:pt x="14254" y="12584"/>
                  <a:pt x="14176" y="12578"/>
                  <a:pt x="14089" y="12576"/>
                </a:cubicBezTo>
                <a:cubicBezTo>
                  <a:pt x="13985" y="12574"/>
                  <a:pt x="13894" y="12556"/>
                  <a:pt x="13791" y="12551"/>
                </a:cubicBezTo>
                <a:cubicBezTo>
                  <a:pt x="13650" y="12545"/>
                  <a:pt x="13510" y="12544"/>
                  <a:pt x="13370" y="12526"/>
                </a:cubicBezTo>
                <a:cubicBezTo>
                  <a:pt x="13198" y="12503"/>
                  <a:pt x="13021" y="12466"/>
                  <a:pt x="12849" y="12452"/>
                </a:cubicBezTo>
                <a:cubicBezTo>
                  <a:pt x="12632" y="12435"/>
                  <a:pt x="12422" y="12404"/>
                  <a:pt x="12204" y="12378"/>
                </a:cubicBezTo>
                <a:cubicBezTo>
                  <a:pt x="11564" y="12302"/>
                  <a:pt x="10939" y="12187"/>
                  <a:pt x="10294" y="12179"/>
                </a:cubicBezTo>
                <a:cubicBezTo>
                  <a:pt x="10178" y="12178"/>
                  <a:pt x="10063" y="12179"/>
                  <a:pt x="9947" y="121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Questions from last night’s HW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(pg 381 #1-13)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Ink 5"/>
          <p:cNvSpPr/>
          <p:nvPr/>
        </p:nvSpPr>
        <p:spPr>
          <a:xfrm>
            <a:off x="1303200" y="3116160"/>
            <a:ext cx="1617840" cy="706680"/>
          </a:xfrm>
          <a:custGeom>
            <a:avLst/>
            <a:gdLst/>
            <a:ahLst/>
            <a:rect l="l" t="t" r="r" b="b"/>
            <a:pathLst>
              <a:path w="4491" h="1960">
                <a:moveTo>
                  <a:pt x="4266" y="9277"/>
                </a:moveTo>
                <a:cubicBezTo>
                  <a:pt x="4235" y="9245"/>
                  <a:pt x="4216" y="9215"/>
                  <a:pt x="4167" y="9227"/>
                </a:cubicBezTo>
                <a:cubicBezTo>
                  <a:pt x="4131" y="9236"/>
                  <a:pt x="4069" y="9278"/>
                  <a:pt x="4043" y="9302"/>
                </a:cubicBezTo>
                <a:cubicBezTo>
                  <a:pt x="3974" y="9367"/>
                  <a:pt x="3894" y="9445"/>
                  <a:pt x="3845" y="9525"/>
                </a:cubicBezTo>
                <a:cubicBezTo>
                  <a:pt x="3775" y="9638"/>
                  <a:pt x="3712" y="9748"/>
                  <a:pt x="3671" y="9872"/>
                </a:cubicBezTo>
                <a:cubicBezTo>
                  <a:pt x="3638" y="9970"/>
                  <a:pt x="3621" y="10042"/>
                  <a:pt x="3621" y="10145"/>
                </a:cubicBezTo>
                <a:cubicBezTo>
                  <a:pt x="3621" y="10227"/>
                  <a:pt x="3653" y="10279"/>
                  <a:pt x="3721" y="10319"/>
                </a:cubicBezTo>
                <a:cubicBezTo>
                  <a:pt x="3795" y="10363"/>
                  <a:pt x="3906" y="10435"/>
                  <a:pt x="3994" y="10418"/>
                </a:cubicBezTo>
                <a:cubicBezTo>
                  <a:pt x="4045" y="10408"/>
                  <a:pt x="4118" y="10362"/>
                  <a:pt x="4167" y="10344"/>
                </a:cubicBezTo>
              </a:path>
              <a:path w="4491" h="1960">
                <a:moveTo>
                  <a:pt x="5085" y="9277"/>
                </a:moveTo>
                <a:cubicBezTo>
                  <a:pt x="5001" y="9285"/>
                  <a:pt x="4955" y="9300"/>
                  <a:pt x="4887" y="9351"/>
                </a:cubicBezTo>
                <a:cubicBezTo>
                  <a:pt x="4844" y="9383"/>
                  <a:pt x="4739" y="9453"/>
                  <a:pt x="4713" y="9500"/>
                </a:cubicBezTo>
                <a:cubicBezTo>
                  <a:pt x="4692" y="9539"/>
                  <a:pt x="4729" y="9573"/>
                  <a:pt x="4738" y="9599"/>
                </a:cubicBezTo>
                <a:cubicBezTo>
                  <a:pt x="4754" y="9645"/>
                  <a:pt x="4795" y="9656"/>
                  <a:pt x="4837" y="9674"/>
                </a:cubicBezTo>
                <a:cubicBezTo>
                  <a:pt x="4891" y="9697"/>
                  <a:pt x="4921" y="9733"/>
                  <a:pt x="4961" y="9773"/>
                </a:cubicBezTo>
                <a:cubicBezTo>
                  <a:pt x="4991" y="9803"/>
                  <a:pt x="4999" y="9878"/>
                  <a:pt x="4986" y="9922"/>
                </a:cubicBezTo>
                <a:cubicBezTo>
                  <a:pt x="4960" y="10010"/>
                  <a:pt x="4897" y="10105"/>
                  <a:pt x="4837" y="10170"/>
                </a:cubicBezTo>
                <a:cubicBezTo>
                  <a:pt x="4795" y="10215"/>
                  <a:pt x="4748" y="10274"/>
                  <a:pt x="4688" y="10294"/>
                </a:cubicBezTo>
                <a:cubicBezTo>
                  <a:pt x="4660" y="10294"/>
                  <a:pt x="4649" y="10292"/>
                  <a:pt x="4638" y="10269"/>
                </a:cubicBezTo>
              </a:path>
              <a:path w="4491" h="1960">
                <a:moveTo>
                  <a:pt x="5879" y="9128"/>
                </a:moveTo>
                <a:cubicBezTo>
                  <a:pt x="5936" y="9109"/>
                  <a:pt x="5979" y="9100"/>
                  <a:pt x="5928" y="9103"/>
                </a:cubicBezTo>
                <a:cubicBezTo>
                  <a:pt x="5864" y="9194"/>
                  <a:pt x="5786" y="9281"/>
                  <a:pt x="5730" y="9376"/>
                </a:cubicBezTo>
                <a:cubicBezTo>
                  <a:pt x="5662" y="9493"/>
                  <a:pt x="5577" y="9621"/>
                  <a:pt x="5531" y="9748"/>
                </a:cubicBezTo>
                <a:cubicBezTo>
                  <a:pt x="5501" y="9832"/>
                  <a:pt x="5484" y="9981"/>
                  <a:pt x="5507" y="10071"/>
                </a:cubicBezTo>
                <a:cubicBezTo>
                  <a:pt x="5528" y="10153"/>
                  <a:pt x="5585" y="10205"/>
                  <a:pt x="5655" y="10244"/>
                </a:cubicBezTo>
                <a:cubicBezTo>
                  <a:pt x="5749" y="10296"/>
                  <a:pt x="5852" y="10252"/>
                  <a:pt x="5953" y="10244"/>
                </a:cubicBezTo>
              </a:path>
              <a:path w="4491" h="1960">
                <a:moveTo>
                  <a:pt x="6598" y="9128"/>
                </a:moveTo>
                <a:cubicBezTo>
                  <a:pt x="6598" y="9075"/>
                  <a:pt x="6611" y="9067"/>
                  <a:pt x="6648" y="9029"/>
                </a:cubicBezTo>
                <a:cubicBezTo>
                  <a:pt x="6677" y="8999"/>
                  <a:pt x="6759" y="8948"/>
                  <a:pt x="6772" y="8930"/>
                </a:cubicBezTo>
                <a:cubicBezTo>
                  <a:pt x="6792" y="8903"/>
                  <a:pt x="6816" y="8885"/>
                  <a:pt x="6871" y="8880"/>
                </a:cubicBezTo>
                <a:cubicBezTo>
                  <a:pt x="6890" y="8878"/>
                  <a:pt x="6963" y="8908"/>
                  <a:pt x="6970" y="8930"/>
                </a:cubicBezTo>
                <a:cubicBezTo>
                  <a:pt x="6991" y="8996"/>
                  <a:pt x="6995" y="9051"/>
                  <a:pt x="6995" y="9128"/>
                </a:cubicBezTo>
                <a:cubicBezTo>
                  <a:pt x="6995" y="9196"/>
                  <a:pt x="6985" y="9243"/>
                  <a:pt x="6945" y="9302"/>
                </a:cubicBezTo>
                <a:cubicBezTo>
                  <a:pt x="6923" y="9335"/>
                  <a:pt x="6884" y="9373"/>
                  <a:pt x="6846" y="9376"/>
                </a:cubicBezTo>
                <a:cubicBezTo>
                  <a:pt x="6809" y="9379"/>
                  <a:pt x="6718" y="9392"/>
                  <a:pt x="6697" y="9351"/>
                </a:cubicBezTo>
                <a:cubicBezTo>
                  <a:pt x="6690" y="9337"/>
                  <a:pt x="6697" y="9293"/>
                  <a:pt x="6697" y="9277"/>
                </a:cubicBezTo>
                <a:cubicBezTo>
                  <a:pt x="6750" y="9288"/>
                  <a:pt x="6846" y="9307"/>
                  <a:pt x="6896" y="9327"/>
                </a:cubicBezTo>
                <a:cubicBezTo>
                  <a:pt x="6940" y="9344"/>
                  <a:pt x="6968" y="9351"/>
                  <a:pt x="7020" y="9351"/>
                </a:cubicBezTo>
                <a:cubicBezTo>
                  <a:pt x="7061" y="9351"/>
                  <a:pt x="7069" y="9351"/>
                  <a:pt x="7094" y="9351"/>
                </a:cubicBezTo>
              </a:path>
              <a:path w="4491" h="1960">
                <a:moveTo>
                  <a:pt x="6424" y="9649"/>
                </a:moveTo>
                <a:cubicBezTo>
                  <a:pt x="6475" y="9649"/>
                  <a:pt x="6483" y="9660"/>
                  <a:pt x="6524" y="9674"/>
                </a:cubicBezTo>
                <a:cubicBezTo>
                  <a:pt x="6575" y="9691"/>
                  <a:pt x="6611" y="9657"/>
                  <a:pt x="6648" y="9649"/>
                </a:cubicBezTo>
                <a:cubicBezTo>
                  <a:pt x="6823" y="9611"/>
                  <a:pt x="7101" y="9632"/>
                  <a:pt x="7268" y="9674"/>
                </a:cubicBezTo>
                <a:cubicBezTo>
                  <a:pt x="7309" y="9674"/>
                  <a:pt x="7334" y="9674"/>
                  <a:pt x="7367" y="9674"/>
                </a:cubicBezTo>
              </a:path>
              <a:path w="4491" h="1960">
                <a:moveTo>
                  <a:pt x="6747" y="9996"/>
                </a:moveTo>
                <a:cubicBezTo>
                  <a:pt x="6790" y="9932"/>
                  <a:pt x="6792" y="9947"/>
                  <a:pt x="6871" y="9947"/>
                </a:cubicBezTo>
                <a:cubicBezTo>
                  <a:pt x="6907" y="9947"/>
                  <a:pt x="6944" y="9953"/>
                  <a:pt x="6970" y="9971"/>
                </a:cubicBezTo>
                <a:cubicBezTo>
                  <a:pt x="7006" y="9995"/>
                  <a:pt x="7040" y="9999"/>
                  <a:pt x="7045" y="10046"/>
                </a:cubicBezTo>
                <a:cubicBezTo>
                  <a:pt x="7049" y="10083"/>
                  <a:pt x="7007" y="10104"/>
                  <a:pt x="6995" y="10120"/>
                </a:cubicBezTo>
                <a:cubicBezTo>
                  <a:pt x="6963" y="10162"/>
                  <a:pt x="6906" y="10174"/>
                  <a:pt x="6896" y="10220"/>
                </a:cubicBezTo>
                <a:cubicBezTo>
                  <a:pt x="6888" y="10257"/>
                  <a:pt x="6946" y="10295"/>
                  <a:pt x="6970" y="10319"/>
                </a:cubicBezTo>
                <a:cubicBezTo>
                  <a:pt x="6990" y="10339"/>
                  <a:pt x="7033" y="10392"/>
                  <a:pt x="7045" y="10418"/>
                </a:cubicBezTo>
                <a:cubicBezTo>
                  <a:pt x="7062" y="10456"/>
                  <a:pt x="7015" y="10516"/>
                  <a:pt x="6995" y="10542"/>
                </a:cubicBezTo>
                <a:cubicBezTo>
                  <a:pt x="6963" y="10584"/>
                  <a:pt x="6914" y="10604"/>
                  <a:pt x="6871" y="10616"/>
                </a:cubicBezTo>
                <a:cubicBezTo>
                  <a:pt x="6828" y="10629"/>
                  <a:pt x="6757" y="10622"/>
                  <a:pt x="6747" y="10592"/>
                </a:cubicBezTo>
              </a:path>
              <a:path w="4491" h="1960">
                <a:moveTo>
                  <a:pt x="7466" y="9277"/>
                </a:moveTo>
                <a:cubicBezTo>
                  <a:pt x="7492" y="9338"/>
                  <a:pt x="7491" y="9360"/>
                  <a:pt x="7491" y="9426"/>
                </a:cubicBezTo>
                <a:cubicBezTo>
                  <a:pt x="7491" y="9451"/>
                  <a:pt x="7491" y="9459"/>
                  <a:pt x="7491" y="9475"/>
                </a:cubicBezTo>
                <a:cubicBezTo>
                  <a:pt x="7547" y="9457"/>
                  <a:pt x="7500" y="9426"/>
                  <a:pt x="7491" y="9376"/>
                </a:cubicBezTo>
                <a:cubicBezTo>
                  <a:pt x="7474" y="9278"/>
                  <a:pt x="7485" y="9167"/>
                  <a:pt x="7466" y="9079"/>
                </a:cubicBezTo>
                <a:cubicBezTo>
                  <a:pt x="7456" y="9034"/>
                  <a:pt x="7445" y="8974"/>
                  <a:pt x="7441" y="8930"/>
                </a:cubicBezTo>
                <a:cubicBezTo>
                  <a:pt x="7436" y="8879"/>
                  <a:pt x="7462" y="8845"/>
                  <a:pt x="7466" y="8830"/>
                </a:cubicBezTo>
                <a:cubicBezTo>
                  <a:pt x="7480" y="8779"/>
                  <a:pt x="7500" y="8757"/>
                  <a:pt x="7565" y="8731"/>
                </a:cubicBezTo>
                <a:cubicBezTo>
                  <a:pt x="7641" y="8700"/>
                  <a:pt x="7729" y="8686"/>
                  <a:pt x="7813" y="8682"/>
                </a:cubicBezTo>
                <a:cubicBezTo>
                  <a:pt x="7876" y="8679"/>
                  <a:pt x="7922" y="8657"/>
                  <a:pt x="7987" y="8657"/>
                </a:cubicBezTo>
                <a:cubicBezTo>
                  <a:pt x="7995" y="8657"/>
                  <a:pt x="8004" y="8657"/>
                  <a:pt x="8012" y="8657"/>
                </a:cubicBezTo>
              </a:path>
              <a:path w="4491" h="1960">
                <a:moveTo>
                  <a:pt x="7764" y="8930"/>
                </a:moveTo>
                <a:cubicBezTo>
                  <a:pt x="7777" y="8892"/>
                  <a:pt x="7793" y="8905"/>
                  <a:pt x="7838" y="8905"/>
                </a:cubicBezTo>
                <a:cubicBezTo>
                  <a:pt x="7866" y="8905"/>
                  <a:pt x="7877" y="8903"/>
                  <a:pt x="7888" y="8880"/>
                </a:cubicBezTo>
                <a:cubicBezTo>
                  <a:pt x="7930" y="8912"/>
                  <a:pt x="7956" y="8905"/>
                  <a:pt x="8012" y="8905"/>
                </a:cubicBezTo>
                <a:cubicBezTo>
                  <a:pt x="8012" y="8965"/>
                  <a:pt x="7984" y="8955"/>
                  <a:pt x="7962" y="9004"/>
                </a:cubicBezTo>
                <a:cubicBezTo>
                  <a:pt x="7954" y="9022"/>
                  <a:pt x="7920" y="9045"/>
                  <a:pt x="7938" y="9079"/>
                </a:cubicBezTo>
                <a:cubicBezTo>
                  <a:pt x="7954" y="9108"/>
                  <a:pt x="7987" y="9125"/>
                  <a:pt x="8012" y="9153"/>
                </a:cubicBezTo>
                <a:cubicBezTo>
                  <a:pt x="8034" y="9177"/>
                  <a:pt x="8127" y="9240"/>
                  <a:pt x="8111" y="9277"/>
                </a:cubicBezTo>
                <a:cubicBezTo>
                  <a:pt x="8091" y="9322"/>
                  <a:pt x="8071" y="9328"/>
                  <a:pt x="8037" y="9351"/>
                </a:cubicBezTo>
                <a:cubicBezTo>
                  <a:pt x="7991" y="9382"/>
                  <a:pt x="7970" y="9401"/>
                  <a:pt x="7913" y="9401"/>
                </a:cubicBezTo>
                <a:cubicBezTo>
                  <a:pt x="7888" y="9401"/>
                  <a:pt x="7880" y="9401"/>
                  <a:pt x="7863" y="94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Ink 6"/>
          <p:cNvSpPr/>
          <p:nvPr/>
        </p:nvSpPr>
        <p:spPr>
          <a:xfrm>
            <a:off x="6562800" y="2143080"/>
            <a:ext cx="1144440" cy="1428840"/>
          </a:xfrm>
          <a:custGeom>
            <a:avLst/>
            <a:gdLst/>
            <a:ahLst/>
            <a:rect l="l" t="t" r="r" b="b"/>
            <a:pathLst>
              <a:path w="3176" h="3970">
                <a:moveTo>
                  <a:pt x="19621" y="6028"/>
                </a:moveTo>
                <a:cubicBezTo>
                  <a:pt x="19640" y="6134"/>
                  <a:pt x="19627" y="6107"/>
                  <a:pt x="19621" y="6201"/>
                </a:cubicBezTo>
                <a:cubicBezTo>
                  <a:pt x="19611" y="6368"/>
                  <a:pt x="19611" y="6534"/>
                  <a:pt x="19596" y="6697"/>
                </a:cubicBezTo>
                <a:cubicBezTo>
                  <a:pt x="19584" y="6820"/>
                  <a:pt x="19574" y="6946"/>
                  <a:pt x="19571" y="7069"/>
                </a:cubicBezTo>
                <a:cubicBezTo>
                  <a:pt x="19567" y="7212"/>
                  <a:pt x="19564" y="7374"/>
                  <a:pt x="19546" y="7516"/>
                </a:cubicBezTo>
                <a:cubicBezTo>
                  <a:pt x="19526" y="7673"/>
                  <a:pt x="19522" y="7830"/>
                  <a:pt x="19496" y="7987"/>
                </a:cubicBezTo>
                <a:cubicBezTo>
                  <a:pt x="19465" y="8173"/>
                  <a:pt x="19458" y="8369"/>
                  <a:pt x="19447" y="8558"/>
                </a:cubicBezTo>
                <a:cubicBezTo>
                  <a:pt x="19440" y="8685"/>
                  <a:pt x="19426" y="8805"/>
                  <a:pt x="19422" y="8930"/>
                </a:cubicBezTo>
                <a:cubicBezTo>
                  <a:pt x="19420" y="9004"/>
                  <a:pt x="19422" y="9079"/>
                  <a:pt x="19422" y="9153"/>
                </a:cubicBezTo>
              </a:path>
              <a:path w="3176" h="3970">
                <a:moveTo>
                  <a:pt x="19521" y="5953"/>
                </a:moveTo>
                <a:cubicBezTo>
                  <a:pt x="19549" y="5974"/>
                  <a:pt x="19549" y="5979"/>
                  <a:pt x="19571" y="6003"/>
                </a:cubicBezTo>
                <a:cubicBezTo>
                  <a:pt x="19598" y="6032"/>
                  <a:pt x="19626" y="6080"/>
                  <a:pt x="19645" y="6102"/>
                </a:cubicBezTo>
                <a:cubicBezTo>
                  <a:pt x="19697" y="6160"/>
                  <a:pt x="19744" y="6220"/>
                  <a:pt x="19794" y="6276"/>
                </a:cubicBezTo>
                <a:cubicBezTo>
                  <a:pt x="19847" y="6335"/>
                  <a:pt x="19895" y="6387"/>
                  <a:pt x="19943" y="6449"/>
                </a:cubicBezTo>
                <a:cubicBezTo>
                  <a:pt x="19991" y="6511"/>
                  <a:pt x="20022" y="6584"/>
                  <a:pt x="20067" y="6648"/>
                </a:cubicBezTo>
                <a:cubicBezTo>
                  <a:pt x="20164" y="6785"/>
                  <a:pt x="20266" y="6920"/>
                  <a:pt x="20340" y="7069"/>
                </a:cubicBezTo>
                <a:cubicBezTo>
                  <a:pt x="20396" y="7182"/>
                  <a:pt x="20469" y="7285"/>
                  <a:pt x="20538" y="7392"/>
                </a:cubicBezTo>
                <a:cubicBezTo>
                  <a:pt x="20621" y="7520"/>
                  <a:pt x="20688" y="7659"/>
                  <a:pt x="20762" y="7789"/>
                </a:cubicBezTo>
                <a:cubicBezTo>
                  <a:pt x="20828" y="7904"/>
                  <a:pt x="20877" y="8022"/>
                  <a:pt x="20935" y="8136"/>
                </a:cubicBezTo>
                <a:cubicBezTo>
                  <a:pt x="21008" y="8281"/>
                  <a:pt x="21120" y="8421"/>
                  <a:pt x="21208" y="8558"/>
                </a:cubicBezTo>
                <a:cubicBezTo>
                  <a:pt x="21254" y="8630"/>
                  <a:pt x="21344" y="8694"/>
                  <a:pt x="21382" y="8756"/>
                </a:cubicBezTo>
                <a:cubicBezTo>
                  <a:pt x="21401" y="8797"/>
                  <a:pt x="21409" y="8803"/>
                  <a:pt x="21406" y="8830"/>
                </a:cubicBezTo>
              </a:path>
              <a:path w="3176" h="3970">
                <a:moveTo>
                  <a:pt x="19348" y="9054"/>
                </a:moveTo>
                <a:cubicBezTo>
                  <a:pt x="19384" y="9040"/>
                  <a:pt x="19405" y="9032"/>
                  <a:pt x="19447" y="9029"/>
                </a:cubicBezTo>
                <a:cubicBezTo>
                  <a:pt x="19498" y="9026"/>
                  <a:pt x="19521" y="8995"/>
                  <a:pt x="19571" y="9004"/>
                </a:cubicBezTo>
                <a:cubicBezTo>
                  <a:pt x="19626" y="9014"/>
                  <a:pt x="19661" y="9027"/>
                  <a:pt x="19720" y="9029"/>
                </a:cubicBezTo>
                <a:cubicBezTo>
                  <a:pt x="19873" y="9035"/>
                  <a:pt x="20020" y="9030"/>
                  <a:pt x="20166" y="9054"/>
                </a:cubicBezTo>
                <a:cubicBezTo>
                  <a:pt x="20240" y="9066"/>
                  <a:pt x="20295" y="9033"/>
                  <a:pt x="20365" y="9029"/>
                </a:cubicBezTo>
                <a:cubicBezTo>
                  <a:pt x="20685" y="9011"/>
                  <a:pt x="21012" y="9029"/>
                  <a:pt x="21332" y="9029"/>
                </a:cubicBezTo>
              </a:path>
              <a:path w="3176" h="3970">
                <a:moveTo>
                  <a:pt x="19348" y="8558"/>
                </a:moveTo>
                <a:cubicBezTo>
                  <a:pt x="19406" y="8558"/>
                  <a:pt x="19414" y="8558"/>
                  <a:pt x="19447" y="8558"/>
                </a:cubicBezTo>
                <a:cubicBezTo>
                  <a:pt x="19460" y="8520"/>
                  <a:pt x="19476" y="8533"/>
                  <a:pt x="19521" y="8533"/>
                </a:cubicBezTo>
                <a:cubicBezTo>
                  <a:pt x="19561" y="8533"/>
                  <a:pt x="19576" y="8508"/>
                  <a:pt x="19621" y="8508"/>
                </a:cubicBezTo>
                <a:cubicBezTo>
                  <a:pt x="19645" y="8508"/>
                  <a:pt x="19654" y="8508"/>
                  <a:pt x="19670" y="8508"/>
                </a:cubicBezTo>
                <a:cubicBezTo>
                  <a:pt x="19683" y="8546"/>
                  <a:pt x="19695" y="8529"/>
                  <a:pt x="19695" y="8582"/>
                </a:cubicBezTo>
                <a:cubicBezTo>
                  <a:pt x="19695" y="8661"/>
                  <a:pt x="19666" y="8678"/>
                  <a:pt x="19645" y="8756"/>
                </a:cubicBezTo>
                <a:cubicBezTo>
                  <a:pt x="19630" y="8813"/>
                  <a:pt x="19645" y="8894"/>
                  <a:pt x="19645" y="8954"/>
                </a:cubicBezTo>
              </a:path>
              <a:path w="3176" h="3970">
                <a:moveTo>
                  <a:pt x="20861" y="8533"/>
                </a:moveTo>
                <a:cubicBezTo>
                  <a:pt x="20837" y="8565"/>
                  <a:pt x="20813" y="8578"/>
                  <a:pt x="20811" y="8607"/>
                </a:cubicBezTo>
                <a:cubicBezTo>
                  <a:pt x="20806" y="8671"/>
                  <a:pt x="20779" y="8679"/>
                  <a:pt x="20762" y="8731"/>
                </a:cubicBezTo>
                <a:cubicBezTo>
                  <a:pt x="20749" y="8772"/>
                  <a:pt x="20761" y="8826"/>
                  <a:pt x="20786" y="8855"/>
                </a:cubicBezTo>
                <a:cubicBezTo>
                  <a:pt x="20821" y="8895"/>
                  <a:pt x="20835" y="8905"/>
                  <a:pt x="20886" y="8905"/>
                </a:cubicBezTo>
                <a:cubicBezTo>
                  <a:pt x="20938" y="8905"/>
                  <a:pt x="20968" y="8893"/>
                  <a:pt x="21010" y="8880"/>
                </a:cubicBezTo>
                <a:cubicBezTo>
                  <a:pt x="21048" y="8868"/>
                  <a:pt x="21078" y="8857"/>
                  <a:pt x="21109" y="8830"/>
                </a:cubicBezTo>
                <a:cubicBezTo>
                  <a:pt x="21138" y="8805"/>
                  <a:pt x="21172" y="8765"/>
                  <a:pt x="21183" y="8731"/>
                </a:cubicBezTo>
                <a:cubicBezTo>
                  <a:pt x="21190" y="8711"/>
                  <a:pt x="21144" y="8647"/>
                  <a:pt x="21134" y="8632"/>
                </a:cubicBezTo>
                <a:cubicBezTo>
                  <a:pt x="21109" y="8594"/>
                  <a:pt x="21026" y="8583"/>
                  <a:pt x="21010" y="8558"/>
                </a:cubicBezTo>
                <a:cubicBezTo>
                  <a:pt x="20979" y="8510"/>
                  <a:pt x="20972" y="8546"/>
                  <a:pt x="20935" y="8558"/>
                </a:cubicBezTo>
              </a:path>
              <a:path w="3176" h="3970">
                <a:moveTo>
                  <a:pt x="20861" y="8657"/>
                </a:moveTo>
                <a:cubicBezTo>
                  <a:pt x="20868" y="8702"/>
                  <a:pt x="20883" y="8758"/>
                  <a:pt x="20935" y="8781"/>
                </a:cubicBezTo>
                <a:cubicBezTo>
                  <a:pt x="20943" y="8781"/>
                  <a:pt x="20952" y="8781"/>
                  <a:pt x="20960" y="8781"/>
                </a:cubicBezTo>
              </a:path>
              <a:path w="3176" h="3970">
                <a:moveTo>
                  <a:pt x="18306" y="7764"/>
                </a:moveTo>
                <a:cubicBezTo>
                  <a:pt x="18323" y="7824"/>
                  <a:pt x="18295" y="7923"/>
                  <a:pt x="18355" y="7938"/>
                </a:cubicBezTo>
                <a:cubicBezTo>
                  <a:pt x="18406" y="7951"/>
                  <a:pt x="18341" y="7841"/>
                  <a:pt x="18331" y="7789"/>
                </a:cubicBezTo>
                <a:cubicBezTo>
                  <a:pt x="18317" y="7717"/>
                  <a:pt x="18318" y="7635"/>
                  <a:pt x="18306" y="7565"/>
                </a:cubicBezTo>
                <a:cubicBezTo>
                  <a:pt x="18294" y="7491"/>
                  <a:pt x="18293" y="7413"/>
                  <a:pt x="18281" y="7342"/>
                </a:cubicBezTo>
                <a:cubicBezTo>
                  <a:pt x="18271" y="7284"/>
                  <a:pt x="18264" y="7225"/>
                  <a:pt x="18256" y="7169"/>
                </a:cubicBezTo>
                <a:cubicBezTo>
                  <a:pt x="18246" y="7097"/>
                  <a:pt x="18267" y="7054"/>
                  <a:pt x="18231" y="6995"/>
                </a:cubicBezTo>
                <a:cubicBezTo>
                  <a:pt x="18320" y="6995"/>
                  <a:pt x="18397" y="6979"/>
                  <a:pt x="18479" y="6970"/>
                </a:cubicBezTo>
                <a:cubicBezTo>
                  <a:pt x="18565" y="6961"/>
                  <a:pt x="18646" y="6958"/>
                  <a:pt x="18728" y="6945"/>
                </a:cubicBezTo>
                <a:cubicBezTo>
                  <a:pt x="18792" y="6935"/>
                  <a:pt x="18841" y="6929"/>
                  <a:pt x="18901" y="6921"/>
                </a:cubicBezTo>
              </a:path>
              <a:path w="3176" h="3970">
                <a:moveTo>
                  <a:pt x="18504" y="7218"/>
                </a:moveTo>
                <a:cubicBezTo>
                  <a:pt x="18561" y="7218"/>
                  <a:pt x="18686" y="7196"/>
                  <a:pt x="18728" y="7243"/>
                </a:cubicBezTo>
                <a:cubicBezTo>
                  <a:pt x="18728" y="7251"/>
                  <a:pt x="18728" y="7260"/>
                  <a:pt x="18728" y="7268"/>
                </a:cubicBezTo>
              </a:path>
              <a:path w="3176" h="3970">
                <a:moveTo>
                  <a:pt x="18876" y="7367"/>
                </a:moveTo>
                <a:cubicBezTo>
                  <a:pt x="18876" y="7431"/>
                  <a:pt x="18868" y="7440"/>
                  <a:pt x="18852" y="7491"/>
                </a:cubicBezTo>
                <a:cubicBezTo>
                  <a:pt x="18843" y="7519"/>
                  <a:pt x="18834" y="7537"/>
                  <a:pt x="18827" y="7565"/>
                </a:cubicBezTo>
                <a:cubicBezTo>
                  <a:pt x="18790" y="7577"/>
                  <a:pt x="18795" y="7619"/>
                  <a:pt x="18752" y="7640"/>
                </a:cubicBezTo>
              </a:path>
              <a:path w="3176" h="3970">
                <a:moveTo>
                  <a:pt x="20315" y="9376"/>
                </a:moveTo>
                <a:cubicBezTo>
                  <a:pt x="20347" y="9418"/>
                  <a:pt x="20340" y="9444"/>
                  <a:pt x="20340" y="9500"/>
                </a:cubicBezTo>
                <a:cubicBezTo>
                  <a:pt x="20340" y="9614"/>
                  <a:pt x="20340" y="9716"/>
                  <a:pt x="20365" y="9823"/>
                </a:cubicBezTo>
                <a:cubicBezTo>
                  <a:pt x="20365" y="9864"/>
                  <a:pt x="20365" y="9889"/>
                  <a:pt x="20365" y="9922"/>
                </a:cubicBezTo>
              </a:path>
              <a:path w="3176" h="3970">
                <a:moveTo>
                  <a:pt x="20836" y="6821"/>
                </a:moveTo>
                <a:cubicBezTo>
                  <a:pt x="20872" y="6794"/>
                  <a:pt x="20929" y="6742"/>
                  <a:pt x="20985" y="6772"/>
                </a:cubicBezTo>
                <a:cubicBezTo>
                  <a:pt x="21046" y="6805"/>
                  <a:pt x="21047" y="6865"/>
                  <a:pt x="21059" y="6921"/>
                </a:cubicBezTo>
                <a:cubicBezTo>
                  <a:pt x="21080" y="7016"/>
                  <a:pt x="21095" y="7080"/>
                  <a:pt x="21059" y="7169"/>
                </a:cubicBezTo>
                <a:cubicBezTo>
                  <a:pt x="21038" y="7221"/>
                  <a:pt x="21010" y="7255"/>
                  <a:pt x="20960" y="7268"/>
                </a:cubicBezTo>
              </a:path>
              <a:path w="3176" h="3970">
                <a:moveTo>
                  <a:pt x="20935" y="7193"/>
                </a:moveTo>
                <a:cubicBezTo>
                  <a:pt x="21001" y="7193"/>
                  <a:pt x="21007" y="7201"/>
                  <a:pt x="21059" y="7218"/>
                </a:cubicBezTo>
                <a:cubicBezTo>
                  <a:pt x="21102" y="7232"/>
                  <a:pt x="21145" y="7252"/>
                  <a:pt x="21183" y="7268"/>
                </a:cubicBezTo>
                <a:cubicBezTo>
                  <a:pt x="21200" y="7276"/>
                  <a:pt x="21216" y="7285"/>
                  <a:pt x="21233" y="7293"/>
                </a:cubicBezTo>
              </a:path>
              <a:path w="3176" h="3970">
                <a:moveTo>
                  <a:pt x="18405" y="7193"/>
                </a:moveTo>
                <a:cubicBezTo>
                  <a:pt x="18458" y="7193"/>
                  <a:pt x="18487" y="7178"/>
                  <a:pt x="18529" y="7169"/>
                </a:cubicBezTo>
                <a:cubicBezTo>
                  <a:pt x="18581" y="7158"/>
                  <a:pt x="18602" y="7193"/>
                  <a:pt x="18653" y="7193"/>
                </a:cubicBezTo>
                <a:cubicBezTo>
                  <a:pt x="18694" y="7193"/>
                  <a:pt x="18733" y="7198"/>
                  <a:pt x="18752" y="7243"/>
                </a:cubicBezTo>
                <a:cubicBezTo>
                  <a:pt x="18772" y="7290"/>
                  <a:pt x="18734" y="7329"/>
                  <a:pt x="18728" y="7342"/>
                </a:cubicBezTo>
                <a:cubicBezTo>
                  <a:pt x="18715" y="7369"/>
                  <a:pt x="18696" y="7387"/>
                  <a:pt x="18653" y="7392"/>
                </a:cubicBezTo>
                <a:cubicBezTo>
                  <a:pt x="18600" y="7398"/>
                  <a:pt x="18618" y="7404"/>
                  <a:pt x="18579" y="7417"/>
                </a:cubicBezTo>
                <a:cubicBezTo>
                  <a:pt x="18589" y="7388"/>
                  <a:pt x="18613" y="7372"/>
                  <a:pt x="18653" y="7367"/>
                </a:cubicBezTo>
                <a:cubicBezTo>
                  <a:pt x="18694" y="7362"/>
                  <a:pt x="18672" y="7342"/>
                  <a:pt x="18728" y="7342"/>
                </a:cubicBezTo>
                <a:cubicBezTo>
                  <a:pt x="18784" y="7342"/>
                  <a:pt x="18802" y="7355"/>
                  <a:pt x="18827" y="7367"/>
                </a:cubicBezTo>
                <a:cubicBezTo>
                  <a:pt x="18862" y="7384"/>
                  <a:pt x="18852" y="7393"/>
                  <a:pt x="18852" y="7441"/>
                </a:cubicBezTo>
                <a:cubicBezTo>
                  <a:pt x="18852" y="7496"/>
                  <a:pt x="18827" y="7523"/>
                  <a:pt x="18802" y="7541"/>
                </a:cubicBezTo>
                <a:cubicBezTo>
                  <a:pt x="18770" y="7564"/>
                  <a:pt x="18759" y="7608"/>
                  <a:pt x="18728" y="7640"/>
                </a:cubicBezTo>
                <a:cubicBezTo>
                  <a:pt x="18688" y="7681"/>
                  <a:pt x="18644" y="7712"/>
                  <a:pt x="18604" y="7739"/>
                </a:cubicBezTo>
                <a:cubicBezTo>
                  <a:pt x="18591" y="7748"/>
                  <a:pt x="18535" y="7800"/>
                  <a:pt x="18529" y="7813"/>
                </a:cubicBezTo>
                <a:cubicBezTo>
                  <a:pt x="18529" y="7821"/>
                  <a:pt x="18529" y="7830"/>
                  <a:pt x="18529" y="78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Ink 7"/>
          <p:cNvSpPr/>
          <p:nvPr/>
        </p:nvSpPr>
        <p:spPr>
          <a:xfrm>
            <a:off x="5830920" y="1928880"/>
            <a:ext cx="679320" cy="3251160"/>
          </a:xfrm>
          <a:custGeom>
            <a:avLst/>
            <a:gdLst/>
            <a:ahLst/>
            <a:rect l="l" t="t" r="r" b="b"/>
            <a:pathLst>
              <a:path w="1887" h="9030">
                <a:moveTo>
                  <a:pt x="16793" y="5432"/>
                </a:moveTo>
                <a:cubicBezTo>
                  <a:pt x="16785" y="5402"/>
                  <a:pt x="16776" y="5388"/>
                  <a:pt x="16768" y="5358"/>
                </a:cubicBezTo>
                <a:cubicBezTo>
                  <a:pt x="16794" y="5367"/>
                  <a:pt x="16814" y="5376"/>
                  <a:pt x="16818" y="5407"/>
                </a:cubicBezTo>
                <a:cubicBezTo>
                  <a:pt x="16828" y="5484"/>
                  <a:pt x="16799" y="5539"/>
                  <a:pt x="16793" y="5606"/>
                </a:cubicBezTo>
                <a:cubicBezTo>
                  <a:pt x="16782" y="5727"/>
                  <a:pt x="16773" y="5857"/>
                  <a:pt x="16768" y="5978"/>
                </a:cubicBezTo>
                <a:cubicBezTo>
                  <a:pt x="16763" y="6085"/>
                  <a:pt x="16768" y="6193"/>
                  <a:pt x="16768" y="6300"/>
                </a:cubicBezTo>
              </a:path>
              <a:path w="1887" h="9030">
                <a:moveTo>
                  <a:pt x="16222" y="6747"/>
                </a:moveTo>
                <a:cubicBezTo>
                  <a:pt x="16197" y="6747"/>
                  <a:pt x="16189" y="6747"/>
                  <a:pt x="16197" y="6722"/>
                </a:cubicBezTo>
                <a:cubicBezTo>
                  <a:pt x="16210" y="6760"/>
                  <a:pt x="16227" y="6747"/>
                  <a:pt x="16272" y="6747"/>
                </a:cubicBezTo>
                <a:cubicBezTo>
                  <a:pt x="16317" y="6747"/>
                  <a:pt x="16330" y="6767"/>
                  <a:pt x="16371" y="6772"/>
                </a:cubicBezTo>
                <a:cubicBezTo>
                  <a:pt x="16424" y="6778"/>
                  <a:pt x="16468" y="6750"/>
                  <a:pt x="16520" y="6747"/>
                </a:cubicBezTo>
                <a:cubicBezTo>
                  <a:pt x="16585" y="6743"/>
                  <a:pt x="16622" y="6722"/>
                  <a:pt x="16694" y="6722"/>
                </a:cubicBezTo>
                <a:cubicBezTo>
                  <a:pt x="16765" y="6722"/>
                  <a:pt x="16803" y="6701"/>
                  <a:pt x="16867" y="6697"/>
                </a:cubicBezTo>
                <a:cubicBezTo>
                  <a:pt x="16971" y="6691"/>
                  <a:pt x="17076" y="6695"/>
                  <a:pt x="17165" y="6722"/>
                </a:cubicBezTo>
                <a:cubicBezTo>
                  <a:pt x="17173" y="6722"/>
                  <a:pt x="17182" y="6722"/>
                  <a:pt x="17190" y="6722"/>
                </a:cubicBezTo>
              </a:path>
              <a:path w="1887" h="9030">
                <a:moveTo>
                  <a:pt x="16545" y="7317"/>
                </a:moveTo>
                <a:cubicBezTo>
                  <a:pt x="16583" y="7290"/>
                  <a:pt x="16596" y="7293"/>
                  <a:pt x="16644" y="7293"/>
                </a:cubicBezTo>
                <a:cubicBezTo>
                  <a:pt x="16699" y="7293"/>
                  <a:pt x="16751" y="7281"/>
                  <a:pt x="16793" y="7317"/>
                </a:cubicBezTo>
                <a:cubicBezTo>
                  <a:pt x="16854" y="7370"/>
                  <a:pt x="16830" y="7361"/>
                  <a:pt x="16818" y="7417"/>
                </a:cubicBezTo>
                <a:cubicBezTo>
                  <a:pt x="16811" y="7449"/>
                  <a:pt x="16809" y="7512"/>
                  <a:pt x="16793" y="7541"/>
                </a:cubicBezTo>
                <a:cubicBezTo>
                  <a:pt x="16770" y="7563"/>
                  <a:pt x="16762" y="7568"/>
                  <a:pt x="16768" y="7590"/>
                </a:cubicBezTo>
                <a:cubicBezTo>
                  <a:pt x="16800" y="7597"/>
                  <a:pt x="16875" y="7606"/>
                  <a:pt x="16892" y="7640"/>
                </a:cubicBezTo>
                <a:cubicBezTo>
                  <a:pt x="16913" y="7682"/>
                  <a:pt x="16917" y="7710"/>
                  <a:pt x="16917" y="7764"/>
                </a:cubicBezTo>
                <a:cubicBezTo>
                  <a:pt x="16917" y="7812"/>
                  <a:pt x="16904" y="7878"/>
                  <a:pt x="16867" y="7913"/>
                </a:cubicBezTo>
                <a:cubicBezTo>
                  <a:pt x="16828" y="7950"/>
                  <a:pt x="16765" y="8017"/>
                  <a:pt x="16718" y="8037"/>
                </a:cubicBezTo>
                <a:cubicBezTo>
                  <a:pt x="16680" y="8053"/>
                  <a:pt x="16637" y="8062"/>
                  <a:pt x="16594" y="8062"/>
                </a:cubicBezTo>
                <a:cubicBezTo>
                  <a:pt x="16541" y="8062"/>
                  <a:pt x="16511" y="8002"/>
                  <a:pt x="16495" y="7962"/>
                </a:cubicBezTo>
              </a:path>
              <a:path w="1887" h="9030">
                <a:moveTo>
                  <a:pt x="17190" y="6077"/>
                </a:moveTo>
                <a:cubicBezTo>
                  <a:pt x="17190" y="6052"/>
                  <a:pt x="17190" y="6044"/>
                  <a:pt x="17165" y="6052"/>
                </a:cubicBezTo>
                <a:cubicBezTo>
                  <a:pt x="17165" y="6143"/>
                  <a:pt x="17165" y="6234"/>
                  <a:pt x="17165" y="6325"/>
                </a:cubicBezTo>
                <a:cubicBezTo>
                  <a:pt x="17165" y="6140"/>
                  <a:pt x="17167" y="5956"/>
                  <a:pt x="17190" y="5779"/>
                </a:cubicBezTo>
                <a:cubicBezTo>
                  <a:pt x="17196" y="5730"/>
                  <a:pt x="17193" y="5673"/>
                  <a:pt x="17214" y="5631"/>
                </a:cubicBezTo>
                <a:cubicBezTo>
                  <a:pt x="17244" y="5571"/>
                  <a:pt x="17294" y="5578"/>
                  <a:pt x="17338" y="5556"/>
                </a:cubicBezTo>
                <a:cubicBezTo>
                  <a:pt x="17408" y="5521"/>
                  <a:pt x="17461" y="5511"/>
                  <a:pt x="17537" y="5482"/>
                </a:cubicBezTo>
                <a:cubicBezTo>
                  <a:pt x="17617" y="5451"/>
                  <a:pt x="17702" y="5417"/>
                  <a:pt x="17785" y="5407"/>
                </a:cubicBezTo>
                <a:cubicBezTo>
                  <a:pt x="17883" y="5395"/>
                  <a:pt x="17983" y="5383"/>
                  <a:pt x="18083" y="5383"/>
                </a:cubicBezTo>
              </a:path>
              <a:path w="1887" h="9030">
                <a:moveTo>
                  <a:pt x="17413" y="5978"/>
                </a:moveTo>
                <a:cubicBezTo>
                  <a:pt x="17429" y="5929"/>
                  <a:pt x="17434" y="5947"/>
                  <a:pt x="17487" y="5928"/>
                </a:cubicBezTo>
                <a:cubicBezTo>
                  <a:pt x="17542" y="5908"/>
                  <a:pt x="17578" y="5904"/>
                  <a:pt x="17636" y="5904"/>
                </a:cubicBezTo>
                <a:cubicBezTo>
                  <a:pt x="17661" y="5904"/>
                  <a:pt x="17724" y="5910"/>
                  <a:pt x="17735" y="5928"/>
                </a:cubicBezTo>
                <a:cubicBezTo>
                  <a:pt x="17762" y="5970"/>
                  <a:pt x="17703" y="6002"/>
                  <a:pt x="17686" y="6028"/>
                </a:cubicBezTo>
                <a:cubicBezTo>
                  <a:pt x="17665" y="6060"/>
                  <a:pt x="17602" y="6123"/>
                  <a:pt x="17661" y="6152"/>
                </a:cubicBezTo>
                <a:cubicBezTo>
                  <a:pt x="17691" y="6167"/>
                  <a:pt x="17742" y="6185"/>
                  <a:pt x="17760" y="6226"/>
                </a:cubicBezTo>
                <a:cubicBezTo>
                  <a:pt x="17774" y="6257"/>
                  <a:pt x="17731" y="6328"/>
                  <a:pt x="17711" y="6350"/>
                </a:cubicBezTo>
                <a:cubicBezTo>
                  <a:pt x="17696" y="6367"/>
                  <a:pt x="17643" y="6444"/>
                  <a:pt x="17636" y="6449"/>
                </a:cubicBezTo>
                <a:cubicBezTo>
                  <a:pt x="17608" y="6449"/>
                  <a:pt x="17597" y="6451"/>
                  <a:pt x="17587" y="6474"/>
                </a:cubicBezTo>
              </a:path>
              <a:path w="1887" h="9030">
                <a:moveTo>
                  <a:pt x="16470" y="9178"/>
                </a:moveTo>
                <a:cubicBezTo>
                  <a:pt x="16470" y="9238"/>
                  <a:pt x="16486" y="9271"/>
                  <a:pt x="16495" y="9327"/>
                </a:cubicBezTo>
                <a:cubicBezTo>
                  <a:pt x="16508" y="9404"/>
                  <a:pt x="16512" y="9498"/>
                  <a:pt x="16520" y="9575"/>
                </a:cubicBezTo>
                <a:cubicBezTo>
                  <a:pt x="16520" y="9633"/>
                  <a:pt x="16520" y="9641"/>
                  <a:pt x="16520" y="9674"/>
                </a:cubicBezTo>
                <a:cubicBezTo>
                  <a:pt x="16546" y="9609"/>
                  <a:pt x="16524" y="9628"/>
                  <a:pt x="16520" y="9550"/>
                </a:cubicBezTo>
                <a:cubicBezTo>
                  <a:pt x="16516" y="9453"/>
                  <a:pt x="16541" y="9372"/>
                  <a:pt x="16545" y="9277"/>
                </a:cubicBezTo>
                <a:cubicBezTo>
                  <a:pt x="16549" y="9182"/>
                  <a:pt x="16570" y="9103"/>
                  <a:pt x="16570" y="9004"/>
                </a:cubicBezTo>
                <a:cubicBezTo>
                  <a:pt x="16570" y="8936"/>
                  <a:pt x="16585" y="8887"/>
                  <a:pt x="16594" y="8830"/>
                </a:cubicBezTo>
                <a:cubicBezTo>
                  <a:pt x="16594" y="8806"/>
                  <a:pt x="16594" y="8797"/>
                  <a:pt x="16594" y="8781"/>
                </a:cubicBezTo>
                <a:cubicBezTo>
                  <a:pt x="16795" y="8781"/>
                  <a:pt x="16997" y="8780"/>
                  <a:pt x="17190" y="8756"/>
                </a:cubicBezTo>
                <a:cubicBezTo>
                  <a:pt x="17286" y="8744"/>
                  <a:pt x="17392" y="8735"/>
                  <a:pt x="17487" y="8731"/>
                </a:cubicBezTo>
                <a:cubicBezTo>
                  <a:pt x="17545" y="8731"/>
                  <a:pt x="17554" y="8731"/>
                  <a:pt x="17587" y="8731"/>
                </a:cubicBezTo>
              </a:path>
              <a:path w="1887" h="9030">
                <a:moveTo>
                  <a:pt x="16867" y="9451"/>
                </a:moveTo>
                <a:cubicBezTo>
                  <a:pt x="16905" y="9423"/>
                  <a:pt x="16918" y="9426"/>
                  <a:pt x="16966" y="9426"/>
                </a:cubicBezTo>
                <a:cubicBezTo>
                  <a:pt x="17017" y="9426"/>
                  <a:pt x="17025" y="9415"/>
                  <a:pt x="17066" y="9401"/>
                </a:cubicBezTo>
                <a:cubicBezTo>
                  <a:pt x="17121" y="9382"/>
                  <a:pt x="17151" y="9413"/>
                  <a:pt x="17190" y="9426"/>
                </a:cubicBezTo>
                <a:cubicBezTo>
                  <a:pt x="17236" y="9442"/>
                  <a:pt x="17217" y="9489"/>
                  <a:pt x="17214" y="9500"/>
                </a:cubicBezTo>
                <a:cubicBezTo>
                  <a:pt x="17202" y="9541"/>
                  <a:pt x="17198" y="9564"/>
                  <a:pt x="17165" y="9575"/>
                </a:cubicBezTo>
                <a:cubicBezTo>
                  <a:pt x="17132" y="9558"/>
                  <a:pt x="17178" y="9537"/>
                  <a:pt x="17214" y="9525"/>
                </a:cubicBezTo>
                <a:cubicBezTo>
                  <a:pt x="17260" y="9509"/>
                  <a:pt x="17306" y="9519"/>
                  <a:pt x="17338" y="9525"/>
                </a:cubicBezTo>
                <a:cubicBezTo>
                  <a:pt x="17363" y="9525"/>
                  <a:pt x="17371" y="9525"/>
                  <a:pt x="17388" y="9525"/>
                </a:cubicBezTo>
                <a:cubicBezTo>
                  <a:pt x="17388" y="9583"/>
                  <a:pt x="17375" y="9595"/>
                  <a:pt x="17338" y="9624"/>
                </a:cubicBezTo>
                <a:cubicBezTo>
                  <a:pt x="17292" y="9660"/>
                  <a:pt x="17266" y="9702"/>
                  <a:pt x="17214" y="9723"/>
                </a:cubicBezTo>
              </a:path>
              <a:path w="1887" h="9030">
                <a:moveTo>
                  <a:pt x="16570" y="10120"/>
                </a:moveTo>
                <a:cubicBezTo>
                  <a:pt x="16511" y="10145"/>
                  <a:pt x="16472" y="10145"/>
                  <a:pt x="16545" y="10145"/>
                </a:cubicBezTo>
                <a:cubicBezTo>
                  <a:pt x="16608" y="10145"/>
                  <a:pt x="16637" y="10130"/>
                  <a:pt x="16694" y="10120"/>
                </a:cubicBezTo>
                <a:cubicBezTo>
                  <a:pt x="16758" y="10109"/>
                  <a:pt x="16829" y="10099"/>
                  <a:pt x="16892" y="10096"/>
                </a:cubicBezTo>
                <a:cubicBezTo>
                  <a:pt x="16971" y="10092"/>
                  <a:pt x="17031" y="10071"/>
                  <a:pt x="17115" y="10071"/>
                </a:cubicBezTo>
                <a:cubicBezTo>
                  <a:pt x="17205" y="10071"/>
                  <a:pt x="17273" y="10091"/>
                  <a:pt x="17363" y="10096"/>
                </a:cubicBezTo>
                <a:cubicBezTo>
                  <a:pt x="17396" y="10098"/>
                  <a:pt x="17429" y="10096"/>
                  <a:pt x="17462" y="10096"/>
                </a:cubicBezTo>
              </a:path>
              <a:path w="1887" h="9030">
                <a:moveTo>
                  <a:pt x="16892" y="10368"/>
                </a:moveTo>
                <a:cubicBezTo>
                  <a:pt x="16904" y="10404"/>
                  <a:pt x="16917" y="10409"/>
                  <a:pt x="16917" y="10468"/>
                </a:cubicBezTo>
                <a:cubicBezTo>
                  <a:pt x="16917" y="10542"/>
                  <a:pt x="16896" y="10596"/>
                  <a:pt x="16892" y="10666"/>
                </a:cubicBezTo>
                <a:cubicBezTo>
                  <a:pt x="16887" y="10751"/>
                  <a:pt x="16867" y="10824"/>
                  <a:pt x="16867" y="10914"/>
                </a:cubicBezTo>
                <a:cubicBezTo>
                  <a:pt x="16867" y="10972"/>
                  <a:pt x="16867" y="10997"/>
                  <a:pt x="16867" y="11038"/>
                </a:cubicBezTo>
              </a:path>
              <a:path w="1887" h="9030">
                <a:moveTo>
                  <a:pt x="17314" y="11509"/>
                </a:moveTo>
                <a:cubicBezTo>
                  <a:pt x="17306" y="11507"/>
                  <a:pt x="17283" y="11476"/>
                  <a:pt x="17239" y="11485"/>
                </a:cubicBezTo>
                <a:cubicBezTo>
                  <a:pt x="17205" y="11492"/>
                  <a:pt x="17166" y="11534"/>
                  <a:pt x="17140" y="11559"/>
                </a:cubicBezTo>
                <a:cubicBezTo>
                  <a:pt x="17084" y="11612"/>
                  <a:pt x="17044" y="11673"/>
                  <a:pt x="16991" y="11733"/>
                </a:cubicBezTo>
                <a:cubicBezTo>
                  <a:pt x="16930" y="11803"/>
                  <a:pt x="16854" y="11872"/>
                  <a:pt x="16818" y="11956"/>
                </a:cubicBezTo>
                <a:cubicBezTo>
                  <a:pt x="16783" y="12036"/>
                  <a:pt x="16743" y="12111"/>
                  <a:pt x="16818" y="12179"/>
                </a:cubicBezTo>
                <a:cubicBezTo>
                  <a:pt x="16856" y="12213"/>
                  <a:pt x="16962" y="12241"/>
                  <a:pt x="17016" y="12254"/>
                </a:cubicBezTo>
                <a:cubicBezTo>
                  <a:pt x="17101" y="12274"/>
                  <a:pt x="17203" y="12293"/>
                  <a:pt x="17289" y="12303"/>
                </a:cubicBezTo>
                <a:cubicBezTo>
                  <a:pt x="17379" y="12313"/>
                  <a:pt x="17482" y="12350"/>
                  <a:pt x="17562" y="12402"/>
                </a:cubicBezTo>
                <a:cubicBezTo>
                  <a:pt x="17657" y="12463"/>
                  <a:pt x="17719" y="12644"/>
                  <a:pt x="17711" y="12750"/>
                </a:cubicBezTo>
                <a:cubicBezTo>
                  <a:pt x="17703" y="12852"/>
                  <a:pt x="17639" y="13011"/>
                  <a:pt x="17587" y="13097"/>
                </a:cubicBezTo>
                <a:cubicBezTo>
                  <a:pt x="17474" y="13283"/>
                  <a:pt x="17335" y="13463"/>
                  <a:pt x="17214" y="13643"/>
                </a:cubicBezTo>
                <a:cubicBezTo>
                  <a:pt x="17055" y="13880"/>
                  <a:pt x="16984" y="14068"/>
                  <a:pt x="16867" y="14312"/>
                </a:cubicBezTo>
                <a:cubicBezTo>
                  <a:pt x="16845" y="14356"/>
                  <a:pt x="16842" y="14367"/>
                  <a:pt x="16818" y="143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Ink 8"/>
          <p:cNvSpPr/>
          <p:nvPr/>
        </p:nvSpPr>
        <p:spPr>
          <a:xfrm>
            <a:off x="615960" y="1803240"/>
            <a:ext cx="196920" cy="482760"/>
          </a:xfrm>
          <a:custGeom>
            <a:avLst/>
            <a:gdLst/>
            <a:ahLst/>
            <a:rect l="l" t="t" r="r" b="b"/>
            <a:pathLst>
              <a:path w="546" h="1340">
                <a:moveTo>
                  <a:pt x="1736" y="5011"/>
                </a:moveTo>
                <a:cubicBezTo>
                  <a:pt x="1736" y="5107"/>
                  <a:pt x="1723" y="5188"/>
                  <a:pt x="1712" y="5283"/>
                </a:cubicBezTo>
                <a:cubicBezTo>
                  <a:pt x="1681" y="5540"/>
                  <a:pt x="1637" y="6118"/>
                  <a:pt x="1736" y="6325"/>
                </a:cubicBezTo>
                <a:cubicBezTo>
                  <a:pt x="1736" y="6333"/>
                  <a:pt x="1736" y="6342"/>
                  <a:pt x="1736" y="6350"/>
                </a:cubicBezTo>
              </a:path>
              <a:path w="546" h="1340">
                <a:moveTo>
                  <a:pt x="2208" y="6251"/>
                </a:moveTo>
                <a:cubicBezTo>
                  <a:pt x="2181" y="6286"/>
                  <a:pt x="2183" y="6281"/>
                  <a:pt x="2183" y="6325"/>
                </a:cubicBezTo>
                <a:cubicBezTo>
                  <a:pt x="2187" y="6324"/>
                  <a:pt x="2254" y="6304"/>
                  <a:pt x="2257" y="6300"/>
                </a:cubicBezTo>
                <a:cubicBezTo>
                  <a:pt x="2257" y="6276"/>
                  <a:pt x="2257" y="6267"/>
                  <a:pt x="2257" y="6251"/>
                </a:cubicBezTo>
                <a:cubicBezTo>
                  <a:pt x="2230" y="6260"/>
                  <a:pt x="2212" y="6269"/>
                  <a:pt x="2208" y="6300"/>
                </a:cubicBezTo>
                <a:cubicBezTo>
                  <a:pt x="2208" y="6308"/>
                  <a:pt x="2208" y="6317"/>
                  <a:pt x="2208" y="63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Ink 9"/>
          <p:cNvSpPr/>
          <p:nvPr/>
        </p:nvSpPr>
        <p:spPr>
          <a:xfrm>
            <a:off x="1411200" y="1946160"/>
            <a:ext cx="830520" cy="455760"/>
          </a:xfrm>
          <a:custGeom>
            <a:avLst/>
            <a:gdLst/>
            <a:ahLst/>
            <a:rect l="l" t="t" r="r" b="b"/>
            <a:pathLst>
              <a:path w="2308" h="1266">
                <a:moveTo>
                  <a:pt x="4887" y="5507"/>
                </a:moveTo>
                <a:cubicBezTo>
                  <a:pt x="4864" y="5496"/>
                  <a:pt x="4850" y="5464"/>
                  <a:pt x="4787" y="5482"/>
                </a:cubicBezTo>
                <a:cubicBezTo>
                  <a:pt x="4697" y="5507"/>
                  <a:pt x="4607" y="5525"/>
                  <a:pt x="4514" y="5556"/>
                </a:cubicBezTo>
                <a:cubicBezTo>
                  <a:pt x="4402" y="5593"/>
                  <a:pt x="4268" y="5646"/>
                  <a:pt x="4167" y="5705"/>
                </a:cubicBezTo>
                <a:cubicBezTo>
                  <a:pt x="4128" y="5728"/>
                  <a:pt x="4122" y="5778"/>
                  <a:pt x="4142" y="5804"/>
                </a:cubicBezTo>
                <a:cubicBezTo>
                  <a:pt x="4181" y="5854"/>
                  <a:pt x="4236" y="5877"/>
                  <a:pt x="4291" y="5904"/>
                </a:cubicBezTo>
                <a:cubicBezTo>
                  <a:pt x="4336" y="5926"/>
                  <a:pt x="4432" y="5968"/>
                  <a:pt x="4465" y="6003"/>
                </a:cubicBezTo>
                <a:cubicBezTo>
                  <a:pt x="4493" y="6033"/>
                  <a:pt x="4541" y="6110"/>
                  <a:pt x="4539" y="6152"/>
                </a:cubicBezTo>
                <a:cubicBezTo>
                  <a:pt x="4535" y="6220"/>
                  <a:pt x="4410" y="6306"/>
                  <a:pt x="4366" y="6350"/>
                </a:cubicBezTo>
                <a:cubicBezTo>
                  <a:pt x="4267" y="6448"/>
                  <a:pt x="4138" y="6526"/>
                  <a:pt x="4018" y="6598"/>
                </a:cubicBezTo>
                <a:cubicBezTo>
                  <a:pt x="3977" y="6622"/>
                  <a:pt x="3940" y="6652"/>
                  <a:pt x="3919" y="6672"/>
                </a:cubicBezTo>
              </a:path>
              <a:path w="2308" h="1266">
                <a:moveTo>
                  <a:pt x="5159" y="5854"/>
                </a:moveTo>
                <a:cubicBezTo>
                  <a:pt x="5136" y="5949"/>
                  <a:pt x="5114" y="6033"/>
                  <a:pt x="5085" y="6127"/>
                </a:cubicBezTo>
                <a:cubicBezTo>
                  <a:pt x="5053" y="6228"/>
                  <a:pt x="5005" y="6345"/>
                  <a:pt x="4986" y="6449"/>
                </a:cubicBezTo>
                <a:cubicBezTo>
                  <a:pt x="4975" y="6508"/>
                  <a:pt x="5007" y="6509"/>
                  <a:pt x="4961" y="6524"/>
                </a:cubicBezTo>
              </a:path>
              <a:path w="2308" h="1266">
                <a:moveTo>
                  <a:pt x="5234" y="5432"/>
                </a:moveTo>
                <a:cubicBezTo>
                  <a:pt x="5199" y="5397"/>
                  <a:pt x="5212" y="5419"/>
                  <a:pt x="5184" y="5457"/>
                </a:cubicBezTo>
              </a:path>
              <a:path w="2308" h="1266">
                <a:moveTo>
                  <a:pt x="5507" y="5705"/>
                </a:moveTo>
                <a:cubicBezTo>
                  <a:pt x="5560" y="5813"/>
                  <a:pt x="5556" y="5880"/>
                  <a:pt x="5556" y="6003"/>
                </a:cubicBezTo>
                <a:cubicBezTo>
                  <a:pt x="5556" y="6123"/>
                  <a:pt x="5523" y="6237"/>
                  <a:pt x="5507" y="6350"/>
                </a:cubicBezTo>
                <a:cubicBezTo>
                  <a:pt x="5499" y="6406"/>
                  <a:pt x="5456" y="6482"/>
                  <a:pt x="5507" y="6499"/>
                </a:cubicBezTo>
                <a:cubicBezTo>
                  <a:pt x="5519" y="6439"/>
                  <a:pt x="5535" y="6383"/>
                  <a:pt x="5556" y="6325"/>
                </a:cubicBezTo>
                <a:cubicBezTo>
                  <a:pt x="5595" y="6213"/>
                  <a:pt x="5614" y="6090"/>
                  <a:pt x="5705" y="6003"/>
                </a:cubicBezTo>
                <a:cubicBezTo>
                  <a:pt x="5782" y="5929"/>
                  <a:pt x="5863" y="5840"/>
                  <a:pt x="5953" y="5779"/>
                </a:cubicBezTo>
                <a:cubicBezTo>
                  <a:pt x="6015" y="5737"/>
                  <a:pt x="6093" y="5708"/>
                  <a:pt x="6152" y="5755"/>
                </a:cubicBezTo>
                <a:cubicBezTo>
                  <a:pt x="6216" y="5806"/>
                  <a:pt x="6201" y="5881"/>
                  <a:pt x="6201" y="5953"/>
                </a:cubicBezTo>
                <a:cubicBezTo>
                  <a:pt x="6201" y="6055"/>
                  <a:pt x="6163" y="6179"/>
                  <a:pt x="6176" y="6276"/>
                </a:cubicBezTo>
                <a:cubicBezTo>
                  <a:pt x="6185" y="6346"/>
                  <a:pt x="6202" y="6410"/>
                  <a:pt x="6226" y="64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Ink 10"/>
          <p:cNvSpPr/>
          <p:nvPr/>
        </p:nvSpPr>
        <p:spPr>
          <a:xfrm>
            <a:off x="3106800" y="1847880"/>
            <a:ext cx="1314360" cy="804960"/>
          </a:xfrm>
          <a:custGeom>
            <a:avLst/>
            <a:gdLst/>
            <a:ahLst/>
            <a:rect l="l" t="t" r="r" b="b"/>
            <a:pathLst>
              <a:path w="3647" h="2233">
                <a:moveTo>
                  <a:pt x="9302" y="5358"/>
                </a:moveTo>
                <a:cubicBezTo>
                  <a:pt x="9277" y="5358"/>
                  <a:pt x="9269" y="5358"/>
                  <a:pt x="9277" y="5333"/>
                </a:cubicBezTo>
                <a:cubicBezTo>
                  <a:pt x="9253" y="5353"/>
                  <a:pt x="9236" y="5351"/>
                  <a:pt x="9203" y="5383"/>
                </a:cubicBezTo>
                <a:cubicBezTo>
                  <a:pt x="9107" y="5478"/>
                  <a:pt x="9029" y="5593"/>
                  <a:pt x="8954" y="5705"/>
                </a:cubicBezTo>
                <a:cubicBezTo>
                  <a:pt x="8872" y="5828"/>
                  <a:pt x="8805" y="5949"/>
                  <a:pt x="8731" y="6077"/>
                </a:cubicBezTo>
                <a:cubicBezTo>
                  <a:pt x="8673" y="6178"/>
                  <a:pt x="8645" y="6285"/>
                  <a:pt x="8632" y="6400"/>
                </a:cubicBezTo>
                <a:cubicBezTo>
                  <a:pt x="8620" y="6511"/>
                  <a:pt x="8661" y="6558"/>
                  <a:pt x="8731" y="6623"/>
                </a:cubicBezTo>
                <a:cubicBezTo>
                  <a:pt x="8787" y="6676"/>
                  <a:pt x="8831" y="6672"/>
                  <a:pt x="8905" y="6672"/>
                </a:cubicBezTo>
                <a:cubicBezTo>
                  <a:pt x="8966" y="6672"/>
                  <a:pt x="9000" y="6650"/>
                  <a:pt x="9054" y="6623"/>
                </a:cubicBezTo>
              </a:path>
              <a:path w="3647" h="2233">
                <a:moveTo>
                  <a:pt x="9847" y="5730"/>
                </a:moveTo>
                <a:cubicBezTo>
                  <a:pt x="9795" y="5730"/>
                  <a:pt x="9785" y="5742"/>
                  <a:pt x="9748" y="5779"/>
                </a:cubicBezTo>
                <a:cubicBezTo>
                  <a:pt x="9659" y="5868"/>
                  <a:pt x="9593" y="5948"/>
                  <a:pt x="9525" y="6052"/>
                </a:cubicBezTo>
                <a:cubicBezTo>
                  <a:pt x="9464" y="6144"/>
                  <a:pt x="9407" y="6212"/>
                  <a:pt x="9401" y="6325"/>
                </a:cubicBezTo>
                <a:cubicBezTo>
                  <a:pt x="9398" y="6381"/>
                  <a:pt x="9394" y="6407"/>
                  <a:pt x="9426" y="6449"/>
                </a:cubicBezTo>
                <a:cubicBezTo>
                  <a:pt x="9484" y="6449"/>
                  <a:pt x="9522" y="6426"/>
                  <a:pt x="9575" y="6400"/>
                </a:cubicBezTo>
                <a:cubicBezTo>
                  <a:pt x="9630" y="6372"/>
                  <a:pt x="9740" y="6306"/>
                  <a:pt x="9773" y="6251"/>
                </a:cubicBezTo>
                <a:cubicBezTo>
                  <a:pt x="9815" y="6181"/>
                  <a:pt x="9938" y="6027"/>
                  <a:pt x="9897" y="5953"/>
                </a:cubicBezTo>
                <a:cubicBezTo>
                  <a:pt x="9855" y="5878"/>
                  <a:pt x="9815" y="5915"/>
                  <a:pt x="9748" y="5928"/>
                </a:cubicBezTo>
                <a:cubicBezTo>
                  <a:pt x="9723" y="5928"/>
                  <a:pt x="9715" y="5928"/>
                  <a:pt x="9699" y="5928"/>
                </a:cubicBezTo>
              </a:path>
              <a:path w="3647" h="2233">
                <a:moveTo>
                  <a:pt x="10592" y="5655"/>
                </a:moveTo>
                <a:cubicBezTo>
                  <a:pt x="10608" y="5663"/>
                  <a:pt x="10625" y="5672"/>
                  <a:pt x="10641" y="5680"/>
                </a:cubicBezTo>
                <a:cubicBezTo>
                  <a:pt x="10585" y="5737"/>
                  <a:pt x="10531" y="5737"/>
                  <a:pt x="10468" y="5779"/>
                </a:cubicBezTo>
                <a:cubicBezTo>
                  <a:pt x="10413" y="5816"/>
                  <a:pt x="10344" y="5860"/>
                  <a:pt x="10294" y="5904"/>
                </a:cubicBezTo>
                <a:cubicBezTo>
                  <a:pt x="10286" y="5912"/>
                  <a:pt x="10277" y="5920"/>
                  <a:pt x="10269" y="5928"/>
                </a:cubicBezTo>
                <a:cubicBezTo>
                  <a:pt x="10289" y="5967"/>
                  <a:pt x="10347" y="6001"/>
                  <a:pt x="10393" y="6028"/>
                </a:cubicBezTo>
                <a:cubicBezTo>
                  <a:pt x="10458" y="6066"/>
                  <a:pt x="10508" y="6122"/>
                  <a:pt x="10567" y="6176"/>
                </a:cubicBezTo>
                <a:cubicBezTo>
                  <a:pt x="10598" y="6205"/>
                  <a:pt x="10632" y="6255"/>
                  <a:pt x="10616" y="6300"/>
                </a:cubicBezTo>
                <a:cubicBezTo>
                  <a:pt x="10591" y="6372"/>
                  <a:pt x="10520" y="6422"/>
                  <a:pt x="10468" y="6474"/>
                </a:cubicBezTo>
                <a:cubicBezTo>
                  <a:pt x="10393" y="6549"/>
                  <a:pt x="10304" y="6586"/>
                  <a:pt x="10220" y="6648"/>
                </a:cubicBezTo>
                <a:cubicBezTo>
                  <a:pt x="10212" y="6656"/>
                  <a:pt x="10203" y="6664"/>
                  <a:pt x="10195" y="6672"/>
                </a:cubicBezTo>
              </a:path>
              <a:path w="3647" h="2233">
                <a:moveTo>
                  <a:pt x="11881" y="5135"/>
                </a:moveTo>
                <a:cubicBezTo>
                  <a:pt x="11892" y="5167"/>
                  <a:pt x="11891" y="5168"/>
                  <a:pt x="11906" y="5209"/>
                </a:cubicBezTo>
                <a:cubicBezTo>
                  <a:pt x="11937" y="5295"/>
                  <a:pt x="11917" y="5296"/>
                  <a:pt x="11906" y="5383"/>
                </a:cubicBezTo>
                <a:cubicBezTo>
                  <a:pt x="11895" y="5467"/>
                  <a:pt x="11901" y="5549"/>
                  <a:pt x="11881" y="5631"/>
                </a:cubicBezTo>
                <a:cubicBezTo>
                  <a:pt x="11861" y="5712"/>
                  <a:pt x="11837" y="5818"/>
                  <a:pt x="11857" y="5904"/>
                </a:cubicBezTo>
                <a:cubicBezTo>
                  <a:pt x="11872" y="5970"/>
                  <a:pt x="11910" y="6055"/>
                  <a:pt x="11881" y="6127"/>
                </a:cubicBezTo>
                <a:cubicBezTo>
                  <a:pt x="11873" y="6135"/>
                  <a:pt x="11865" y="6144"/>
                  <a:pt x="11857" y="6152"/>
                </a:cubicBezTo>
              </a:path>
              <a:path w="3647" h="2233">
                <a:moveTo>
                  <a:pt x="11187" y="6499"/>
                </a:moveTo>
                <a:cubicBezTo>
                  <a:pt x="11268" y="6466"/>
                  <a:pt x="11298" y="6449"/>
                  <a:pt x="11385" y="6449"/>
                </a:cubicBezTo>
                <a:cubicBezTo>
                  <a:pt x="11456" y="6449"/>
                  <a:pt x="11496" y="6442"/>
                  <a:pt x="11559" y="6449"/>
                </a:cubicBezTo>
                <a:cubicBezTo>
                  <a:pt x="11630" y="6457"/>
                  <a:pt x="11697" y="6462"/>
                  <a:pt x="11757" y="6474"/>
                </a:cubicBezTo>
                <a:cubicBezTo>
                  <a:pt x="11849" y="6493"/>
                  <a:pt x="11940" y="6476"/>
                  <a:pt x="12030" y="6499"/>
                </a:cubicBezTo>
                <a:cubicBezTo>
                  <a:pt x="12055" y="6499"/>
                  <a:pt x="12063" y="6499"/>
                  <a:pt x="12080" y="6499"/>
                </a:cubicBezTo>
              </a:path>
              <a:path w="3647" h="2233">
                <a:moveTo>
                  <a:pt x="11559" y="6772"/>
                </a:moveTo>
                <a:cubicBezTo>
                  <a:pt x="11559" y="6737"/>
                  <a:pt x="11566" y="6711"/>
                  <a:pt x="11584" y="6697"/>
                </a:cubicBezTo>
                <a:cubicBezTo>
                  <a:pt x="11619" y="6671"/>
                  <a:pt x="11716" y="6617"/>
                  <a:pt x="11757" y="6623"/>
                </a:cubicBezTo>
                <a:cubicBezTo>
                  <a:pt x="11781" y="6627"/>
                  <a:pt x="11872" y="6664"/>
                  <a:pt x="11881" y="6697"/>
                </a:cubicBezTo>
                <a:cubicBezTo>
                  <a:pt x="11907" y="6789"/>
                  <a:pt x="11868" y="6906"/>
                  <a:pt x="11857" y="6995"/>
                </a:cubicBezTo>
                <a:cubicBezTo>
                  <a:pt x="11849" y="7064"/>
                  <a:pt x="11832" y="7116"/>
                  <a:pt x="11782" y="7169"/>
                </a:cubicBezTo>
                <a:cubicBezTo>
                  <a:pt x="11732" y="7223"/>
                  <a:pt x="11707" y="7293"/>
                  <a:pt x="11633" y="7317"/>
                </a:cubicBezTo>
                <a:cubicBezTo>
                  <a:pt x="11584" y="7333"/>
                  <a:pt x="11579" y="7356"/>
                  <a:pt x="11534" y="7317"/>
                </a:cubicBezTo>
                <a:cubicBezTo>
                  <a:pt x="11507" y="7293"/>
                  <a:pt x="11463" y="7233"/>
                  <a:pt x="11485" y="7193"/>
                </a:cubicBezTo>
                <a:cubicBezTo>
                  <a:pt x="11503" y="7160"/>
                  <a:pt x="11522" y="7131"/>
                  <a:pt x="11559" y="7119"/>
                </a:cubicBezTo>
                <a:cubicBezTo>
                  <a:pt x="11615" y="7100"/>
                  <a:pt x="11666" y="7135"/>
                  <a:pt x="11708" y="7144"/>
                </a:cubicBezTo>
                <a:cubicBezTo>
                  <a:pt x="11774" y="7158"/>
                  <a:pt x="11794" y="7184"/>
                  <a:pt x="11857" y="7218"/>
                </a:cubicBezTo>
                <a:cubicBezTo>
                  <a:pt x="11922" y="7252"/>
                  <a:pt x="11964" y="7264"/>
                  <a:pt x="12030" y="7293"/>
                </a:cubicBezTo>
                <a:cubicBezTo>
                  <a:pt x="12098" y="7323"/>
                  <a:pt x="12180" y="7348"/>
                  <a:pt x="12254" y="7367"/>
                </a:cubicBezTo>
                <a:cubicBezTo>
                  <a:pt x="12262" y="7367"/>
                  <a:pt x="12270" y="7367"/>
                  <a:pt x="12278" y="73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Ink 11"/>
          <p:cNvSpPr/>
          <p:nvPr/>
        </p:nvSpPr>
        <p:spPr>
          <a:xfrm>
            <a:off x="4991040" y="1830240"/>
            <a:ext cx="920880" cy="509760"/>
          </a:xfrm>
          <a:custGeom>
            <a:avLst/>
            <a:gdLst/>
            <a:ahLst/>
            <a:rect l="l" t="t" r="r" b="b"/>
            <a:pathLst>
              <a:path w="2556" h="1415">
                <a:moveTo>
                  <a:pt x="14238" y="5085"/>
                </a:moveTo>
                <a:cubicBezTo>
                  <a:pt x="14261" y="5115"/>
                  <a:pt x="14283" y="5177"/>
                  <a:pt x="14288" y="5209"/>
                </a:cubicBezTo>
                <a:cubicBezTo>
                  <a:pt x="14327" y="5468"/>
                  <a:pt x="14290" y="5774"/>
                  <a:pt x="14263" y="6028"/>
                </a:cubicBezTo>
                <a:cubicBezTo>
                  <a:pt x="14246" y="6187"/>
                  <a:pt x="14266" y="6339"/>
                  <a:pt x="14238" y="6499"/>
                </a:cubicBezTo>
              </a:path>
              <a:path w="2556" h="1415">
                <a:moveTo>
                  <a:pt x="13866" y="5953"/>
                </a:moveTo>
                <a:cubicBezTo>
                  <a:pt x="13936" y="5953"/>
                  <a:pt x="13979" y="5948"/>
                  <a:pt x="14039" y="5928"/>
                </a:cubicBezTo>
                <a:cubicBezTo>
                  <a:pt x="14107" y="5905"/>
                  <a:pt x="14171" y="5897"/>
                  <a:pt x="14238" y="5879"/>
                </a:cubicBezTo>
                <a:cubicBezTo>
                  <a:pt x="14351" y="5849"/>
                  <a:pt x="14467" y="5834"/>
                  <a:pt x="14585" y="5829"/>
                </a:cubicBezTo>
                <a:cubicBezTo>
                  <a:pt x="14637" y="5829"/>
                  <a:pt x="14655" y="5828"/>
                  <a:pt x="14684" y="5804"/>
                </a:cubicBezTo>
              </a:path>
              <a:path w="2556" h="1415">
                <a:moveTo>
                  <a:pt x="15205" y="5854"/>
                </a:moveTo>
                <a:cubicBezTo>
                  <a:pt x="15161" y="5825"/>
                  <a:pt x="15173" y="5853"/>
                  <a:pt x="15131" y="5904"/>
                </a:cubicBezTo>
                <a:cubicBezTo>
                  <a:pt x="15082" y="5963"/>
                  <a:pt x="15047" y="6024"/>
                  <a:pt x="15032" y="6102"/>
                </a:cubicBezTo>
                <a:cubicBezTo>
                  <a:pt x="15016" y="6184"/>
                  <a:pt x="15012" y="6199"/>
                  <a:pt x="15032" y="6276"/>
                </a:cubicBezTo>
                <a:cubicBezTo>
                  <a:pt x="15032" y="6304"/>
                  <a:pt x="15034" y="6314"/>
                  <a:pt x="15056" y="6325"/>
                </a:cubicBezTo>
                <a:cubicBezTo>
                  <a:pt x="15085" y="6318"/>
                  <a:pt x="15137" y="6304"/>
                  <a:pt x="15156" y="6276"/>
                </a:cubicBezTo>
                <a:cubicBezTo>
                  <a:pt x="15191" y="6224"/>
                  <a:pt x="15190" y="6158"/>
                  <a:pt x="15205" y="6102"/>
                </a:cubicBezTo>
                <a:cubicBezTo>
                  <a:pt x="15224" y="6028"/>
                  <a:pt x="15264" y="5972"/>
                  <a:pt x="15280" y="5904"/>
                </a:cubicBezTo>
                <a:cubicBezTo>
                  <a:pt x="15293" y="5849"/>
                  <a:pt x="15276" y="5828"/>
                  <a:pt x="15304" y="5779"/>
                </a:cubicBezTo>
                <a:cubicBezTo>
                  <a:pt x="15316" y="5829"/>
                  <a:pt x="15338" y="5874"/>
                  <a:pt x="15354" y="5928"/>
                </a:cubicBezTo>
                <a:cubicBezTo>
                  <a:pt x="15371" y="5988"/>
                  <a:pt x="15378" y="6097"/>
                  <a:pt x="15404" y="6152"/>
                </a:cubicBezTo>
                <a:cubicBezTo>
                  <a:pt x="15409" y="6162"/>
                  <a:pt x="15450" y="6249"/>
                  <a:pt x="15453" y="6251"/>
                </a:cubicBezTo>
                <a:cubicBezTo>
                  <a:pt x="15461" y="6251"/>
                  <a:pt x="15470" y="6251"/>
                  <a:pt x="15478" y="6251"/>
                </a:cubicBezTo>
              </a:path>
              <a:path w="2556" h="1415">
                <a:moveTo>
                  <a:pt x="15801" y="5829"/>
                </a:moveTo>
                <a:cubicBezTo>
                  <a:pt x="15835" y="5876"/>
                  <a:pt x="15825" y="5917"/>
                  <a:pt x="15825" y="5978"/>
                </a:cubicBezTo>
                <a:cubicBezTo>
                  <a:pt x="15825" y="6085"/>
                  <a:pt x="15825" y="6193"/>
                  <a:pt x="15825" y="6300"/>
                </a:cubicBezTo>
                <a:cubicBezTo>
                  <a:pt x="15839" y="6245"/>
                  <a:pt x="15856" y="6190"/>
                  <a:pt x="15875" y="6127"/>
                </a:cubicBezTo>
                <a:cubicBezTo>
                  <a:pt x="15906" y="6025"/>
                  <a:pt x="15966" y="5873"/>
                  <a:pt x="16049" y="5804"/>
                </a:cubicBezTo>
                <a:cubicBezTo>
                  <a:pt x="16080" y="5778"/>
                  <a:pt x="16181" y="5716"/>
                  <a:pt x="16222" y="5730"/>
                </a:cubicBezTo>
                <a:cubicBezTo>
                  <a:pt x="16285" y="5751"/>
                  <a:pt x="16285" y="5832"/>
                  <a:pt x="16297" y="5879"/>
                </a:cubicBezTo>
                <a:cubicBezTo>
                  <a:pt x="16320" y="5970"/>
                  <a:pt x="16360" y="6063"/>
                  <a:pt x="16371" y="6152"/>
                </a:cubicBezTo>
                <a:cubicBezTo>
                  <a:pt x="16381" y="6234"/>
                  <a:pt x="16392" y="6298"/>
                  <a:pt x="16421" y="63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Ink 12"/>
          <p:cNvSpPr/>
          <p:nvPr/>
        </p:nvSpPr>
        <p:spPr>
          <a:xfrm>
            <a:off x="5000760" y="3098880"/>
            <a:ext cx="750600" cy="561960"/>
          </a:xfrm>
          <a:custGeom>
            <a:avLst/>
            <a:gdLst/>
            <a:ahLst/>
            <a:rect l="l" t="t" r="r" b="b"/>
            <a:pathLst>
              <a:path w="2084" h="1564">
                <a:moveTo>
                  <a:pt x="14610" y="8979"/>
                </a:moveTo>
                <a:cubicBezTo>
                  <a:pt x="14563" y="8942"/>
                  <a:pt x="14525" y="8917"/>
                  <a:pt x="14461" y="8930"/>
                </a:cubicBezTo>
                <a:cubicBezTo>
                  <a:pt x="14392" y="8944"/>
                  <a:pt x="14339" y="8981"/>
                  <a:pt x="14288" y="9029"/>
                </a:cubicBezTo>
                <a:cubicBezTo>
                  <a:pt x="14216" y="9097"/>
                  <a:pt x="14164" y="9141"/>
                  <a:pt x="14114" y="9227"/>
                </a:cubicBezTo>
                <a:cubicBezTo>
                  <a:pt x="14051" y="9335"/>
                  <a:pt x="13977" y="9428"/>
                  <a:pt x="13940" y="9550"/>
                </a:cubicBezTo>
                <a:cubicBezTo>
                  <a:pt x="13909" y="9651"/>
                  <a:pt x="13872" y="9764"/>
                  <a:pt x="13891" y="9872"/>
                </a:cubicBezTo>
                <a:cubicBezTo>
                  <a:pt x="13907" y="9961"/>
                  <a:pt x="13940" y="10006"/>
                  <a:pt x="14015" y="10046"/>
                </a:cubicBezTo>
                <a:cubicBezTo>
                  <a:pt x="14063" y="10070"/>
                  <a:pt x="14077" y="10079"/>
                  <a:pt x="14114" y="10071"/>
                </a:cubicBezTo>
              </a:path>
              <a:path w="2084" h="1564">
                <a:moveTo>
                  <a:pt x="15180" y="9302"/>
                </a:moveTo>
                <a:cubicBezTo>
                  <a:pt x="15188" y="9277"/>
                  <a:pt x="15197" y="9252"/>
                  <a:pt x="15205" y="9227"/>
                </a:cubicBezTo>
                <a:cubicBezTo>
                  <a:pt x="15143" y="9243"/>
                  <a:pt x="15121" y="9279"/>
                  <a:pt x="15081" y="9327"/>
                </a:cubicBezTo>
                <a:cubicBezTo>
                  <a:pt x="15024" y="9394"/>
                  <a:pt x="14989" y="9441"/>
                  <a:pt x="14957" y="9525"/>
                </a:cubicBezTo>
                <a:cubicBezTo>
                  <a:pt x="14923" y="9615"/>
                  <a:pt x="14932" y="9703"/>
                  <a:pt x="14932" y="9798"/>
                </a:cubicBezTo>
                <a:cubicBezTo>
                  <a:pt x="14932" y="9825"/>
                  <a:pt x="14970" y="9888"/>
                  <a:pt x="15007" y="9872"/>
                </a:cubicBezTo>
                <a:cubicBezTo>
                  <a:pt x="15054" y="9851"/>
                  <a:pt x="15079" y="9784"/>
                  <a:pt x="15106" y="9748"/>
                </a:cubicBezTo>
                <a:cubicBezTo>
                  <a:pt x="15154" y="9684"/>
                  <a:pt x="15176" y="9632"/>
                  <a:pt x="15180" y="9550"/>
                </a:cubicBezTo>
                <a:cubicBezTo>
                  <a:pt x="15183" y="9482"/>
                  <a:pt x="15180" y="9261"/>
                  <a:pt x="15180" y="9277"/>
                </a:cubicBezTo>
              </a:path>
              <a:path w="2084" h="1564">
                <a:moveTo>
                  <a:pt x="15726" y="8607"/>
                </a:moveTo>
                <a:cubicBezTo>
                  <a:pt x="15756" y="8657"/>
                  <a:pt x="15751" y="8694"/>
                  <a:pt x="15751" y="8756"/>
                </a:cubicBezTo>
                <a:cubicBezTo>
                  <a:pt x="15751" y="9160"/>
                  <a:pt x="15769" y="9573"/>
                  <a:pt x="15726" y="9971"/>
                </a:cubicBezTo>
                <a:cubicBezTo>
                  <a:pt x="15719" y="10035"/>
                  <a:pt x="15726" y="10105"/>
                  <a:pt x="15726" y="10170"/>
                </a:cubicBezTo>
              </a:path>
              <a:path w="2084" h="1564">
                <a:moveTo>
                  <a:pt x="15528" y="9351"/>
                </a:moveTo>
                <a:cubicBezTo>
                  <a:pt x="15595" y="9351"/>
                  <a:pt x="15634" y="9340"/>
                  <a:pt x="15701" y="9327"/>
                </a:cubicBezTo>
                <a:cubicBezTo>
                  <a:pt x="15773" y="9313"/>
                  <a:pt x="15855" y="9314"/>
                  <a:pt x="15925" y="9302"/>
                </a:cubicBezTo>
                <a:cubicBezTo>
                  <a:pt x="15941" y="9302"/>
                  <a:pt x="15958" y="9302"/>
                  <a:pt x="15974" y="93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Ink 13"/>
          <p:cNvSpPr/>
          <p:nvPr/>
        </p:nvSpPr>
        <p:spPr>
          <a:xfrm>
            <a:off x="6340320" y="3990960"/>
            <a:ext cx="1384560" cy="1295280"/>
          </a:xfrm>
          <a:custGeom>
            <a:avLst/>
            <a:gdLst/>
            <a:ahLst/>
            <a:rect l="l" t="t" r="r" b="b"/>
            <a:pathLst>
              <a:path w="3846" h="3597">
                <a:moveTo>
                  <a:pt x="17835" y="11137"/>
                </a:moveTo>
                <a:cubicBezTo>
                  <a:pt x="17835" y="11428"/>
                  <a:pt x="17847" y="11715"/>
                  <a:pt x="17859" y="12005"/>
                </a:cubicBezTo>
                <a:cubicBezTo>
                  <a:pt x="17867" y="12213"/>
                  <a:pt x="17898" y="12419"/>
                  <a:pt x="17909" y="12626"/>
                </a:cubicBezTo>
                <a:cubicBezTo>
                  <a:pt x="17918" y="12807"/>
                  <a:pt x="17900" y="12993"/>
                  <a:pt x="17934" y="13171"/>
                </a:cubicBezTo>
                <a:cubicBezTo>
                  <a:pt x="17942" y="13216"/>
                  <a:pt x="17976" y="13303"/>
                  <a:pt x="17983" y="13320"/>
                </a:cubicBezTo>
              </a:path>
              <a:path w="3846" h="3597">
                <a:moveTo>
                  <a:pt x="17611" y="12105"/>
                </a:moveTo>
                <a:cubicBezTo>
                  <a:pt x="17649" y="12029"/>
                  <a:pt x="17686" y="11973"/>
                  <a:pt x="17735" y="11906"/>
                </a:cubicBezTo>
                <a:cubicBezTo>
                  <a:pt x="17795" y="11825"/>
                  <a:pt x="17869" y="11732"/>
                  <a:pt x="17959" y="11683"/>
                </a:cubicBezTo>
                <a:cubicBezTo>
                  <a:pt x="18023" y="11648"/>
                  <a:pt x="18092" y="11620"/>
                  <a:pt x="18157" y="11584"/>
                </a:cubicBezTo>
              </a:path>
              <a:path w="3846" h="3597">
                <a:moveTo>
                  <a:pt x="18256" y="12526"/>
                </a:moveTo>
                <a:cubicBezTo>
                  <a:pt x="18322" y="12395"/>
                  <a:pt x="18340" y="12289"/>
                  <a:pt x="18380" y="12154"/>
                </a:cubicBezTo>
                <a:cubicBezTo>
                  <a:pt x="18410" y="12054"/>
                  <a:pt x="18426" y="11960"/>
                  <a:pt x="18430" y="11857"/>
                </a:cubicBezTo>
                <a:cubicBezTo>
                  <a:pt x="18434" y="11770"/>
                  <a:pt x="18432" y="11679"/>
                  <a:pt x="18405" y="11633"/>
                </a:cubicBezTo>
                <a:cubicBezTo>
                  <a:pt x="18373" y="11730"/>
                  <a:pt x="18358" y="11827"/>
                  <a:pt x="18355" y="11931"/>
                </a:cubicBezTo>
                <a:cubicBezTo>
                  <a:pt x="18351" y="12081"/>
                  <a:pt x="18345" y="12232"/>
                  <a:pt x="18380" y="12378"/>
                </a:cubicBezTo>
                <a:cubicBezTo>
                  <a:pt x="18402" y="12469"/>
                  <a:pt x="18428" y="12550"/>
                  <a:pt x="18479" y="12626"/>
                </a:cubicBezTo>
                <a:cubicBezTo>
                  <a:pt x="18487" y="12634"/>
                  <a:pt x="18496" y="12642"/>
                  <a:pt x="18504" y="12650"/>
                </a:cubicBezTo>
                <a:cubicBezTo>
                  <a:pt x="18604" y="12606"/>
                  <a:pt x="18529" y="12799"/>
                  <a:pt x="18628" y="12502"/>
                </a:cubicBezTo>
                <a:cubicBezTo>
                  <a:pt x="18678" y="12351"/>
                  <a:pt x="18658" y="12185"/>
                  <a:pt x="18678" y="12030"/>
                </a:cubicBezTo>
                <a:cubicBezTo>
                  <a:pt x="18698" y="11871"/>
                  <a:pt x="18720" y="11686"/>
                  <a:pt x="18777" y="11534"/>
                </a:cubicBezTo>
                <a:cubicBezTo>
                  <a:pt x="18785" y="11574"/>
                  <a:pt x="18821" y="11730"/>
                  <a:pt x="18827" y="11807"/>
                </a:cubicBezTo>
                <a:cubicBezTo>
                  <a:pt x="18835" y="11912"/>
                  <a:pt x="18820" y="12083"/>
                  <a:pt x="18876" y="12179"/>
                </a:cubicBezTo>
                <a:cubicBezTo>
                  <a:pt x="18896" y="12212"/>
                  <a:pt x="18933" y="12213"/>
                  <a:pt x="18951" y="12229"/>
                </a:cubicBezTo>
                <a:cubicBezTo>
                  <a:pt x="18989" y="12152"/>
                  <a:pt x="18999" y="12092"/>
                  <a:pt x="19025" y="12005"/>
                </a:cubicBezTo>
                <a:cubicBezTo>
                  <a:pt x="19060" y="11889"/>
                  <a:pt x="19081" y="11754"/>
                  <a:pt x="19100" y="11633"/>
                </a:cubicBezTo>
                <a:cubicBezTo>
                  <a:pt x="19112" y="11553"/>
                  <a:pt x="19105" y="11596"/>
                  <a:pt x="19149" y="11559"/>
                </a:cubicBezTo>
                <a:cubicBezTo>
                  <a:pt x="19168" y="11631"/>
                  <a:pt x="19192" y="11728"/>
                  <a:pt x="19224" y="11807"/>
                </a:cubicBezTo>
                <a:cubicBezTo>
                  <a:pt x="19248" y="11857"/>
                  <a:pt x="19256" y="11873"/>
                  <a:pt x="19273" y="11906"/>
                </a:cubicBezTo>
                <a:cubicBezTo>
                  <a:pt x="19365" y="11906"/>
                  <a:pt x="19356" y="11947"/>
                  <a:pt x="19447" y="11857"/>
                </a:cubicBezTo>
                <a:cubicBezTo>
                  <a:pt x="19520" y="11785"/>
                  <a:pt x="19547" y="11601"/>
                  <a:pt x="19571" y="11509"/>
                </a:cubicBezTo>
                <a:cubicBezTo>
                  <a:pt x="19602" y="11391"/>
                  <a:pt x="19615" y="11247"/>
                  <a:pt x="19670" y="11137"/>
                </a:cubicBezTo>
                <a:cubicBezTo>
                  <a:pt x="19678" y="11129"/>
                  <a:pt x="19687" y="11120"/>
                  <a:pt x="19695" y="11112"/>
                </a:cubicBezTo>
                <a:cubicBezTo>
                  <a:pt x="19672" y="11193"/>
                  <a:pt x="19664" y="11229"/>
                  <a:pt x="19645" y="11311"/>
                </a:cubicBezTo>
                <a:cubicBezTo>
                  <a:pt x="19610" y="11461"/>
                  <a:pt x="19572" y="11626"/>
                  <a:pt x="19596" y="11782"/>
                </a:cubicBezTo>
                <a:cubicBezTo>
                  <a:pt x="19608" y="11860"/>
                  <a:pt x="19691" y="11959"/>
                  <a:pt x="19769" y="11981"/>
                </a:cubicBezTo>
                <a:cubicBezTo>
                  <a:pt x="19827" y="11981"/>
                  <a:pt x="19852" y="11981"/>
                  <a:pt x="19893" y="11981"/>
                </a:cubicBezTo>
              </a:path>
              <a:path w="3846" h="3597">
                <a:moveTo>
                  <a:pt x="19323" y="13072"/>
                </a:moveTo>
                <a:cubicBezTo>
                  <a:pt x="19298" y="12975"/>
                  <a:pt x="19287" y="12876"/>
                  <a:pt x="19298" y="12774"/>
                </a:cubicBezTo>
                <a:cubicBezTo>
                  <a:pt x="19312" y="12648"/>
                  <a:pt x="19318" y="12540"/>
                  <a:pt x="19372" y="12427"/>
                </a:cubicBezTo>
                <a:cubicBezTo>
                  <a:pt x="19390" y="12389"/>
                  <a:pt x="19396" y="12400"/>
                  <a:pt x="19422" y="12378"/>
                </a:cubicBezTo>
                <a:cubicBezTo>
                  <a:pt x="19452" y="12445"/>
                  <a:pt x="19476" y="12523"/>
                  <a:pt x="19496" y="12601"/>
                </a:cubicBezTo>
                <a:cubicBezTo>
                  <a:pt x="19543" y="12784"/>
                  <a:pt x="19550" y="12961"/>
                  <a:pt x="19571" y="13146"/>
                </a:cubicBezTo>
                <a:cubicBezTo>
                  <a:pt x="19596" y="13369"/>
                  <a:pt x="19601" y="13593"/>
                  <a:pt x="19621" y="13816"/>
                </a:cubicBezTo>
                <a:cubicBezTo>
                  <a:pt x="19642" y="14050"/>
                  <a:pt x="19674" y="14307"/>
                  <a:pt x="19720" y="14536"/>
                </a:cubicBezTo>
                <a:cubicBezTo>
                  <a:pt x="19732" y="14595"/>
                  <a:pt x="19740" y="14627"/>
                  <a:pt x="19745" y="14684"/>
                </a:cubicBezTo>
              </a:path>
              <a:path w="3846" h="3597">
                <a:moveTo>
                  <a:pt x="19621" y="13618"/>
                </a:moveTo>
                <a:cubicBezTo>
                  <a:pt x="19638" y="13456"/>
                  <a:pt x="19645" y="13308"/>
                  <a:pt x="19645" y="13146"/>
                </a:cubicBezTo>
                <a:cubicBezTo>
                  <a:pt x="19645" y="12978"/>
                  <a:pt x="19682" y="12816"/>
                  <a:pt x="19695" y="12650"/>
                </a:cubicBezTo>
                <a:cubicBezTo>
                  <a:pt x="19704" y="12530"/>
                  <a:pt x="19721" y="12439"/>
                  <a:pt x="19769" y="12328"/>
                </a:cubicBezTo>
              </a:path>
              <a:path w="3846" h="3597">
                <a:moveTo>
                  <a:pt x="19645" y="13022"/>
                </a:moveTo>
                <a:cubicBezTo>
                  <a:pt x="19651" y="12950"/>
                  <a:pt x="19642" y="12890"/>
                  <a:pt x="19670" y="12824"/>
                </a:cubicBezTo>
                <a:cubicBezTo>
                  <a:pt x="19678" y="12816"/>
                  <a:pt x="19687" y="12807"/>
                  <a:pt x="19695" y="12799"/>
                </a:cubicBezTo>
                <a:cubicBezTo>
                  <a:pt x="19735" y="12844"/>
                  <a:pt x="19742" y="12830"/>
                  <a:pt x="19769" y="12898"/>
                </a:cubicBezTo>
                <a:cubicBezTo>
                  <a:pt x="19813" y="13009"/>
                  <a:pt x="19863" y="13131"/>
                  <a:pt x="19893" y="13246"/>
                </a:cubicBezTo>
                <a:cubicBezTo>
                  <a:pt x="19930" y="13386"/>
                  <a:pt x="19999" y="13521"/>
                  <a:pt x="20017" y="13667"/>
                </a:cubicBezTo>
                <a:cubicBezTo>
                  <a:pt x="20024" y="13725"/>
                  <a:pt x="20016" y="13839"/>
                  <a:pt x="20042" y="13891"/>
                </a:cubicBezTo>
                <a:cubicBezTo>
                  <a:pt x="20050" y="13891"/>
                  <a:pt x="20059" y="13891"/>
                  <a:pt x="20067" y="13891"/>
                </a:cubicBezTo>
                <a:cubicBezTo>
                  <a:pt x="20067" y="13644"/>
                  <a:pt x="20008" y="13303"/>
                  <a:pt x="20092" y="13072"/>
                </a:cubicBezTo>
                <a:cubicBezTo>
                  <a:pt x="20114" y="13029"/>
                  <a:pt x="20117" y="13017"/>
                  <a:pt x="20141" y="12998"/>
                </a:cubicBezTo>
                <a:cubicBezTo>
                  <a:pt x="20162" y="13061"/>
                  <a:pt x="20205" y="13146"/>
                  <a:pt x="20216" y="13221"/>
                </a:cubicBezTo>
                <a:cubicBezTo>
                  <a:pt x="20232" y="13331"/>
                  <a:pt x="20269" y="13437"/>
                  <a:pt x="20290" y="13543"/>
                </a:cubicBezTo>
                <a:cubicBezTo>
                  <a:pt x="20290" y="13551"/>
                  <a:pt x="20290" y="13560"/>
                  <a:pt x="20290" y="13568"/>
                </a:cubicBezTo>
                <a:cubicBezTo>
                  <a:pt x="20302" y="13501"/>
                  <a:pt x="20315" y="13426"/>
                  <a:pt x="20315" y="13345"/>
                </a:cubicBezTo>
                <a:cubicBezTo>
                  <a:pt x="20315" y="13200"/>
                  <a:pt x="20313" y="13066"/>
                  <a:pt x="20340" y="12923"/>
                </a:cubicBezTo>
                <a:cubicBezTo>
                  <a:pt x="20350" y="12874"/>
                  <a:pt x="20378" y="12847"/>
                  <a:pt x="20389" y="12824"/>
                </a:cubicBezTo>
                <a:cubicBezTo>
                  <a:pt x="20414" y="12902"/>
                  <a:pt x="20434" y="13004"/>
                  <a:pt x="20489" y="13072"/>
                </a:cubicBezTo>
                <a:cubicBezTo>
                  <a:pt x="20499" y="13084"/>
                  <a:pt x="20526" y="13086"/>
                  <a:pt x="20538" y="13097"/>
                </a:cubicBezTo>
                <a:cubicBezTo>
                  <a:pt x="20538" y="12986"/>
                  <a:pt x="20522" y="12877"/>
                  <a:pt x="20513" y="12774"/>
                </a:cubicBezTo>
                <a:cubicBezTo>
                  <a:pt x="20507" y="12711"/>
                  <a:pt x="20501" y="12661"/>
                  <a:pt x="20489" y="12601"/>
                </a:cubicBezTo>
                <a:cubicBezTo>
                  <a:pt x="20454" y="12653"/>
                  <a:pt x="20447" y="12559"/>
                  <a:pt x="20439" y="12675"/>
                </a:cubicBezTo>
                <a:cubicBezTo>
                  <a:pt x="20430" y="12800"/>
                  <a:pt x="20473" y="12891"/>
                  <a:pt x="20513" y="12998"/>
                </a:cubicBezTo>
                <a:cubicBezTo>
                  <a:pt x="20533" y="13051"/>
                  <a:pt x="20545" y="13043"/>
                  <a:pt x="20563" y="13072"/>
                </a:cubicBezTo>
                <a:cubicBezTo>
                  <a:pt x="20564" y="13068"/>
                  <a:pt x="20610" y="13005"/>
                  <a:pt x="20613" y="12973"/>
                </a:cubicBezTo>
                <a:cubicBezTo>
                  <a:pt x="20626" y="12842"/>
                  <a:pt x="20619" y="12695"/>
                  <a:pt x="20638" y="12576"/>
                </a:cubicBezTo>
                <a:cubicBezTo>
                  <a:pt x="20638" y="12568"/>
                  <a:pt x="20638" y="12559"/>
                  <a:pt x="20638" y="12551"/>
                </a:cubicBezTo>
                <a:cubicBezTo>
                  <a:pt x="20663" y="12615"/>
                  <a:pt x="20684" y="12644"/>
                  <a:pt x="20687" y="12725"/>
                </a:cubicBezTo>
                <a:cubicBezTo>
                  <a:pt x="20690" y="12803"/>
                  <a:pt x="20702" y="12791"/>
                  <a:pt x="20712" y="12849"/>
                </a:cubicBezTo>
                <a:cubicBezTo>
                  <a:pt x="20728" y="12815"/>
                  <a:pt x="20743" y="12728"/>
                  <a:pt x="20762" y="12675"/>
                </a:cubicBezTo>
                <a:cubicBezTo>
                  <a:pt x="20783" y="12632"/>
                  <a:pt x="20787" y="12620"/>
                  <a:pt x="20811" y="12601"/>
                </a:cubicBezTo>
                <a:cubicBezTo>
                  <a:pt x="20868" y="12673"/>
                  <a:pt x="20854" y="12721"/>
                  <a:pt x="20886" y="12799"/>
                </a:cubicBezTo>
                <a:cubicBezTo>
                  <a:pt x="20935" y="12920"/>
                  <a:pt x="20955" y="13035"/>
                  <a:pt x="20960" y="13171"/>
                </a:cubicBezTo>
                <a:cubicBezTo>
                  <a:pt x="20963" y="13251"/>
                  <a:pt x="20970" y="13399"/>
                  <a:pt x="20935" y="13469"/>
                </a:cubicBezTo>
                <a:cubicBezTo>
                  <a:pt x="20910" y="13494"/>
                  <a:pt x="20902" y="13502"/>
                  <a:pt x="20886" y="13519"/>
                </a:cubicBezTo>
                <a:cubicBezTo>
                  <a:pt x="20873" y="13444"/>
                  <a:pt x="20845" y="13355"/>
                  <a:pt x="20836" y="13271"/>
                </a:cubicBezTo>
                <a:cubicBezTo>
                  <a:pt x="20822" y="13138"/>
                  <a:pt x="20861" y="12986"/>
                  <a:pt x="20861" y="12849"/>
                </a:cubicBezTo>
                <a:cubicBezTo>
                  <a:pt x="20861" y="12684"/>
                  <a:pt x="20861" y="12515"/>
                  <a:pt x="20886" y="12353"/>
                </a:cubicBezTo>
                <a:cubicBezTo>
                  <a:pt x="20898" y="12275"/>
                  <a:pt x="20920" y="12202"/>
                  <a:pt x="20935" y="12129"/>
                </a:cubicBezTo>
                <a:cubicBezTo>
                  <a:pt x="20935" y="12289"/>
                  <a:pt x="20933" y="12457"/>
                  <a:pt x="20960" y="12601"/>
                </a:cubicBezTo>
                <a:cubicBezTo>
                  <a:pt x="20960" y="12434"/>
                  <a:pt x="20980" y="12271"/>
                  <a:pt x="20985" y="12105"/>
                </a:cubicBezTo>
                <a:cubicBezTo>
                  <a:pt x="20987" y="12026"/>
                  <a:pt x="21012" y="11973"/>
                  <a:pt x="21034" y="11906"/>
                </a:cubicBezTo>
                <a:cubicBezTo>
                  <a:pt x="21042" y="11942"/>
                  <a:pt x="21039" y="11933"/>
                  <a:pt x="21034" y="12005"/>
                </a:cubicBezTo>
                <a:cubicBezTo>
                  <a:pt x="21030" y="12068"/>
                  <a:pt x="21025" y="12119"/>
                  <a:pt x="21010" y="12179"/>
                </a:cubicBezTo>
                <a:cubicBezTo>
                  <a:pt x="20998" y="12229"/>
                  <a:pt x="20987" y="12264"/>
                  <a:pt x="20985" y="12328"/>
                </a:cubicBezTo>
                <a:cubicBezTo>
                  <a:pt x="20985" y="12369"/>
                  <a:pt x="20985" y="12394"/>
                  <a:pt x="20985" y="12427"/>
                </a:cubicBezTo>
                <a:cubicBezTo>
                  <a:pt x="21029" y="12400"/>
                  <a:pt x="21029" y="12433"/>
                  <a:pt x="21059" y="12378"/>
                </a:cubicBezTo>
                <a:cubicBezTo>
                  <a:pt x="21098" y="12306"/>
                  <a:pt x="21124" y="12209"/>
                  <a:pt x="21134" y="12129"/>
                </a:cubicBezTo>
                <a:cubicBezTo>
                  <a:pt x="21150" y="11997"/>
                  <a:pt x="21158" y="11867"/>
                  <a:pt x="21158" y="11733"/>
                </a:cubicBezTo>
                <a:cubicBezTo>
                  <a:pt x="21158" y="11579"/>
                  <a:pt x="21162" y="11435"/>
                  <a:pt x="21183" y="11286"/>
                </a:cubicBezTo>
                <a:cubicBezTo>
                  <a:pt x="21183" y="11270"/>
                  <a:pt x="21183" y="11253"/>
                  <a:pt x="21183" y="11237"/>
                </a:cubicBezTo>
                <a:cubicBezTo>
                  <a:pt x="21207" y="11301"/>
                  <a:pt x="21206" y="11317"/>
                  <a:pt x="21208" y="11385"/>
                </a:cubicBezTo>
                <a:cubicBezTo>
                  <a:pt x="21213" y="11536"/>
                  <a:pt x="21216" y="11706"/>
                  <a:pt x="21233" y="11857"/>
                </a:cubicBezTo>
                <a:cubicBezTo>
                  <a:pt x="21242" y="11942"/>
                  <a:pt x="21251" y="11996"/>
                  <a:pt x="21307" y="11931"/>
                </a:cubicBezTo>
                <a:cubicBezTo>
                  <a:pt x="21336" y="11897"/>
                  <a:pt x="21342" y="11852"/>
                  <a:pt x="21357" y="11807"/>
                </a:cubicBezTo>
              </a:path>
              <a:path w="3846" h="3597">
                <a:moveTo>
                  <a:pt x="21406" y="11857"/>
                </a:moveTo>
                <a:cubicBezTo>
                  <a:pt x="21425" y="11951"/>
                  <a:pt x="21411" y="11971"/>
                  <a:pt x="21456" y="120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Ink 14"/>
          <p:cNvSpPr/>
          <p:nvPr/>
        </p:nvSpPr>
        <p:spPr>
          <a:xfrm>
            <a:off x="4027320" y="3160800"/>
            <a:ext cx="347760" cy="723960"/>
          </a:xfrm>
          <a:custGeom>
            <a:avLst/>
            <a:gdLst/>
            <a:ahLst/>
            <a:rect l="l" t="t" r="r" b="b"/>
            <a:pathLst>
              <a:path w="968" h="2010">
                <a:moveTo>
                  <a:pt x="11385" y="8979"/>
                </a:moveTo>
                <a:cubicBezTo>
                  <a:pt x="11368" y="8919"/>
                  <a:pt x="11366" y="8904"/>
                  <a:pt x="11410" y="8855"/>
                </a:cubicBezTo>
                <a:cubicBezTo>
                  <a:pt x="11457" y="8802"/>
                  <a:pt x="11513" y="8794"/>
                  <a:pt x="11584" y="8781"/>
                </a:cubicBezTo>
                <a:cubicBezTo>
                  <a:pt x="11635" y="8771"/>
                  <a:pt x="11672" y="8798"/>
                  <a:pt x="11708" y="8830"/>
                </a:cubicBezTo>
                <a:cubicBezTo>
                  <a:pt x="11764" y="8880"/>
                  <a:pt x="11755" y="8921"/>
                  <a:pt x="11782" y="8979"/>
                </a:cubicBezTo>
                <a:cubicBezTo>
                  <a:pt x="11809" y="9037"/>
                  <a:pt x="11807" y="9083"/>
                  <a:pt x="11807" y="9153"/>
                </a:cubicBezTo>
                <a:cubicBezTo>
                  <a:pt x="11807" y="9220"/>
                  <a:pt x="11778" y="9277"/>
                  <a:pt x="11733" y="9327"/>
                </a:cubicBezTo>
                <a:cubicBezTo>
                  <a:pt x="11697" y="9367"/>
                  <a:pt x="11660" y="9376"/>
                  <a:pt x="11609" y="9376"/>
                </a:cubicBezTo>
                <a:cubicBezTo>
                  <a:pt x="11555" y="9376"/>
                  <a:pt x="11555" y="9333"/>
                  <a:pt x="11534" y="9302"/>
                </a:cubicBezTo>
                <a:cubicBezTo>
                  <a:pt x="11506" y="9260"/>
                  <a:pt x="11534" y="9259"/>
                  <a:pt x="11534" y="9203"/>
                </a:cubicBezTo>
                <a:cubicBezTo>
                  <a:pt x="11584" y="9203"/>
                  <a:pt x="11589" y="9217"/>
                  <a:pt x="11609" y="9227"/>
                </a:cubicBezTo>
                <a:cubicBezTo>
                  <a:pt x="11649" y="9247"/>
                  <a:pt x="11683" y="9252"/>
                  <a:pt x="11733" y="9252"/>
                </a:cubicBezTo>
                <a:cubicBezTo>
                  <a:pt x="11812" y="9252"/>
                  <a:pt x="11801" y="9272"/>
                  <a:pt x="11881" y="9252"/>
                </a:cubicBezTo>
                <a:cubicBezTo>
                  <a:pt x="11923" y="9252"/>
                  <a:pt x="11948" y="9252"/>
                  <a:pt x="11981" y="9252"/>
                </a:cubicBezTo>
              </a:path>
              <a:path w="968" h="2010">
                <a:moveTo>
                  <a:pt x="11187" y="9773"/>
                </a:moveTo>
                <a:cubicBezTo>
                  <a:pt x="11200" y="9735"/>
                  <a:pt x="11216" y="9748"/>
                  <a:pt x="11261" y="9748"/>
                </a:cubicBezTo>
                <a:cubicBezTo>
                  <a:pt x="11324" y="9748"/>
                  <a:pt x="11351" y="9726"/>
                  <a:pt x="11410" y="9723"/>
                </a:cubicBezTo>
                <a:cubicBezTo>
                  <a:pt x="11489" y="9718"/>
                  <a:pt x="11558" y="9703"/>
                  <a:pt x="11633" y="9699"/>
                </a:cubicBezTo>
                <a:cubicBezTo>
                  <a:pt x="11722" y="9694"/>
                  <a:pt x="11791" y="9678"/>
                  <a:pt x="11881" y="9674"/>
                </a:cubicBezTo>
                <a:cubicBezTo>
                  <a:pt x="11972" y="9670"/>
                  <a:pt x="12063" y="9674"/>
                  <a:pt x="12154" y="9674"/>
                </a:cubicBezTo>
              </a:path>
              <a:path w="968" h="2010">
                <a:moveTo>
                  <a:pt x="11435" y="9971"/>
                </a:moveTo>
                <a:cubicBezTo>
                  <a:pt x="11435" y="10053"/>
                  <a:pt x="11424" y="10119"/>
                  <a:pt x="11410" y="10195"/>
                </a:cubicBezTo>
                <a:cubicBezTo>
                  <a:pt x="11396" y="10272"/>
                  <a:pt x="11394" y="10366"/>
                  <a:pt x="11385" y="10443"/>
                </a:cubicBezTo>
                <a:cubicBezTo>
                  <a:pt x="11375" y="10533"/>
                  <a:pt x="11364" y="10626"/>
                  <a:pt x="11361" y="10716"/>
                </a:cubicBezTo>
                <a:cubicBezTo>
                  <a:pt x="11361" y="10741"/>
                  <a:pt x="11361" y="10765"/>
                  <a:pt x="11361" y="107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Ink 15"/>
          <p:cNvSpPr/>
          <p:nvPr/>
        </p:nvSpPr>
        <p:spPr>
          <a:xfrm>
            <a:off x="3152880" y="3251160"/>
            <a:ext cx="615960" cy="500040"/>
          </a:xfrm>
          <a:custGeom>
            <a:avLst/>
            <a:gdLst/>
            <a:ahLst/>
            <a:rect l="l" t="t" r="r" b="b"/>
            <a:pathLst>
              <a:path w="1713" h="1390">
                <a:moveTo>
                  <a:pt x="9327" y="9029"/>
                </a:moveTo>
                <a:cubicBezTo>
                  <a:pt x="9288" y="9055"/>
                  <a:pt x="9246" y="9078"/>
                  <a:pt x="9203" y="9103"/>
                </a:cubicBezTo>
                <a:cubicBezTo>
                  <a:pt x="9130" y="9146"/>
                  <a:pt x="9076" y="9206"/>
                  <a:pt x="9029" y="9277"/>
                </a:cubicBezTo>
                <a:cubicBezTo>
                  <a:pt x="8988" y="9338"/>
                  <a:pt x="8939" y="9395"/>
                  <a:pt x="8954" y="9475"/>
                </a:cubicBezTo>
                <a:cubicBezTo>
                  <a:pt x="8960" y="9504"/>
                  <a:pt x="9005" y="9579"/>
                  <a:pt x="9029" y="9599"/>
                </a:cubicBezTo>
                <a:cubicBezTo>
                  <a:pt x="9081" y="9643"/>
                  <a:pt x="9125" y="9679"/>
                  <a:pt x="9153" y="9748"/>
                </a:cubicBezTo>
                <a:cubicBezTo>
                  <a:pt x="9182" y="9819"/>
                  <a:pt x="9197" y="9944"/>
                  <a:pt x="9178" y="10021"/>
                </a:cubicBezTo>
                <a:cubicBezTo>
                  <a:pt x="9156" y="10111"/>
                  <a:pt x="9064" y="10206"/>
                  <a:pt x="9004" y="10269"/>
                </a:cubicBezTo>
                <a:cubicBezTo>
                  <a:pt x="8962" y="10313"/>
                  <a:pt x="8891" y="10402"/>
                  <a:pt x="8830" y="10418"/>
                </a:cubicBezTo>
                <a:cubicBezTo>
                  <a:pt x="8756" y="10438"/>
                  <a:pt x="8781" y="10398"/>
                  <a:pt x="8756" y="10368"/>
                </a:cubicBezTo>
              </a:path>
              <a:path w="1713" h="1390">
                <a:moveTo>
                  <a:pt x="9525" y="9649"/>
                </a:moveTo>
                <a:cubicBezTo>
                  <a:pt x="9584" y="9616"/>
                  <a:pt x="9661" y="9585"/>
                  <a:pt x="9699" y="9525"/>
                </a:cubicBezTo>
                <a:cubicBezTo>
                  <a:pt x="9740" y="9460"/>
                  <a:pt x="9778" y="9390"/>
                  <a:pt x="9823" y="9327"/>
                </a:cubicBezTo>
                <a:cubicBezTo>
                  <a:pt x="9847" y="9293"/>
                  <a:pt x="9867" y="9243"/>
                  <a:pt x="9872" y="9203"/>
                </a:cubicBezTo>
                <a:cubicBezTo>
                  <a:pt x="9872" y="9195"/>
                  <a:pt x="9872" y="9186"/>
                  <a:pt x="9872" y="9178"/>
                </a:cubicBezTo>
                <a:cubicBezTo>
                  <a:pt x="9797" y="9221"/>
                  <a:pt x="9792" y="9254"/>
                  <a:pt x="9748" y="9327"/>
                </a:cubicBezTo>
                <a:cubicBezTo>
                  <a:pt x="9686" y="9430"/>
                  <a:pt x="9637" y="9509"/>
                  <a:pt x="9599" y="9624"/>
                </a:cubicBezTo>
                <a:cubicBezTo>
                  <a:pt x="9568" y="9718"/>
                  <a:pt x="9524" y="9821"/>
                  <a:pt x="9550" y="9922"/>
                </a:cubicBezTo>
                <a:cubicBezTo>
                  <a:pt x="9564" y="9979"/>
                  <a:pt x="9592" y="10010"/>
                  <a:pt x="9599" y="10071"/>
                </a:cubicBezTo>
              </a:path>
              <a:path w="1713" h="1390">
                <a:moveTo>
                  <a:pt x="10443" y="9203"/>
                </a:moveTo>
                <a:cubicBezTo>
                  <a:pt x="10364" y="9258"/>
                  <a:pt x="10311" y="9343"/>
                  <a:pt x="10269" y="9426"/>
                </a:cubicBezTo>
                <a:cubicBezTo>
                  <a:pt x="10224" y="9515"/>
                  <a:pt x="10200" y="9600"/>
                  <a:pt x="10195" y="9699"/>
                </a:cubicBezTo>
                <a:cubicBezTo>
                  <a:pt x="10190" y="9803"/>
                  <a:pt x="10187" y="9901"/>
                  <a:pt x="10220" y="9996"/>
                </a:cubicBezTo>
                <a:cubicBezTo>
                  <a:pt x="10262" y="10119"/>
                  <a:pt x="10328" y="10126"/>
                  <a:pt x="10418" y="10195"/>
                </a:cubicBezTo>
                <a:cubicBezTo>
                  <a:pt x="10435" y="10211"/>
                  <a:pt x="10451" y="10228"/>
                  <a:pt x="10468" y="102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Ink 16"/>
          <p:cNvSpPr/>
          <p:nvPr/>
        </p:nvSpPr>
        <p:spPr>
          <a:xfrm>
            <a:off x="2374920" y="1803240"/>
            <a:ext cx="403200" cy="804960"/>
          </a:xfrm>
          <a:custGeom>
            <a:avLst/>
            <a:gdLst/>
            <a:ahLst/>
            <a:rect l="l" t="t" r="r" b="b"/>
            <a:pathLst>
              <a:path w="1117" h="2233">
                <a:moveTo>
                  <a:pt x="6648" y="5556"/>
                </a:moveTo>
                <a:cubicBezTo>
                  <a:pt x="6630" y="5592"/>
                  <a:pt x="6640" y="5567"/>
                  <a:pt x="6648" y="5631"/>
                </a:cubicBezTo>
                <a:cubicBezTo>
                  <a:pt x="6663" y="5760"/>
                  <a:pt x="6648" y="5898"/>
                  <a:pt x="6648" y="6028"/>
                </a:cubicBezTo>
                <a:cubicBezTo>
                  <a:pt x="6679" y="5975"/>
                  <a:pt x="6658" y="5938"/>
                  <a:pt x="6672" y="5879"/>
                </a:cubicBezTo>
                <a:cubicBezTo>
                  <a:pt x="6689" y="5808"/>
                  <a:pt x="6697" y="5757"/>
                  <a:pt x="6697" y="5680"/>
                </a:cubicBezTo>
                <a:cubicBezTo>
                  <a:pt x="6697" y="5569"/>
                  <a:pt x="6689" y="5465"/>
                  <a:pt x="6722" y="5358"/>
                </a:cubicBezTo>
                <a:cubicBezTo>
                  <a:pt x="6736" y="5313"/>
                  <a:pt x="6764" y="5249"/>
                  <a:pt x="6772" y="5209"/>
                </a:cubicBezTo>
                <a:cubicBezTo>
                  <a:pt x="6778" y="5177"/>
                  <a:pt x="6790" y="5167"/>
                  <a:pt x="6796" y="5135"/>
                </a:cubicBezTo>
                <a:cubicBezTo>
                  <a:pt x="6807" y="5080"/>
                  <a:pt x="6786" y="5091"/>
                  <a:pt x="6846" y="5085"/>
                </a:cubicBezTo>
                <a:cubicBezTo>
                  <a:pt x="6930" y="5077"/>
                  <a:pt x="7011" y="5069"/>
                  <a:pt x="7094" y="5060"/>
                </a:cubicBezTo>
                <a:cubicBezTo>
                  <a:pt x="7194" y="5050"/>
                  <a:pt x="7295" y="5046"/>
                  <a:pt x="7392" y="5035"/>
                </a:cubicBezTo>
                <a:cubicBezTo>
                  <a:pt x="7462" y="5027"/>
                  <a:pt x="7605" y="5005"/>
                  <a:pt x="7665" y="5011"/>
                </a:cubicBezTo>
                <a:cubicBezTo>
                  <a:pt x="7681" y="5019"/>
                  <a:pt x="7698" y="5027"/>
                  <a:pt x="7714" y="5035"/>
                </a:cubicBezTo>
              </a:path>
              <a:path w="1117" h="2233">
                <a:moveTo>
                  <a:pt x="7045" y="5308"/>
                </a:moveTo>
                <a:cubicBezTo>
                  <a:pt x="7104" y="5308"/>
                  <a:pt x="7148" y="5293"/>
                  <a:pt x="7193" y="5283"/>
                </a:cubicBezTo>
                <a:cubicBezTo>
                  <a:pt x="7244" y="5272"/>
                  <a:pt x="7314" y="5283"/>
                  <a:pt x="7367" y="5283"/>
                </a:cubicBezTo>
                <a:cubicBezTo>
                  <a:pt x="7367" y="5327"/>
                  <a:pt x="7361" y="5333"/>
                  <a:pt x="7342" y="5358"/>
                </a:cubicBezTo>
                <a:cubicBezTo>
                  <a:pt x="7314" y="5396"/>
                  <a:pt x="7273" y="5409"/>
                  <a:pt x="7268" y="5457"/>
                </a:cubicBezTo>
                <a:cubicBezTo>
                  <a:pt x="7264" y="5491"/>
                  <a:pt x="7299" y="5493"/>
                  <a:pt x="7317" y="5507"/>
                </a:cubicBezTo>
                <a:cubicBezTo>
                  <a:pt x="7342" y="5525"/>
                  <a:pt x="7379" y="5572"/>
                  <a:pt x="7392" y="5581"/>
                </a:cubicBezTo>
                <a:cubicBezTo>
                  <a:pt x="7412" y="5594"/>
                  <a:pt x="7429" y="5619"/>
                  <a:pt x="7441" y="5655"/>
                </a:cubicBezTo>
                <a:cubicBezTo>
                  <a:pt x="7453" y="5691"/>
                  <a:pt x="7402" y="5726"/>
                  <a:pt x="7392" y="5755"/>
                </a:cubicBezTo>
                <a:cubicBezTo>
                  <a:pt x="7368" y="5826"/>
                  <a:pt x="7350" y="5800"/>
                  <a:pt x="7293" y="5829"/>
                </a:cubicBezTo>
                <a:cubicBezTo>
                  <a:pt x="7244" y="5854"/>
                  <a:pt x="7253" y="5879"/>
                  <a:pt x="7193" y="5879"/>
                </a:cubicBezTo>
                <a:cubicBezTo>
                  <a:pt x="7169" y="5879"/>
                  <a:pt x="7160" y="5879"/>
                  <a:pt x="7144" y="5879"/>
                </a:cubicBezTo>
              </a:path>
              <a:path w="1117" h="2233">
                <a:moveTo>
                  <a:pt x="6598" y="6300"/>
                </a:moveTo>
                <a:cubicBezTo>
                  <a:pt x="6653" y="6282"/>
                  <a:pt x="6622" y="6276"/>
                  <a:pt x="6722" y="6276"/>
                </a:cubicBezTo>
                <a:cubicBezTo>
                  <a:pt x="6779" y="6276"/>
                  <a:pt x="6832" y="6251"/>
                  <a:pt x="6896" y="6251"/>
                </a:cubicBezTo>
                <a:cubicBezTo>
                  <a:pt x="7104" y="6251"/>
                  <a:pt x="7316" y="6242"/>
                  <a:pt x="7516" y="6276"/>
                </a:cubicBezTo>
                <a:cubicBezTo>
                  <a:pt x="7576" y="6286"/>
                  <a:pt x="7609" y="6285"/>
                  <a:pt x="7640" y="6300"/>
                </a:cubicBezTo>
                <a:cubicBezTo>
                  <a:pt x="7648" y="6300"/>
                  <a:pt x="7657" y="6300"/>
                  <a:pt x="7665" y="6300"/>
                </a:cubicBezTo>
              </a:path>
              <a:path w="1117" h="2233">
                <a:moveTo>
                  <a:pt x="6970" y="6796"/>
                </a:moveTo>
                <a:cubicBezTo>
                  <a:pt x="6954" y="6796"/>
                  <a:pt x="6937" y="6796"/>
                  <a:pt x="6921" y="6796"/>
                </a:cubicBezTo>
                <a:cubicBezTo>
                  <a:pt x="6934" y="6743"/>
                  <a:pt x="6958" y="6746"/>
                  <a:pt x="6995" y="6722"/>
                </a:cubicBezTo>
                <a:cubicBezTo>
                  <a:pt x="7019" y="6706"/>
                  <a:pt x="7067" y="6655"/>
                  <a:pt x="7094" y="6648"/>
                </a:cubicBezTo>
                <a:cubicBezTo>
                  <a:pt x="7139" y="6635"/>
                  <a:pt x="7210" y="6643"/>
                  <a:pt x="7243" y="6672"/>
                </a:cubicBezTo>
                <a:cubicBezTo>
                  <a:pt x="7280" y="6705"/>
                  <a:pt x="7308" y="6746"/>
                  <a:pt x="7317" y="6796"/>
                </a:cubicBezTo>
                <a:cubicBezTo>
                  <a:pt x="7330" y="6872"/>
                  <a:pt x="7326" y="6983"/>
                  <a:pt x="7293" y="7045"/>
                </a:cubicBezTo>
                <a:cubicBezTo>
                  <a:pt x="7273" y="7082"/>
                  <a:pt x="7235" y="7150"/>
                  <a:pt x="7193" y="7169"/>
                </a:cubicBezTo>
                <a:cubicBezTo>
                  <a:pt x="7160" y="7184"/>
                  <a:pt x="7085" y="7169"/>
                  <a:pt x="7045" y="7169"/>
                </a:cubicBezTo>
                <a:cubicBezTo>
                  <a:pt x="7055" y="7127"/>
                  <a:pt x="7072" y="7099"/>
                  <a:pt x="7119" y="7094"/>
                </a:cubicBezTo>
                <a:cubicBezTo>
                  <a:pt x="7160" y="7089"/>
                  <a:pt x="7173" y="7069"/>
                  <a:pt x="7218" y="7069"/>
                </a:cubicBezTo>
                <a:cubicBezTo>
                  <a:pt x="7269" y="7069"/>
                  <a:pt x="7354" y="7114"/>
                  <a:pt x="7392" y="7144"/>
                </a:cubicBezTo>
                <a:cubicBezTo>
                  <a:pt x="7453" y="7193"/>
                  <a:pt x="7487" y="7214"/>
                  <a:pt x="7565" y="72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dfdef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implify: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s(</a:t>
            </a:r>
            <a:r>
              <a:rPr b="0" lang="en-US" sz="4000" spc="-1" strike="noStrike" baseline="30000">
                <a:solidFill>
                  <a:srgbClr val="dfdef6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fdef6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– x) Cot x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0" name="Ink 5"/>
          <p:cNvSpPr/>
          <p:nvPr/>
        </p:nvSpPr>
        <p:spPr>
          <a:xfrm>
            <a:off x="3894120" y="2643120"/>
            <a:ext cx="2749680" cy="866880"/>
          </a:xfrm>
          <a:custGeom>
            <a:avLst/>
            <a:gdLst/>
            <a:ahLst/>
            <a:rect l="l" t="t" r="r" b="b"/>
            <a:pathLst>
              <a:path w="7641" h="2407">
                <a:moveTo>
                  <a:pt x="11460" y="7665"/>
                </a:moveTo>
                <a:cubicBezTo>
                  <a:pt x="11450" y="7626"/>
                  <a:pt x="11435" y="7610"/>
                  <a:pt x="11435" y="7565"/>
                </a:cubicBezTo>
                <a:cubicBezTo>
                  <a:pt x="11382" y="7565"/>
                  <a:pt x="11365" y="7545"/>
                  <a:pt x="11311" y="7541"/>
                </a:cubicBezTo>
                <a:cubicBezTo>
                  <a:pt x="11249" y="7536"/>
                  <a:pt x="11220" y="7560"/>
                  <a:pt x="11162" y="7565"/>
                </a:cubicBezTo>
                <a:cubicBezTo>
                  <a:pt x="11096" y="7570"/>
                  <a:pt x="11088" y="7618"/>
                  <a:pt x="11038" y="7640"/>
                </a:cubicBezTo>
                <a:cubicBezTo>
                  <a:pt x="11000" y="7657"/>
                  <a:pt x="10969" y="7663"/>
                  <a:pt x="10964" y="7714"/>
                </a:cubicBezTo>
                <a:cubicBezTo>
                  <a:pt x="10958" y="7766"/>
                  <a:pt x="10978" y="7778"/>
                  <a:pt x="11013" y="7813"/>
                </a:cubicBezTo>
                <a:cubicBezTo>
                  <a:pt x="11043" y="7843"/>
                  <a:pt x="11077" y="7848"/>
                  <a:pt x="11112" y="7863"/>
                </a:cubicBezTo>
                <a:cubicBezTo>
                  <a:pt x="11162" y="7885"/>
                  <a:pt x="11214" y="7919"/>
                  <a:pt x="11261" y="7938"/>
                </a:cubicBezTo>
                <a:cubicBezTo>
                  <a:pt x="11329" y="7965"/>
                  <a:pt x="11382" y="7984"/>
                  <a:pt x="11435" y="8037"/>
                </a:cubicBezTo>
                <a:cubicBezTo>
                  <a:pt x="11470" y="8072"/>
                  <a:pt x="11517" y="8117"/>
                  <a:pt x="11534" y="8161"/>
                </a:cubicBezTo>
                <a:cubicBezTo>
                  <a:pt x="11551" y="8205"/>
                  <a:pt x="11537" y="8278"/>
                  <a:pt x="11509" y="8310"/>
                </a:cubicBezTo>
                <a:cubicBezTo>
                  <a:pt x="11470" y="8355"/>
                  <a:pt x="11436" y="8363"/>
                  <a:pt x="11385" y="8384"/>
                </a:cubicBezTo>
                <a:cubicBezTo>
                  <a:pt x="11329" y="8407"/>
                  <a:pt x="11250" y="8427"/>
                  <a:pt x="11187" y="8409"/>
                </a:cubicBezTo>
                <a:cubicBezTo>
                  <a:pt x="11109" y="8387"/>
                  <a:pt x="11014" y="8366"/>
                  <a:pt x="10939" y="8334"/>
                </a:cubicBezTo>
                <a:cubicBezTo>
                  <a:pt x="10912" y="8323"/>
                  <a:pt x="10862" y="8300"/>
                  <a:pt x="10840" y="8285"/>
                </a:cubicBezTo>
                <a:cubicBezTo>
                  <a:pt x="10832" y="8277"/>
                  <a:pt x="10823" y="8268"/>
                  <a:pt x="10815" y="8260"/>
                </a:cubicBezTo>
              </a:path>
              <a:path w="7641" h="2407">
                <a:moveTo>
                  <a:pt x="11881" y="7689"/>
                </a:moveTo>
                <a:cubicBezTo>
                  <a:pt x="11881" y="7921"/>
                  <a:pt x="11881" y="8152"/>
                  <a:pt x="11881" y="8384"/>
                </a:cubicBezTo>
                <a:cubicBezTo>
                  <a:pt x="11846" y="8335"/>
                  <a:pt x="11857" y="8335"/>
                  <a:pt x="11857" y="8260"/>
                </a:cubicBezTo>
              </a:path>
              <a:path w="7641" h="2407">
                <a:moveTo>
                  <a:pt x="12030" y="7342"/>
                </a:moveTo>
                <a:lnTo>
                  <a:pt x="12030" y="7342"/>
                </a:lnTo>
              </a:path>
              <a:path w="7641" h="2407">
                <a:moveTo>
                  <a:pt x="12229" y="8062"/>
                </a:moveTo>
                <a:cubicBezTo>
                  <a:pt x="12224" y="8166"/>
                  <a:pt x="12204" y="8241"/>
                  <a:pt x="12204" y="8334"/>
                </a:cubicBezTo>
                <a:cubicBezTo>
                  <a:pt x="12204" y="8342"/>
                  <a:pt x="12204" y="8426"/>
                  <a:pt x="12204" y="8359"/>
                </a:cubicBezTo>
                <a:cubicBezTo>
                  <a:pt x="12204" y="8270"/>
                  <a:pt x="12215" y="8195"/>
                  <a:pt x="12229" y="8111"/>
                </a:cubicBezTo>
                <a:cubicBezTo>
                  <a:pt x="12241" y="8039"/>
                  <a:pt x="12263" y="7983"/>
                  <a:pt x="12278" y="7913"/>
                </a:cubicBezTo>
                <a:cubicBezTo>
                  <a:pt x="12293" y="7844"/>
                  <a:pt x="12302" y="7795"/>
                  <a:pt x="12353" y="7739"/>
                </a:cubicBezTo>
                <a:cubicBezTo>
                  <a:pt x="12408" y="7679"/>
                  <a:pt x="12448" y="7627"/>
                  <a:pt x="12526" y="7615"/>
                </a:cubicBezTo>
                <a:cubicBezTo>
                  <a:pt x="12590" y="7605"/>
                  <a:pt x="12608" y="7623"/>
                  <a:pt x="12650" y="7665"/>
                </a:cubicBezTo>
                <a:cubicBezTo>
                  <a:pt x="12716" y="7730"/>
                  <a:pt x="12724" y="7758"/>
                  <a:pt x="12750" y="7838"/>
                </a:cubicBezTo>
                <a:cubicBezTo>
                  <a:pt x="12778" y="7924"/>
                  <a:pt x="12799" y="7967"/>
                  <a:pt x="12799" y="8062"/>
                </a:cubicBezTo>
                <a:cubicBezTo>
                  <a:pt x="12799" y="8153"/>
                  <a:pt x="12800" y="8233"/>
                  <a:pt x="12774" y="8310"/>
                </a:cubicBezTo>
                <a:cubicBezTo>
                  <a:pt x="12764" y="8340"/>
                  <a:pt x="12781" y="8371"/>
                  <a:pt x="12799" y="8334"/>
                </a:cubicBezTo>
              </a:path>
              <a:path w="7641" h="2407">
                <a:moveTo>
                  <a:pt x="13667" y="7640"/>
                </a:moveTo>
                <a:cubicBezTo>
                  <a:pt x="13667" y="7683"/>
                  <a:pt x="13676" y="7726"/>
                  <a:pt x="13692" y="7764"/>
                </a:cubicBezTo>
                <a:cubicBezTo>
                  <a:pt x="13725" y="7846"/>
                  <a:pt x="13779" y="7909"/>
                  <a:pt x="13816" y="7987"/>
                </a:cubicBezTo>
                <a:cubicBezTo>
                  <a:pt x="13875" y="8110"/>
                  <a:pt x="13914" y="8158"/>
                  <a:pt x="14015" y="8260"/>
                </a:cubicBezTo>
                <a:cubicBezTo>
                  <a:pt x="14060" y="8305"/>
                  <a:pt x="14092" y="8341"/>
                  <a:pt x="14139" y="8384"/>
                </a:cubicBezTo>
                <a:cubicBezTo>
                  <a:pt x="14181" y="8423"/>
                  <a:pt x="14163" y="8397"/>
                  <a:pt x="14163" y="8359"/>
                </a:cubicBezTo>
              </a:path>
              <a:path w="7641" h="2407">
                <a:moveTo>
                  <a:pt x="14213" y="7565"/>
                </a:moveTo>
                <a:cubicBezTo>
                  <a:pt x="14132" y="7622"/>
                  <a:pt x="14105" y="7669"/>
                  <a:pt x="14039" y="7739"/>
                </a:cubicBezTo>
                <a:cubicBezTo>
                  <a:pt x="13962" y="7821"/>
                  <a:pt x="13881" y="7897"/>
                  <a:pt x="13816" y="7987"/>
                </a:cubicBezTo>
                <a:cubicBezTo>
                  <a:pt x="13746" y="8084"/>
                  <a:pt x="13663" y="8183"/>
                  <a:pt x="13568" y="8260"/>
                </a:cubicBezTo>
                <a:cubicBezTo>
                  <a:pt x="13493" y="8321"/>
                  <a:pt x="13416" y="8370"/>
                  <a:pt x="13345" y="8434"/>
                </a:cubicBezTo>
                <a:cubicBezTo>
                  <a:pt x="13327" y="8450"/>
                  <a:pt x="13208" y="8546"/>
                  <a:pt x="13271" y="8483"/>
                </a:cubicBezTo>
              </a:path>
              <a:path w="7641" h="2407">
                <a:moveTo>
                  <a:pt x="14858" y="8012"/>
                </a:moveTo>
                <a:cubicBezTo>
                  <a:pt x="14826" y="8023"/>
                  <a:pt x="14818" y="8046"/>
                  <a:pt x="14808" y="8086"/>
                </a:cubicBezTo>
                <a:cubicBezTo>
                  <a:pt x="14826" y="8086"/>
                  <a:pt x="14902" y="8072"/>
                  <a:pt x="14858" y="8037"/>
                </a:cubicBezTo>
                <a:cubicBezTo>
                  <a:pt x="14824" y="8010"/>
                  <a:pt x="14812" y="8071"/>
                  <a:pt x="14808" y="8086"/>
                </a:cubicBezTo>
              </a:path>
              <a:path w="7641" h="2407">
                <a:moveTo>
                  <a:pt x="16272" y="7764"/>
                </a:moveTo>
                <a:cubicBezTo>
                  <a:pt x="16267" y="7784"/>
                  <a:pt x="16247" y="7868"/>
                  <a:pt x="16247" y="7813"/>
                </a:cubicBezTo>
                <a:cubicBezTo>
                  <a:pt x="16247" y="7738"/>
                  <a:pt x="16241" y="7679"/>
                  <a:pt x="16222" y="7640"/>
                </a:cubicBezTo>
                <a:cubicBezTo>
                  <a:pt x="16213" y="7622"/>
                  <a:pt x="16186" y="7594"/>
                  <a:pt x="16148" y="7615"/>
                </a:cubicBezTo>
                <a:cubicBezTo>
                  <a:pt x="16100" y="7642"/>
                  <a:pt x="16088" y="7671"/>
                  <a:pt x="16049" y="7714"/>
                </a:cubicBezTo>
                <a:cubicBezTo>
                  <a:pt x="16002" y="7767"/>
                  <a:pt x="15933" y="7825"/>
                  <a:pt x="15900" y="7888"/>
                </a:cubicBezTo>
                <a:cubicBezTo>
                  <a:pt x="15861" y="7962"/>
                  <a:pt x="15790" y="8050"/>
                  <a:pt x="15776" y="8136"/>
                </a:cubicBezTo>
                <a:cubicBezTo>
                  <a:pt x="15766" y="8197"/>
                  <a:pt x="15733" y="8295"/>
                  <a:pt x="15751" y="8359"/>
                </a:cubicBezTo>
                <a:cubicBezTo>
                  <a:pt x="15761" y="8394"/>
                  <a:pt x="15807" y="8496"/>
                  <a:pt x="15850" y="8508"/>
                </a:cubicBezTo>
                <a:cubicBezTo>
                  <a:pt x="15894" y="8521"/>
                  <a:pt x="16015" y="8504"/>
                  <a:pt x="16049" y="8483"/>
                </a:cubicBezTo>
                <a:cubicBezTo>
                  <a:pt x="16095" y="8437"/>
                  <a:pt x="16107" y="8423"/>
                  <a:pt x="16148" y="8409"/>
                </a:cubicBezTo>
              </a:path>
              <a:path w="7641" h="2407">
                <a:moveTo>
                  <a:pt x="16570" y="7789"/>
                </a:moveTo>
                <a:cubicBezTo>
                  <a:pt x="16570" y="7832"/>
                  <a:pt x="16559" y="7875"/>
                  <a:pt x="16545" y="7913"/>
                </a:cubicBezTo>
                <a:cubicBezTo>
                  <a:pt x="16511" y="8007"/>
                  <a:pt x="16440" y="8086"/>
                  <a:pt x="16421" y="8186"/>
                </a:cubicBezTo>
                <a:cubicBezTo>
                  <a:pt x="16408" y="8254"/>
                  <a:pt x="16396" y="8312"/>
                  <a:pt x="16396" y="8384"/>
                </a:cubicBezTo>
                <a:cubicBezTo>
                  <a:pt x="16396" y="8407"/>
                  <a:pt x="16427" y="8501"/>
                  <a:pt x="16446" y="8508"/>
                </a:cubicBezTo>
                <a:cubicBezTo>
                  <a:pt x="16503" y="8529"/>
                  <a:pt x="16574" y="8485"/>
                  <a:pt x="16619" y="8458"/>
                </a:cubicBezTo>
                <a:cubicBezTo>
                  <a:pt x="16697" y="8411"/>
                  <a:pt x="16788" y="8335"/>
                  <a:pt x="16842" y="8260"/>
                </a:cubicBezTo>
                <a:cubicBezTo>
                  <a:pt x="16882" y="8204"/>
                  <a:pt x="16889" y="8103"/>
                  <a:pt x="16892" y="8037"/>
                </a:cubicBezTo>
                <a:cubicBezTo>
                  <a:pt x="16895" y="7969"/>
                  <a:pt x="16896" y="7918"/>
                  <a:pt x="16867" y="7863"/>
                </a:cubicBezTo>
                <a:cubicBezTo>
                  <a:pt x="16851" y="7833"/>
                  <a:pt x="16807" y="7750"/>
                  <a:pt x="16768" y="7739"/>
                </a:cubicBezTo>
                <a:cubicBezTo>
                  <a:pt x="16708" y="7722"/>
                  <a:pt x="16665" y="7749"/>
                  <a:pt x="16619" y="7764"/>
                </a:cubicBezTo>
                <a:cubicBezTo>
                  <a:pt x="16570" y="7780"/>
                  <a:pt x="16571" y="7767"/>
                  <a:pt x="16594" y="7813"/>
                </a:cubicBezTo>
              </a:path>
              <a:path w="7641" h="2407">
                <a:moveTo>
                  <a:pt x="17462" y="7789"/>
                </a:moveTo>
                <a:cubicBezTo>
                  <a:pt x="17385" y="7794"/>
                  <a:pt x="17306" y="7793"/>
                  <a:pt x="17239" y="7838"/>
                </a:cubicBezTo>
                <a:cubicBezTo>
                  <a:pt x="17226" y="7847"/>
                  <a:pt x="17142" y="7911"/>
                  <a:pt x="17140" y="7913"/>
                </a:cubicBezTo>
                <a:cubicBezTo>
                  <a:pt x="17114" y="7952"/>
                  <a:pt x="17169" y="8013"/>
                  <a:pt x="17190" y="8037"/>
                </a:cubicBezTo>
                <a:cubicBezTo>
                  <a:pt x="17241" y="8095"/>
                  <a:pt x="17281" y="8132"/>
                  <a:pt x="17338" y="8186"/>
                </a:cubicBezTo>
                <a:cubicBezTo>
                  <a:pt x="17418" y="8261"/>
                  <a:pt x="17430" y="8262"/>
                  <a:pt x="17462" y="8359"/>
                </a:cubicBezTo>
                <a:cubicBezTo>
                  <a:pt x="17494" y="8456"/>
                  <a:pt x="17487" y="8469"/>
                  <a:pt x="17388" y="8533"/>
                </a:cubicBezTo>
                <a:cubicBezTo>
                  <a:pt x="17329" y="8572"/>
                  <a:pt x="17258" y="8558"/>
                  <a:pt x="17190" y="8558"/>
                </a:cubicBezTo>
                <a:cubicBezTo>
                  <a:pt x="17150" y="8558"/>
                  <a:pt x="17064" y="8579"/>
                  <a:pt x="17041" y="8533"/>
                </a:cubicBezTo>
                <a:cubicBezTo>
                  <a:pt x="17041" y="8525"/>
                  <a:pt x="17041" y="8516"/>
                  <a:pt x="17041" y="8508"/>
                </a:cubicBezTo>
              </a:path>
              <a:path w="7641" h="2407">
                <a:moveTo>
                  <a:pt x="17909" y="7888"/>
                </a:moveTo>
                <a:cubicBezTo>
                  <a:pt x="17916" y="7947"/>
                  <a:pt x="17919" y="8028"/>
                  <a:pt x="17934" y="8086"/>
                </a:cubicBezTo>
                <a:cubicBezTo>
                  <a:pt x="17956" y="8172"/>
                  <a:pt x="18030" y="8292"/>
                  <a:pt x="18083" y="8359"/>
                </a:cubicBezTo>
                <a:cubicBezTo>
                  <a:pt x="18128" y="8417"/>
                  <a:pt x="18205" y="8490"/>
                  <a:pt x="18256" y="8533"/>
                </a:cubicBezTo>
                <a:cubicBezTo>
                  <a:pt x="18275" y="8549"/>
                  <a:pt x="18390" y="8647"/>
                  <a:pt x="18430" y="8607"/>
                </a:cubicBezTo>
                <a:cubicBezTo>
                  <a:pt x="18430" y="8579"/>
                  <a:pt x="18432" y="8568"/>
                  <a:pt x="18455" y="8558"/>
                </a:cubicBezTo>
              </a:path>
              <a:path w="7641" h="2407">
                <a:moveTo>
                  <a:pt x="18306" y="7863"/>
                </a:moveTo>
                <a:cubicBezTo>
                  <a:pt x="18265" y="7904"/>
                  <a:pt x="18208" y="7963"/>
                  <a:pt x="18182" y="8012"/>
                </a:cubicBezTo>
                <a:cubicBezTo>
                  <a:pt x="18140" y="8093"/>
                  <a:pt x="18092" y="8164"/>
                  <a:pt x="18033" y="8235"/>
                </a:cubicBezTo>
                <a:cubicBezTo>
                  <a:pt x="17989" y="8288"/>
                  <a:pt x="17933" y="8335"/>
                  <a:pt x="17884" y="8384"/>
                </a:cubicBezTo>
                <a:cubicBezTo>
                  <a:pt x="17843" y="8426"/>
                  <a:pt x="17835" y="8434"/>
                  <a:pt x="17810" y="8458"/>
                </a:cubicBezTo>
              </a:path>
              <a:path w="7641" h="2407">
                <a:moveTo>
                  <a:pt x="15825" y="8806"/>
                </a:moveTo>
                <a:cubicBezTo>
                  <a:pt x="16125" y="8806"/>
                  <a:pt x="16421" y="8813"/>
                  <a:pt x="16718" y="8830"/>
                </a:cubicBezTo>
                <a:cubicBezTo>
                  <a:pt x="16917" y="8841"/>
                  <a:pt x="17116" y="8833"/>
                  <a:pt x="17314" y="8855"/>
                </a:cubicBezTo>
                <a:cubicBezTo>
                  <a:pt x="17496" y="8875"/>
                  <a:pt x="17676" y="8900"/>
                  <a:pt x="17859" y="8905"/>
                </a:cubicBezTo>
                <a:cubicBezTo>
                  <a:pt x="17940" y="8907"/>
                  <a:pt x="18199" y="8949"/>
                  <a:pt x="18107" y="8880"/>
                </a:cubicBezTo>
              </a:path>
              <a:path w="7641" h="2407">
                <a:moveTo>
                  <a:pt x="10988" y="8409"/>
                </a:moveTo>
                <a:cubicBezTo>
                  <a:pt x="11030" y="8396"/>
                  <a:pt x="11071" y="8400"/>
                  <a:pt x="11112" y="8384"/>
                </a:cubicBezTo>
                <a:cubicBezTo>
                  <a:pt x="11330" y="8300"/>
                  <a:pt x="11559" y="8232"/>
                  <a:pt x="11782" y="8161"/>
                </a:cubicBezTo>
                <a:cubicBezTo>
                  <a:pt x="12053" y="8075"/>
                  <a:pt x="12327" y="7989"/>
                  <a:pt x="12601" y="7913"/>
                </a:cubicBezTo>
                <a:cubicBezTo>
                  <a:pt x="12809" y="7855"/>
                  <a:pt x="13015" y="7804"/>
                  <a:pt x="13221" y="7739"/>
                </a:cubicBezTo>
                <a:cubicBezTo>
                  <a:pt x="13368" y="7693"/>
                  <a:pt x="13508" y="7659"/>
                  <a:pt x="13643" y="7590"/>
                </a:cubicBezTo>
                <a:cubicBezTo>
                  <a:pt x="13692" y="7565"/>
                  <a:pt x="13755" y="7552"/>
                  <a:pt x="13791" y="7516"/>
                </a:cubicBezTo>
                <a:cubicBezTo>
                  <a:pt x="13836" y="7472"/>
                  <a:pt x="13744" y="7539"/>
                  <a:pt x="13742" y="7541"/>
                </a:cubicBezTo>
              </a:path>
              <a:path w="7641" h="2407">
                <a:moveTo>
                  <a:pt x="15329" y="9748"/>
                </a:moveTo>
                <a:cubicBezTo>
                  <a:pt x="15384" y="9741"/>
                  <a:pt x="15449" y="9736"/>
                  <a:pt x="15503" y="9723"/>
                </a:cubicBezTo>
                <a:cubicBezTo>
                  <a:pt x="15611" y="9697"/>
                  <a:pt x="15715" y="9677"/>
                  <a:pt x="15825" y="9649"/>
                </a:cubicBezTo>
                <a:cubicBezTo>
                  <a:pt x="15985" y="9608"/>
                  <a:pt x="16157" y="9604"/>
                  <a:pt x="16321" y="9575"/>
                </a:cubicBezTo>
                <a:cubicBezTo>
                  <a:pt x="16558" y="9533"/>
                  <a:pt x="16803" y="9498"/>
                  <a:pt x="17041" y="9475"/>
                </a:cubicBezTo>
                <a:cubicBezTo>
                  <a:pt x="17247" y="9456"/>
                  <a:pt x="17455" y="9414"/>
                  <a:pt x="17661" y="9401"/>
                </a:cubicBezTo>
                <a:cubicBezTo>
                  <a:pt x="17691" y="9399"/>
                  <a:pt x="17919" y="9403"/>
                  <a:pt x="17959" y="9376"/>
                </a:cubicBezTo>
                <a:cubicBezTo>
                  <a:pt x="17951" y="9368"/>
                  <a:pt x="17942" y="9359"/>
                  <a:pt x="17934" y="93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Ink 6"/>
          <p:cNvSpPr/>
          <p:nvPr/>
        </p:nvSpPr>
        <p:spPr>
          <a:xfrm>
            <a:off x="5634000" y="3348000"/>
            <a:ext cx="1001880" cy="384120"/>
          </a:xfrm>
          <a:custGeom>
            <a:avLst/>
            <a:gdLst/>
            <a:ahLst/>
            <a:rect l="l" t="t" r="r" b="b"/>
            <a:pathLst>
              <a:path w="2779" h="1067">
                <a:moveTo>
                  <a:pt x="16297" y="9376"/>
                </a:moveTo>
                <a:cubicBezTo>
                  <a:pt x="16237" y="9376"/>
                  <a:pt x="16196" y="9391"/>
                  <a:pt x="16148" y="9401"/>
                </a:cubicBezTo>
                <a:cubicBezTo>
                  <a:pt x="16086" y="9413"/>
                  <a:pt x="16030" y="9432"/>
                  <a:pt x="15974" y="9451"/>
                </a:cubicBezTo>
                <a:cubicBezTo>
                  <a:pt x="15943" y="9462"/>
                  <a:pt x="15862" y="9505"/>
                  <a:pt x="15875" y="9550"/>
                </a:cubicBezTo>
                <a:cubicBezTo>
                  <a:pt x="15896" y="9623"/>
                  <a:pt x="15990" y="9684"/>
                  <a:pt x="16049" y="9723"/>
                </a:cubicBezTo>
                <a:cubicBezTo>
                  <a:pt x="16107" y="9762"/>
                  <a:pt x="16196" y="9828"/>
                  <a:pt x="16222" y="9897"/>
                </a:cubicBezTo>
                <a:cubicBezTo>
                  <a:pt x="16249" y="9966"/>
                  <a:pt x="16246" y="9996"/>
                  <a:pt x="16197" y="10046"/>
                </a:cubicBezTo>
                <a:cubicBezTo>
                  <a:pt x="16130" y="10114"/>
                  <a:pt x="16065" y="10117"/>
                  <a:pt x="15974" y="10120"/>
                </a:cubicBezTo>
                <a:cubicBezTo>
                  <a:pt x="15877" y="10123"/>
                  <a:pt x="15785" y="10118"/>
                  <a:pt x="15701" y="10096"/>
                </a:cubicBezTo>
                <a:cubicBezTo>
                  <a:pt x="15644" y="10081"/>
                  <a:pt x="15643" y="10066"/>
                  <a:pt x="15677" y="10021"/>
                </a:cubicBezTo>
              </a:path>
              <a:path w="2779" h="1067">
                <a:moveTo>
                  <a:pt x="16669" y="9624"/>
                </a:moveTo>
                <a:cubicBezTo>
                  <a:pt x="16669" y="9712"/>
                  <a:pt x="16667" y="9814"/>
                  <a:pt x="16644" y="9897"/>
                </a:cubicBezTo>
                <a:cubicBezTo>
                  <a:pt x="16624" y="9971"/>
                  <a:pt x="16598" y="10043"/>
                  <a:pt x="16594" y="10120"/>
                </a:cubicBezTo>
                <a:cubicBezTo>
                  <a:pt x="16591" y="10178"/>
                  <a:pt x="16576" y="10207"/>
                  <a:pt x="16594" y="10244"/>
                </a:cubicBezTo>
                <a:cubicBezTo>
                  <a:pt x="16594" y="10211"/>
                  <a:pt x="16594" y="10178"/>
                  <a:pt x="16594" y="10145"/>
                </a:cubicBezTo>
              </a:path>
              <a:path w="2779" h="1067">
                <a:moveTo>
                  <a:pt x="16743" y="9376"/>
                </a:moveTo>
                <a:cubicBezTo>
                  <a:pt x="16760" y="9351"/>
                  <a:pt x="16776" y="9327"/>
                  <a:pt x="16793" y="9302"/>
                </a:cubicBezTo>
              </a:path>
              <a:path w="2779" h="1067">
                <a:moveTo>
                  <a:pt x="16917" y="9823"/>
                </a:moveTo>
                <a:cubicBezTo>
                  <a:pt x="16888" y="9951"/>
                  <a:pt x="16863" y="10069"/>
                  <a:pt x="16842" y="10195"/>
                </a:cubicBezTo>
                <a:cubicBezTo>
                  <a:pt x="16854" y="10148"/>
                  <a:pt x="16853" y="10096"/>
                  <a:pt x="16867" y="10046"/>
                </a:cubicBezTo>
                <a:cubicBezTo>
                  <a:pt x="16887" y="9973"/>
                  <a:pt x="16896" y="9895"/>
                  <a:pt x="16917" y="9823"/>
                </a:cubicBezTo>
                <a:cubicBezTo>
                  <a:pt x="16929" y="9781"/>
                  <a:pt x="16962" y="9652"/>
                  <a:pt x="16991" y="9624"/>
                </a:cubicBezTo>
                <a:cubicBezTo>
                  <a:pt x="17049" y="9566"/>
                  <a:pt x="17079" y="9568"/>
                  <a:pt x="17140" y="9575"/>
                </a:cubicBezTo>
                <a:cubicBezTo>
                  <a:pt x="17245" y="9587"/>
                  <a:pt x="17232" y="9649"/>
                  <a:pt x="17289" y="9723"/>
                </a:cubicBezTo>
                <a:cubicBezTo>
                  <a:pt x="17360" y="9816"/>
                  <a:pt x="17395" y="9901"/>
                  <a:pt x="17413" y="10021"/>
                </a:cubicBezTo>
                <a:cubicBezTo>
                  <a:pt x="17417" y="10047"/>
                  <a:pt x="17413" y="10222"/>
                  <a:pt x="17413" y="10170"/>
                </a:cubicBezTo>
              </a:path>
              <a:path w="2779" h="1067">
                <a:moveTo>
                  <a:pt x="17835" y="9699"/>
                </a:moveTo>
                <a:cubicBezTo>
                  <a:pt x="17885" y="9850"/>
                  <a:pt x="17921" y="9921"/>
                  <a:pt x="18008" y="10046"/>
                </a:cubicBezTo>
                <a:cubicBezTo>
                  <a:pt x="18075" y="10143"/>
                  <a:pt x="18144" y="10194"/>
                  <a:pt x="18231" y="10269"/>
                </a:cubicBezTo>
                <a:cubicBezTo>
                  <a:pt x="18284" y="10315"/>
                  <a:pt x="18306" y="10361"/>
                  <a:pt x="18380" y="10368"/>
                </a:cubicBezTo>
                <a:cubicBezTo>
                  <a:pt x="18423" y="10372"/>
                  <a:pt x="18422" y="10350"/>
                  <a:pt x="18430" y="10319"/>
                </a:cubicBezTo>
              </a:path>
              <a:path w="2779" h="1067">
                <a:moveTo>
                  <a:pt x="18132" y="9699"/>
                </a:moveTo>
                <a:cubicBezTo>
                  <a:pt x="18064" y="9801"/>
                  <a:pt x="17943" y="9893"/>
                  <a:pt x="17884" y="9996"/>
                </a:cubicBezTo>
                <a:cubicBezTo>
                  <a:pt x="17833" y="10087"/>
                  <a:pt x="17788" y="10143"/>
                  <a:pt x="17711" y="10220"/>
                </a:cubicBezTo>
                <a:cubicBezTo>
                  <a:pt x="17656" y="10274"/>
                  <a:pt x="17636" y="10296"/>
                  <a:pt x="17611" y="103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Ink 7"/>
          <p:cNvSpPr/>
          <p:nvPr/>
        </p:nvSpPr>
        <p:spPr>
          <a:xfrm>
            <a:off x="4599000" y="4125960"/>
            <a:ext cx="731880" cy="392040"/>
          </a:xfrm>
          <a:custGeom>
            <a:avLst/>
            <a:gdLst/>
            <a:ahLst/>
            <a:rect l="l" t="t" r="r" b="b"/>
            <a:pathLst>
              <a:path w="2035" h="1092">
                <a:moveTo>
                  <a:pt x="13320" y="11609"/>
                </a:moveTo>
                <a:cubicBezTo>
                  <a:pt x="13307" y="11651"/>
                  <a:pt x="13295" y="11687"/>
                  <a:pt x="13295" y="11733"/>
                </a:cubicBezTo>
                <a:cubicBezTo>
                  <a:pt x="13295" y="11741"/>
                  <a:pt x="13295" y="11749"/>
                  <a:pt x="13295" y="11757"/>
                </a:cubicBezTo>
                <a:cubicBezTo>
                  <a:pt x="13295" y="11701"/>
                  <a:pt x="13280" y="11654"/>
                  <a:pt x="13271" y="11609"/>
                </a:cubicBezTo>
                <a:cubicBezTo>
                  <a:pt x="13262" y="11560"/>
                  <a:pt x="13273" y="11525"/>
                  <a:pt x="13246" y="11485"/>
                </a:cubicBezTo>
                <a:cubicBezTo>
                  <a:pt x="13213" y="11437"/>
                  <a:pt x="13138" y="11464"/>
                  <a:pt x="13097" y="11485"/>
                </a:cubicBezTo>
                <a:cubicBezTo>
                  <a:pt x="13017" y="11527"/>
                  <a:pt x="13004" y="11589"/>
                  <a:pt x="12948" y="11658"/>
                </a:cubicBezTo>
                <a:cubicBezTo>
                  <a:pt x="12893" y="11726"/>
                  <a:pt x="12814" y="11816"/>
                  <a:pt x="12799" y="11906"/>
                </a:cubicBezTo>
                <a:cubicBezTo>
                  <a:pt x="12777" y="12034"/>
                  <a:pt x="12786" y="12127"/>
                  <a:pt x="12799" y="12254"/>
                </a:cubicBezTo>
                <a:cubicBezTo>
                  <a:pt x="12808" y="12343"/>
                  <a:pt x="12820" y="12417"/>
                  <a:pt x="12898" y="12477"/>
                </a:cubicBezTo>
                <a:cubicBezTo>
                  <a:pt x="12957" y="12522"/>
                  <a:pt x="13050" y="12543"/>
                  <a:pt x="13122" y="12526"/>
                </a:cubicBezTo>
                <a:cubicBezTo>
                  <a:pt x="13183" y="12512"/>
                  <a:pt x="13227" y="12466"/>
                  <a:pt x="13271" y="12427"/>
                </a:cubicBezTo>
              </a:path>
              <a:path w="2035" h="1092">
                <a:moveTo>
                  <a:pt x="13593" y="11832"/>
                </a:moveTo>
                <a:cubicBezTo>
                  <a:pt x="13593" y="11888"/>
                  <a:pt x="13570" y="11904"/>
                  <a:pt x="13543" y="11956"/>
                </a:cubicBezTo>
                <a:cubicBezTo>
                  <a:pt x="13497" y="12043"/>
                  <a:pt x="13472" y="12132"/>
                  <a:pt x="13469" y="12229"/>
                </a:cubicBezTo>
                <a:cubicBezTo>
                  <a:pt x="13466" y="12330"/>
                  <a:pt x="13453" y="12421"/>
                  <a:pt x="13519" y="12502"/>
                </a:cubicBezTo>
                <a:cubicBezTo>
                  <a:pt x="13558" y="12550"/>
                  <a:pt x="13633" y="12567"/>
                  <a:pt x="13692" y="12551"/>
                </a:cubicBezTo>
                <a:cubicBezTo>
                  <a:pt x="13772" y="12529"/>
                  <a:pt x="13825" y="12442"/>
                  <a:pt x="13866" y="12378"/>
                </a:cubicBezTo>
                <a:cubicBezTo>
                  <a:pt x="13929" y="12281"/>
                  <a:pt x="13961" y="12195"/>
                  <a:pt x="13965" y="12080"/>
                </a:cubicBezTo>
                <a:cubicBezTo>
                  <a:pt x="13969" y="11973"/>
                  <a:pt x="13937" y="11907"/>
                  <a:pt x="13866" y="11832"/>
                </a:cubicBezTo>
                <a:cubicBezTo>
                  <a:pt x="13809" y="11771"/>
                  <a:pt x="13725" y="11702"/>
                  <a:pt x="13643" y="11683"/>
                </a:cubicBezTo>
                <a:cubicBezTo>
                  <a:pt x="13589" y="11670"/>
                  <a:pt x="13509" y="11676"/>
                  <a:pt x="13469" y="11708"/>
                </a:cubicBezTo>
                <a:cubicBezTo>
                  <a:pt x="13418" y="11749"/>
                  <a:pt x="13451" y="11783"/>
                  <a:pt x="13469" y="11832"/>
                </a:cubicBezTo>
              </a:path>
              <a:path w="2035" h="1092">
                <a:moveTo>
                  <a:pt x="14734" y="11832"/>
                </a:moveTo>
                <a:cubicBezTo>
                  <a:pt x="14692" y="11800"/>
                  <a:pt x="14666" y="11807"/>
                  <a:pt x="14610" y="11807"/>
                </a:cubicBezTo>
                <a:cubicBezTo>
                  <a:pt x="14544" y="11807"/>
                  <a:pt x="14430" y="11804"/>
                  <a:pt x="14387" y="11881"/>
                </a:cubicBezTo>
                <a:cubicBezTo>
                  <a:pt x="14368" y="11915"/>
                  <a:pt x="14419" y="11984"/>
                  <a:pt x="14436" y="12005"/>
                </a:cubicBezTo>
                <a:cubicBezTo>
                  <a:pt x="14507" y="12092"/>
                  <a:pt x="14607" y="12167"/>
                  <a:pt x="14684" y="12254"/>
                </a:cubicBezTo>
                <a:cubicBezTo>
                  <a:pt x="14730" y="12306"/>
                  <a:pt x="14820" y="12372"/>
                  <a:pt x="14808" y="12452"/>
                </a:cubicBezTo>
                <a:cubicBezTo>
                  <a:pt x="14801" y="12501"/>
                  <a:pt x="14713" y="12514"/>
                  <a:pt x="14684" y="12526"/>
                </a:cubicBezTo>
                <a:cubicBezTo>
                  <a:pt x="14624" y="12550"/>
                  <a:pt x="14506" y="12544"/>
                  <a:pt x="14436" y="12526"/>
                </a:cubicBezTo>
                <a:cubicBezTo>
                  <a:pt x="14402" y="12517"/>
                  <a:pt x="14305" y="12504"/>
                  <a:pt x="14288" y="12477"/>
                </a:cubicBezTo>
                <a:cubicBezTo>
                  <a:pt x="14288" y="12469"/>
                  <a:pt x="14288" y="12460"/>
                  <a:pt x="14288" y="124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Ink 8"/>
          <p:cNvSpPr/>
          <p:nvPr/>
        </p:nvSpPr>
        <p:spPr>
          <a:xfrm>
            <a:off x="5545080" y="4303800"/>
            <a:ext cx="357120" cy="349200"/>
          </a:xfrm>
          <a:custGeom>
            <a:avLst/>
            <a:gdLst/>
            <a:ahLst/>
            <a:rect l="l" t="t" r="r" b="b"/>
            <a:pathLst>
              <a:path w="993" h="968">
                <a:moveTo>
                  <a:pt x="15627" y="12030"/>
                </a:moveTo>
                <a:cubicBezTo>
                  <a:pt x="15672" y="12141"/>
                  <a:pt x="15692" y="12248"/>
                  <a:pt x="15751" y="12353"/>
                </a:cubicBezTo>
                <a:cubicBezTo>
                  <a:pt x="15832" y="12497"/>
                  <a:pt x="15943" y="12599"/>
                  <a:pt x="16073" y="12700"/>
                </a:cubicBezTo>
                <a:cubicBezTo>
                  <a:pt x="16137" y="12750"/>
                  <a:pt x="16238" y="12831"/>
                  <a:pt x="16321" y="12849"/>
                </a:cubicBezTo>
                <a:cubicBezTo>
                  <a:pt x="16366" y="12849"/>
                  <a:pt x="16379" y="12852"/>
                  <a:pt x="16396" y="12824"/>
                </a:cubicBezTo>
              </a:path>
              <a:path w="993" h="968">
                <a:moveTo>
                  <a:pt x="16098" y="11956"/>
                </a:moveTo>
                <a:cubicBezTo>
                  <a:pt x="16002" y="12052"/>
                  <a:pt x="15929" y="12144"/>
                  <a:pt x="15850" y="12254"/>
                </a:cubicBezTo>
                <a:cubicBezTo>
                  <a:pt x="15770" y="12365"/>
                  <a:pt x="15680" y="12465"/>
                  <a:pt x="15602" y="12576"/>
                </a:cubicBezTo>
                <a:cubicBezTo>
                  <a:pt x="15526" y="12684"/>
                  <a:pt x="15466" y="12806"/>
                  <a:pt x="15404" y="129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dfdef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implify: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s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(1 + Tan</a:t>
            </a:r>
            <a:r>
              <a:rPr b="0" lang="en-US" sz="4000" spc="-1" strike="noStrike" baseline="30000">
                <a:solidFill>
                  <a:srgbClr val="dfdef6"/>
                </a:solidFill>
                <a:latin typeface="Arial"/>
                <a:ea typeface="Arial"/>
              </a:rPr>
              <a:t>2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5" name="Ink 5"/>
          <p:cNvSpPr/>
          <p:nvPr/>
        </p:nvSpPr>
        <p:spPr>
          <a:xfrm>
            <a:off x="3384720" y="2820960"/>
            <a:ext cx="1098360" cy="304920"/>
          </a:xfrm>
          <a:custGeom>
            <a:avLst/>
            <a:gdLst/>
            <a:ahLst/>
            <a:rect l="l" t="t" r="r" b="b"/>
            <a:pathLst>
              <a:path w="3052" h="845">
                <a:moveTo>
                  <a:pt x="9773" y="7888"/>
                </a:moveTo>
                <a:cubicBezTo>
                  <a:pt x="9773" y="7938"/>
                  <a:pt x="9773" y="7987"/>
                  <a:pt x="9773" y="8037"/>
                </a:cubicBezTo>
                <a:cubicBezTo>
                  <a:pt x="9773" y="7970"/>
                  <a:pt x="9768" y="7939"/>
                  <a:pt x="9723" y="7888"/>
                </a:cubicBezTo>
                <a:cubicBezTo>
                  <a:pt x="9688" y="7848"/>
                  <a:pt x="9676" y="7838"/>
                  <a:pt x="9624" y="7838"/>
                </a:cubicBezTo>
                <a:cubicBezTo>
                  <a:pt x="9571" y="7838"/>
                  <a:pt x="9547" y="7897"/>
                  <a:pt x="9525" y="7938"/>
                </a:cubicBezTo>
                <a:cubicBezTo>
                  <a:pt x="9481" y="8020"/>
                  <a:pt x="9419" y="8118"/>
                  <a:pt x="9401" y="8210"/>
                </a:cubicBezTo>
                <a:cubicBezTo>
                  <a:pt x="9381" y="8315"/>
                  <a:pt x="9392" y="8462"/>
                  <a:pt x="9426" y="8558"/>
                </a:cubicBezTo>
                <a:cubicBezTo>
                  <a:pt x="9453" y="8635"/>
                  <a:pt x="9488" y="8676"/>
                  <a:pt x="9575" y="8682"/>
                </a:cubicBezTo>
                <a:cubicBezTo>
                  <a:pt x="9626" y="8682"/>
                  <a:pt x="9645" y="8681"/>
                  <a:pt x="9674" y="8657"/>
                </a:cubicBezTo>
              </a:path>
              <a:path w="3052" h="845">
                <a:moveTo>
                  <a:pt x="10170" y="8086"/>
                </a:moveTo>
                <a:cubicBezTo>
                  <a:pt x="10132" y="8193"/>
                  <a:pt x="10101" y="8273"/>
                  <a:pt x="10096" y="8384"/>
                </a:cubicBezTo>
                <a:cubicBezTo>
                  <a:pt x="10093" y="8453"/>
                  <a:pt x="10078" y="8554"/>
                  <a:pt x="10120" y="8607"/>
                </a:cubicBezTo>
                <a:cubicBezTo>
                  <a:pt x="10166" y="8666"/>
                  <a:pt x="10179" y="8608"/>
                  <a:pt x="10220" y="8582"/>
                </a:cubicBezTo>
                <a:cubicBezTo>
                  <a:pt x="10284" y="8541"/>
                  <a:pt x="10315" y="8483"/>
                  <a:pt x="10344" y="8409"/>
                </a:cubicBezTo>
                <a:cubicBezTo>
                  <a:pt x="10377" y="8324"/>
                  <a:pt x="10380" y="8239"/>
                  <a:pt x="10344" y="8161"/>
                </a:cubicBezTo>
                <a:cubicBezTo>
                  <a:pt x="10307" y="8082"/>
                  <a:pt x="10283" y="8100"/>
                  <a:pt x="10220" y="8062"/>
                </a:cubicBezTo>
                <a:cubicBezTo>
                  <a:pt x="10182" y="8039"/>
                  <a:pt x="10161" y="8014"/>
                  <a:pt x="10145" y="8062"/>
                </a:cubicBezTo>
              </a:path>
              <a:path w="3052" h="845">
                <a:moveTo>
                  <a:pt x="10964" y="7938"/>
                </a:moveTo>
                <a:cubicBezTo>
                  <a:pt x="11026" y="7938"/>
                  <a:pt x="10894" y="7961"/>
                  <a:pt x="10889" y="7962"/>
                </a:cubicBezTo>
                <a:cubicBezTo>
                  <a:pt x="10815" y="7975"/>
                  <a:pt x="10779" y="7999"/>
                  <a:pt x="10716" y="8037"/>
                </a:cubicBezTo>
                <a:cubicBezTo>
                  <a:pt x="10668" y="8066"/>
                  <a:pt x="10611" y="8089"/>
                  <a:pt x="10641" y="8161"/>
                </a:cubicBezTo>
                <a:cubicBezTo>
                  <a:pt x="10659" y="8204"/>
                  <a:pt x="10732" y="8253"/>
                  <a:pt x="10765" y="8285"/>
                </a:cubicBezTo>
                <a:cubicBezTo>
                  <a:pt x="10834" y="8353"/>
                  <a:pt x="10881" y="8356"/>
                  <a:pt x="10889" y="8458"/>
                </a:cubicBezTo>
                <a:cubicBezTo>
                  <a:pt x="10895" y="8531"/>
                  <a:pt x="10876" y="8546"/>
                  <a:pt x="10815" y="8582"/>
                </a:cubicBezTo>
                <a:cubicBezTo>
                  <a:pt x="10742" y="8625"/>
                  <a:pt x="10684" y="8605"/>
                  <a:pt x="10616" y="8632"/>
                </a:cubicBezTo>
                <a:cubicBezTo>
                  <a:pt x="10537" y="8663"/>
                  <a:pt x="10592" y="8625"/>
                  <a:pt x="10641" y="8582"/>
                </a:cubicBezTo>
              </a:path>
              <a:path w="3052" h="845">
                <a:moveTo>
                  <a:pt x="11559" y="7987"/>
                </a:moveTo>
                <a:cubicBezTo>
                  <a:pt x="11500" y="8105"/>
                  <a:pt x="11460" y="8214"/>
                  <a:pt x="11410" y="8334"/>
                </a:cubicBezTo>
                <a:cubicBezTo>
                  <a:pt x="11380" y="8407"/>
                  <a:pt x="11365" y="8487"/>
                  <a:pt x="11410" y="8558"/>
                </a:cubicBezTo>
                <a:cubicBezTo>
                  <a:pt x="11440" y="8607"/>
                  <a:pt x="11452" y="8632"/>
                  <a:pt x="11509" y="8632"/>
                </a:cubicBezTo>
                <a:cubicBezTo>
                  <a:pt x="11583" y="8632"/>
                  <a:pt x="11639" y="8595"/>
                  <a:pt x="11683" y="8533"/>
                </a:cubicBezTo>
                <a:cubicBezTo>
                  <a:pt x="11740" y="8453"/>
                  <a:pt x="11765" y="8379"/>
                  <a:pt x="11782" y="8285"/>
                </a:cubicBezTo>
                <a:cubicBezTo>
                  <a:pt x="11802" y="8174"/>
                  <a:pt x="11805" y="8105"/>
                  <a:pt x="11733" y="8012"/>
                </a:cubicBezTo>
                <a:cubicBezTo>
                  <a:pt x="11706" y="7977"/>
                  <a:pt x="11626" y="7899"/>
                  <a:pt x="11584" y="7888"/>
                </a:cubicBezTo>
                <a:cubicBezTo>
                  <a:pt x="11519" y="7871"/>
                  <a:pt x="11515" y="7874"/>
                  <a:pt x="11460" y="7888"/>
                </a:cubicBezTo>
              </a:path>
              <a:path w="3052" h="845">
                <a:moveTo>
                  <a:pt x="11237" y="8260"/>
                </a:moveTo>
                <a:cubicBezTo>
                  <a:pt x="11281" y="8294"/>
                  <a:pt x="11326" y="8307"/>
                  <a:pt x="11385" y="8310"/>
                </a:cubicBezTo>
                <a:cubicBezTo>
                  <a:pt x="11498" y="8315"/>
                  <a:pt x="11600" y="8297"/>
                  <a:pt x="11708" y="8285"/>
                </a:cubicBezTo>
                <a:cubicBezTo>
                  <a:pt x="11826" y="8272"/>
                  <a:pt x="11950" y="8281"/>
                  <a:pt x="12055" y="8260"/>
                </a:cubicBezTo>
                <a:cubicBezTo>
                  <a:pt x="12072" y="8260"/>
                  <a:pt x="12088" y="8260"/>
                  <a:pt x="12105" y="8260"/>
                </a:cubicBezTo>
              </a:path>
              <a:path w="3052" h="845">
                <a:moveTo>
                  <a:pt x="12452" y="8235"/>
                </a:moveTo>
                <a:cubicBezTo>
                  <a:pt x="12444" y="8235"/>
                  <a:pt x="12435" y="8235"/>
                  <a:pt x="12427" y="82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Ink 6"/>
          <p:cNvSpPr/>
          <p:nvPr/>
        </p:nvSpPr>
        <p:spPr>
          <a:xfrm>
            <a:off x="4741920" y="2714760"/>
            <a:ext cx="1081080" cy="393480"/>
          </a:xfrm>
          <a:custGeom>
            <a:avLst/>
            <a:gdLst/>
            <a:ahLst/>
            <a:rect l="l" t="t" r="r" b="b"/>
            <a:pathLst>
              <a:path w="3003" h="1092">
                <a:moveTo>
                  <a:pt x="13767" y="8012"/>
                </a:moveTo>
                <a:cubicBezTo>
                  <a:pt x="13767" y="7961"/>
                  <a:pt x="13776" y="7926"/>
                  <a:pt x="13742" y="7888"/>
                </a:cubicBezTo>
                <a:cubicBezTo>
                  <a:pt x="13718" y="7861"/>
                  <a:pt x="13654" y="7848"/>
                  <a:pt x="13618" y="7863"/>
                </a:cubicBezTo>
                <a:cubicBezTo>
                  <a:pt x="13581" y="7879"/>
                  <a:pt x="13523" y="7915"/>
                  <a:pt x="13494" y="7938"/>
                </a:cubicBezTo>
                <a:cubicBezTo>
                  <a:pt x="13460" y="7964"/>
                  <a:pt x="13424" y="7996"/>
                  <a:pt x="13419" y="8037"/>
                </a:cubicBezTo>
                <a:cubicBezTo>
                  <a:pt x="13413" y="8094"/>
                  <a:pt x="13432" y="8078"/>
                  <a:pt x="13469" y="8111"/>
                </a:cubicBezTo>
                <a:cubicBezTo>
                  <a:pt x="13530" y="8165"/>
                  <a:pt x="13590" y="8200"/>
                  <a:pt x="13643" y="8260"/>
                </a:cubicBezTo>
                <a:cubicBezTo>
                  <a:pt x="13709" y="8336"/>
                  <a:pt x="13702" y="8353"/>
                  <a:pt x="13692" y="8434"/>
                </a:cubicBezTo>
                <a:cubicBezTo>
                  <a:pt x="13683" y="8508"/>
                  <a:pt x="13661" y="8523"/>
                  <a:pt x="13593" y="8558"/>
                </a:cubicBezTo>
                <a:cubicBezTo>
                  <a:pt x="13537" y="8587"/>
                  <a:pt x="13432" y="8619"/>
                  <a:pt x="13370" y="8607"/>
                </a:cubicBezTo>
                <a:cubicBezTo>
                  <a:pt x="13327" y="8599"/>
                  <a:pt x="13232" y="8580"/>
                  <a:pt x="13196" y="8558"/>
                </a:cubicBezTo>
                <a:cubicBezTo>
                  <a:pt x="13182" y="8550"/>
                  <a:pt x="13148" y="8471"/>
                  <a:pt x="13171" y="8458"/>
                </a:cubicBezTo>
                <a:cubicBezTo>
                  <a:pt x="13196" y="8450"/>
                  <a:pt x="13221" y="8442"/>
                  <a:pt x="13246" y="8434"/>
                </a:cubicBezTo>
              </a:path>
              <a:path w="3003" h="1092">
                <a:moveTo>
                  <a:pt x="13816" y="8285"/>
                </a:moveTo>
                <a:cubicBezTo>
                  <a:pt x="13883" y="8285"/>
                  <a:pt x="13929" y="8289"/>
                  <a:pt x="13990" y="8260"/>
                </a:cubicBezTo>
                <a:cubicBezTo>
                  <a:pt x="14049" y="8232"/>
                  <a:pt x="14112" y="8200"/>
                  <a:pt x="14163" y="8161"/>
                </a:cubicBezTo>
                <a:cubicBezTo>
                  <a:pt x="14205" y="8129"/>
                  <a:pt x="14233" y="8089"/>
                  <a:pt x="14238" y="8037"/>
                </a:cubicBezTo>
                <a:cubicBezTo>
                  <a:pt x="14240" y="8013"/>
                  <a:pt x="14238" y="7986"/>
                  <a:pt x="14238" y="7962"/>
                </a:cubicBezTo>
                <a:cubicBezTo>
                  <a:pt x="14205" y="7962"/>
                  <a:pt x="14133" y="7967"/>
                  <a:pt x="14114" y="7987"/>
                </a:cubicBezTo>
                <a:cubicBezTo>
                  <a:pt x="14066" y="8038"/>
                  <a:pt x="14023" y="8124"/>
                  <a:pt x="13990" y="8186"/>
                </a:cubicBezTo>
                <a:cubicBezTo>
                  <a:pt x="13947" y="8266"/>
                  <a:pt x="13898" y="8344"/>
                  <a:pt x="13891" y="8434"/>
                </a:cubicBezTo>
                <a:cubicBezTo>
                  <a:pt x="13889" y="8460"/>
                  <a:pt x="13918" y="8563"/>
                  <a:pt x="13940" y="8582"/>
                </a:cubicBezTo>
                <a:cubicBezTo>
                  <a:pt x="13960" y="8599"/>
                  <a:pt x="14058" y="8620"/>
                  <a:pt x="14089" y="8607"/>
                </a:cubicBezTo>
                <a:cubicBezTo>
                  <a:pt x="14097" y="8599"/>
                  <a:pt x="14106" y="8590"/>
                  <a:pt x="14114" y="8582"/>
                </a:cubicBezTo>
              </a:path>
              <a:path w="3003" h="1092">
                <a:moveTo>
                  <a:pt x="14759" y="8012"/>
                </a:moveTo>
                <a:cubicBezTo>
                  <a:pt x="14781" y="7990"/>
                  <a:pt x="14786" y="7981"/>
                  <a:pt x="14808" y="7987"/>
                </a:cubicBezTo>
                <a:cubicBezTo>
                  <a:pt x="14788" y="7980"/>
                  <a:pt x="14770" y="7942"/>
                  <a:pt x="14734" y="7962"/>
                </a:cubicBezTo>
                <a:cubicBezTo>
                  <a:pt x="14694" y="7984"/>
                  <a:pt x="14643" y="8031"/>
                  <a:pt x="14610" y="8062"/>
                </a:cubicBezTo>
                <a:cubicBezTo>
                  <a:pt x="14537" y="8129"/>
                  <a:pt x="14485" y="8199"/>
                  <a:pt x="14436" y="8285"/>
                </a:cubicBezTo>
                <a:cubicBezTo>
                  <a:pt x="14412" y="8328"/>
                  <a:pt x="14376" y="8434"/>
                  <a:pt x="14387" y="8483"/>
                </a:cubicBezTo>
                <a:cubicBezTo>
                  <a:pt x="14397" y="8528"/>
                  <a:pt x="14414" y="8579"/>
                  <a:pt x="14461" y="8582"/>
                </a:cubicBezTo>
                <a:cubicBezTo>
                  <a:pt x="14583" y="8590"/>
                  <a:pt x="14641" y="8557"/>
                  <a:pt x="14734" y="8483"/>
                </a:cubicBezTo>
              </a:path>
              <a:path w="3003" h="1092">
                <a:moveTo>
                  <a:pt x="15106" y="7640"/>
                </a:moveTo>
                <a:cubicBezTo>
                  <a:pt x="15147" y="7605"/>
                  <a:pt x="15223" y="7497"/>
                  <a:pt x="15304" y="7541"/>
                </a:cubicBezTo>
                <a:cubicBezTo>
                  <a:pt x="15342" y="7562"/>
                  <a:pt x="15378" y="7581"/>
                  <a:pt x="15354" y="7640"/>
                </a:cubicBezTo>
                <a:cubicBezTo>
                  <a:pt x="15344" y="7665"/>
                  <a:pt x="15278" y="7724"/>
                  <a:pt x="15255" y="7739"/>
                </a:cubicBezTo>
                <a:cubicBezTo>
                  <a:pt x="15219" y="7762"/>
                  <a:pt x="15151" y="7793"/>
                  <a:pt x="15131" y="7838"/>
                </a:cubicBezTo>
                <a:cubicBezTo>
                  <a:pt x="15131" y="7863"/>
                  <a:pt x="15131" y="7871"/>
                  <a:pt x="15131" y="7888"/>
                </a:cubicBezTo>
                <a:cubicBezTo>
                  <a:pt x="15181" y="7888"/>
                  <a:pt x="15230" y="7888"/>
                  <a:pt x="15280" y="7888"/>
                </a:cubicBezTo>
              </a:path>
              <a:path w="3003" h="1092">
                <a:moveTo>
                  <a:pt x="15776" y="7764"/>
                </a:moveTo>
                <a:cubicBezTo>
                  <a:pt x="15699" y="7875"/>
                  <a:pt x="15589" y="8010"/>
                  <a:pt x="15528" y="8136"/>
                </a:cubicBezTo>
                <a:cubicBezTo>
                  <a:pt x="15489" y="8216"/>
                  <a:pt x="15457" y="8321"/>
                  <a:pt x="15453" y="8409"/>
                </a:cubicBezTo>
                <a:cubicBezTo>
                  <a:pt x="15449" y="8500"/>
                  <a:pt x="15471" y="8545"/>
                  <a:pt x="15528" y="8607"/>
                </a:cubicBezTo>
                <a:cubicBezTo>
                  <a:pt x="15565" y="8647"/>
                  <a:pt x="15675" y="8642"/>
                  <a:pt x="15726" y="8632"/>
                </a:cubicBezTo>
                <a:cubicBezTo>
                  <a:pt x="15858" y="8606"/>
                  <a:pt x="15945" y="8505"/>
                  <a:pt x="16049" y="8434"/>
                </a:cubicBezTo>
                <a:cubicBezTo>
                  <a:pt x="16117" y="8387"/>
                  <a:pt x="16156" y="8322"/>
                  <a:pt x="16173" y="8235"/>
                </a:cubicBezTo>
                <a:cubicBezTo>
                  <a:pt x="16185" y="8174"/>
                  <a:pt x="16146" y="8067"/>
                  <a:pt x="16123" y="8012"/>
                </a:cubicBezTo>
                <a:cubicBezTo>
                  <a:pt x="16092" y="7938"/>
                  <a:pt x="16066" y="7878"/>
                  <a:pt x="15999" y="7838"/>
                </a:cubicBezTo>
                <a:cubicBezTo>
                  <a:pt x="15957" y="7813"/>
                  <a:pt x="15894" y="7769"/>
                  <a:pt x="15850" y="7764"/>
                </a:cubicBezTo>
                <a:cubicBezTo>
                  <a:pt x="15815" y="7764"/>
                  <a:pt x="15798" y="7769"/>
                  <a:pt x="15776" y="7789"/>
                </a:cubicBezTo>
              </a:path>
              <a:path w="3003" h="1092">
                <a:moveTo>
                  <a:pt x="15404" y="8161"/>
                </a:moveTo>
                <a:cubicBezTo>
                  <a:pt x="15460" y="8204"/>
                  <a:pt x="15478" y="8171"/>
                  <a:pt x="15553" y="8186"/>
                </a:cubicBezTo>
                <a:cubicBezTo>
                  <a:pt x="15669" y="8208"/>
                  <a:pt x="15783" y="8214"/>
                  <a:pt x="15900" y="8235"/>
                </a:cubicBezTo>
                <a:cubicBezTo>
                  <a:pt x="15986" y="8250"/>
                  <a:pt x="16070" y="8324"/>
                  <a:pt x="16148" y="8285"/>
                </a:cubicBezTo>
                <a:cubicBezTo>
                  <a:pt x="16148" y="8277"/>
                  <a:pt x="16148" y="8268"/>
                  <a:pt x="16148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Ink 7"/>
          <p:cNvSpPr/>
          <p:nvPr/>
        </p:nvSpPr>
        <p:spPr>
          <a:xfrm>
            <a:off x="3303720" y="3429000"/>
            <a:ext cx="903240" cy="777960"/>
          </a:xfrm>
          <a:custGeom>
            <a:avLst/>
            <a:gdLst/>
            <a:ahLst/>
            <a:rect l="l" t="t" r="r" b="b"/>
            <a:pathLst>
              <a:path w="2506" h="2159">
                <a:moveTo>
                  <a:pt x="10269" y="9525"/>
                </a:moveTo>
                <a:cubicBezTo>
                  <a:pt x="10226" y="9582"/>
                  <a:pt x="10214" y="9654"/>
                  <a:pt x="10195" y="9723"/>
                </a:cubicBezTo>
                <a:cubicBezTo>
                  <a:pt x="10163" y="9837"/>
                  <a:pt x="10131" y="9962"/>
                  <a:pt x="10096" y="10071"/>
                </a:cubicBezTo>
                <a:cubicBezTo>
                  <a:pt x="10075" y="10138"/>
                  <a:pt x="10066" y="10206"/>
                  <a:pt x="10046" y="10269"/>
                </a:cubicBezTo>
                <a:cubicBezTo>
                  <a:pt x="10030" y="10320"/>
                  <a:pt x="10021" y="10319"/>
                  <a:pt x="10021" y="10368"/>
                </a:cubicBezTo>
              </a:path>
              <a:path w="2506" h="2159">
                <a:moveTo>
                  <a:pt x="9178" y="10443"/>
                </a:moveTo>
                <a:cubicBezTo>
                  <a:pt x="9461" y="10443"/>
                  <a:pt x="9741" y="10435"/>
                  <a:pt x="10021" y="10418"/>
                </a:cubicBezTo>
                <a:cubicBezTo>
                  <a:pt x="10359" y="10398"/>
                  <a:pt x="10704" y="10420"/>
                  <a:pt x="11038" y="10393"/>
                </a:cubicBezTo>
                <a:cubicBezTo>
                  <a:pt x="11096" y="10388"/>
                  <a:pt x="11104" y="10393"/>
                  <a:pt x="11162" y="10393"/>
                </a:cubicBezTo>
              </a:path>
              <a:path w="2506" h="2159">
                <a:moveTo>
                  <a:pt x="9922" y="10790"/>
                </a:moveTo>
                <a:cubicBezTo>
                  <a:pt x="9863" y="10815"/>
                  <a:pt x="9806" y="10821"/>
                  <a:pt x="9748" y="10840"/>
                </a:cubicBezTo>
                <a:cubicBezTo>
                  <a:pt x="9668" y="10866"/>
                  <a:pt x="9603" y="10875"/>
                  <a:pt x="9525" y="10914"/>
                </a:cubicBezTo>
                <a:cubicBezTo>
                  <a:pt x="9473" y="10940"/>
                  <a:pt x="9408" y="10923"/>
                  <a:pt x="9401" y="10988"/>
                </a:cubicBezTo>
                <a:cubicBezTo>
                  <a:pt x="9393" y="11058"/>
                  <a:pt x="9415" y="11095"/>
                  <a:pt x="9475" y="11137"/>
                </a:cubicBezTo>
                <a:cubicBezTo>
                  <a:pt x="9533" y="11178"/>
                  <a:pt x="9657" y="11263"/>
                  <a:pt x="9674" y="11336"/>
                </a:cubicBezTo>
                <a:cubicBezTo>
                  <a:pt x="9705" y="11467"/>
                  <a:pt x="9649" y="11524"/>
                  <a:pt x="9550" y="11584"/>
                </a:cubicBezTo>
                <a:cubicBezTo>
                  <a:pt x="9477" y="11628"/>
                  <a:pt x="9409" y="11633"/>
                  <a:pt x="9327" y="11633"/>
                </a:cubicBezTo>
                <a:cubicBezTo>
                  <a:pt x="9266" y="11633"/>
                  <a:pt x="9242" y="11644"/>
                  <a:pt x="9227" y="11584"/>
                </a:cubicBezTo>
              </a:path>
              <a:path w="2506" h="2159">
                <a:moveTo>
                  <a:pt x="9872" y="11311"/>
                </a:moveTo>
                <a:cubicBezTo>
                  <a:pt x="9964" y="11285"/>
                  <a:pt x="10033" y="11246"/>
                  <a:pt x="10120" y="11212"/>
                </a:cubicBezTo>
                <a:cubicBezTo>
                  <a:pt x="10160" y="11196"/>
                  <a:pt x="10277" y="11136"/>
                  <a:pt x="10294" y="11088"/>
                </a:cubicBezTo>
                <a:cubicBezTo>
                  <a:pt x="10311" y="11040"/>
                  <a:pt x="10290" y="10999"/>
                  <a:pt x="10269" y="10964"/>
                </a:cubicBezTo>
                <a:cubicBezTo>
                  <a:pt x="10226" y="11006"/>
                  <a:pt x="10157" y="11023"/>
                  <a:pt x="10120" y="11063"/>
                </a:cubicBezTo>
                <a:cubicBezTo>
                  <a:pt x="10064" y="11123"/>
                  <a:pt x="9966" y="11225"/>
                  <a:pt x="9947" y="11311"/>
                </a:cubicBezTo>
                <a:cubicBezTo>
                  <a:pt x="9930" y="11388"/>
                  <a:pt x="9901" y="11464"/>
                  <a:pt x="9947" y="11534"/>
                </a:cubicBezTo>
                <a:cubicBezTo>
                  <a:pt x="9994" y="11606"/>
                  <a:pt x="10029" y="11592"/>
                  <a:pt x="10096" y="11584"/>
                </a:cubicBezTo>
                <a:cubicBezTo>
                  <a:pt x="10112" y="11584"/>
                  <a:pt x="10129" y="11584"/>
                  <a:pt x="10145" y="11584"/>
                </a:cubicBezTo>
              </a:path>
              <a:path w="2506" h="2159">
                <a:moveTo>
                  <a:pt x="10691" y="11038"/>
                </a:moveTo>
                <a:cubicBezTo>
                  <a:pt x="10699" y="11046"/>
                  <a:pt x="10708" y="11055"/>
                  <a:pt x="10716" y="11063"/>
                </a:cubicBezTo>
                <a:cubicBezTo>
                  <a:pt x="10659" y="11063"/>
                  <a:pt x="10641" y="11075"/>
                  <a:pt x="10616" y="11088"/>
                </a:cubicBezTo>
                <a:cubicBezTo>
                  <a:pt x="10557" y="11119"/>
                  <a:pt x="10561" y="11156"/>
                  <a:pt x="10517" y="11212"/>
                </a:cubicBezTo>
                <a:cubicBezTo>
                  <a:pt x="10470" y="11272"/>
                  <a:pt x="10410" y="11350"/>
                  <a:pt x="10418" y="11435"/>
                </a:cubicBezTo>
                <a:cubicBezTo>
                  <a:pt x="10423" y="11489"/>
                  <a:pt x="10458" y="11564"/>
                  <a:pt x="10492" y="11609"/>
                </a:cubicBezTo>
                <a:cubicBezTo>
                  <a:pt x="10517" y="11642"/>
                  <a:pt x="10605" y="11648"/>
                  <a:pt x="10641" y="11633"/>
                </a:cubicBezTo>
                <a:cubicBezTo>
                  <a:pt x="10719" y="11600"/>
                  <a:pt x="10779" y="11540"/>
                  <a:pt x="10840" y="11485"/>
                </a:cubicBezTo>
              </a:path>
              <a:path w="2506" h="2159">
                <a:moveTo>
                  <a:pt x="11137" y="11038"/>
                </a:moveTo>
                <a:cubicBezTo>
                  <a:pt x="11103" y="11139"/>
                  <a:pt x="11070" y="11237"/>
                  <a:pt x="11038" y="11336"/>
                </a:cubicBezTo>
                <a:cubicBezTo>
                  <a:pt x="11008" y="11429"/>
                  <a:pt x="10977" y="11511"/>
                  <a:pt x="11013" y="11609"/>
                </a:cubicBezTo>
                <a:cubicBezTo>
                  <a:pt x="11029" y="11651"/>
                  <a:pt x="11099" y="11680"/>
                  <a:pt x="11137" y="11683"/>
                </a:cubicBezTo>
                <a:cubicBezTo>
                  <a:pt x="11208" y="11688"/>
                  <a:pt x="11271" y="11615"/>
                  <a:pt x="11311" y="11559"/>
                </a:cubicBezTo>
                <a:cubicBezTo>
                  <a:pt x="11365" y="11485"/>
                  <a:pt x="11396" y="11398"/>
                  <a:pt x="11410" y="11311"/>
                </a:cubicBezTo>
                <a:cubicBezTo>
                  <a:pt x="11422" y="11234"/>
                  <a:pt x="11402" y="11180"/>
                  <a:pt x="11385" y="11112"/>
                </a:cubicBezTo>
                <a:cubicBezTo>
                  <a:pt x="11372" y="11061"/>
                  <a:pt x="11322" y="11062"/>
                  <a:pt x="11286" y="11038"/>
                </a:cubicBezTo>
                <a:cubicBezTo>
                  <a:pt x="11278" y="11030"/>
                  <a:pt x="11269" y="11021"/>
                  <a:pt x="11261" y="11013"/>
                </a:cubicBezTo>
              </a:path>
              <a:path w="2506" h="2159">
                <a:moveTo>
                  <a:pt x="10840" y="11212"/>
                </a:moveTo>
                <a:cubicBezTo>
                  <a:pt x="10935" y="11263"/>
                  <a:pt x="10984" y="11266"/>
                  <a:pt x="11088" y="11286"/>
                </a:cubicBezTo>
                <a:cubicBezTo>
                  <a:pt x="11202" y="11308"/>
                  <a:pt x="11321" y="11324"/>
                  <a:pt x="11435" y="11336"/>
                </a:cubicBezTo>
                <a:cubicBezTo>
                  <a:pt x="11516" y="11345"/>
                  <a:pt x="11601" y="11336"/>
                  <a:pt x="11683" y="11336"/>
                </a:cubicBezTo>
                <a:cubicBezTo>
                  <a:pt x="11643" y="11323"/>
                  <a:pt x="11658" y="11317"/>
                  <a:pt x="11658" y="11261"/>
                </a:cubicBezTo>
              </a:path>
              <a:path w="2506" h="2159">
                <a:moveTo>
                  <a:pt x="9401" y="11410"/>
                </a:moveTo>
                <a:cubicBezTo>
                  <a:pt x="9464" y="11372"/>
                  <a:pt x="9525" y="11378"/>
                  <a:pt x="9599" y="11361"/>
                </a:cubicBezTo>
                <a:cubicBezTo>
                  <a:pt x="9716" y="11334"/>
                  <a:pt x="9830" y="11331"/>
                  <a:pt x="9947" y="11311"/>
                </a:cubicBezTo>
                <a:cubicBezTo>
                  <a:pt x="10178" y="11271"/>
                  <a:pt x="10410" y="11233"/>
                  <a:pt x="10641" y="11187"/>
                </a:cubicBezTo>
                <a:cubicBezTo>
                  <a:pt x="10772" y="11161"/>
                  <a:pt x="10911" y="11131"/>
                  <a:pt x="11038" y="11112"/>
                </a:cubicBezTo>
                <a:cubicBezTo>
                  <a:pt x="11096" y="11103"/>
                  <a:pt x="11114" y="11076"/>
                  <a:pt x="11162" y="11063"/>
                </a:cubicBezTo>
                <a:cubicBezTo>
                  <a:pt x="11185" y="11057"/>
                  <a:pt x="11214" y="11066"/>
                  <a:pt x="11237" y="110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Ink 8"/>
          <p:cNvSpPr/>
          <p:nvPr/>
        </p:nvSpPr>
        <p:spPr>
          <a:xfrm>
            <a:off x="4724280" y="3375000"/>
            <a:ext cx="1054080" cy="420840"/>
          </a:xfrm>
          <a:custGeom>
            <a:avLst/>
            <a:gdLst/>
            <a:ahLst/>
            <a:rect l="l" t="t" r="r" b="b"/>
            <a:pathLst>
              <a:path w="2928" h="1167">
                <a:moveTo>
                  <a:pt x="13667" y="9823"/>
                </a:moveTo>
                <a:cubicBezTo>
                  <a:pt x="13655" y="9784"/>
                  <a:pt x="13567" y="9810"/>
                  <a:pt x="13519" y="9823"/>
                </a:cubicBezTo>
                <a:cubicBezTo>
                  <a:pt x="13441" y="9845"/>
                  <a:pt x="13373" y="9880"/>
                  <a:pt x="13295" y="9897"/>
                </a:cubicBezTo>
                <a:cubicBezTo>
                  <a:pt x="13287" y="9897"/>
                  <a:pt x="13279" y="9897"/>
                  <a:pt x="13271" y="9897"/>
                </a:cubicBezTo>
                <a:cubicBezTo>
                  <a:pt x="13271" y="9958"/>
                  <a:pt x="13292" y="9980"/>
                  <a:pt x="13345" y="10021"/>
                </a:cubicBezTo>
                <a:cubicBezTo>
                  <a:pt x="13415" y="10075"/>
                  <a:pt x="13523" y="10140"/>
                  <a:pt x="13568" y="10220"/>
                </a:cubicBezTo>
                <a:cubicBezTo>
                  <a:pt x="13616" y="10306"/>
                  <a:pt x="13595" y="10364"/>
                  <a:pt x="13519" y="10418"/>
                </a:cubicBezTo>
                <a:cubicBezTo>
                  <a:pt x="13466" y="10455"/>
                  <a:pt x="13386" y="10487"/>
                  <a:pt x="13320" y="10468"/>
                </a:cubicBezTo>
                <a:cubicBezTo>
                  <a:pt x="13254" y="10449"/>
                  <a:pt x="13256" y="10445"/>
                  <a:pt x="13221" y="10393"/>
                </a:cubicBezTo>
              </a:path>
              <a:path w="2928" h="1167">
                <a:moveTo>
                  <a:pt x="13667" y="10170"/>
                </a:moveTo>
                <a:cubicBezTo>
                  <a:pt x="13744" y="10147"/>
                  <a:pt x="13955" y="10107"/>
                  <a:pt x="14015" y="10021"/>
                </a:cubicBezTo>
                <a:cubicBezTo>
                  <a:pt x="14057" y="9961"/>
                  <a:pt x="14037" y="9932"/>
                  <a:pt x="14015" y="9872"/>
                </a:cubicBezTo>
                <a:cubicBezTo>
                  <a:pt x="13956" y="9872"/>
                  <a:pt x="13919" y="9895"/>
                  <a:pt x="13866" y="9922"/>
                </a:cubicBezTo>
                <a:cubicBezTo>
                  <a:pt x="13783" y="9964"/>
                  <a:pt x="13757" y="10016"/>
                  <a:pt x="13717" y="10096"/>
                </a:cubicBezTo>
                <a:cubicBezTo>
                  <a:pt x="13687" y="10154"/>
                  <a:pt x="13676" y="10253"/>
                  <a:pt x="13692" y="10319"/>
                </a:cubicBezTo>
                <a:cubicBezTo>
                  <a:pt x="13703" y="10366"/>
                  <a:pt x="13773" y="10431"/>
                  <a:pt x="13816" y="10443"/>
                </a:cubicBezTo>
                <a:cubicBezTo>
                  <a:pt x="13874" y="10459"/>
                  <a:pt x="13936" y="10433"/>
                  <a:pt x="13990" y="10418"/>
                </a:cubicBezTo>
              </a:path>
              <a:path w="2928" h="1167">
                <a:moveTo>
                  <a:pt x="14536" y="9922"/>
                </a:moveTo>
                <a:cubicBezTo>
                  <a:pt x="14536" y="9947"/>
                  <a:pt x="14536" y="9955"/>
                  <a:pt x="14536" y="9971"/>
                </a:cubicBezTo>
                <a:cubicBezTo>
                  <a:pt x="14491" y="9960"/>
                  <a:pt x="14465" y="9947"/>
                  <a:pt x="14412" y="9947"/>
                </a:cubicBezTo>
                <a:cubicBezTo>
                  <a:pt x="14363" y="9947"/>
                  <a:pt x="14292" y="10008"/>
                  <a:pt x="14263" y="10046"/>
                </a:cubicBezTo>
                <a:cubicBezTo>
                  <a:pt x="14222" y="10101"/>
                  <a:pt x="14154" y="10173"/>
                  <a:pt x="14139" y="10244"/>
                </a:cubicBezTo>
                <a:cubicBezTo>
                  <a:pt x="14126" y="10302"/>
                  <a:pt x="14136" y="10381"/>
                  <a:pt x="14188" y="10418"/>
                </a:cubicBezTo>
                <a:cubicBezTo>
                  <a:pt x="14252" y="10463"/>
                  <a:pt x="14344" y="10466"/>
                  <a:pt x="14412" y="10443"/>
                </a:cubicBezTo>
                <a:cubicBezTo>
                  <a:pt x="14474" y="10422"/>
                  <a:pt x="14513" y="10385"/>
                  <a:pt x="14560" y="10344"/>
                </a:cubicBezTo>
              </a:path>
              <a:path w="2928" h="1167">
                <a:moveTo>
                  <a:pt x="14759" y="9451"/>
                </a:moveTo>
                <a:cubicBezTo>
                  <a:pt x="14809" y="9424"/>
                  <a:pt x="14905" y="9348"/>
                  <a:pt x="14957" y="9401"/>
                </a:cubicBezTo>
                <a:cubicBezTo>
                  <a:pt x="14989" y="9434"/>
                  <a:pt x="14984" y="9485"/>
                  <a:pt x="14957" y="9525"/>
                </a:cubicBezTo>
                <a:cubicBezTo>
                  <a:pt x="14914" y="9589"/>
                  <a:pt x="14826" y="9620"/>
                  <a:pt x="14784" y="9674"/>
                </a:cubicBezTo>
                <a:cubicBezTo>
                  <a:pt x="14764" y="9701"/>
                  <a:pt x="14793" y="9756"/>
                  <a:pt x="14808" y="9773"/>
                </a:cubicBezTo>
                <a:cubicBezTo>
                  <a:pt x="14870" y="9844"/>
                  <a:pt x="14984" y="9784"/>
                  <a:pt x="15056" y="9773"/>
                </a:cubicBezTo>
                <a:cubicBezTo>
                  <a:pt x="15073" y="9773"/>
                  <a:pt x="15089" y="9773"/>
                  <a:pt x="15106" y="9773"/>
                </a:cubicBezTo>
              </a:path>
              <a:path w="2928" h="1167">
                <a:moveTo>
                  <a:pt x="15701" y="9773"/>
                </a:moveTo>
                <a:cubicBezTo>
                  <a:pt x="15639" y="9871"/>
                  <a:pt x="15570" y="9929"/>
                  <a:pt x="15503" y="10021"/>
                </a:cubicBezTo>
                <a:cubicBezTo>
                  <a:pt x="15435" y="10114"/>
                  <a:pt x="15377" y="10189"/>
                  <a:pt x="15329" y="10294"/>
                </a:cubicBezTo>
                <a:cubicBezTo>
                  <a:pt x="15291" y="10377"/>
                  <a:pt x="15298" y="10452"/>
                  <a:pt x="15379" y="10517"/>
                </a:cubicBezTo>
                <a:cubicBezTo>
                  <a:pt x="15459" y="10581"/>
                  <a:pt x="15596" y="10530"/>
                  <a:pt x="15677" y="10492"/>
                </a:cubicBezTo>
                <a:cubicBezTo>
                  <a:pt x="15769" y="10449"/>
                  <a:pt x="15877" y="10358"/>
                  <a:pt x="15925" y="10269"/>
                </a:cubicBezTo>
                <a:cubicBezTo>
                  <a:pt x="15970" y="10185"/>
                  <a:pt x="15986" y="10105"/>
                  <a:pt x="15949" y="10021"/>
                </a:cubicBezTo>
                <a:cubicBezTo>
                  <a:pt x="15916" y="9946"/>
                  <a:pt x="15896" y="9910"/>
                  <a:pt x="15825" y="9872"/>
                </a:cubicBezTo>
                <a:cubicBezTo>
                  <a:pt x="15776" y="9846"/>
                  <a:pt x="15726" y="9823"/>
                  <a:pt x="15677" y="9798"/>
                </a:cubicBezTo>
              </a:path>
              <a:path w="2928" h="1167">
                <a:moveTo>
                  <a:pt x="15205" y="10120"/>
                </a:moveTo>
                <a:cubicBezTo>
                  <a:pt x="15360" y="10145"/>
                  <a:pt x="15474" y="10124"/>
                  <a:pt x="15627" y="10120"/>
                </a:cubicBezTo>
                <a:cubicBezTo>
                  <a:pt x="15745" y="10117"/>
                  <a:pt x="15855" y="10096"/>
                  <a:pt x="15974" y="10096"/>
                </a:cubicBezTo>
                <a:cubicBezTo>
                  <a:pt x="16019" y="10096"/>
                  <a:pt x="16032" y="10092"/>
                  <a:pt x="16049" y="10120"/>
                </a:cubicBezTo>
              </a:path>
              <a:path w="2928" h="1167">
                <a:moveTo>
                  <a:pt x="13146" y="10418"/>
                </a:moveTo>
                <a:cubicBezTo>
                  <a:pt x="13159" y="10400"/>
                  <a:pt x="13132" y="10397"/>
                  <a:pt x="13221" y="10368"/>
                </a:cubicBezTo>
                <a:cubicBezTo>
                  <a:pt x="13361" y="10322"/>
                  <a:pt x="13502" y="10288"/>
                  <a:pt x="13643" y="10244"/>
                </a:cubicBezTo>
                <a:cubicBezTo>
                  <a:pt x="13825" y="10187"/>
                  <a:pt x="14008" y="10133"/>
                  <a:pt x="14188" y="10071"/>
                </a:cubicBezTo>
                <a:cubicBezTo>
                  <a:pt x="14418" y="9991"/>
                  <a:pt x="14654" y="9928"/>
                  <a:pt x="14883" y="9847"/>
                </a:cubicBezTo>
                <a:cubicBezTo>
                  <a:pt x="15062" y="9784"/>
                  <a:pt x="15251" y="9763"/>
                  <a:pt x="15429" y="9699"/>
                </a:cubicBezTo>
                <a:cubicBezTo>
                  <a:pt x="15497" y="9675"/>
                  <a:pt x="15563" y="9647"/>
                  <a:pt x="15627" y="9624"/>
                </a:cubicBezTo>
                <a:cubicBezTo>
                  <a:pt x="15688" y="9602"/>
                  <a:pt x="15665" y="9623"/>
                  <a:pt x="15627" y="96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Ink 9"/>
          <p:cNvSpPr/>
          <p:nvPr/>
        </p:nvSpPr>
        <p:spPr>
          <a:xfrm>
            <a:off x="4249800" y="4518000"/>
            <a:ext cx="1036440" cy="339840"/>
          </a:xfrm>
          <a:custGeom>
            <a:avLst/>
            <a:gdLst/>
            <a:ahLst/>
            <a:rect l="l" t="t" r="r" b="b"/>
            <a:pathLst>
              <a:path w="2878" h="944">
                <a:moveTo>
                  <a:pt x="12378" y="12675"/>
                </a:moveTo>
                <a:cubicBezTo>
                  <a:pt x="12378" y="12602"/>
                  <a:pt x="12376" y="12608"/>
                  <a:pt x="12328" y="12576"/>
                </a:cubicBezTo>
                <a:cubicBezTo>
                  <a:pt x="12264" y="12533"/>
                  <a:pt x="12228" y="12572"/>
                  <a:pt x="12154" y="12576"/>
                </a:cubicBezTo>
                <a:cubicBezTo>
                  <a:pt x="12102" y="12579"/>
                  <a:pt x="12010" y="12597"/>
                  <a:pt x="11981" y="12650"/>
                </a:cubicBezTo>
                <a:cubicBezTo>
                  <a:pt x="11948" y="12710"/>
                  <a:pt x="12023" y="12788"/>
                  <a:pt x="12055" y="12824"/>
                </a:cubicBezTo>
                <a:cubicBezTo>
                  <a:pt x="12113" y="12889"/>
                  <a:pt x="12212" y="12972"/>
                  <a:pt x="12254" y="13047"/>
                </a:cubicBezTo>
                <a:cubicBezTo>
                  <a:pt x="12266" y="13069"/>
                  <a:pt x="12301" y="13189"/>
                  <a:pt x="12278" y="13221"/>
                </a:cubicBezTo>
                <a:cubicBezTo>
                  <a:pt x="12230" y="13289"/>
                  <a:pt x="12132" y="13291"/>
                  <a:pt x="12055" y="13295"/>
                </a:cubicBezTo>
                <a:cubicBezTo>
                  <a:pt x="11996" y="13298"/>
                  <a:pt x="11900" y="13277"/>
                  <a:pt x="11857" y="13246"/>
                </a:cubicBezTo>
                <a:cubicBezTo>
                  <a:pt x="11812" y="13213"/>
                  <a:pt x="11805" y="13236"/>
                  <a:pt x="11832" y="13196"/>
                </a:cubicBezTo>
              </a:path>
              <a:path w="2878" h="944">
                <a:moveTo>
                  <a:pt x="12526" y="12948"/>
                </a:moveTo>
                <a:cubicBezTo>
                  <a:pt x="12622" y="12927"/>
                  <a:pt x="12671" y="12921"/>
                  <a:pt x="12750" y="12874"/>
                </a:cubicBezTo>
                <a:cubicBezTo>
                  <a:pt x="12800" y="12844"/>
                  <a:pt x="12832" y="12816"/>
                  <a:pt x="12874" y="12774"/>
                </a:cubicBezTo>
                <a:cubicBezTo>
                  <a:pt x="12886" y="12762"/>
                  <a:pt x="12921" y="12695"/>
                  <a:pt x="12898" y="12675"/>
                </a:cubicBezTo>
                <a:cubicBezTo>
                  <a:pt x="12853" y="12637"/>
                  <a:pt x="12839" y="12666"/>
                  <a:pt x="12799" y="12675"/>
                </a:cubicBezTo>
                <a:cubicBezTo>
                  <a:pt x="12709" y="12694"/>
                  <a:pt x="12658" y="12744"/>
                  <a:pt x="12601" y="12824"/>
                </a:cubicBezTo>
                <a:cubicBezTo>
                  <a:pt x="12544" y="12904"/>
                  <a:pt x="12515" y="12976"/>
                  <a:pt x="12502" y="13072"/>
                </a:cubicBezTo>
                <a:cubicBezTo>
                  <a:pt x="12492" y="13142"/>
                  <a:pt x="12510" y="13191"/>
                  <a:pt x="12551" y="13246"/>
                </a:cubicBezTo>
                <a:cubicBezTo>
                  <a:pt x="12595" y="13305"/>
                  <a:pt x="12619" y="13285"/>
                  <a:pt x="12675" y="13271"/>
                </a:cubicBezTo>
              </a:path>
              <a:path w="2878" h="944">
                <a:moveTo>
                  <a:pt x="13370" y="12725"/>
                </a:moveTo>
                <a:cubicBezTo>
                  <a:pt x="13386" y="12725"/>
                  <a:pt x="13403" y="12725"/>
                  <a:pt x="13419" y="12725"/>
                </a:cubicBezTo>
                <a:cubicBezTo>
                  <a:pt x="13381" y="12712"/>
                  <a:pt x="13404" y="12687"/>
                  <a:pt x="13370" y="12650"/>
                </a:cubicBezTo>
                <a:cubicBezTo>
                  <a:pt x="13329" y="12605"/>
                  <a:pt x="13288" y="12643"/>
                  <a:pt x="13246" y="12675"/>
                </a:cubicBezTo>
                <a:cubicBezTo>
                  <a:pt x="13192" y="12716"/>
                  <a:pt x="13130" y="12761"/>
                  <a:pt x="13097" y="12824"/>
                </a:cubicBezTo>
                <a:cubicBezTo>
                  <a:pt x="13045" y="12923"/>
                  <a:pt x="13047" y="13012"/>
                  <a:pt x="13047" y="13122"/>
                </a:cubicBezTo>
                <a:cubicBezTo>
                  <a:pt x="13047" y="13229"/>
                  <a:pt x="13134" y="13266"/>
                  <a:pt x="13221" y="13320"/>
                </a:cubicBezTo>
                <a:cubicBezTo>
                  <a:pt x="13289" y="13363"/>
                  <a:pt x="13327" y="13343"/>
                  <a:pt x="13395" y="13320"/>
                </a:cubicBezTo>
              </a:path>
              <a:path w="2878" h="944">
                <a:moveTo>
                  <a:pt x="13990" y="12675"/>
                </a:moveTo>
                <a:cubicBezTo>
                  <a:pt x="13980" y="12782"/>
                  <a:pt x="13936" y="12827"/>
                  <a:pt x="13891" y="12923"/>
                </a:cubicBezTo>
                <a:cubicBezTo>
                  <a:pt x="13848" y="13014"/>
                  <a:pt x="13821" y="13096"/>
                  <a:pt x="13816" y="13196"/>
                </a:cubicBezTo>
                <a:cubicBezTo>
                  <a:pt x="13813" y="13271"/>
                  <a:pt x="13809" y="13335"/>
                  <a:pt x="13841" y="13395"/>
                </a:cubicBezTo>
                <a:cubicBezTo>
                  <a:pt x="13873" y="13455"/>
                  <a:pt x="13940" y="13507"/>
                  <a:pt x="14015" y="13494"/>
                </a:cubicBezTo>
                <a:cubicBezTo>
                  <a:pt x="14156" y="13469"/>
                  <a:pt x="14210" y="13405"/>
                  <a:pt x="14288" y="13295"/>
                </a:cubicBezTo>
                <a:cubicBezTo>
                  <a:pt x="14365" y="13187"/>
                  <a:pt x="14362" y="13129"/>
                  <a:pt x="14362" y="12998"/>
                </a:cubicBezTo>
                <a:cubicBezTo>
                  <a:pt x="14362" y="12901"/>
                  <a:pt x="14330" y="12835"/>
                  <a:pt x="14288" y="12750"/>
                </a:cubicBezTo>
                <a:cubicBezTo>
                  <a:pt x="14261" y="12696"/>
                  <a:pt x="14220" y="12648"/>
                  <a:pt x="14163" y="12626"/>
                </a:cubicBezTo>
                <a:cubicBezTo>
                  <a:pt x="14130" y="12626"/>
                  <a:pt x="14114" y="12626"/>
                  <a:pt x="14089" y="12626"/>
                </a:cubicBezTo>
              </a:path>
              <a:path w="2878" h="944">
                <a:moveTo>
                  <a:pt x="13568" y="12998"/>
                </a:moveTo>
                <a:cubicBezTo>
                  <a:pt x="13714" y="13060"/>
                  <a:pt x="13807" y="13092"/>
                  <a:pt x="13965" y="13097"/>
                </a:cubicBezTo>
                <a:cubicBezTo>
                  <a:pt x="14091" y="13101"/>
                  <a:pt x="14237" y="13103"/>
                  <a:pt x="14362" y="13122"/>
                </a:cubicBezTo>
                <a:cubicBezTo>
                  <a:pt x="14456" y="13137"/>
                  <a:pt x="14538" y="13146"/>
                  <a:pt x="14635" y="13146"/>
                </a:cubicBezTo>
                <a:cubicBezTo>
                  <a:pt x="14689" y="13146"/>
                  <a:pt x="14689" y="13146"/>
                  <a:pt x="14635" y="131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dfdef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implify: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(Tan</a:t>
            </a:r>
            <a:r>
              <a:rPr b="0" lang="en-US" sz="4000" spc="-1" strike="noStrike" baseline="30000">
                <a:solidFill>
                  <a:srgbClr val="dfdef6"/>
                </a:solidFill>
                <a:latin typeface="Arial"/>
              </a:rPr>
              <a:t>2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)/(Sec</a:t>
            </a:r>
            <a:r>
              <a:rPr b="0" lang="en-US" sz="4000" spc="-1" strike="noStrike" baseline="30000">
                <a:solidFill>
                  <a:srgbClr val="dfdef6"/>
                </a:solidFill>
                <a:latin typeface="Arial"/>
                <a:ea typeface="Arial"/>
              </a:rPr>
              <a:t>2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1" name="Ink 5"/>
          <p:cNvSpPr/>
          <p:nvPr/>
        </p:nvSpPr>
        <p:spPr>
          <a:xfrm>
            <a:off x="2232000" y="2724120"/>
            <a:ext cx="4340160" cy="1928880"/>
          </a:xfrm>
          <a:custGeom>
            <a:avLst/>
            <a:gdLst/>
            <a:ahLst/>
            <a:rect l="l" t="t" r="r" b="b"/>
            <a:pathLst>
              <a:path w="12056" h="5359">
                <a:moveTo>
                  <a:pt x="7615" y="7665"/>
                </a:moveTo>
                <a:cubicBezTo>
                  <a:pt x="7580" y="7650"/>
                  <a:pt x="7587" y="7653"/>
                  <a:pt x="7541" y="7640"/>
                </a:cubicBezTo>
                <a:cubicBezTo>
                  <a:pt x="7499" y="7628"/>
                  <a:pt x="7442" y="7595"/>
                  <a:pt x="7392" y="7590"/>
                </a:cubicBezTo>
                <a:cubicBezTo>
                  <a:pt x="7306" y="7582"/>
                  <a:pt x="7229" y="7570"/>
                  <a:pt x="7144" y="7565"/>
                </a:cubicBezTo>
                <a:cubicBezTo>
                  <a:pt x="7041" y="7559"/>
                  <a:pt x="6924" y="7576"/>
                  <a:pt x="6821" y="7590"/>
                </a:cubicBezTo>
                <a:cubicBezTo>
                  <a:pt x="6790" y="7594"/>
                  <a:pt x="6693" y="7621"/>
                  <a:pt x="6672" y="7640"/>
                </a:cubicBezTo>
                <a:cubicBezTo>
                  <a:pt x="6628" y="7681"/>
                  <a:pt x="6636" y="7689"/>
                  <a:pt x="6623" y="7739"/>
                </a:cubicBezTo>
                <a:cubicBezTo>
                  <a:pt x="6599" y="7832"/>
                  <a:pt x="6604" y="7997"/>
                  <a:pt x="6598" y="8086"/>
                </a:cubicBezTo>
                <a:cubicBezTo>
                  <a:pt x="6590" y="8212"/>
                  <a:pt x="6594" y="8334"/>
                  <a:pt x="6573" y="8458"/>
                </a:cubicBezTo>
                <a:cubicBezTo>
                  <a:pt x="6550" y="8591"/>
                  <a:pt x="6521" y="8721"/>
                  <a:pt x="6499" y="8855"/>
                </a:cubicBezTo>
                <a:cubicBezTo>
                  <a:pt x="6475" y="9001"/>
                  <a:pt x="6467" y="9154"/>
                  <a:pt x="6449" y="9302"/>
                </a:cubicBezTo>
                <a:cubicBezTo>
                  <a:pt x="6431" y="9449"/>
                  <a:pt x="6442" y="9601"/>
                  <a:pt x="6424" y="9748"/>
                </a:cubicBezTo>
                <a:cubicBezTo>
                  <a:pt x="6404" y="9913"/>
                  <a:pt x="6418" y="10079"/>
                  <a:pt x="6400" y="10244"/>
                </a:cubicBezTo>
                <a:cubicBezTo>
                  <a:pt x="6381" y="10409"/>
                  <a:pt x="6368" y="10575"/>
                  <a:pt x="6350" y="10740"/>
                </a:cubicBezTo>
                <a:cubicBezTo>
                  <a:pt x="6331" y="10915"/>
                  <a:pt x="6316" y="11087"/>
                  <a:pt x="6300" y="11261"/>
                </a:cubicBezTo>
                <a:cubicBezTo>
                  <a:pt x="6284" y="11443"/>
                  <a:pt x="6238" y="11627"/>
                  <a:pt x="6226" y="11807"/>
                </a:cubicBezTo>
                <a:cubicBezTo>
                  <a:pt x="6216" y="11963"/>
                  <a:pt x="6210" y="12124"/>
                  <a:pt x="6201" y="12278"/>
                </a:cubicBezTo>
                <a:cubicBezTo>
                  <a:pt x="6193" y="12406"/>
                  <a:pt x="6200" y="12530"/>
                  <a:pt x="6226" y="12650"/>
                </a:cubicBezTo>
                <a:cubicBezTo>
                  <a:pt x="6233" y="12682"/>
                  <a:pt x="6230" y="12727"/>
                  <a:pt x="6251" y="12750"/>
                </a:cubicBezTo>
                <a:cubicBezTo>
                  <a:pt x="6290" y="12792"/>
                  <a:pt x="6328" y="12806"/>
                  <a:pt x="6375" y="12824"/>
                </a:cubicBezTo>
                <a:cubicBezTo>
                  <a:pt x="6469" y="12860"/>
                  <a:pt x="6596" y="12866"/>
                  <a:pt x="6697" y="12874"/>
                </a:cubicBezTo>
                <a:cubicBezTo>
                  <a:pt x="6796" y="12874"/>
                  <a:pt x="6813" y="12874"/>
                  <a:pt x="6871" y="12874"/>
                </a:cubicBezTo>
              </a:path>
              <a:path w="12056" h="5359">
                <a:moveTo>
                  <a:pt x="8161" y="8384"/>
                </a:moveTo>
                <a:cubicBezTo>
                  <a:pt x="8161" y="8409"/>
                  <a:pt x="8161" y="8417"/>
                  <a:pt x="8161" y="8434"/>
                </a:cubicBezTo>
                <a:cubicBezTo>
                  <a:pt x="8122" y="8421"/>
                  <a:pt x="8140" y="8373"/>
                  <a:pt x="8111" y="8359"/>
                </a:cubicBezTo>
                <a:cubicBezTo>
                  <a:pt x="8071" y="8339"/>
                  <a:pt x="8013" y="8356"/>
                  <a:pt x="7987" y="8359"/>
                </a:cubicBezTo>
                <a:cubicBezTo>
                  <a:pt x="7923" y="8368"/>
                  <a:pt x="7845" y="8374"/>
                  <a:pt x="7789" y="8409"/>
                </a:cubicBezTo>
                <a:cubicBezTo>
                  <a:pt x="7738" y="8441"/>
                  <a:pt x="7627" y="8485"/>
                  <a:pt x="7590" y="8533"/>
                </a:cubicBezTo>
                <a:cubicBezTo>
                  <a:pt x="7579" y="8547"/>
                  <a:pt x="7570" y="8587"/>
                  <a:pt x="7565" y="8607"/>
                </a:cubicBezTo>
                <a:cubicBezTo>
                  <a:pt x="7612" y="8642"/>
                  <a:pt x="7652" y="8632"/>
                  <a:pt x="7714" y="8632"/>
                </a:cubicBezTo>
                <a:cubicBezTo>
                  <a:pt x="7784" y="8632"/>
                  <a:pt x="7873" y="8698"/>
                  <a:pt x="7938" y="8731"/>
                </a:cubicBezTo>
                <a:cubicBezTo>
                  <a:pt x="8016" y="8770"/>
                  <a:pt x="8015" y="8811"/>
                  <a:pt x="8062" y="8880"/>
                </a:cubicBezTo>
                <a:cubicBezTo>
                  <a:pt x="8091" y="8923"/>
                  <a:pt x="8061" y="9016"/>
                  <a:pt x="8012" y="9054"/>
                </a:cubicBezTo>
                <a:cubicBezTo>
                  <a:pt x="7960" y="9095"/>
                  <a:pt x="7853" y="9141"/>
                  <a:pt x="7789" y="9153"/>
                </a:cubicBezTo>
                <a:cubicBezTo>
                  <a:pt x="7723" y="9166"/>
                  <a:pt x="7592" y="9165"/>
                  <a:pt x="7565" y="9128"/>
                </a:cubicBezTo>
                <a:cubicBezTo>
                  <a:pt x="7521" y="9068"/>
                  <a:pt x="7595" y="9024"/>
                  <a:pt x="7640" y="8979"/>
                </a:cubicBezTo>
              </a:path>
              <a:path w="12056" h="5359">
                <a:moveTo>
                  <a:pt x="8434" y="8558"/>
                </a:moveTo>
                <a:cubicBezTo>
                  <a:pt x="8434" y="8677"/>
                  <a:pt x="8415" y="8767"/>
                  <a:pt x="8409" y="8880"/>
                </a:cubicBezTo>
                <a:cubicBezTo>
                  <a:pt x="8406" y="8938"/>
                  <a:pt x="8409" y="8996"/>
                  <a:pt x="8409" y="9054"/>
                </a:cubicBezTo>
                <a:cubicBezTo>
                  <a:pt x="8409" y="9112"/>
                  <a:pt x="8409" y="8988"/>
                  <a:pt x="8409" y="8930"/>
                </a:cubicBezTo>
                <a:cubicBezTo>
                  <a:pt x="8409" y="8913"/>
                  <a:pt x="8409" y="8897"/>
                  <a:pt x="8409" y="8880"/>
                </a:cubicBezTo>
              </a:path>
              <a:path w="12056" h="5359">
                <a:moveTo>
                  <a:pt x="8533" y="8111"/>
                </a:moveTo>
                <a:cubicBezTo>
                  <a:pt x="8558" y="8111"/>
                  <a:pt x="8566" y="8111"/>
                  <a:pt x="8582" y="8111"/>
                </a:cubicBezTo>
              </a:path>
              <a:path w="12056" h="5359">
                <a:moveTo>
                  <a:pt x="8781" y="8682"/>
                </a:moveTo>
                <a:cubicBezTo>
                  <a:pt x="8767" y="8802"/>
                  <a:pt x="8740" y="8900"/>
                  <a:pt x="8731" y="9004"/>
                </a:cubicBezTo>
                <a:cubicBezTo>
                  <a:pt x="8731" y="9012"/>
                  <a:pt x="8731" y="9021"/>
                  <a:pt x="8731" y="9029"/>
                </a:cubicBezTo>
                <a:cubicBezTo>
                  <a:pt x="8731" y="8962"/>
                  <a:pt x="8745" y="8916"/>
                  <a:pt x="8756" y="8855"/>
                </a:cubicBezTo>
                <a:cubicBezTo>
                  <a:pt x="8773" y="8758"/>
                  <a:pt x="8807" y="8686"/>
                  <a:pt x="8855" y="8607"/>
                </a:cubicBezTo>
                <a:cubicBezTo>
                  <a:pt x="8904" y="8526"/>
                  <a:pt x="8939" y="8495"/>
                  <a:pt x="9004" y="8458"/>
                </a:cubicBezTo>
                <a:cubicBezTo>
                  <a:pt x="9051" y="8431"/>
                  <a:pt x="9087" y="8425"/>
                  <a:pt x="9128" y="8483"/>
                </a:cubicBezTo>
                <a:cubicBezTo>
                  <a:pt x="9176" y="8550"/>
                  <a:pt x="9213" y="8676"/>
                  <a:pt x="9227" y="8756"/>
                </a:cubicBezTo>
                <a:cubicBezTo>
                  <a:pt x="9248" y="8876"/>
                  <a:pt x="9234" y="9046"/>
                  <a:pt x="9203" y="9153"/>
                </a:cubicBezTo>
                <a:cubicBezTo>
                  <a:pt x="9203" y="9178"/>
                  <a:pt x="9203" y="9186"/>
                  <a:pt x="9203" y="9203"/>
                </a:cubicBezTo>
                <a:cubicBezTo>
                  <a:pt x="9215" y="9153"/>
                  <a:pt x="9232" y="9107"/>
                  <a:pt x="9252" y="9054"/>
                </a:cubicBezTo>
              </a:path>
              <a:path w="12056" h="5359">
                <a:moveTo>
                  <a:pt x="9500" y="8111"/>
                </a:moveTo>
                <a:cubicBezTo>
                  <a:pt x="9558" y="8101"/>
                  <a:pt x="9705" y="8060"/>
                  <a:pt x="9773" y="8086"/>
                </a:cubicBezTo>
                <a:cubicBezTo>
                  <a:pt x="9808" y="8099"/>
                  <a:pt x="9806" y="8183"/>
                  <a:pt x="9798" y="8210"/>
                </a:cubicBezTo>
                <a:cubicBezTo>
                  <a:pt x="9780" y="8270"/>
                  <a:pt x="9717" y="8291"/>
                  <a:pt x="9674" y="8334"/>
                </a:cubicBezTo>
                <a:cubicBezTo>
                  <a:pt x="9651" y="8357"/>
                  <a:pt x="9601" y="8393"/>
                  <a:pt x="9624" y="8434"/>
                </a:cubicBezTo>
                <a:cubicBezTo>
                  <a:pt x="9650" y="8481"/>
                  <a:pt x="9753" y="8458"/>
                  <a:pt x="9798" y="8458"/>
                </a:cubicBezTo>
                <a:cubicBezTo>
                  <a:pt x="9866" y="8458"/>
                  <a:pt x="9885" y="8461"/>
                  <a:pt x="9922" y="8434"/>
                </a:cubicBezTo>
              </a:path>
              <a:path w="12056" h="5359">
                <a:moveTo>
                  <a:pt x="10592" y="8210"/>
                </a:moveTo>
                <a:cubicBezTo>
                  <a:pt x="10499" y="8333"/>
                  <a:pt x="10420" y="8447"/>
                  <a:pt x="10344" y="8582"/>
                </a:cubicBezTo>
                <a:cubicBezTo>
                  <a:pt x="10298" y="8665"/>
                  <a:pt x="10238" y="8785"/>
                  <a:pt x="10220" y="8880"/>
                </a:cubicBezTo>
                <a:cubicBezTo>
                  <a:pt x="10208" y="8946"/>
                  <a:pt x="10218" y="9020"/>
                  <a:pt x="10244" y="9079"/>
                </a:cubicBezTo>
                <a:cubicBezTo>
                  <a:pt x="10276" y="9152"/>
                  <a:pt x="10343" y="9174"/>
                  <a:pt x="10418" y="9178"/>
                </a:cubicBezTo>
                <a:cubicBezTo>
                  <a:pt x="10504" y="9183"/>
                  <a:pt x="10613" y="9137"/>
                  <a:pt x="10691" y="9103"/>
                </a:cubicBezTo>
                <a:cubicBezTo>
                  <a:pt x="10820" y="9047"/>
                  <a:pt x="10923" y="8922"/>
                  <a:pt x="10988" y="8806"/>
                </a:cubicBezTo>
                <a:cubicBezTo>
                  <a:pt x="11039" y="8716"/>
                  <a:pt x="11003" y="8624"/>
                  <a:pt x="10964" y="8533"/>
                </a:cubicBezTo>
                <a:cubicBezTo>
                  <a:pt x="10939" y="8473"/>
                  <a:pt x="10870" y="8416"/>
                  <a:pt x="10815" y="8384"/>
                </a:cubicBezTo>
                <a:cubicBezTo>
                  <a:pt x="10757" y="8350"/>
                  <a:pt x="10753" y="8366"/>
                  <a:pt x="10691" y="8359"/>
                </a:cubicBezTo>
              </a:path>
              <a:path w="12056" h="5359">
                <a:moveTo>
                  <a:pt x="10096" y="8657"/>
                </a:moveTo>
                <a:cubicBezTo>
                  <a:pt x="10110" y="8699"/>
                  <a:pt x="10166" y="8704"/>
                  <a:pt x="10220" y="8706"/>
                </a:cubicBezTo>
                <a:cubicBezTo>
                  <a:pt x="10354" y="8711"/>
                  <a:pt x="10480" y="8731"/>
                  <a:pt x="10616" y="8731"/>
                </a:cubicBezTo>
                <a:cubicBezTo>
                  <a:pt x="10767" y="8731"/>
                  <a:pt x="10911" y="8756"/>
                  <a:pt x="11063" y="8756"/>
                </a:cubicBezTo>
                <a:cubicBezTo>
                  <a:pt x="11111" y="8756"/>
                  <a:pt x="11340" y="8731"/>
                  <a:pt x="11112" y="8731"/>
                </a:cubicBezTo>
              </a:path>
              <a:path w="12056" h="5359">
                <a:moveTo>
                  <a:pt x="10914" y="7665"/>
                </a:moveTo>
                <a:cubicBezTo>
                  <a:pt x="11003" y="7648"/>
                  <a:pt x="11095" y="7629"/>
                  <a:pt x="11187" y="7615"/>
                </a:cubicBezTo>
                <a:cubicBezTo>
                  <a:pt x="11304" y="7597"/>
                  <a:pt x="11413" y="7592"/>
                  <a:pt x="11534" y="7590"/>
                </a:cubicBezTo>
                <a:cubicBezTo>
                  <a:pt x="11683" y="7588"/>
                  <a:pt x="11832" y="7590"/>
                  <a:pt x="11981" y="7590"/>
                </a:cubicBezTo>
                <a:cubicBezTo>
                  <a:pt x="11969" y="7712"/>
                  <a:pt x="11921" y="7821"/>
                  <a:pt x="11906" y="7938"/>
                </a:cubicBezTo>
                <a:cubicBezTo>
                  <a:pt x="11768" y="9036"/>
                  <a:pt x="11881" y="10255"/>
                  <a:pt x="11881" y="11361"/>
                </a:cubicBezTo>
                <a:cubicBezTo>
                  <a:pt x="11881" y="11576"/>
                  <a:pt x="11885" y="11792"/>
                  <a:pt x="11906" y="12005"/>
                </a:cubicBezTo>
                <a:cubicBezTo>
                  <a:pt x="11918" y="12123"/>
                  <a:pt x="11929" y="12232"/>
                  <a:pt x="11931" y="12353"/>
                </a:cubicBezTo>
                <a:cubicBezTo>
                  <a:pt x="11933" y="12443"/>
                  <a:pt x="11921" y="12527"/>
                  <a:pt x="11906" y="12601"/>
                </a:cubicBezTo>
                <a:cubicBezTo>
                  <a:pt x="11898" y="12642"/>
                  <a:pt x="11891" y="12684"/>
                  <a:pt x="11881" y="12725"/>
                </a:cubicBezTo>
                <a:cubicBezTo>
                  <a:pt x="11872" y="12763"/>
                  <a:pt x="11856" y="12772"/>
                  <a:pt x="11857" y="12799"/>
                </a:cubicBezTo>
                <a:cubicBezTo>
                  <a:pt x="11858" y="12840"/>
                  <a:pt x="11887" y="12857"/>
                  <a:pt x="11881" y="12898"/>
                </a:cubicBezTo>
                <a:cubicBezTo>
                  <a:pt x="11873" y="12906"/>
                  <a:pt x="11865" y="12915"/>
                  <a:pt x="11857" y="12923"/>
                </a:cubicBezTo>
                <a:cubicBezTo>
                  <a:pt x="11784" y="12908"/>
                  <a:pt x="11709" y="12884"/>
                  <a:pt x="11633" y="12874"/>
                </a:cubicBezTo>
                <a:cubicBezTo>
                  <a:pt x="11386" y="12841"/>
                  <a:pt x="11167" y="12865"/>
                  <a:pt x="10914" y="12874"/>
                </a:cubicBezTo>
                <a:cubicBezTo>
                  <a:pt x="10747" y="12880"/>
                  <a:pt x="10584" y="12891"/>
                  <a:pt x="10418" y="12898"/>
                </a:cubicBezTo>
              </a:path>
              <a:path w="12056" h="5359">
                <a:moveTo>
                  <a:pt x="12700" y="9302"/>
                </a:moveTo>
                <a:cubicBezTo>
                  <a:pt x="12700" y="9310"/>
                  <a:pt x="12700" y="9319"/>
                  <a:pt x="12700" y="9327"/>
                </a:cubicBezTo>
              </a:path>
              <a:path w="12056" h="5359">
                <a:moveTo>
                  <a:pt x="12774" y="10170"/>
                </a:moveTo>
                <a:cubicBezTo>
                  <a:pt x="12797" y="10193"/>
                  <a:pt x="12805" y="10204"/>
                  <a:pt x="12799" y="10170"/>
                </a:cubicBezTo>
              </a:path>
              <a:path w="12056" h="5359">
                <a:moveTo>
                  <a:pt x="12328" y="9649"/>
                </a:moveTo>
                <a:cubicBezTo>
                  <a:pt x="12667" y="9649"/>
                  <a:pt x="13006" y="9649"/>
                  <a:pt x="13345" y="9649"/>
                </a:cubicBezTo>
              </a:path>
              <a:path w="12056" h="5359">
                <a:moveTo>
                  <a:pt x="13940" y="9872"/>
                </a:moveTo>
                <a:cubicBezTo>
                  <a:pt x="14068" y="9872"/>
                  <a:pt x="14185" y="9851"/>
                  <a:pt x="14312" y="9847"/>
                </a:cubicBezTo>
                <a:cubicBezTo>
                  <a:pt x="14450" y="9842"/>
                  <a:pt x="14575" y="9868"/>
                  <a:pt x="14709" y="9872"/>
                </a:cubicBezTo>
                <a:cubicBezTo>
                  <a:pt x="14951" y="9879"/>
                  <a:pt x="15191" y="9879"/>
                  <a:pt x="15429" y="9897"/>
                </a:cubicBezTo>
                <a:cubicBezTo>
                  <a:pt x="15774" y="9922"/>
                  <a:pt x="16125" y="9903"/>
                  <a:pt x="16470" y="9922"/>
                </a:cubicBezTo>
                <a:cubicBezTo>
                  <a:pt x="16892" y="9946"/>
                  <a:pt x="17314" y="9912"/>
                  <a:pt x="17735" y="9947"/>
                </a:cubicBezTo>
                <a:cubicBezTo>
                  <a:pt x="17858" y="9957"/>
                  <a:pt x="17989" y="9960"/>
                  <a:pt x="18107" y="9971"/>
                </a:cubicBezTo>
                <a:cubicBezTo>
                  <a:pt x="18152" y="9975"/>
                  <a:pt x="18197" y="9968"/>
                  <a:pt x="18231" y="9947"/>
                </a:cubicBezTo>
                <a:cubicBezTo>
                  <a:pt x="18263" y="9927"/>
                  <a:pt x="18232" y="9955"/>
                  <a:pt x="18182" y="9947"/>
                </a:cubicBezTo>
              </a:path>
              <a:path w="12056" h="5359">
                <a:moveTo>
                  <a:pt x="15081" y="7913"/>
                </a:moveTo>
                <a:cubicBezTo>
                  <a:pt x="15081" y="8025"/>
                  <a:pt x="15068" y="8128"/>
                  <a:pt x="15056" y="8235"/>
                </a:cubicBezTo>
                <a:cubicBezTo>
                  <a:pt x="15032" y="8454"/>
                  <a:pt x="15056" y="8684"/>
                  <a:pt x="15056" y="89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Ink 6"/>
          <p:cNvSpPr/>
          <p:nvPr/>
        </p:nvSpPr>
        <p:spPr>
          <a:xfrm>
            <a:off x="2581200" y="3510000"/>
            <a:ext cx="1401840" cy="768240"/>
          </a:xfrm>
          <a:custGeom>
            <a:avLst/>
            <a:gdLst/>
            <a:ahLst/>
            <a:rect l="l" t="t" r="r" b="b"/>
            <a:pathLst>
              <a:path w="3895" h="2134">
                <a:moveTo>
                  <a:pt x="7169" y="9748"/>
                </a:moveTo>
                <a:cubicBezTo>
                  <a:pt x="7265" y="9748"/>
                  <a:pt x="7349" y="9763"/>
                  <a:pt x="7441" y="9773"/>
                </a:cubicBezTo>
                <a:cubicBezTo>
                  <a:pt x="7648" y="9795"/>
                  <a:pt x="7858" y="9758"/>
                  <a:pt x="8062" y="9748"/>
                </a:cubicBezTo>
                <a:cubicBezTo>
                  <a:pt x="8687" y="9716"/>
                  <a:pt x="9324" y="9749"/>
                  <a:pt x="9947" y="9773"/>
                </a:cubicBezTo>
                <a:cubicBezTo>
                  <a:pt x="10193" y="9782"/>
                  <a:pt x="10446" y="9776"/>
                  <a:pt x="10691" y="9798"/>
                </a:cubicBezTo>
                <a:cubicBezTo>
                  <a:pt x="10750" y="9803"/>
                  <a:pt x="11009" y="9877"/>
                  <a:pt x="11063" y="9798"/>
                </a:cubicBezTo>
                <a:cubicBezTo>
                  <a:pt x="11063" y="9763"/>
                  <a:pt x="11054" y="9750"/>
                  <a:pt x="11013" y="9748"/>
                </a:cubicBezTo>
              </a:path>
              <a:path w="3895" h="2134">
                <a:moveTo>
                  <a:pt x="7938" y="10815"/>
                </a:moveTo>
                <a:cubicBezTo>
                  <a:pt x="7921" y="10892"/>
                  <a:pt x="7913" y="10947"/>
                  <a:pt x="7888" y="10988"/>
                </a:cubicBezTo>
                <a:cubicBezTo>
                  <a:pt x="7876" y="10955"/>
                  <a:pt x="7875" y="10923"/>
                  <a:pt x="7863" y="10889"/>
                </a:cubicBezTo>
                <a:cubicBezTo>
                  <a:pt x="7844" y="10837"/>
                  <a:pt x="7802" y="10803"/>
                  <a:pt x="7764" y="10765"/>
                </a:cubicBezTo>
                <a:cubicBezTo>
                  <a:pt x="7737" y="10738"/>
                  <a:pt x="7704" y="10731"/>
                  <a:pt x="7665" y="10740"/>
                </a:cubicBezTo>
                <a:cubicBezTo>
                  <a:pt x="7604" y="10754"/>
                  <a:pt x="7540" y="10860"/>
                  <a:pt x="7516" y="10914"/>
                </a:cubicBezTo>
                <a:cubicBezTo>
                  <a:pt x="7472" y="11014"/>
                  <a:pt x="7439" y="11112"/>
                  <a:pt x="7417" y="11212"/>
                </a:cubicBezTo>
                <a:cubicBezTo>
                  <a:pt x="7387" y="11350"/>
                  <a:pt x="7381" y="11471"/>
                  <a:pt x="7417" y="11609"/>
                </a:cubicBezTo>
                <a:cubicBezTo>
                  <a:pt x="7445" y="11715"/>
                  <a:pt x="7475" y="11772"/>
                  <a:pt x="7565" y="11832"/>
                </a:cubicBezTo>
                <a:cubicBezTo>
                  <a:pt x="7652" y="11891"/>
                  <a:pt x="7715" y="11886"/>
                  <a:pt x="7813" y="11857"/>
                </a:cubicBezTo>
                <a:cubicBezTo>
                  <a:pt x="7885" y="11833"/>
                  <a:pt x="7908" y="11827"/>
                  <a:pt x="7938" y="11782"/>
                </a:cubicBezTo>
              </a:path>
              <a:path w="3895" h="2134">
                <a:moveTo>
                  <a:pt x="8359" y="11112"/>
                </a:moveTo>
                <a:cubicBezTo>
                  <a:pt x="8345" y="11181"/>
                  <a:pt x="8299" y="11240"/>
                  <a:pt x="8285" y="11311"/>
                </a:cubicBezTo>
                <a:cubicBezTo>
                  <a:pt x="8269" y="11395"/>
                  <a:pt x="8239" y="11470"/>
                  <a:pt x="8235" y="11559"/>
                </a:cubicBezTo>
                <a:cubicBezTo>
                  <a:pt x="8232" y="11633"/>
                  <a:pt x="8234" y="11677"/>
                  <a:pt x="8285" y="11733"/>
                </a:cubicBezTo>
                <a:cubicBezTo>
                  <a:pt x="8323" y="11775"/>
                  <a:pt x="8373" y="11806"/>
                  <a:pt x="8434" y="11782"/>
                </a:cubicBezTo>
                <a:cubicBezTo>
                  <a:pt x="8546" y="11738"/>
                  <a:pt x="8577" y="11659"/>
                  <a:pt x="8632" y="11559"/>
                </a:cubicBezTo>
                <a:cubicBezTo>
                  <a:pt x="8666" y="11496"/>
                  <a:pt x="8711" y="11385"/>
                  <a:pt x="8682" y="11311"/>
                </a:cubicBezTo>
                <a:cubicBezTo>
                  <a:pt x="8654" y="11239"/>
                  <a:pt x="8596" y="11175"/>
                  <a:pt x="8533" y="11137"/>
                </a:cubicBezTo>
                <a:cubicBezTo>
                  <a:pt x="8474" y="11101"/>
                  <a:pt x="8426" y="11132"/>
                  <a:pt x="8409" y="11063"/>
                </a:cubicBezTo>
              </a:path>
              <a:path w="3895" h="2134">
                <a:moveTo>
                  <a:pt x="9128" y="11013"/>
                </a:moveTo>
                <a:cubicBezTo>
                  <a:pt x="9053" y="11043"/>
                  <a:pt x="8988" y="11054"/>
                  <a:pt x="8930" y="11112"/>
                </a:cubicBezTo>
                <a:cubicBezTo>
                  <a:pt x="8875" y="11167"/>
                  <a:pt x="8925" y="11205"/>
                  <a:pt x="8954" y="11261"/>
                </a:cubicBezTo>
                <a:cubicBezTo>
                  <a:pt x="8995" y="11339"/>
                  <a:pt x="9070" y="11418"/>
                  <a:pt x="9128" y="11485"/>
                </a:cubicBezTo>
                <a:cubicBezTo>
                  <a:pt x="9175" y="11539"/>
                  <a:pt x="9235" y="11601"/>
                  <a:pt x="9203" y="11683"/>
                </a:cubicBezTo>
                <a:cubicBezTo>
                  <a:pt x="9182" y="11736"/>
                  <a:pt x="9051" y="11764"/>
                  <a:pt x="9004" y="11782"/>
                </a:cubicBezTo>
                <a:cubicBezTo>
                  <a:pt x="8908" y="11818"/>
                  <a:pt x="8871" y="11803"/>
                  <a:pt x="8781" y="11782"/>
                </a:cubicBezTo>
                <a:cubicBezTo>
                  <a:pt x="8739" y="11772"/>
                  <a:pt x="8721" y="11757"/>
                  <a:pt x="8731" y="11708"/>
                </a:cubicBezTo>
                <a:cubicBezTo>
                  <a:pt x="8739" y="11675"/>
                  <a:pt x="8748" y="11642"/>
                  <a:pt x="8756" y="11609"/>
                </a:cubicBezTo>
              </a:path>
              <a:path w="3895" h="2134">
                <a:moveTo>
                  <a:pt x="9277" y="10418"/>
                </a:moveTo>
                <a:cubicBezTo>
                  <a:pt x="9333" y="10418"/>
                  <a:pt x="9397" y="10405"/>
                  <a:pt x="9426" y="10468"/>
                </a:cubicBezTo>
                <a:cubicBezTo>
                  <a:pt x="9440" y="10499"/>
                  <a:pt x="9384" y="10542"/>
                  <a:pt x="9376" y="10567"/>
                </a:cubicBezTo>
                <a:cubicBezTo>
                  <a:pt x="9363" y="10605"/>
                  <a:pt x="9351" y="10587"/>
                  <a:pt x="9351" y="10641"/>
                </a:cubicBezTo>
                <a:cubicBezTo>
                  <a:pt x="9351" y="10649"/>
                  <a:pt x="9351" y="10658"/>
                  <a:pt x="9351" y="10666"/>
                </a:cubicBezTo>
                <a:cubicBezTo>
                  <a:pt x="9408" y="10666"/>
                  <a:pt x="9448" y="10682"/>
                  <a:pt x="9500" y="10691"/>
                </a:cubicBezTo>
                <a:cubicBezTo>
                  <a:pt x="9558" y="10691"/>
                  <a:pt x="9583" y="10691"/>
                  <a:pt x="9624" y="10691"/>
                </a:cubicBezTo>
              </a:path>
              <a:path w="3895" h="2134">
                <a:moveTo>
                  <a:pt x="10220" y="10691"/>
                </a:moveTo>
                <a:cubicBezTo>
                  <a:pt x="10167" y="10765"/>
                  <a:pt x="10119" y="10837"/>
                  <a:pt x="10071" y="10914"/>
                </a:cubicBezTo>
                <a:cubicBezTo>
                  <a:pt x="10004" y="11021"/>
                  <a:pt x="9942" y="11118"/>
                  <a:pt x="9897" y="11237"/>
                </a:cubicBezTo>
                <a:cubicBezTo>
                  <a:pt x="9854" y="11351"/>
                  <a:pt x="9799" y="11484"/>
                  <a:pt x="9823" y="11609"/>
                </a:cubicBezTo>
                <a:cubicBezTo>
                  <a:pt x="9835" y="11672"/>
                  <a:pt x="9871" y="11787"/>
                  <a:pt x="9922" y="11832"/>
                </a:cubicBezTo>
                <a:cubicBezTo>
                  <a:pt x="9965" y="11870"/>
                  <a:pt x="10093" y="11869"/>
                  <a:pt x="10145" y="11857"/>
                </a:cubicBezTo>
                <a:cubicBezTo>
                  <a:pt x="10228" y="11837"/>
                  <a:pt x="10336" y="11770"/>
                  <a:pt x="10393" y="11708"/>
                </a:cubicBezTo>
                <a:cubicBezTo>
                  <a:pt x="10488" y="11604"/>
                  <a:pt x="10530" y="11474"/>
                  <a:pt x="10542" y="11336"/>
                </a:cubicBezTo>
                <a:cubicBezTo>
                  <a:pt x="10556" y="11175"/>
                  <a:pt x="10516" y="11198"/>
                  <a:pt x="10443" y="11088"/>
                </a:cubicBezTo>
                <a:cubicBezTo>
                  <a:pt x="10400" y="11024"/>
                  <a:pt x="10387" y="11002"/>
                  <a:pt x="10319" y="10964"/>
                </a:cubicBezTo>
              </a:path>
              <a:path w="3895" h="2134">
                <a:moveTo>
                  <a:pt x="9773" y="11187"/>
                </a:moveTo>
                <a:cubicBezTo>
                  <a:pt x="9859" y="11225"/>
                  <a:pt x="9953" y="11253"/>
                  <a:pt x="10046" y="11261"/>
                </a:cubicBezTo>
                <a:cubicBezTo>
                  <a:pt x="10171" y="11272"/>
                  <a:pt x="10291" y="11286"/>
                  <a:pt x="10418" y="11286"/>
                </a:cubicBezTo>
                <a:cubicBezTo>
                  <a:pt x="10510" y="11286"/>
                  <a:pt x="10537" y="11288"/>
                  <a:pt x="10592" y="112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Ink 7"/>
          <p:cNvSpPr/>
          <p:nvPr/>
        </p:nvSpPr>
        <p:spPr>
          <a:xfrm>
            <a:off x="5089680" y="3848040"/>
            <a:ext cx="1135080" cy="509760"/>
          </a:xfrm>
          <a:custGeom>
            <a:avLst/>
            <a:gdLst/>
            <a:ahLst/>
            <a:rect l="l" t="t" r="r" b="b"/>
            <a:pathLst>
              <a:path w="3151" h="1415">
                <a:moveTo>
                  <a:pt x="14560" y="11311"/>
                </a:moveTo>
                <a:cubicBezTo>
                  <a:pt x="14560" y="11322"/>
                  <a:pt x="14560" y="11425"/>
                  <a:pt x="14560" y="11361"/>
                </a:cubicBezTo>
                <a:cubicBezTo>
                  <a:pt x="14560" y="11301"/>
                  <a:pt x="14564" y="11261"/>
                  <a:pt x="14536" y="11212"/>
                </a:cubicBezTo>
                <a:cubicBezTo>
                  <a:pt x="14503" y="11153"/>
                  <a:pt x="14481" y="11143"/>
                  <a:pt x="14412" y="11137"/>
                </a:cubicBezTo>
                <a:cubicBezTo>
                  <a:pt x="14355" y="11132"/>
                  <a:pt x="14293" y="11194"/>
                  <a:pt x="14263" y="11237"/>
                </a:cubicBezTo>
                <a:cubicBezTo>
                  <a:pt x="14223" y="11293"/>
                  <a:pt x="14173" y="11393"/>
                  <a:pt x="14163" y="11460"/>
                </a:cubicBezTo>
                <a:cubicBezTo>
                  <a:pt x="14149" y="11553"/>
                  <a:pt x="14139" y="11636"/>
                  <a:pt x="14139" y="11733"/>
                </a:cubicBezTo>
                <a:cubicBezTo>
                  <a:pt x="14139" y="11786"/>
                  <a:pt x="14147" y="11915"/>
                  <a:pt x="14188" y="11956"/>
                </a:cubicBezTo>
                <a:cubicBezTo>
                  <a:pt x="14223" y="11991"/>
                  <a:pt x="14311" y="12041"/>
                  <a:pt x="14362" y="12030"/>
                </a:cubicBezTo>
                <a:cubicBezTo>
                  <a:pt x="14379" y="12022"/>
                  <a:pt x="14395" y="12013"/>
                  <a:pt x="14412" y="12005"/>
                </a:cubicBezTo>
              </a:path>
              <a:path w="3151" h="1415">
                <a:moveTo>
                  <a:pt x="14858" y="11361"/>
                </a:moveTo>
                <a:cubicBezTo>
                  <a:pt x="14848" y="11466"/>
                  <a:pt x="14779" y="11512"/>
                  <a:pt x="14759" y="11609"/>
                </a:cubicBezTo>
                <a:cubicBezTo>
                  <a:pt x="14741" y="11696"/>
                  <a:pt x="14716" y="11815"/>
                  <a:pt x="14734" y="11906"/>
                </a:cubicBezTo>
                <a:cubicBezTo>
                  <a:pt x="14747" y="11968"/>
                  <a:pt x="14808" y="12004"/>
                  <a:pt x="14858" y="12030"/>
                </a:cubicBezTo>
                <a:cubicBezTo>
                  <a:pt x="14911" y="12058"/>
                  <a:pt x="14982" y="12067"/>
                  <a:pt x="15032" y="12030"/>
                </a:cubicBezTo>
                <a:cubicBezTo>
                  <a:pt x="15079" y="11996"/>
                  <a:pt x="15168" y="11914"/>
                  <a:pt x="15180" y="11857"/>
                </a:cubicBezTo>
                <a:cubicBezTo>
                  <a:pt x="15196" y="11781"/>
                  <a:pt x="15192" y="11652"/>
                  <a:pt x="15156" y="11584"/>
                </a:cubicBezTo>
                <a:cubicBezTo>
                  <a:pt x="15110" y="11499"/>
                  <a:pt x="15054" y="11465"/>
                  <a:pt x="14982" y="11410"/>
                </a:cubicBezTo>
                <a:cubicBezTo>
                  <a:pt x="14941" y="11378"/>
                  <a:pt x="14909" y="11385"/>
                  <a:pt x="14858" y="11385"/>
                </a:cubicBezTo>
                <a:cubicBezTo>
                  <a:pt x="14833" y="11385"/>
                  <a:pt x="14825" y="11385"/>
                  <a:pt x="14858" y="11385"/>
                </a:cubicBezTo>
              </a:path>
              <a:path w="3151" h="1415">
                <a:moveTo>
                  <a:pt x="15478" y="11286"/>
                </a:moveTo>
                <a:cubicBezTo>
                  <a:pt x="15347" y="11286"/>
                  <a:pt x="15380" y="11291"/>
                  <a:pt x="15304" y="11336"/>
                </a:cubicBezTo>
                <a:cubicBezTo>
                  <a:pt x="15269" y="11357"/>
                  <a:pt x="15266" y="11391"/>
                  <a:pt x="15304" y="11435"/>
                </a:cubicBezTo>
                <a:cubicBezTo>
                  <a:pt x="15367" y="11509"/>
                  <a:pt x="15440" y="11563"/>
                  <a:pt x="15503" y="11633"/>
                </a:cubicBezTo>
                <a:cubicBezTo>
                  <a:pt x="15562" y="11698"/>
                  <a:pt x="15625" y="11770"/>
                  <a:pt x="15652" y="11857"/>
                </a:cubicBezTo>
                <a:cubicBezTo>
                  <a:pt x="15668" y="11908"/>
                  <a:pt x="15615" y="11967"/>
                  <a:pt x="15577" y="11981"/>
                </a:cubicBezTo>
                <a:cubicBezTo>
                  <a:pt x="15520" y="12002"/>
                  <a:pt x="15467" y="12005"/>
                  <a:pt x="15404" y="12005"/>
                </a:cubicBezTo>
                <a:cubicBezTo>
                  <a:pt x="15335" y="12005"/>
                  <a:pt x="15328" y="12005"/>
                  <a:pt x="15280" y="11956"/>
                </a:cubicBezTo>
              </a:path>
              <a:path w="3151" h="1415">
                <a:moveTo>
                  <a:pt x="15701" y="10740"/>
                </a:moveTo>
                <a:cubicBezTo>
                  <a:pt x="15726" y="10734"/>
                  <a:pt x="15870" y="10681"/>
                  <a:pt x="15900" y="10691"/>
                </a:cubicBezTo>
                <a:cubicBezTo>
                  <a:pt x="15930" y="10701"/>
                  <a:pt x="15964" y="10735"/>
                  <a:pt x="15974" y="10765"/>
                </a:cubicBezTo>
                <a:cubicBezTo>
                  <a:pt x="15983" y="10791"/>
                  <a:pt x="15942" y="10845"/>
                  <a:pt x="15925" y="10864"/>
                </a:cubicBezTo>
                <a:cubicBezTo>
                  <a:pt x="15897" y="10896"/>
                  <a:pt x="15863" y="10927"/>
                  <a:pt x="15850" y="10964"/>
                </a:cubicBezTo>
                <a:cubicBezTo>
                  <a:pt x="15835" y="11007"/>
                  <a:pt x="15860" y="11035"/>
                  <a:pt x="15900" y="11038"/>
                </a:cubicBezTo>
                <a:cubicBezTo>
                  <a:pt x="15951" y="11038"/>
                  <a:pt x="15970" y="11037"/>
                  <a:pt x="15999" y="11013"/>
                </a:cubicBezTo>
              </a:path>
              <a:path w="3151" h="1415">
                <a:moveTo>
                  <a:pt x="16619" y="11137"/>
                </a:moveTo>
                <a:cubicBezTo>
                  <a:pt x="16608" y="11247"/>
                  <a:pt x="16546" y="11288"/>
                  <a:pt x="16495" y="11385"/>
                </a:cubicBezTo>
                <a:cubicBezTo>
                  <a:pt x="16448" y="11475"/>
                  <a:pt x="16446" y="11567"/>
                  <a:pt x="16421" y="11658"/>
                </a:cubicBezTo>
                <a:cubicBezTo>
                  <a:pt x="16402" y="11727"/>
                  <a:pt x="16355" y="11832"/>
                  <a:pt x="16371" y="11906"/>
                </a:cubicBezTo>
                <a:cubicBezTo>
                  <a:pt x="16379" y="11945"/>
                  <a:pt x="16439" y="12053"/>
                  <a:pt x="16470" y="12080"/>
                </a:cubicBezTo>
                <a:cubicBezTo>
                  <a:pt x="16517" y="12121"/>
                  <a:pt x="16637" y="12117"/>
                  <a:pt x="16694" y="12105"/>
                </a:cubicBezTo>
                <a:cubicBezTo>
                  <a:pt x="16786" y="12086"/>
                  <a:pt x="16872" y="12039"/>
                  <a:pt x="16942" y="11981"/>
                </a:cubicBezTo>
                <a:cubicBezTo>
                  <a:pt x="16989" y="11941"/>
                  <a:pt x="17055" y="11845"/>
                  <a:pt x="17066" y="11782"/>
                </a:cubicBezTo>
                <a:cubicBezTo>
                  <a:pt x="17086" y="11668"/>
                  <a:pt x="17064" y="11562"/>
                  <a:pt x="17016" y="11460"/>
                </a:cubicBezTo>
                <a:cubicBezTo>
                  <a:pt x="16989" y="11403"/>
                  <a:pt x="16934" y="11327"/>
                  <a:pt x="16867" y="11311"/>
                </a:cubicBezTo>
                <a:cubicBezTo>
                  <a:pt x="16817" y="11299"/>
                  <a:pt x="16769" y="11292"/>
                  <a:pt x="16718" y="11286"/>
                </a:cubicBezTo>
              </a:path>
              <a:path w="3151" h="1415">
                <a:moveTo>
                  <a:pt x="16148" y="11485"/>
                </a:moveTo>
                <a:cubicBezTo>
                  <a:pt x="16210" y="11545"/>
                  <a:pt x="16240" y="11520"/>
                  <a:pt x="16321" y="11534"/>
                </a:cubicBezTo>
                <a:cubicBezTo>
                  <a:pt x="16476" y="11561"/>
                  <a:pt x="16636" y="11581"/>
                  <a:pt x="16793" y="11584"/>
                </a:cubicBezTo>
                <a:cubicBezTo>
                  <a:pt x="16967" y="11587"/>
                  <a:pt x="17438" y="11584"/>
                  <a:pt x="17264" y="11584"/>
                </a:cubicBezTo>
                <a:cubicBezTo>
                  <a:pt x="17256" y="11584"/>
                  <a:pt x="17247" y="11584"/>
                  <a:pt x="17239" y="115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Ink 8"/>
          <p:cNvSpPr/>
          <p:nvPr/>
        </p:nvSpPr>
        <p:spPr>
          <a:xfrm>
            <a:off x="2901960" y="4929120"/>
            <a:ext cx="3090960" cy="982800"/>
          </a:xfrm>
          <a:custGeom>
            <a:avLst/>
            <a:gdLst/>
            <a:ahLst/>
            <a:rect l="l" t="t" r="r" b="b"/>
            <a:pathLst>
              <a:path w="8583" h="2730">
                <a:moveTo>
                  <a:pt x="8781" y="13915"/>
                </a:moveTo>
                <a:cubicBezTo>
                  <a:pt x="8823" y="13915"/>
                  <a:pt x="8819" y="13925"/>
                  <a:pt x="8830" y="13891"/>
                </a:cubicBezTo>
                <a:cubicBezTo>
                  <a:pt x="8808" y="13874"/>
                  <a:pt x="8724" y="13839"/>
                  <a:pt x="8706" y="13841"/>
                </a:cubicBezTo>
                <a:cubicBezTo>
                  <a:pt x="8650" y="13849"/>
                  <a:pt x="8532" y="13863"/>
                  <a:pt x="8483" y="13891"/>
                </a:cubicBezTo>
                <a:cubicBezTo>
                  <a:pt x="8448" y="13911"/>
                  <a:pt x="8448" y="13930"/>
                  <a:pt x="8409" y="13940"/>
                </a:cubicBezTo>
                <a:cubicBezTo>
                  <a:pt x="8409" y="13998"/>
                  <a:pt x="8429" y="13993"/>
                  <a:pt x="8458" y="14039"/>
                </a:cubicBezTo>
                <a:cubicBezTo>
                  <a:pt x="8513" y="14124"/>
                  <a:pt x="8627" y="14181"/>
                  <a:pt x="8682" y="14263"/>
                </a:cubicBezTo>
                <a:cubicBezTo>
                  <a:pt x="8724" y="14326"/>
                  <a:pt x="8810" y="14435"/>
                  <a:pt x="8830" y="14511"/>
                </a:cubicBezTo>
                <a:cubicBezTo>
                  <a:pt x="8847" y="14577"/>
                  <a:pt x="8824" y="14637"/>
                  <a:pt x="8781" y="14684"/>
                </a:cubicBezTo>
                <a:cubicBezTo>
                  <a:pt x="8746" y="14722"/>
                  <a:pt x="8631" y="14721"/>
                  <a:pt x="8582" y="14709"/>
                </a:cubicBezTo>
                <a:cubicBezTo>
                  <a:pt x="8458" y="14679"/>
                  <a:pt x="8386" y="14666"/>
                  <a:pt x="8285" y="14560"/>
                </a:cubicBezTo>
                <a:cubicBezTo>
                  <a:pt x="8285" y="14552"/>
                  <a:pt x="8285" y="14544"/>
                  <a:pt x="8285" y="14536"/>
                </a:cubicBezTo>
              </a:path>
              <a:path w="8583" h="2730">
                <a:moveTo>
                  <a:pt x="9079" y="14213"/>
                </a:moveTo>
                <a:cubicBezTo>
                  <a:pt x="9079" y="14387"/>
                  <a:pt x="9079" y="14858"/>
                  <a:pt x="9079" y="14684"/>
                </a:cubicBezTo>
                <a:cubicBezTo>
                  <a:pt x="9079" y="14659"/>
                  <a:pt x="9079" y="14635"/>
                  <a:pt x="9079" y="14610"/>
                </a:cubicBezTo>
              </a:path>
              <a:path w="8583" h="2730">
                <a:moveTo>
                  <a:pt x="9178" y="13717"/>
                </a:moveTo>
                <a:cubicBezTo>
                  <a:pt x="9227" y="13692"/>
                  <a:pt x="9244" y="13684"/>
                  <a:pt x="9277" y="13717"/>
                </a:cubicBezTo>
              </a:path>
              <a:path w="8583" h="2730">
                <a:moveTo>
                  <a:pt x="9401" y="14337"/>
                </a:moveTo>
                <a:cubicBezTo>
                  <a:pt x="9401" y="14436"/>
                  <a:pt x="9401" y="14536"/>
                  <a:pt x="9401" y="14635"/>
                </a:cubicBezTo>
                <a:cubicBezTo>
                  <a:pt x="9414" y="14584"/>
                  <a:pt x="9408" y="14514"/>
                  <a:pt x="9426" y="14461"/>
                </a:cubicBezTo>
                <a:cubicBezTo>
                  <a:pt x="9440" y="14421"/>
                  <a:pt x="9521" y="14190"/>
                  <a:pt x="9575" y="14139"/>
                </a:cubicBezTo>
                <a:cubicBezTo>
                  <a:pt x="9604" y="14112"/>
                  <a:pt x="9708" y="14051"/>
                  <a:pt x="9748" y="14064"/>
                </a:cubicBezTo>
                <a:cubicBezTo>
                  <a:pt x="9789" y="14078"/>
                  <a:pt x="9830" y="14155"/>
                  <a:pt x="9847" y="14188"/>
                </a:cubicBezTo>
                <a:cubicBezTo>
                  <a:pt x="9887" y="14264"/>
                  <a:pt x="9894" y="14375"/>
                  <a:pt x="9897" y="14461"/>
                </a:cubicBezTo>
                <a:cubicBezTo>
                  <a:pt x="9901" y="14576"/>
                  <a:pt x="9898" y="14676"/>
                  <a:pt x="9922" y="14784"/>
                </a:cubicBezTo>
                <a:cubicBezTo>
                  <a:pt x="9922" y="14792"/>
                  <a:pt x="9922" y="14800"/>
                  <a:pt x="9922" y="14808"/>
                </a:cubicBezTo>
              </a:path>
              <a:path w="8583" h="2730">
                <a:moveTo>
                  <a:pt x="10071" y="13742"/>
                </a:moveTo>
                <a:cubicBezTo>
                  <a:pt x="10121" y="13727"/>
                  <a:pt x="10288" y="13643"/>
                  <a:pt x="10344" y="13717"/>
                </a:cubicBezTo>
                <a:cubicBezTo>
                  <a:pt x="10372" y="13754"/>
                  <a:pt x="10384" y="13848"/>
                  <a:pt x="10368" y="13891"/>
                </a:cubicBezTo>
                <a:cubicBezTo>
                  <a:pt x="10353" y="13932"/>
                  <a:pt x="10297" y="14002"/>
                  <a:pt x="10269" y="14039"/>
                </a:cubicBezTo>
                <a:cubicBezTo>
                  <a:pt x="10231" y="14090"/>
                  <a:pt x="10235" y="14122"/>
                  <a:pt x="10244" y="14163"/>
                </a:cubicBezTo>
                <a:cubicBezTo>
                  <a:pt x="10257" y="14224"/>
                  <a:pt x="10315" y="14213"/>
                  <a:pt x="10368" y="14213"/>
                </a:cubicBezTo>
                <a:cubicBezTo>
                  <a:pt x="10436" y="14213"/>
                  <a:pt x="10455" y="14216"/>
                  <a:pt x="10492" y="14188"/>
                </a:cubicBezTo>
              </a:path>
              <a:path w="8583" h="2730">
                <a:moveTo>
                  <a:pt x="11013" y="13841"/>
                </a:moveTo>
                <a:cubicBezTo>
                  <a:pt x="11031" y="13967"/>
                  <a:pt x="11002" y="14035"/>
                  <a:pt x="10964" y="14163"/>
                </a:cubicBezTo>
                <a:cubicBezTo>
                  <a:pt x="10929" y="14281"/>
                  <a:pt x="10877" y="14358"/>
                  <a:pt x="10864" y="14486"/>
                </a:cubicBezTo>
                <a:cubicBezTo>
                  <a:pt x="10856" y="14570"/>
                  <a:pt x="10844" y="14709"/>
                  <a:pt x="10889" y="14784"/>
                </a:cubicBezTo>
                <a:cubicBezTo>
                  <a:pt x="10933" y="14858"/>
                  <a:pt x="10988" y="14895"/>
                  <a:pt x="11063" y="14932"/>
                </a:cubicBezTo>
                <a:cubicBezTo>
                  <a:pt x="11154" y="14977"/>
                  <a:pt x="11170" y="14950"/>
                  <a:pt x="11237" y="14883"/>
                </a:cubicBezTo>
                <a:cubicBezTo>
                  <a:pt x="11312" y="14808"/>
                  <a:pt x="11369" y="14746"/>
                  <a:pt x="11385" y="14635"/>
                </a:cubicBezTo>
                <a:cubicBezTo>
                  <a:pt x="11401" y="14523"/>
                  <a:pt x="11392" y="14386"/>
                  <a:pt x="11336" y="14288"/>
                </a:cubicBezTo>
                <a:cubicBezTo>
                  <a:pt x="11294" y="14214"/>
                  <a:pt x="11201" y="14162"/>
                  <a:pt x="11137" y="14114"/>
                </a:cubicBezTo>
                <a:cubicBezTo>
                  <a:pt x="11129" y="14106"/>
                  <a:pt x="11120" y="14097"/>
                  <a:pt x="11112" y="14089"/>
                </a:cubicBezTo>
              </a:path>
              <a:path w="8583" h="2730">
                <a:moveTo>
                  <a:pt x="10616" y="14312"/>
                </a:moveTo>
                <a:cubicBezTo>
                  <a:pt x="10712" y="14344"/>
                  <a:pt x="10815" y="14378"/>
                  <a:pt x="10914" y="14387"/>
                </a:cubicBezTo>
                <a:cubicBezTo>
                  <a:pt x="11043" y="14399"/>
                  <a:pt x="11159" y="14446"/>
                  <a:pt x="11286" y="14461"/>
                </a:cubicBezTo>
                <a:cubicBezTo>
                  <a:pt x="11387" y="14472"/>
                  <a:pt x="11482" y="14486"/>
                  <a:pt x="11584" y="14486"/>
                </a:cubicBezTo>
                <a:cubicBezTo>
                  <a:pt x="11592" y="14486"/>
                  <a:pt x="11601" y="14486"/>
                  <a:pt x="11609" y="14486"/>
                </a:cubicBezTo>
              </a:path>
              <a:path w="8583" h="2730">
                <a:moveTo>
                  <a:pt x="8062" y="15131"/>
                </a:moveTo>
                <a:cubicBezTo>
                  <a:pt x="8567" y="15131"/>
                  <a:pt x="9072" y="15134"/>
                  <a:pt x="9575" y="15156"/>
                </a:cubicBezTo>
                <a:cubicBezTo>
                  <a:pt x="9816" y="15166"/>
                  <a:pt x="10054" y="15191"/>
                  <a:pt x="10294" y="15205"/>
                </a:cubicBezTo>
                <a:cubicBezTo>
                  <a:pt x="10468" y="15215"/>
                  <a:pt x="10642" y="15226"/>
                  <a:pt x="10815" y="15230"/>
                </a:cubicBezTo>
                <a:cubicBezTo>
                  <a:pt x="10826" y="15230"/>
                  <a:pt x="11149" y="15219"/>
                  <a:pt x="11137" y="15205"/>
                </a:cubicBezTo>
                <a:cubicBezTo>
                  <a:pt x="11109" y="15177"/>
                  <a:pt x="11096" y="15168"/>
                  <a:pt x="11063" y="15180"/>
                </a:cubicBezTo>
              </a:path>
              <a:path w="8583" h="2730">
                <a:moveTo>
                  <a:pt x="12774" y="15205"/>
                </a:moveTo>
                <a:cubicBezTo>
                  <a:pt x="12799" y="15180"/>
                  <a:pt x="12807" y="15172"/>
                  <a:pt x="12824" y="15156"/>
                </a:cubicBezTo>
              </a:path>
              <a:path w="8583" h="2730">
                <a:moveTo>
                  <a:pt x="13742" y="14436"/>
                </a:moveTo>
                <a:cubicBezTo>
                  <a:pt x="13781" y="14424"/>
                  <a:pt x="13770" y="14415"/>
                  <a:pt x="13791" y="14387"/>
                </a:cubicBezTo>
                <a:cubicBezTo>
                  <a:pt x="13814" y="14356"/>
                  <a:pt x="13834" y="14281"/>
                  <a:pt x="13816" y="14238"/>
                </a:cubicBezTo>
                <a:cubicBezTo>
                  <a:pt x="13799" y="14196"/>
                  <a:pt x="13780" y="14179"/>
                  <a:pt x="13742" y="14163"/>
                </a:cubicBezTo>
                <a:cubicBezTo>
                  <a:pt x="13644" y="14122"/>
                  <a:pt x="13544" y="14198"/>
                  <a:pt x="13469" y="14288"/>
                </a:cubicBezTo>
                <a:cubicBezTo>
                  <a:pt x="13410" y="14358"/>
                  <a:pt x="13419" y="14476"/>
                  <a:pt x="13419" y="14560"/>
                </a:cubicBezTo>
                <a:cubicBezTo>
                  <a:pt x="13419" y="14680"/>
                  <a:pt x="13464" y="14749"/>
                  <a:pt x="13543" y="14833"/>
                </a:cubicBezTo>
                <a:cubicBezTo>
                  <a:pt x="13616" y="14910"/>
                  <a:pt x="13668" y="14924"/>
                  <a:pt x="13767" y="14957"/>
                </a:cubicBezTo>
              </a:path>
              <a:path w="8583" h="2730">
                <a:moveTo>
                  <a:pt x="14114" y="14362"/>
                </a:moveTo>
                <a:cubicBezTo>
                  <a:pt x="14034" y="14472"/>
                  <a:pt x="14015" y="14498"/>
                  <a:pt x="14015" y="14635"/>
                </a:cubicBezTo>
                <a:cubicBezTo>
                  <a:pt x="14015" y="14745"/>
                  <a:pt x="14066" y="14785"/>
                  <a:pt x="14139" y="14858"/>
                </a:cubicBezTo>
                <a:cubicBezTo>
                  <a:pt x="14201" y="14921"/>
                  <a:pt x="14228" y="14932"/>
                  <a:pt x="14312" y="14932"/>
                </a:cubicBezTo>
                <a:cubicBezTo>
                  <a:pt x="14365" y="14932"/>
                  <a:pt x="14444" y="14866"/>
                  <a:pt x="14461" y="14808"/>
                </a:cubicBezTo>
                <a:cubicBezTo>
                  <a:pt x="14498" y="14684"/>
                  <a:pt x="14463" y="14606"/>
                  <a:pt x="14412" y="14486"/>
                </a:cubicBezTo>
                <a:cubicBezTo>
                  <a:pt x="14385" y="14424"/>
                  <a:pt x="14334" y="14384"/>
                  <a:pt x="14288" y="14337"/>
                </a:cubicBezTo>
                <a:cubicBezTo>
                  <a:pt x="14258" y="14307"/>
                  <a:pt x="14263" y="14303"/>
                  <a:pt x="14263" y="14263"/>
                </a:cubicBezTo>
              </a:path>
              <a:path w="8583" h="2730">
                <a:moveTo>
                  <a:pt x="14610" y="14139"/>
                </a:moveTo>
                <a:cubicBezTo>
                  <a:pt x="14469" y="14160"/>
                  <a:pt x="14449" y="14218"/>
                  <a:pt x="14536" y="14362"/>
                </a:cubicBezTo>
                <a:cubicBezTo>
                  <a:pt x="14595" y="14460"/>
                  <a:pt x="14683" y="14554"/>
                  <a:pt x="14734" y="14660"/>
                </a:cubicBezTo>
                <a:cubicBezTo>
                  <a:pt x="14764" y="14722"/>
                  <a:pt x="14768" y="14782"/>
                  <a:pt x="14734" y="14833"/>
                </a:cubicBezTo>
                <a:cubicBezTo>
                  <a:pt x="14697" y="14888"/>
                  <a:pt x="14632" y="14843"/>
                  <a:pt x="14585" y="14833"/>
                </a:cubicBezTo>
                <a:cubicBezTo>
                  <a:pt x="14542" y="14824"/>
                  <a:pt x="14543" y="14781"/>
                  <a:pt x="14536" y="14734"/>
                </a:cubicBezTo>
              </a:path>
              <a:path w="8583" h="2730">
                <a:moveTo>
                  <a:pt x="14883" y="13816"/>
                </a:moveTo>
                <a:cubicBezTo>
                  <a:pt x="14994" y="13745"/>
                  <a:pt x="15046" y="13698"/>
                  <a:pt x="15156" y="13791"/>
                </a:cubicBezTo>
                <a:cubicBezTo>
                  <a:pt x="15214" y="13840"/>
                  <a:pt x="15275" y="13960"/>
                  <a:pt x="15255" y="14039"/>
                </a:cubicBezTo>
                <a:cubicBezTo>
                  <a:pt x="15245" y="14079"/>
                  <a:pt x="15171" y="14153"/>
                  <a:pt x="15131" y="14163"/>
                </a:cubicBezTo>
                <a:cubicBezTo>
                  <a:pt x="15106" y="14170"/>
                  <a:pt x="15060" y="14163"/>
                  <a:pt x="15032" y="14163"/>
                </a:cubicBezTo>
                <a:cubicBezTo>
                  <a:pt x="15032" y="14099"/>
                  <a:pt x="15066" y="14093"/>
                  <a:pt x="15131" y="14114"/>
                </a:cubicBezTo>
                <a:cubicBezTo>
                  <a:pt x="15184" y="14141"/>
                  <a:pt x="15204" y="14153"/>
                  <a:pt x="15230" y="14188"/>
                </a:cubicBezTo>
              </a:path>
              <a:path w="8583" h="2730">
                <a:moveTo>
                  <a:pt x="15850" y="14089"/>
                </a:moveTo>
                <a:cubicBezTo>
                  <a:pt x="15777" y="14249"/>
                  <a:pt x="15679" y="14408"/>
                  <a:pt x="15652" y="14585"/>
                </a:cubicBezTo>
                <a:cubicBezTo>
                  <a:pt x="15636" y="14692"/>
                  <a:pt x="15668" y="14784"/>
                  <a:pt x="15701" y="14883"/>
                </a:cubicBezTo>
                <a:cubicBezTo>
                  <a:pt x="15730" y="14972"/>
                  <a:pt x="15787" y="15042"/>
                  <a:pt x="15875" y="15081"/>
                </a:cubicBezTo>
                <a:cubicBezTo>
                  <a:pt x="15957" y="15117"/>
                  <a:pt x="16066" y="15122"/>
                  <a:pt x="16148" y="15081"/>
                </a:cubicBezTo>
                <a:cubicBezTo>
                  <a:pt x="16244" y="15033"/>
                  <a:pt x="16311" y="14943"/>
                  <a:pt x="16371" y="14858"/>
                </a:cubicBezTo>
                <a:cubicBezTo>
                  <a:pt x="16448" y="14748"/>
                  <a:pt x="16446" y="14667"/>
                  <a:pt x="16446" y="14536"/>
                </a:cubicBezTo>
                <a:cubicBezTo>
                  <a:pt x="16446" y="14406"/>
                  <a:pt x="16408" y="14313"/>
                  <a:pt x="16321" y="14213"/>
                </a:cubicBezTo>
                <a:cubicBezTo>
                  <a:pt x="16244" y="14125"/>
                  <a:pt x="16171" y="14064"/>
                  <a:pt x="16049" y="14089"/>
                </a:cubicBezTo>
                <a:cubicBezTo>
                  <a:pt x="16041" y="14097"/>
                  <a:pt x="16032" y="14106"/>
                  <a:pt x="16024" y="14114"/>
                </a:cubicBezTo>
              </a:path>
              <a:path w="8583" h="2730">
                <a:moveTo>
                  <a:pt x="16644" y="14560"/>
                </a:moveTo>
                <a:cubicBezTo>
                  <a:pt x="16446" y="14540"/>
                  <a:pt x="16246" y="14502"/>
                  <a:pt x="16049" y="14486"/>
                </a:cubicBezTo>
                <a:cubicBezTo>
                  <a:pt x="15923" y="14476"/>
                  <a:pt x="15753" y="14492"/>
                  <a:pt x="15627" y="14511"/>
                </a:cubicBezTo>
                <a:cubicBezTo>
                  <a:pt x="15543" y="14524"/>
                  <a:pt x="15459" y="14558"/>
                  <a:pt x="15379" y="14585"/>
                </a:cubicBezTo>
              </a:path>
              <a:path w="8583" h="2730">
                <a:moveTo>
                  <a:pt x="8334" y="16421"/>
                </a:moveTo>
                <a:cubicBezTo>
                  <a:pt x="8461" y="16391"/>
                  <a:pt x="8551" y="16371"/>
                  <a:pt x="8682" y="16371"/>
                </a:cubicBezTo>
                <a:cubicBezTo>
                  <a:pt x="8849" y="16371"/>
                  <a:pt x="9037" y="16344"/>
                  <a:pt x="9203" y="16321"/>
                </a:cubicBezTo>
                <a:cubicBezTo>
                  <a:pt x="9369" y="16298"/>
                  <a:pt x="9532" y="16258"/>
                  <a:pt x="9699" y="16247"/>
                </a:cubicBezTo>
                <a:cubicBezTo>
                  <a:pt x="9862" y="16236"/>
                  <a:pt x="10010" y="16207"/>
                  <a:pt x="10170" y="16173"/>
                </a:cubicBezTo>
                <a:cubicBezTo>
                  <a:pt x="10292" y="16147"/>
                  <a:pt x="10419" y="16091"/>
                  <a:pt x="10542" y="16073"/>
                </a:cubicBezTo>
                <a:cubicBezTo>
                  <a:pt x="10620" y="16062"/>
                  <a:pt x="10688" y="16028"/>
                  <a:pt x="10765" y="16024"/>
                </a:cubicBezTo>
                <a:cubicBezTo>
                  <a:pt x="10818" y="16021"/>
                  <a:pt x="10818" y="16036"/>
                  <a:pt x="10840" y="16049"/>
                </a:cubicBezTo>
              </a:path>
              <a:path w="8583" h="2730">
                <a:moveTo>
                  <a:pt x="13047" y="14908"/>
                </a:moveTo>
                <a:cubicBezTo>
                  <a:pt x="13116" y="14832"/>
                  <a:pt x="13172" y="14780"/>
                  <a:pt x="13271" y="14734"/>
                </a:cubicBezTo>
                <a:cubicBezTo>
                  <a:pt x="13378" y="14684"/>
                  <a:pt x="13484" y="14654"/>
                  <a:pt x="13593" y="14610"/>
                </a:cubicBezTo>
                <a:cubicBezTo>
                  <a:pt x="13823" y="14517"/>
                  <a:pt x="14054" y="14440"/>
                  <a:pt x="14288" y="14362"/>
                </a:cubicBezTo>
                <a:cubicBezTo>
                  <a:pt x="14503" y="14290"/>
                  <a:pt x="14717" y="14230"/>
                  <a:pt x="14932" y="14163"/>
                </a:cubicBezTo>
                <a:cubicBezTo>
                  <a:pt x="15083" y="14116"/>
                  <a:pt x="15227" y="14057"/>
                  <a:pt x="15379" y="14015"/>
                </a:cubicBezTo>
                <a:cubicBezTo>
                  <a:pt x="15471" y="13990"/>
                  <a:pt x="15594" y="13953"/>
                  <a:pt x="15677" y="13915"/>
                </a:cubicBezTo>
                <a:cubicBezTo>
                  <a:pt x="15723" y="13894"/>
                  <a:pt x="15851" y="13841"/>
                  <a:pt x="15801" y="13841"/>
                </a:cubicBezTo>
                <a:cubicBezTo>
                  <a:pt x="15766" y="13841"/>
                  <a:pt x="15748" y="13846"/>
                  <a:pt x="15726" y="138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Ink 9"/>
          <p:cNvSpPr/>
          <p:nvPr/>
        </p:nvSpPr>
        <p:spPr>
          <a:xfrm>
            <a:off x="3062160" y="5643720"/>
            <a:ext cx="1098720" cy="447480"/>
          </a:xfrm>
          <a:custGeom>
            <a:avLst/>
            <a:gdLst/>
            <a:ahLst/>
            <a:rect l="l" t="t" r="r" b="b"/>
            <a:pathLst>
              <a:path w="3052" h="1241">
                <a:moveTo>
                  <a:pt x="8954" y="16024"/>
                </a:moveTo>
                <a:cubicBezTo>
                  <a:pt x="8954" y="16071"/>
                  <a:pt x="8944" y="15999"/>
                  <a:pt x="8930" y="15974"/>
                </a:cubicBezTo>
                <a:cubicBezTo>
                  <a:pt x="8915" y="15948"/>
                  <a:pt x="8897" y="15869"/>
                  <a:pt x="8855" y="15875"/>
                </a:cubicBezTo>
                <a:cubicBezTo>
                  <a:pt x="8775" y="15887"/>
                  <a:pt x="8713" y="15945"/>
                  <a:pt x="8657" y="15999"/>
                </a:cubicBezTo>
                <a:cubicBezTo>
                  <a:pt x="8591" y="16062"/>
                  <a:pt x="8565" y="16138"/>
                  <a:pt x="8533" y="16222"/>
                </a:cubicBezTo>
                <a:cubicBezTo>
                  <a:pt x="8494" y="16326"/>
                  <a:pt x="8504" y="16415"/>
                  <a:pt x="8533" y="16520"/>
                </a:cubicBezTo>
                <a:cubicBezTo>
                  <a:pt x="8551" y="16585"/>
                  <a:pt x="8636" y="16719"/>
                  <a:pt x="8706" y="16743"/>
                </a:cubicBezTo>
                <a:cubicBezTo>
                  <a:pt x="8772" y="16743"/>
                  <a:pt x="8789" y="16743"/>
                  <a:pt x="8830" y="16743"/>
                </a:cubicBezTo>
              </a:path>
              <a:path w="3052" h="1241">
                <a:moveTo>
                  <a:pt x="9351" y="16173"/>
                </a:moveTo>
                <a:cubicBezTo>
                  <a:pt x="9295" y="16269"/>
                  <a:pt x="9278" y="16343"/>
                  <a:pt x="9252" y="16446"/>
                </a:cubicBezTo>
                <a:cubicBezTo>
                  <a:pt x="9220" y="16572"/>
                  <a:pt x="9238" y="16628"/>
                  <a:pt x="9327" y="16718"/>
                </a:cubicBezTo>
                <a:cubicBezTo>
                  <a:pt x="9403" y="16794"/>
                  <a:pt x="9449" y="16811"/>
                  <a:pt x="9550" y="16768"/>
                </a:cubicBezTo>
                <a:cubicBezTo>
                  <a:pt x="9655" y="16723"/>
                  <a:pt x="9650" y="16665"/>
                  <a:pt x="9674" y="16570"/>
                </a:cubicBezTo>
                <a:cubicBezTo>
                  <a:pt x="9699" y="16472"/>
                  <a:pt x="9710" y="16388"/>
                  <a:pt x="9649" y="16297"/>
                </a:cubicBezTo>
                <a:cubicBezTo>
                  <a:pt x="9604" y="16229"/>
                  <a:pt x="9521" y="16162"/>
                  <a:pt x="9451" y="16123"/>
                </a:cubicBezTo>
                <a:cubicBezTo>
                  <a:pt x="9400" y="16094"/>
                  <a:pt x="9365" y="16079"/>
                  <a:pt x="9351" y="16024"/>
                </a:cubicBezTo>
              </a:path>
              <a:path w="3052" h="1241">
                <a:moveTo>
                  <a:pt x="9947" y="16073"/>
                </a:moveTo>
                <a:cubicBezTo>
                  <a:pt x="9906" y="16053"/>
                  <a:pt x="9900" y="16045"/>
                  <a:pt x="9872" y="16049"/>
                </a:cubicBezTo>
                <a:cubicBezTo>
                  <a:pt x="9830" y="16104"/>
                  <a:pt x="9849" y="16132"/>
                  <a:pt x="9872" y="16197"/>
                </a:cubicBezTo>
                <a:cubicBezTo>
                  <a:pt x="9910" y="16307"/>
                  <a:pt x="9957" y="16411"/>
                  <a:pt x="9996" y="16520"/>
                </a:cubicBezTo>
                <a:cubicBezTo>
                  <a:pt x="10019" y="16584"/>
                  <a:pt x="10073" y="16707"/>
                  <a:pt x="10021" y="16768"/>
                </a:cubicBezTo>
                <a:cubicBezTo>
                  <a:pt x="10005" y="16786"/>
                  <a:pt x="9897" y="16847"/>
                  <a:pt x="9872" y="16842"/>
                </a:cubicBezTo>
                <a:cubicBezTo>
                  <a:pt x="9767" y="16821"/>
                  <a:pt x="9751" y="16782"/>
                  <a:pt x="9773" y="16694"/>
                </a:cubicBezTo>
              </a:path>
              <a:path w="3052" h="1241">
                <a:moveTo>
                  <a:pt x="10294" y="15677"/>
                </a:moveTo>
                <a:cubicBezTo>
                  <a:pt x="10415" y="15705"/>
                  <a:pt x="10461" y="15696"/>
                  <a:pt x="10517" y="15801"/>
                </a:cubicBezTo>
                <a:cubicBezTo>
                  <a:pt x="10565" y="15890"/>
                  <a:pt x="10536" y="15924"/>
                  <a:pt x="10492" y="15999"/>
                </a:cubicBezTo>
                <a:cubicBezTo>
                  <a:pt x="10456" y="16060"/>
                  <a:pt x="10438" y="16073"/>
                  <a:pt x="10368" y="16073"/>
                </a:cubicBezTo>
                <a:cubicBezTo>
                  <a:pt x="10352" y="16073"/>
                  <a:pt x="10335" y="16073"/>
                  <a:pt x="10319" y="16073"/>
                </a:cubicBezTo>
                <a:cubicBezTo>
                  <a:pt x="10345" y="16035"/>
                  <a:pt x="10405" y="16026"/>
                  <a:pt x="10468" y="16024"/>
                </a:cubicBezTo>
                <a:cubicBezTo>
                  <a:pt x="10550" y="16024"/>
                  <a:pt x="10567" y="16024"/>
                  <a:pt x="10616" y="16024"/>
                </a:cubicBezTo>
              </a:path>
              <a:path w="3052" h="1241">
                <a:moveTo>
                  <a:pt x="11038" y="15900"/>
                </a:moveTo>
                <a:cubicBezTo>
                  <a:pt x="11038" y="15987"/>
                  <a:pt x="11029" y="16069"/>
                  <a:pt x="10988" y="16148"/>
                </a:cubicBezTo>
                <a:cubicBezTo>
                  <a:pt x="10930" y="16260"/>
                  <a:pt x="10893" y="16340"/>
                  <a:pt x="10889" y="16470"/>
                </a:cubicBezTo>
                <a:cubicBezTo>
                  <a:pt x="10885" y="16611"/>
                  <a:pt x="10898" y="16672"/>
                  <a:pt x="10964" y="16793"/>
                </a:cubicBezTo>
                <a:cubicBezTo>
                  <a:pt x="11006" y="16870"/>
                  <a:pt x="11068" y="16952"/>
                  <a:pt x="11162" y="16892"/>
                </a:cubicBezTo>
                <a:cubicBezTo>
                  <a:pt x="11249" y="16837"/>
                  <a:pt x="11302" y="16736"/>
                  <a:pt x="11336" y="16644"/>
                </a:cubicBezTo>
                <a:cubicBezTo>
                  <a:pt x="11373" y="16545"/>
                  <a:pt x="11404" y="16428"/>
                  <a:pt x="11385" y="16321"/>
                </a:cubicBezTo>
                <a:cubicBezTo>
                  <a:pt x="11370" y="16237"/>
                  <a:pt x="11331" y="16165"/>
                  <a:pt x="11261" y="16123"/>
                </a:cubicBezTo>
                <a:cubicBezTo>
                  <a:pt x="11218" y="16101"/>
                  <a:pt x="11206" y="16097"/>
                  <a:pt x="11187" y="16073"/>
                </a:cubicBezTo>
              </a:path>
              <a:path w="3052" h="1241">
                <a:moveTo>
                  <a:pt x="10691" y="16222"/>
                </a:moveTo>
                <a:cubicBezTo>
                  <a:pt x="10835" y="16332"/>
                  <a:pt x="10942" y="16390"/>
                  <a:pt x="11112" y="16446"/>
                </a:cubicBezTo>
                <a:cubicBezTo>
                  <a:pt x="11262" y="16495"/>
                  <a:pt x="11410" y="16468"/>
                  <a:pt x="11559" y="164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Ink 10"/>
          <p:cNvSpPr/>
          <p:nvPr/>
        </p:nvSpPr>
        <p:spPr>
          <a:xfrm>
            <a:off x="4179960" y="6188040"/>
            <a:ext cx="1222200" cy="473040"/>
          </a:xfrm>
          <a:custGeom>
            <a:avLst/>
            <a:gdLst/>
            <a:ahLst/>
            <a:rect l="l" t="t" r="r" b="b"/>
            <a:pathLst>
              <a:path w="3399" h="1315">
                <a:moveTo>
                  <a:pt x="12179" y="17512"/>
                </a:moveTo>
                <a:cubicBezTo>
                  <a:pt x="12166" y="17474"/>
                  <a:pt x="12157" y="17483"/>
                  <a:pt x="12129" y="17462"/>
                </a:cubicBezTo>
                <a:cubicBezTo>
                  <a:pt x="12072" y="17419"/>
                  <a:pt x="11996" y="17472"/>
                  <a:pt x="11931" y="17487"/>
                </a:cubicBezTo>
                <a:cubicBezTo>
                  <a:pt x="11889" y="17497"/>
                  <a:pt x="11828" y="17515"/>
                  <a:pt x="11807" y="17562"/>
                </a:cubicBezTo>
                <a:cubicBezTo>
                  <a:pt x="11801" y="17576"/>
                  <a:pt x="11848" y="17674"/>
                  <a:pt x="11857" y="17686"/>
                </a:cubicBezTo>
                <a:cubicBezTo>
                  <a:pt x="11914" y="17761"/>
                  <a:pt x="11973" y="17832"/>
                  <a:pt x="12030" y="17909"/>
                </a:cubicBezTo>
                <a:cubicBezTo>
                  <a:pt x="12097" y="17998"/>
                  <a:pt x="12162" y="18093"/>
                  <a:pt x="12179" y="18207"/>
                </a:cubicBezTo>
                <a:cubicBezTo>
                  <a:pt x="12188" y="18266"/>
                  <a:pt x="12152" y="18387"/>
                  <a:pt x="12105" y="18430"/>
                </a:cubicBezTo>
                <a:cubicBezTo>
                  <a:pt x="12057" y="18475"/>
                  <a:pt x="11944" y="18501"/>
                  <a:pt x="11881" y="18504"/>
                </a:cubicBezTo>
                <a:cubicBezTo>
                  <a:pt x="11800" y="18508"/>
                  <a:pt x="11724" y="18514"/>
                  <a:pt x="11658" y="18479"/>
                </a:cubicBezTo>
                <a:cubicBezTo>
                  <a:pt x="11585" y="18440"/>
                  <a:pt x="11593" y="18332"/>
                  <a:pt x="11633" y="18256"/>
                </a:cubicBezTo>
                <a:cubicBezTo>
                  <a:pt x="11658" y="18223"/>
                  <a:pt x="11683" y="18190"/>
                  <a:pt x="11708" y="18157"/>
                </a:cubicBezTo>
              </a:path>
              <a:path w="3399" h="1315">
                <a:moveTo>
                  <a:pt x="12477" y="17909"/>
                </a:moveTo>
                <a:cubicBezTo>
                  <a:pt x="12477" y="18024"/>
                  <a:pt x="12485" y="18485"/>
                  <a:pt x="12477" y="18430"/>
                </a:cubicBezTo>
                <a:cubicBezTo>
                  <a:pt x="12469" y="18380"/>
                  <a:pt x="12460" y="18331"/>
                  <a:pt x="12452" y="18281"/>
                </a:cubicBezTo>
              </a:path>
              <a:path w="3399" h="1315">
                <a:moveTo>
                  <a:pt x="12551" y="17338"/>
                </a:moveTo>
                <a:cubicBezTo>
                  <a:pt x="12589" y="17282"/>
                  <a:pt x="12584" y="17257"/>
                  <a:pt x="12626" y="17264"/>
                </a:cubicBezTo>
              </a:path>
              <a:path w="3399" h="1315">
                <a:moveTo>
                  <a:pt x="12799" y="17835"/>
                </a:moveTo>
                <a:cubicBezTo>
                  <a:pt x="12799" y="18003"/>
                  <a:pt x="12810" y="18151"/>
                  <a:pt x="12774" y="18306"/>
                </a:cubicBezTo>
                <a:cubicBezTo>
                  <a:pt x="12774" y="18314"/>
                  <a:pt x="12774" y="18323"/>
                  <a:pt x="12774" y="18331"/>
                </a:cubicBezTo>
                <a:cubicBezTo>
                  <a:pt x="12774" y="18269"/>
                  <a:pt x="12799" y="18214"/>
                  <a:pt x="12824" y="18157"/>
                </a:cubicBezTo>
                <a:cubicBezTo>
                  <a:pt x="12864" y="18064"/>
                  <a:pt x="12878" y="18023"/>
                  <a:pt x="12923" y="17934"/>
                </a:cubicBezTo>
                <a:cubicBezTo>
                  <a:pt x="12948" y="17884"/>
                  <a:pt x="12962" y="17817"/>
                  <a:pt x="13022" y="17810"/>
                </a:cubicBezTo>
                <a:cubicBezTo>
                  <a:pt x="13076" y="17804"/>
                  <a:pt x="13115" y="17810"/>
                  <a:pt x="13146" y="17859"/>
                </a:cubicBezTo>
                <a:cubicBezTo>
                  <a:pt x="13213" y="17964"/>
                  <a:pt x="13199" y="18067"/>
                  <a:pt x="13221" y="18182"/>
                </a:cubicBezTo>
                <a:cubicBezTo>
                  <a:pt x="13238" y="18270"/>
                  <a:pt x="13246" y="18338"/>
                  <a:pt x="13246" y="18430"/>
                </a:cubicBezTo>
                <a:cubicBezTo>
                  <a:pt x="13246" y="18455"/>
                  <a:pt x="13246" y="18463"/>
                  <a:pt x="13246" y="18479"/>
                </a:cubicBezTo>
              </a:path>
              <a:path w="3399" h="1315">
                <a:moveTo>
                  <a:pt x="13395" y="17214"/>
                </a:moveTo>
                <a:cubicBezTo>
                  <a:pt x="13496" y="17177"/>
                  <a:pt x="13503" y="17190"/>
                  <a:pt x="13568" y="17264"/>
                </a:cubicBezTo>
                <a:cubicBezTo>
                  <a:pt x="13642" y="17348"/>
                  <a:pt x="13643" y="17375"/>
                  <a:pt x="13643" y="17487"/>
                </a:cubicBezTo>
                <a:cubicBezTo>
                  <a:pt x="13643" y="17540"/>
                  <a:pt x="13624" y="17611"/>
                  <a:pt x="13568" y="17636"/>
                </a:cubicBezTo>
                <a:cubicBezTo>
                  <a:pt x="13531" y="17652"/>
                  <a:pt x="13494" y="17630"/>
                  <a:pt x="13469" y="17611"/>
                </a:cubicBezTo>
                <a:cubicBezTo>
                  <a:pt x="13478" y="17577"/>
                  <a:pt x="13497" y="17543"/>
                  <a:pt x="13543" y="17562"/>
                </a:cubicBezTo>
                <a:cubicBezTo>
                  <a:pt x="13647" y="17605"/>
                  <a:pt x="13689" y="17681"/>
                  <a:pt x="13767" y="17760"/>
                </a:cubicBezTo>
                <a:cubicBezTo>
                  <a:pt x="13795" y="17789"/>
                  <a:pt x="13808" y="17797"/>
                  <a:pt x="13841" y="17785"/>
                </a:cubicBezTo>
              </a:path>
              <a:path w="3399" h="1315">
                <a:moveTo>
                  <a:pt x="14337" y="17487"/>
                </a:moveTo>
                <a:cubicBezTo>
                  <a:pt x="14294" y="17575"/>
                  <a:pt x="14226" y="17649"/>
                  <a:pt x="14188" y="17735"/>
                </a:cubicBezTo>
                <a:cubicBezTo>
                  <a:pt x="14153" y="17815"/>
                  <a:pt x="14102" y="17921"/>
                  <a:pt x="14089" y="18008"/>
                </a:cubicBezTo>
                <a:cubicBezTo>
                  <a:pt x="14073" y="18116"/>
                  <a:pt x="14106" y="18206"/>
                  <a:pt x="14139" y="18306"/>
                </a:cubicBezTo>
                <a:cubicBezTo>
                  <a:pt x="14174" y="18411"/>
                  <a:pt x="14201" y="18425"/>
                  <a:pt x="14288" y="18455"/>
                </a:cubicBezTo>
                <a:cubicBezTo>
                  <a:pt x="14351" y="18477"/>
                  <a:pt x="14400" y="18466"/>
                  <a:pt x="14461" y="18430"/>
                </a:cubicBezTo>
                <a:cubicBezTo>
                  <a:pt x="14583" y="18357"/>
                  <a:pt x="14637" y="18221"/>
                  <a:pt x="14660" y="18083"/>
                </a:cubicBezTo>
                <a:cubicBezTo>
                  <a:pt x="14677" y="17984"/>
                  <a:pt x="14670" y="17854"/>
                  <a:pt x="14635" y="17760"/>
                </a:cubicBezTo>
                <a:cubicBezTo>
                  <a:pt x="14597" y="17657"/>
                  <a:pt x="14549" y="17635"/>
                  <a:pt x="14486" y="17562"/>
                </a:cubicBezTo>
                <a:cubicBezTo>
                  <a:pt x="14469" y="17543"/>
                  <a:pt x="14430" y="17468"/>
                  <a:pt x="14387" y="17487"/>
                </a:cubicBezTo>
                <a:cubicBezTo>
                  <a:pt x="14379" y="17495"/>
                  <a:pt x="14370" y="17504"/>
                  <a:pt x="14362" y="17512"/>
                </a:cubicBezTo>
              </a:path>
              <a:path w="3399" h="1315">
                <a:moveTo>
                  <a:pt x="15007" y="17959"/>
                </a:moveTo>
                <a:cubicBezTo>
                  <a:pt x="14732" y="17959"/>
                  <a:pt x="14457" y="17959"/>
                  <a:pt x="14188" y="17934"/>
                </a:cubicBezTo>
                <a:cubicBezTo>
                  <a:pt x="14087" y="17924"/>
                  <a:pt x="14006" y="17947"/>
                  <a:pt x="13915" y="17959"/>
                </a:cubicBezTo>
                <a:cubicBezTo>
                  <a:pt x="13844" y="17968"/>
                  <a:pt x="13764" y="17959"/>
                  <a:pt x="13692" y="179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fdef6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fdef6"/>
                </a:solidFill>
                <a:latin typeface="Arial"/>
              </a:rPr>
              <a:t>Page 381</a:t>
            </a:r>
            <a:br>
              <a:rPr sz="7500"/>
            </a:br>
            <a:r>
              <a:rPr b="0" lang="en-US" sz="7500" spc="-1" strike="noStrike">
                <a:solidFill>
                  <a:srgbClr val="dfdef6"/>
                </a:solidFill>
                <a:latin typeface="Arial"/>
              </a:rPr>
              <a:t>#31-41</a:t>
            </a:r>
            <a:endParaRPr b="0" lang="en-US" sz="75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Ink 4"/>
          <p:cNvSpPr/>
          <p:nvPr/>
        </p:nvSpPr>
        <p:spPr>
          <a:xfrm>
            <a:off x="438120" y="938160"/>
            <a:ext cx="241200" cy="223920"/>
          </a:xfrm>
          <a:custGeom>
            <a:avLst/>
            <a:gdLst/>
            <a:ahLst/>
            <a:rect l="l" t="t" r="r" b="b"/>
            <a:pathLst>
              <a:path w="671" h="622">
                <a:moveTo>
                  <a:pt x="1290" y="2704"/>
                </a:moveTo>
                <a:cubicBezTo>
                  <a:pt x="1267" y="2766"/>
                  <a:pt x="1222" y="2858"/>
                  <a:pt x="1215" y="2927"/>
                </a:cubicBezTo>
                <a:cubicBezTo>
                  <a:pt x="1215" y="2952"/>
                  <a:pt x="1215" y="2960"/>
                  <a:pt x="1215" y="2927"/>
                </a:cubicBezTo>
                <a:cubicBezTo>
                  <a:pt x="1215" y="2862"/>
                  <a:pt x="1236" y="2816"/>
                  <a:pt x="1240" y="2753"/>
                </a:cubicBezTo>
                <a:cubicBezTo>
                  <a:pt x="1243" y="2700"/>
                  <a:pt x="1258" y="2630"/>
                  <a:pt x="1315" y="2604"/>
                </a:cubicBezTo>
                <a:cubicBezTo>
                  <a:pt x="1367" y="2580"/>
                  <a:pt x="1393" y="2617"/>
                  <a:pt x="1414" y="2654"/>
                </a:cubicBezTo>
                <a:cubicBezTo>
                  <a:pt x="1459" y="2735"/>
                  <a:pt x="1431" y="2770"/>
                  <a:pt x="1414" y="2853"/>
                </a:cubicBezTo>
                <a:cubicBezTo>
                  <a:pt x="1403" y="2909"/>
                  <a:pt x="1393" y="2938"/>
                  <a:pt x="1339" y="2952"/>
                </a:cubicBezTo>
                <a:cubicBezTo>
                  <a:pt x="1339" y="2917"/>
                  <a:pt x="1346" y="2890"/>
                  <a:pt x="1364" y="2877"/>
                </a:cubicBezTo>
                <a:cubicBezTo>
                  <a:pt x="1413" y="2842"/>
                  <a:pt x="1464" y="2845"/>
                  <a:pt x="1513" y="2877"/>
                </a:cubicBezTo>
                <a:cubicBezTo>
                  <a:pt x="1573" y="2916"/>
                  <a:pt x="1609" y="2928"/>
                  <a:pt x="1612" y="3001"/>
                </a:cubicBezTo>
                <a:cubicBezTo>
                  <a:pt x="1616" y="3082"/>
                  <a:pt x="1584" y="3128"/>
                  <a:pt x="1513" y="3175"/>
                </a:cubicBezTo>
                <a:cubicBezTo>
                  <a:pt x="1446" y="3220"/>
                  <a:pt x="1394" y="3225"/>
                  <a:pt x="1315" y="3225"/>
                </a:cubicBezTo>
                <a:cubicBezTo>
                  <a:pt x="1210" y="3225"/>
                  <a:pt x="1239" y="3184"/>
                  <a:pt x="1290" y="3125"/>
                </a:cubicBezTo>
              </a:path>
              <a:path w="671" h="622">
                <a:moveTo>
                  <a:pt x="1885" y="3150"/>
                </a:moveTo>
                <a:cubicBezTo>
                  <a:pt x="1885" y="3158"/>
                  <a:pt x="1885" y="3167"/>
                  <a:pt x="1885" y="31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Ink 5"/>
          <p:cNvSpPr/>
          <p:nvPr/>
        </p:nvSpPr>
        <p:spPr>
          <a:xfrm>
            <a:off x="1054080" y="750960"/>
            <a:ext cx="3009960" cy="552240"/>
          </a:xfrm>
          <a:custGeom>
            <a:avLst/>
            <a:gdLst/>
            <a:ahLst/>
            <a:rect l="l" t="t" r="r" b="b"/>
            <a:pathLst>
              <a:path w="8360" h="1538">
                <a:moveTo>
                  <a:pt x="3225" y="2952"/>
                </a:moveTo>
                <a:cubicBezTo>
                  <a:pt x="3225" y="2901"/>
                  <a:pt x="3234" y="2866"/>
                  <a:pt x="3200" y="2828"/>
                </a:cubicBezTo>
                <a:cubicBezTo>
                  <a:pt x="3178" y="2803"/>
                  <a:pt x="3110" y="2785"/>
                  <a:pt x="3076" y="2803"/>
                </a:cubicBezTo>
                <a:cubicBezTo>
                  <a:pt x="3044" y="2820"/>
                  <a:pt x="2946" y="2884"/>
                  <a:pt x="2927" y="2927"/>
                </a:cubicBezTo>
                <a:cubicBezTo>
                  <a:pt x="2899" y="2989"/>
                  <a:pt x="3008" y="2992"/>
                  <a:pt x="3026" y="3001"/>
                </a:cubicBezTo>
                <a:cubicBezTo>
                  <a:pt x="3079" y="3027"/>
                  <a:pt x="3126" y="3093"/>
                  <a:pt x="3175" y="3125"/>
                </a:cubicBezTo>
                <a:cubicBezTo>
                  <a:pt x="3193" y="3137"/>
                  <a:pt x="3301" y="3220"/>
                  <a:pt x="3299" y="3249"/>
                </a:cubicBezTo>
                <a:cubicBezTo>
                  <a:pt x="3294" y="3317"/>
                  <a:pt x="3233" y="3371"/>
                  <a:pt x="3175" y="3398"/>
                </a:cubicBezTo>
                <a:cubicBezTo>
                  <a:pt x="3122" y="3423"/>
                  <a:pt x="3084" y="3382"/>
                  <a:pt x="3051" y="3349"/>
                </a:cubicBezTo>
                <a:cubicBezTo>
                  <a:pt x="3012" y="3311"/>
                  <a:pt x="3022" y="3312"/>
                  <a:pt x="3051" y="3274"/>
                </a:cubicBezTo>
              </a:path>
              <a:path w="8360" h="1538">
                <a:moveTo>
                  <a:pt x="3423" y="3076"/>
                </a:moveTo>
                <a:cubicBezTo>
                  <a:pt x="3387" y="3088"/>
                  <a:pt x="3401" y="3114"/>
                  <a:pt x="3423" y="3125"/>
                </a:cubicBezTo>
                <a:cubicBezTo>
                  <a:pt x="3463" y="3144"/>
                  <a:pt x="3483" y="3147"/>
                  <a:pt x="3522" y="3125"/>
                </a:cubicBezTo>
                <a:cubicBezTo>
                  <a:pt x="3588" y="3088"/>
                  <a:pt x="3644" y="3062"/>
                  <a:pt x="3671" y="3001"/>
                </a:cubicBezTo>
                <a:cubicBezTo>
                  <a:pt x="3688" y="2961"/>
                  <a:pt x="3724" y="2847"/>
                  <a:pt x="3696" y="2803"/>
                </a:cubicBezTo>
                <a:cubicBezTo>
                  <a:pt x="3668" y="2803"/>
                  <a:pt x="3657" y="2801"/>
                  <a:pt x="3646" y="2778"/>
                </a:cubicBezTo>
                <a:cubicBezTo>
                  <a:pt x="3603" y="2832"/>
                  <a:pt x="3550" y="2888"/>
                  <a:pt x="3522" y="2952"/>
                </a:cubicBezTo>
                <a:cubicBezTo>
                  <a:pt x="3478" y="3053"/>
                  <a:pt x="3473" y="3141"/>
                  <a:pt x="3473" y="3249"/>
                </a:cubicBezTo>
                <a:cubicBezTo>
                  <a:pt x="3473" y="3307"/>
                  <a:pt x="3512" y="3357"/>
                  <a:pt x="3572" y="3373"/>
                </a:cubicBezTo>
                <a:cubicBezTo>
                  <a:pt x="3609" y="3383"/>
                  <a:pt x="3715" y="3347"/>
                  <a:pt x="3746" y="3324"/>
                </a:cubicBezTo>
                <a:cubicBezTo>
                  <a:pt x="3762" y="3307"/>
                  <a:pt x="3779" y="3291"/>
                  <a:pt x="3795" y="3274"/>
                </a:cubicBezTo>
              </a:path>
              <a:path w="8360" h="1538">
                <a:moveTo>
                  <a:pt x="4142" y="3026"/>
                </a:moveTo>
                <a:cubicBezTo>
                  <a:pt x="4153" y="3000"/>
                  <a:pt x="4186" y="2936"/>
                  <a:pt x="4167" y="2902"/>
                </a:cubicBezTo>
                <a:cubicBezTo>
                  <a:pt x="4151" y="2874"/>
                  <a:pt x="4104" y="2834"/>
                  <a:pt x="4068" y="2853"/>
                </a:cubicBezTo>
                <a:cubicBezTo>
                  <a:pt x="4007" y="2885"/>
                  <a:pt x="3989" y="2969"/>
                  <a:pt x="3969" y="3026"/>
                </a:cubicBezTo>
                <a:cubicBezTo>
                  <a:pt x="3935" y="3125"/>
                  <a:pt x="3930" y="3212"/>
                  <a:pt x="3994" y="3299"/>
                </a:cubicBezTo>
                <a:cubicBezTo>
                  <a:pt x="4033" y="3352"/>
                  <a:pt x="4056" y="3349"/>
                  <a:pt x="4118" y="3349"/>
                </a:cubicBezTo>
                <a:cubicBezTo>
                  <a:pt x="4184" y="3349"/>
                  <a:pt x="4197" y="3345"/>
                  <a:pt x="4242" y="3299"/>
                </a:cubicBezTo>
                <a:cubicBezTo>
                  <a:pt x="4278" y="3263"/>
                  <a:pt x="4278" y="3288"/>
                  <a:pt x="4291" y="3249"/>
                </a:cubicBezTo>
              </a:path>
              <a:path w="8360" h="1538">
                <a:moveTo>
                  <a:pt x="4911" y="2753"/>
                </a:moveTo>
                <a:cubicBezTo>
                  <a:pt x="4859" y="2821"/>
                  <a:pt x="4839" y="2896"/>
                  <a:pt x="4812" y="2977"/>
                </a:cubicBezTo>
                <a:cubicBezTo>
                  <a:pt x="4773" y="3092"/>
                  <a:pt x="4740" y="3226"/>
                  <a:pt x="4762" y="3349"/>
                </a:cubicBezTo>
                <a:cubicBezTo>
                  <a:pt x="4776" y="3428"/>
                  <a:pt x="4832" y="3480"/>
                  <a:pt x="4911" y="3497"/>
                </a:cubicBezTo>
                <a:cubicBezTo>
                  <a:pt x="4984" y="3513"/>
                  <a:pt x="5097" y="3490"/>
                  <a:pt x="5159" y="3448"/>
                </a:cubicBezTo>
                <a:cubicBezTo>
                  <a:pt x="5235" y="3397"/>
                  <a:pt x="5306" y="3324"/>
                  <a:pt x="5358" y="3249"/>
                </a:cubicBezTo>
                <a:cubicBezTo>
                  <a:pt x="5411" y="3172"/>
                  <a:pt x="5429" y="3067"/>
                  <a:pt x="5432" y="2977"/>
                </a:cubicBezTo>
                <a:cubicBezTo>
                  <a:pt x="5436" y="2859"/>
                  <a:pt x="5392" y="2843"/>
                  <a:pt x="5308" y="2778"/>
                </a:cubicBezTo>
                <a:cubicBezTo>
                  <a:pt x="5249" y="2732"/>
                  <a:pt x="5128" y="2736"/>
                  <a:pt x="5060" y="2778"/>
                </a:cubicBezTo>
                <a:cubicBezTo>
                  <a:pt x="5060" y="2786"/>
                  <a:pt x="5060" y="2795"/>
                  <a:pt x="5060" y="2803"/>
                </a:cubicBezTo>
              </a:path>
              <a:path w="8360" h="1538">
                <a:moveTo>
                  <a:pt x="4837" y="3150"/>
                </a:moveTo>
                <a:cubicBezTo>
                  <a:pt x="4906" y="3140"/>
                  <a:pt x="4964" y="3088"/>
                  <a:pt x="5035" y="3076"/>
                </a:cubicBezTo>
                <a:cubicBezTo>
                  <a:pt x="5114" y="3063"/>
                  <a:pt x="5189" y="3045"/>
                  <a:pt x="5259" y="3026"/>
                </a:cubicBezTo>
                <a:cubicBezTo>
                  <a:pt x="5283" y="3026"/>
                  <a:pt x="5292" y="3026"/>
                  <a:pt x="5308" y="3026"/>
                </a:cubicBezTo>
              </a:path>
              <a:path w="8360" h="1538">
                <a:moveTo>
                  <a:pt x="5779" y="3026"/>
                </a:moveTo>
                <a:cubicBezTo>
                  <a:pt x="5816" y="3004"/>
                  <a:pt x="5860" y="2982"/>
                  <a:pt x="5904" y="2977"/>
                </a:cubicBezTo>
                <a:cubicBezTo>
                  <a:pt x="5954" y="2972"/>
                  <a:pt x="6063" y="2962"/>
                  <a:pt x="6077" y="3001"/>
                </a:cubicBezTo>
              </a:path>
              <a:path w="8360" h="1538">
                <a:moveTo>
                  <a:pt x="5854" y="3299"/>
                </a:moveTo>
                <a:cubicBezTo>
                  <a:pt x="5926" y="3292"/>
                  <a:pt x="5980" y="3274"/>
                  <a:pt x="6052" y="3274"/>
                </a:cubicBezTo>
                <a:cubicBezTo>
                  <a:pt x="6084" y="3274"/>
                  <a:pt x="6097" y="3257"/>
                  <a:pt x="6127" y="3249"/>
                </a:cubicBezTo>
              </a:path>
              <a:path w="8360" h="1538">
                <a:moveTo>
                  <a:pt x="6325" y="2803"/>
                </a:moveTo>
                <a:cubicBezTo>
                  <a:pt x="6342" y="2865"/>
                  <a:pt x="6366" y="2935"/>
                  <a:pt x="6375" y="3001"/>
                </a:cubicBezTo>
                <a:cubicBezTo>
                  <a:pt x="6391" y="3114"/>
                  <a:pt x="6428" y="3217"/>
                  <a:pt x="6474" y="3324"/>
                </a:cubicBezTo>
                <a:cubicBezTo>
                  <a:pt x="6486" y="3353"/>
                  <a:pt x="6485" y="3396"/>
                  <a:pt x="6499" y="3423"/>
                </a:cubicBezTo>
                <a:cubicBezTo>
                  <a:pt x="6507" y="3431"/>
                  <a:pt x="6516" y="3440"/>
                  <a:pt x="6524" y="3448"/>
                </a:cubicBezTo>
                <a:cubicBezTo>
                  <a:pt x="6524" y="3368"/>
                  <a:pt x="6508" y="3299"/>
                  <a:pt x="6499" y="3225"/>
                </a:cubicBezTo>
                <a:cubicBezTo>
                  <a:pt x="6479" y="3068"/>
                  <a:pt x="6476" y="2850"/>
                  <a:pt x="6524" y="2704"/>
                </a:cubicBezTo>
                <a:cubicBezTo>
                  <a:pt x="6539" y="2657"/>
                  <a:pt x="6542" y="2617"/>
                  <a:pt x="6573" y="2580"/>
                </a:cubicBezTo>
                <a:cubicBezTo>
                  <a:pt x="6624" y="2518"/>
                  <a:pt x="6661" y="2549"/>
                  <a:pt x="6722" y="2530"/>
                </a:cubicBezTo>
                <a:cubicBezTo>
                  <a:pt x="6799" y="2506"/>
                  <a:pt x="6863" y="2505"/>
                  <a:pt x="6945" y="2505"/>
                </a:cubicBezTo>
                <a:cubicBezTo>
                  <a:pt x="7160" y="2505"/>
                  <a:pt x="7375" y="2505"/>
                  <a:pt x="7590" y="2505"/>
                </a:cubicBezTo>
              </a:path>
              <a:path w="8360" h="1538">
                <a:moveTo>
                  <a:pt x="6821" y="2977"/>
                </a:moveTo>
                <a:cubicBezTo>
                  <a:pt x="6834" y="2937"/>
                  <a:pt x="6869" y="2931"/>
                  <a:pt x="6921" y="2927"/>
                </a:cubicBezTo>
                <a:cubicBezTo>
                  <a:pt x="6965" y="2923"/>
                  <a:pt x="7013" y="2930"/>
                  <a:pt x="7045" y="2952"/>
                </a:cubicBezTo>
                <a:cubicBezTo>
                  <a:pt x="7076" y="2973"/>
                  <a:pt x="7109" y="3010"/>
                  <a:pt x="7094" y="3051"/>
                </a:cubicBezTo>
                <a:cubicBezTo>
                  <a:pt x="7063" y="3139"/>
                  <a:pt x="7048" y="3159"/>
                  <a:pt x="6995" y="3225"/>
                </a:cubicBezTo>
                <a:cubicBezTo>
                  <a:pt x="6962" y="3266"/>
                  <a:pt x="6925" y="3359"/>
                  <a:pt x="6896" y="3373"/>
                </a:cubicBezTo>
                <a:cubicBezTo>
                  <a:pt x="6840" y="3400"/>
                  <a:pt x="6938" y="3377"/>
                  <a:pt x="6945" y="3373"/>
                </a:cubicBezTo>
                <a:cubicBezTo>
                  <a:pt x="6985" y="3351"/>
                  <a:pt x="7019" y="3329"/>
                  <a:pt x="7069" y="3324"/>
                </a:cubicBezTo>
                <a:cubicBezTo>
                  <a:pt x="7158" y="3315"/>
                  <a:pt x="7243" y="3324"/>
                  <a:pt x="7317" y="3349"/>
                </a:cubicBezTo>
                <a:cubicBezTo>
                  <a:pt x="7345" y="3349"/>
                  <a:pt x="7351" y="3347"/>
                  <a:pt x="7317" y="3324"/>
                </a:cubicBezTo>
              </a:path>
              <a:path w="8360" h="1538">
                <a:moveTo>
                  <a:pt x="7838" y="3200"/>
                </a:moveTo>
                <a:cubicBezTo>
                  <a:pt x="7838" y="3297"/>
                  <a:pt x="7849" y="3379"/>
                  <a:pt x="7863" y="3473"/>
                </a:cubicBezTo>
                <a:cubicBezTo>
                  <a:pt x="7870" y="3520"/>
                  <a:pt x="7863" y="3573"/>
                  <a:pt x="7863" y="3621"/>
                </a:cubicBezTo>
              </a:path>
              <a:path w="8360" h="1538">
                <a:moveTo>
                  <a:pt x="8434" y="2778"/>
                </a:moveTo>
                <a:cubicBezTo>
                  <a:pt x="8409" y="2740"/>
                  <a:pt x="8360" y="2744"/>
                  <a:pt x="8310" y="2778"/>
                </a:cubicBezTo>
                <a:cubicBezTo>
                  <a:pt x="8269" y="2806"/>
                  <a:pt x="8223" y="2844"/>
                  <a:pt x="8186" y="2877"/>
                </a:cubicBezTo>
                <a:cubicBezTo>
                  <a:pt x="8161" y="2902"/>
                  <a:pt x="8153" y="2910"/>
                  <a:pt x="8136" y="2927"/>
                </a:cubicBezTo>
                <a:cubicBezTo>
                  <a:pt x="8146" y="2957"/>
                  <a:pt x="8178" y="2969"/>
                  <a:pt x="8210" y="3001"/>
                </a:cubicBezTo>
                <a:cubicBezTo>
                  <a:pt x="8258" y="3049"/>
                  <a:pt x="8310" y="3078"/>
                  <a:pt x="8359" y="3125"/>
                </a:cubicBezTo>
                <a:cubicBezTo>
                  <a:pt x="8394" y="3158"/>
                  <a:pt x="8453" y="3201"/>
                  <a:pt x="8458" y="3249"/>
                </a:cubicBezTo>
                <a:cubicBezTo>
                  <a:pt x="8463" y="3293"/>
                  <a:pt x="8452" y="3349"/>
                  <a:pt x="8409" y="3373"/>
                </a:cubicBezTo>
                <a:cubicBezTo>
                  <a:pt x="8369" y="3395"/>
                  <a:pt x="8293" y="3419"/>
                  <a:pt x="8260" y="3373"/>
                </a:cubicBezTo>
                <a:cubicBezTo>
                  <a:pt x="8216" y="3310"/>
                  <a:pt x="8246" y="3305"/>
                  <a:pt x="8260" y="3249"/>
                </a:cubicBezTo>
              </a:path>
              <a:path w="8360" h="1538">
                <a:moveTo>
                  <a:pt x="8632" y="2977"/>
                </a:moveTo>
                <a:cubicBezTo>
                  <a:pt x="8632" y="3082"/>
                  <a:pt x="8637" y="3176"/>
                  <a:pt x="8657" y="3274"/>
                </a:cubicBezTo>
                <a:cubicBezTo>
                  <a:pt x="8664" y="3310"/>
                  <a:pt x="8655" y="3398"/>
                  <a:pt x="8682" y="3373"/>
                </a:cubicBezTo>
                <a:cubicBezTo>
                  <a:pt x="8682" y="3365"/>
                  <a:pt x="8682" y="3357"/>
                  <a:pt x="8682" y="3349"/>
                </a:cubicBezTo>
              </a:path>
              <a:path w="8360" h="1538">
                <a:moveTo>
                  <a:pt x="8558" y="2828"/>
                </a:moveTo>
                <a:cubicBezTo>
                  <a:pt x="8558" y="2803"/>
                  <a:pt x="8558" y="2795"/>
                  <a:pt x="8582" y="2803"/>
                </a:cubicBezTo>
              </a:path>
              <a:path w="8360" h="1538">
                <a:moveTo>
                  <a:pt x="8731" y="2902"/>
                </a:moveTo>
                <a:cubicBezTo>
                  <a:pt x="8731" y="2976"/>
                  <a:pt x="8748" y="3030"/>
                  <a:pt x="8756" y="3101"/>
                </a:cubicBezTo>
                <a:cubicBezTo>
                  <a:pt x="8766" y="3190"/>
                  <a:pt x="8786" y="3265"/>
                  <a:pt x="8806" y="3349"/>
                </a:cubicBezTo>
                <a:cubicBezTo>
                  <a:pt x="8816" y="3393"/>
                  <a:pt x="8824" y="3414"/>
                  <a:pt x="8806" y="3423"/>
                </a:cubicBezTo>
                <a:cubicBezTo>
                  <a:pt x="8806" y="3344"/>
                  <a:pt x="8776" y="3245"/>
                  <a:pt x="8781" y="3175"/>
                </a:cubicBezTo>
                <a:cubicBezTo>
                  <a:pt x="8788" y="3075"/>
                  <a:pt x="8813" y="3000"/>
                  <a:pt x="8880" y="2927"/>
                </a:cubicBezTo>
                <a:cubicBezTo>
                  <a:pt x="8926" y="2877"/>
                  <a:pt x="8936" y="2877"/>
                  <a:pt x="9004" y="2877"/>
                </a:cubicBezTo>
                <a:cubicBezTo>
                  <a:pt x="9065" y="2877"/>
                  <a:pt x="9062" y="2934"/>
                  <a:pt x="9079" y="2977"/>
                </a:cubicBezTo>
                <a:cubicBezTo>
                  <a:pt x="9108" y="3052"/>
                  <a:pt x="9103" y="3120"/>
                  <a:pt x="9103" y="3200"/>
                </a:cubicBezTo>
                <a:cubicBezTo>
                  <a:pt x="9103" y="3222"/>
                  <a:pt x="9087" y="3369"/>
                  <a:pt x="9128" y="3349"/>
                </a:cubicBezTo>
                <a:cubicBezTo>
                  <a:pt x="9136" y="3341"/>
                  <a:pt x="9145" y="3332"/>
                  <a:pt x="9153" y="3324"/>
                </a:cubicBezTo>
              </a:path>
              <a:path w="8360" h="1538">
                <a:moveTo>
                  <a:pt x="9376" y="3076"/>
                </a:moveTo>
                <a:cubicBezTo>
                  <a:pt x="9368" y="3076"/>
                  <a:pt x="9359" y="3076"/>
                  <a:pt x="9351" y="3076"/>
                </a:cubicBezTo>
                <a:cubicBezTo>
                  <a:pt x="9394" y="3076"/>
                  <a:pt x="9389" y="3086"/>
                  <a:pt x="9401" y="3051"/>
                </a:cubicBezTo>
                <a:cubicBezTo>
                  <a:pt x="9463" y="3051"/>
                  <a:pt x="9491" y="3041"/>
                  <a:pt x="9550" y="3026"/>
                </a:cubicBezTo>
                <a:cubicBezTo>
                  <a:pt x="9560" y="3024"/>
                  <a:pt x="9667" y="3026"/>
                  <a:pt x="9599" y="3026"/>
                </a:cubicBezTo>
              </a:path>
              <a:path w="8360" h="1538">
                <a:moveTo>
                  <a:pt x="9451" y="3225"/>
                </a:moveTo>
                <a:cubicBezTo>
                  <a:pt x="9492" y="3207"/>
                  <a:pt x="9534" y="3180"/>
                  <a:pt x="9575" y="3175"/>
                </a:cubicBezTo>
                <a:cubicBezTo>
                  <a:pt x="9628" y="3169"/>
                  <a:pt x="9624" y="3211"/>
                  <a:pt x="9624" y="3175"/>
                </a:cubicBezTo>
              </a:path>
              <a:path w="8360" h="1538">
                <a:moveTo>
                  <a:pt x="10071" y="2778"/>
                </a:moveTo>
                <a:cubicBezTo>
                  <a:pt x="10103" y="2754"/>
                  <a:pt x="10156" y="2733"/>
                  <a:pt x="10195" y="2729"/>
                </a:cubicBezTo>
                <a:cubicBezTo>
                  <a:pt x="10220" y="2729"/>
                  <a:pt x="10228" y="2729"/>
                  <a:pt x="10244" y="2729"/>
                </a:cubicBezTo>
              </a:path>
              <a:path w="8360" h="1538">
                <a:moveTo>
                  <a:pt x="10443" y="2257"/>
                </a:moveTo>
                <a:cubicBezTo>
                  <a:pt x="10443" y="2333"/>
                  <a:pt x="10448" y="2386"/>
                  <a:pt x="10468" y="2456"/>
                </a:cubicBezTo>
                <a:cubicBezTo>
                  <a:pt x="10483" y="2508"/>
                  <a:pt x="10515" y="2564"/>
                  <a:pt x="10542" y="2604"/>
                </a:cubicBezTo>
                <a:cubicBezTo>
                  <a:pt x="10565" y="2627"/>
                  <a:pt x="10569" y="2635"/>
                  <a:pt x="10592" y="2629"/>
                </a:cubicBezTo>
                <a:cubicBezTo>
                  <a:pt x="10592" y="2539"/>
                  <a:pt x="10593" y="2458"/>
                  <a:pt x="10567" y="2381"/>
                </a:cubicBezTo>
                <a:cubicBezTo>
                  <a:pt x="10556" y="2349"/>
                  <a:pt x="10552" y="2312"/>
                  <a:pt x="10542" y="2282"/>
                </a:cubicBezTo>
                <a:cubicBezTo>
                  <a:pt x="10527" y="2237"/>
                  <a:pt x="10551" y="2204"/>
                  <a:pt x="10567" y="2183"/>
                </a:cubicBezTo>
                <a:cubicBezTo>
                  <a:pt x="10589" y="2153"/>
                  <a:pt x="10680" y="2116"/>
                  <a:pt x="10716" y="2108"/>
                </a:cubicBezTo>
                <a:cubicBezTo>
                  <a:pt x="10797" y="2090"/>
                  <a:pt x="10879" y="2084"/>
                  <a:pt x="10964" y="2084"/>
                </a:cubicBezTo>
                <a:cubicBezTo>
                  <a:pt x="11024" y="2084"/>
                  <a:pt x="11048" y="2073"/>
                  <a:pt x="11063" y="2133"/>
                </a:cubicBezTo>
              </a:path>
              <a:path w="8360" h="1538">
                <a:moveTo>
                  <a:pt x="10840" y="2332"/>
                </a:moveTo>
                <a:cubicBezTo>
                  <a:pt x="10884" y="2298"/>
                  <a:pt x="10911" y="2297"/>
                  <a:pt x="10964" y="2332"/>
                </a:cubicBezTo>
                <a:cubicBezTo>
                  <a:pt x="11002" y="2357"/>
                  <a:pt x="11034" y="2408"/>
                  <a:pt x="11013" y="2456"/>
                </a:cubicBezTo>
                <a:cubicBezTo>
                  <a:pt x="10995" y="2500"/>
                  <a:pt x="10922" y="2548"/>
                  <a:pt x="10889" y="2580"/>
                </a:cubicBezTo>
                <a:cubicBezTo>
                  <a:pt x="10864" y="2604"/>
                  <a:pt x="10840" y="2629"/>
                  <a:pt x="10815" y="2654"/>
                </a:cubicBezTo>
                <a:cubicBezTo>
                  <a:pt x="10878" y="2654"/>
                  <a:pt x="10876" y="2661"/>
                  <a:pt x="10939" y="2654"/>
                </a:cubicBezTo>
                <a:cubicBezTo>
                  <a:pt x="11011" y="2645"/>
                  <a:pt x="11089" y="2654"/>
                  <a:pt x="11162" y="2654"/>
                </a:cubicBezTo>
              </a:path>
              <a:path w="8360" h="1538">
                <a:moveTo>
                  <a:pt x="10567" y="3001"/>
                </a:moveTo>
                <a:cubicBezTo>
                  <a:pt x="10692" y="2968"/>
                  <a:pt x="10785" y="2952"/>
                  <a:pt x="10914" y="2952"/>
                </a:cubicBezTo>
                <a:cubicBezTo>
                  <a:pt x="11008" y="2952"/>
                  <a:pt x="11093" y="2977"/>
                  <a:pt x="11187" y="2977"/>
                </a:cubicBezTo>
                <a:cubicBezTo>
                  <a:pt x="11237" y="2977"/>
                  <a:pt x="11294" y="3001"/>
                  <a:pt x="11261" y="2952"/>
                </a:cubicBezTo>
              </a:path>
              <a:path w="8360" h="1538">
                <a:moveTo>
                  <a:pt x="10740" y="3225"/>
                </a:moveTo>
                <a:cubicBezTo>
                  <a:pt x="10790" y="3212"/>
                  <a:pt x="10804" y="3200"/>
                  <a:pt x="10864" y="3200"/>
                </a:cubicBezTo>
                <a:cubicBezTo>
                  <a:pt x="10916" y="3200"/>
                  <a:pt x="10947" y="3212"/>
                  <a:pt x="10988" y="3225"/>
                </a:cubicBezTo>
                <a:cubicBezTo>
                  <a:pt x="11018" y="3234"/>
                  <a:pt x="11052" y="3227"/>
                  <a:pt x="11063" y="3249"/>
                </a:cubicBezTo>
                <a:cubicBezTo>
                  <a:pt x="11063" y="3257"/>
                  <a:pt x="11063" y="3266"/>
                  <a:pt x="11063" y="3274"/>
                </a:cubicBezTo>
                <a:cubicBezTo>
                  <a:pt x="11023" y="3324"/>
                  <a:pt x="10995" y="3364"/>
                  <a:pt x="10939" y="3398"/>
                </a:cubicBezTo>
                <a:cubicBezTo>
                  <a:pt x="10903" y="3420"/>
                  <a:pt x="10834" y="3454"/>
                  <a:pt x="10815" y="3497"/>
                </a:cubicBezTo>
                <a:cubicBezTo>
                  <a:pt x="10803" y="3524"/>
                  <a:pt x="10797" y="3569"/>
                  <a:pt x="10790" y="3597"/>
                </a:cubicBezTo>
                <a:cubicBezTo>
                  <a:pt x="10828" y="3624"/>
                  <a:pt x="10842" y="3621"/>
                  <a:pt x="10889" y="3621"/>
                </a:cubicBezTo>
                <a:cubicBezTo>
                  <a:pt x="10955" y="3621"/>
                  <a:pt x="11002" y="3607"/>
                  <a:pt x="11063" y="3597"/>
                </a:cubicBezTo>
                <a:cubicBezTo>
                  <a:pt x="11126" y="3587"/>
                  <a:pt x="11157" y="3605"/>
                  <a:pt x="11212" y="35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Ink 6"/>
          <p:cNvSpPr/>
          <p:nvPr/>
        </p:nvSpPr>
        <p:spPr>
          <a:xfrm>
            <a:off x="2401920" y="1704960"/>
            <a:ext cx="500040" cy="162000"/>
          </a:xfrm>
          <a:custGeom>
            <a:avLst/>
            <a:gdLst/>
            <a:ahLst/>
            <a:rect l="l" t="t" r="r" b="b"/>
            <a:pathLst>
              <a:path w="1391" h="447">
                <a:moveTo>
                  <a:pt x="6821" y="4887"/>
                </a:moveTo>
                <a:cubicBezTo>
                  <a:pt x="6809" y="4858"/>
                  <a:pt x="6786" y="4794"/>
                  <a:pt x="6772" y="4787"/>
                </a:cubicBezTo>
                <a:cubicBezTo>
                  <a:pt x="6764" y="4787"/>
                  <a:pt x="6755" y="4787"/>
                  <a:pt x="6747" y="4787"/>
                </a:cubicBezTo>
                <a:cubicBezTo>
                  <a:pt x="6721" y="4852"/>
                  <a:pt x="6676" y="4881"/>
                  <a:pt x="6672" y="4961"/>
                </a:cubicBezTo>
                <a:cubicBezTo>
                  <a:pt x="6670" y="5001"/>
                  <a:pt x="6651" y="5112"/>
                  <a:pt x="6697" y="5135"/>
                </a:cubicBezTo>
                <a:cubicBezTo>
                  <a:pt x="6712" y="5142"/>
                  <a:pt x="6755" y="5135"/>
                  <a:pt x="6772" y="5135"/>
                </a:cubicBezTo>
              </a:path>
              <a:path w="1391" h="447">
                <a:moveTo>
                  <a:pt x="6896" y="4837"/>
                </a:moveTo>
                <a:cubicBezTo>
                  <a:pt x="6871" y="4944"/>
                  <a:pt x="6845" y="4981"/>
                  <a:pt x="6871" y="5060"/>
                </a:cubicBezTo>
                <a:cubicBezTo>
                  <a:pt x="6880" y="5088"/>
                  <a:pt x="6900" y="5136"/>
                  <a:pt x="6945" y="5110"/>
                </a:cubicBezTo>
                <a:cubicBezTo>
                  <a:pt x="6993" y="5083"/>
                  <a:pt x="7006" y="5054"/>
                  <a:pt x="7045" y="5011"/>
                </a:cubicBezTo>
                <a:cubicBezTo>
                  <a:pt x="7090" y="4961"/>
                  <a:pt x="7094" y="4837"/>
                  <a:pt x="7045" y="4787"/>
                </a:cubicBezTo>
                <a:cubicBezTo>
                  <a:pt x="7020" y="4787"/>
                  <a:pt x="7012" y="4787"/>
                  <a:pt x="6995" y="4787"/>
                </a:cubicBezTo>
                <a:cubicBezTo>
                  <a:pt x="6995" y="4831"/>
                  <a:pt x="6994" y="4827"/>
                  <a:pt x="7020" y="4862"/>
                </a:cubicBezTo>
              </a:path>
              <a:path w="1391" h="447">
                <a:moveTo>
                  <a:pt x="7367" y="4738"/>
                </a:moveTo>
                <a:cubicBezTo>
                  <a:pt x="7327" y="4748"/>
                  <a:pt x="7304" y="4775"/>
                  <a:pt x="7268" y="4787"/>
                </a:cubicBezTo>
                <a:cubicBezTo>
                  <a:pt x="7220" y="4803"/>
                  <a:pt x="7246" y="4824"/>
                  <a:pt x="7268" y="4862"/>
                </a:cubicBezTo>
                <a:cubicBezTo>
                  <a:pt x="7306" y="4927"/>
                  <a:pt x="7338" y="4938"/>
                  <a:pt x="7392" y="4986"/>
                </a:cubicBezTo>
                <a:cubicBezTo>
                  <a:pt x="7431" y="5021"/>
                  <a:pt x="7475" y="5036"/>
                  <a:pt x="7491" y="5085"/>
                </a:cubicBezTo>
                <a:cubicBezTo>
                  <a:pt x="7508" y="5135"/>
                  <a:pt x="7438" y="5145"/>
                  <a:pt x="7417" y="5159"/>
                </a:cubicBezTo>
                <a:cubicBezTo>
                  <a:pt x="7385" y="5180"/>
                  <a:pt x="7319" y="5212"/>
                  <a:pt x="7293" y="5159"/>
                </a:cubicBezTo>
                <a:cubicBezTo>
                  <a:pt x="7293" y="5151"/>
                  <a:pt x="7293" y="5143"/>
                  <a:pt x="7293" y="5135"/>
                </a:cubicBezTo>
              </a:path>
              <a:path w="1391" h="447">
                <a:moveTo>
                  <a:pt x="7689" y="4837"/>
                </a:moveTo>
                <a:cubicBezTo>
                  <a:pt x="7805" y="4837"/>
                  <a:pt x="7921" y="4837"/>
                  <a:pt x="8037" y="4837"/>
                </a:cubicBezTo>
              </a:path>
              <a:path w="1391" h="447">
                <a:moveTo>
                  <a:pt x="7764" y="5011"/>
                </a:moveTo>
                <a:cubicBezTo>
                  <a:pt x="7844" y="5011"/>
                  <a:pt x="7885" y="4989"/>
                  <a:pt x="7962" y="4986"/>
                </a:cubicBezTo>
                <a:cubicBezTo>
                  <a:pt x="8024" y="4986"/>
                  <a:pt x="8039" y="4995"/>
                  <a:pt x="8062" y="49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Ink 7"/>
          <p:cNvSpPr/>
          <p:nvPr/>
        </p:nvSpPr>
        <p:spPr>
          <a:xfrm>
            <a:off x="3054240" y="1554120"/>
            <a:ext cx="187560" cy="160560"/>
          </a:xfrm>
          <a:custGeom>
            <a:avLst/>
            <a:gdLst/>
            <a:ahLst/>
            <a:rect l="l" t="t" r="r" b="b"/>
            <a:pathLst>
              <a:path w="522" h="447">
                <a:moveTo>
                  <a:pt x="8483" y="4465"/>
                </a:moveTo>
                <a:cubicBezTo>
                  <a:pt x="8488" y="4532"/>
                  <a:pt x="8487" y="4624"/>
                  <a:pt x="8508" y="4688"/>
                </a:cubicBezTo>
                <a:cubicBezTo>
                  <a:pt x="8529" y="4750"/>
                  <a:pt x="8525" y="4762"/>
                  <a:pt x="8582" y="4762"/>
                </a:cubicBezTo>
                <a:cubicBezTo>
                  <a:pt x="8590" y="4762"/>
                  <a:pt x="8599" y="4762"/>
                  <a:pt x="8607" y="4762"/>
                </a:cubicBezTo>
                <a:cubicBezTo>
                  <a:pt x="8607" y="4635"/>
                  <a:pt x="8598" y="4502"/>
                  <a:pt x="8632" y="4390"/>
                </a:cubicBezTo>
                <a:cubicBezTo>
                  <a:pt x="8637" y="4372"/>
                  <a:pt x="8679" y="4347"/>
                  <a:pt x="8706" y="4341"/>
                </a:cubicBezTo>
                <a:cubicBezTo>
                  <a:pt x="8761" y="4329"/>
                  <a:pt x="8833" y="4325"/>
                  <a:pt x="8880" y="4316"/>
                </a:cubicBezTo>
                <a:cubicBezTo>
                  <a:pt x="8938" y="4304"/>
                  <a:pt x="8958" y="4329"/>
                  <a:pt x="9004" y="43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Ink 8"/>
          <p:cNvSpPr/>
          <p:nvPr/>
        </p:nvSpPr>
        <p:spPr>
          <a:xfrm>
            <a:off x="3143160" y="1687680"/>
            <a:ext cx="250920" cy="455400"/>
          </a:xfrm>
          <a:custGeom>
            <a:avLst/>
            <a:gdLst/>
            <a:ahLst/>
            <a:rect l="l" t="t" r="r" b="b"/>
            <a:pathLst>
              <a:path w="696" h="1266">
                <a:moveTo>
                  <a:pt x="8855" y="4738"/>
                </a:moveTo>
                <a:cubicBezTo>
                  <a:pt x="8878" y="4715"/>
                  <a:pt x="8914" y="4665"/>
                  <a:pt x="8954" y="4688"/>
                </a:cubicBezTo>
                <a:cubicBezTo>
                  <a:pt x="8989" y="4708"/>
                  <a:pt x="9040" y="4700"/>
                  <a:pt x="9054" y="4738"/>
                </a:cubicBezTo>
                <a:cubicBezTo>
                  <a:pt x="9084" y="4819"/>
                  <a:pt x="9016" y="4900"/>
                  <a:pt x="8979" y="4961"/>
                </a:cubicBezTo>
                <a:cubicBezTo>
                  <a:pt x="8953" y="5005"/>
                  <a:pt x="8915" y="5030"/>
                  <a:pt x="8905" y="5060"/>
                </a:cubicBezTo>
                <a:cubicBezTo>
                  <a:pt x="8980" y="5060"/>
                  <a:pt x="8986" y="5027"/>
                  <a:pt x="9054" y="5011"/>
                </a:cubicBezTo>
                <a:cubicBezTo>
                  <a:pt x="9108" y="4999"/>
                  <a:pt x="9144" y="4986"/>
                  <a:pt x="9203" y="4986"/>
                </a:cubicBezTo>
              </a:path>
              <a:path w="696" h="1266">
                <a:moveTo>
                  <a:pt x="8731" y="5358"/>
                </a:moveTo>
                <a:cubicBezTo>
                  <a:pt x="8863" y="5339"/>
                  <a:pt x="8996" y="5312"/>
                  <a:pt x="9128" y="5308"/>
                </a:cubicBezTo>
                <a:cubicBezTo>
                  <a:pt x="9224" y="5305"/>
                  <a:pt x="9305" y="5283"/>
                  <a:pt x="9401" y="5283"/>
                </a:cubicBezTo>
                <a:cubicBezTo>
                  <a:pt x="9409" y="5283"/>
                  <a:pt x="9418" y="5283"/>
                  <a:pt x="9426" y="5283"/>
                </a:cubicBezTo>
              </a:path>
              <a:path w="696" h="1266">
                <a:moveTo>
                  <a:pt x="8954" y="5606"/>
                </a:moveTo>
                <a:cubicBezTo>
                  <a:pt x="9055" y="5578"/>
                  <a:pt x="9063" y="5583"/>
                  <a:pt x="9153" y="5606"/>
                </a:cubicBezTo>
                <a:cubicBezTo>
                  <a:pt x="9181" y="5606"/>
                  <a:pt x="9192" y="5608"/>
                  <a:pt x="9203" y="5631"/>
                </a:cubicBezTo>
                <a:cubicBezTo>
                  <a:pt x="9192" y="5685"/>
                  <a:pt x="9163" y="5758"/>
                  <a:pt x="9128" y="5804"/>
                </a:cubicBezTo>
                <a:cubicBezTo>
                  <a:pt x="9082" y="5864"/>
                  <a:pt x="9044" y="5877"/>
                  <a:pt x="9029" y="5953"/>
                </a:cubicBezTo>
                <a:cubicBezTo>
                  <a:pt x="9088" y="5953"/>
                  <a:pt x="9123" y="5952"/>
                  <a:pt x="9178" y="5928"/>
                </a:cubicBezTo>
                <a:cubicBezTo>
                  <a:pt x="9245" y="5898"/>
                  <a:pt x="9310" y="5862"/>
                  <a:pt x="9376" y="58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Ink 9"/>
          <p:cNvSpPr/>
          <p:nvPr/>
        </p:nvSpPr>
        <p:spPr>
          <a:xfrm>
            <a:off x="2527200" y="2411280"/>
            <a:ext cx="384120" cy="177840"/>
          </a:xfrm>
          <a:custGeom>
            <a:avLst/>
            <a:gdLst/>
            <a:ahLst/>
            <a:rect l="l" t="t" r="r" b="b"/>
            <a:pathLst>
              <a:path w="1067" h="497">
                <a:moveTo>
                  <a:pt x="7144" y="6697"/>
                </a:moveTo>
                <a:cubicBezTo>
                  <a:pt x="7144" y="6818"/>
                  <a:pt x="7151" y="6931"/>
                  <a:pt x="7169" y="7045"/>
                </a:cubicBezTo>
                <a:cubicBezTo>
                  <a:pt x="7172" y="7064"/>
                  <a:pt x="7179" y="7182"/>
                  <a:pt x="7193" y="7193"/>
                </a:cubicBezTo>
                <a:cubicBezTo>
                  <a:pt x="7230" y="7222"/>
                  <a:pt x="7218" y="7154"/>
                  <a:pt x="7218" y="7144"/>
                </a:cubicBezTo>
              </a:path>
              <a:path w="1067" h="497">
                <a:moveTo>
                  <a:pt x="7020" y="7069"/>
                </a:moveTo>
                <a:cubicBezTo>
                  <a:pt x="7080" y="7027"/>
                  <a:pt x="7146" y="6967"/>
                  <a:pt x="7218" y="6945"/>
                </a:cubicBezTo>
                <a:cubicBezTo>
                  <a:pt x="7268" y="6929"/>
                  <a:pt x="7312" y="6921"/>
                  <a:pt x="7367" y="6921"/>
                </a:cubicBezTo>
              </a:path>
              <a:path w="1067" h="497">
                <a:moveTo>
                  <a:pt x="7491" y="6871"/>
                </a:moveTo>
                <a:cubicBezTo>
                  <a:pt x="7471" y="6830"/>
                  <a:pt x="7473" y="6814"/>
                  <a:pt x="7441" y="6821"/>
                </a:cubicBezTo>
                <a:cubicBezTo>
                  <a:pt x="7441" y="6898"/>
                  <a:pt x="7421" y="6968"/>
                  <a:pt x="7417" y="7045"/>
                </a:cubicBezTo>
                <a:cubicBezTo>
                  <a:pt x="7415" y="7084"/>
                  <a:pt x="7418" y="7133"/>
                  <a:pt x="7441" y="7144"/>
                </a:cubicBezTo>
                <a:cubicBezTo>
                  <a:pt x="7466" y="7144"/>
                  <a:pt x="7474" y="7144"/>
                  <a:pt x="7491" y="7144"/>
                </a:cubicBezTo>
                <a:cubicBezTo>
                  <a:pt x="7526" y="7098"/>
                  <a:pt x="7523" y="7074"/>
                  <a:pt x="7541" y="7020"/>
                </a:cubicBezTo>
                <a:cubicBezTo>
                  <a:pt x="7553" y="6986"/>
                  <a:pt x="7565" y="6801"/>
                  <a:pt x="7565" y="6921"/>
                </a:cubicBezTo>
                <a:cubicBezTo>
                  <a:pt x="7565" y="6987"/>
                  <a:pt x="7546" y="7069"/>
                  <a:pt x="7590" y="7119"/>
                </a:cubicBezTo>
                <a:cubicBezTo>
                  <a:pt x="7624" y="7157"/>
                  <a:pt x="7625" y="7129"/>
                  <a:pt x="7665" y="7119"/>
                </a:cubicBezTo>
              </a:path>
              <a:path w="1067" h="497">
                <a:moveTo>
                  <a:pt x="7739" y="6846"/>
                </a:moveTo>
                <a:cubicBezTo>
                  <a:pt x="7731" y="6971"/>
                  <a:pt x="7729" y="6970"/>
                  <a:pt x="7739" y="7069"/>
                </a:cubicBezTo>
                <a:cubicBezTo>
                  <a:pt x="7739" y="7097"/>
                  <a:pt x="7741" y="7108"/>
                  <a:pt x="7764" y="7119"/>
                </a:cubicBezTo>
                <a:cubicBezTo>
                  <a:pt x="7776" y="7072"/>
                  <a:pt x="7775" y="7021"/>
                  <a:pt x="7789" y="6970"/>
                </a:cubicBezTo>
                <a:cubicBezTo>
                  <a:pt x="7806" y="6906"/>
                  <a:pt x="7832" y="6823"/>
                  <a:pt x="7863" y="6772"/>
                </a:cubicBezTo>
                <a:cubicBezTo>
                  <a:pt x="7916" y="6789"/>
                  <a:pt x="7918" y="6866"/>
                  <a:pt x="7938" y="6921"/>
                </a:cubicBezTo>
                <a:cubicBezTo>
                  <a:pt x="7952" y="6961"/>
                  <a:pt x="7967" y="7036"/>
                  <a:pt x="7987" y="7069"/>
                </a:cubicBezTo>
                <a:cubicBezTo>
                  <a:pt x="8002" y="7094"/>
                  <a:pt x="8045" y="7117"/>
                  <a:pt x="8062" y="7119"/>
                </a:cubicBezTo>
                <a:cubicBezTo>
                  <a:pt x="8070" y="7119"/>
                  <a:pt x="8078" y="7119"/>
                  <a:pt x="8086" y="71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Ink 10"/>
          <p:cNvSpPr/>
          <p:nvPr/>
        </p:nvSpPr>
        <p:spPr>
          <a:xfrm>
            <a:off x="3017880" y="2428920"/>
            <a:ext cx="117360" cy="63360"/>
          </a:xfrm>
          <a:custGeom>
            <a:avLst/>
            <a:gdLst/>
            <a:ahLst/>
            <a:rect l="l" t="t" r="r" b="b"/>
            <a:pathLst>
              <a:path w="323" h="175">
                <a:moveTo>
                  <a:pt x="8384" y="6871"/>
                </a:moveTo>
                <a:cubicBezTo>
                  <a:pt x="8452" y="6828"/>
                  <a:pt x="8506" y="6778"/>
                  <a:pt x="8582" y="6772"/>
                </a:cubicBezTo>
                <a:cubicBezTo>
                  <a:pt x="8623" y="6769"/>
                  <a:pt x="8636" y="6747"/>
                  <a:pt x="8682" y="6747"/>
                </a:cubicBezTo>
              </a:path>
              <a:path w="323" h="175">
                <a:moveTo>
                  <a:pt x="8483" y="6921"/>
                </a:moveTo>
                <a:cubicBezTo>
                  <a:pt x="8519" y="6921"/>
                  <a:pt x="8555" y="6914"/>
                  <a:pt x="8582" y="6896"/>
                </a:cubicBezTo>
                <a:cubicBezTo>
                  <a:pt x="8625" y="6853"/>
                  <a:pt x="8656" y="6834"/>
                  <a:pt x="8706" y="68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Ink 11"/>
          <p:cNvSpPr/>
          <p:nvPr/>
        </p:nvSpPr>
        <p:spPr>
          <a:xfrm>
            <a:off x="3321000" y="2411280"/>
            <a:ext cx="108000" cy="27000"/>
          </a:xfrm>
          <a:custGeom>
            <a:avLst/>
            <a:gdLst/>
            <a:ahLst/>
            <a:rect l="l" t="t" r="r" b="b"/>
            <a:pathLst>
              <a:path w="299" h="76">
                <a:moveTo>
                  <a:pt x="9227" y="6772"/>
                </a:moveTo>
                <a:cubicBezTo>
                  <a:pt x="9279" y="6772"/>
                  <a:pt x="9310" y="6760"/>
                  <a:pt x="9351" y="6747"/>
                </a:cubicBezTo>
                <a:cubicBezTo>
                  <a:pt x="9382" y="6737"/>
                  <a:pt x="9448" y="6737"/>
                  <a:pt x="9475" y="6722"/>
                </a:cubicBezTo>
                <a:cubicBezTo>
                  <a:pt x="9498" y="6699"/>
                  <a:pt x="9502" y="6691"/>
                  <a:pt x="9525" y="66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Ink 12"/>
          <p:cNvSpPr/>
          <p:nvPr/>
        </p:nvSpPr>
        <p:spPr>
          <a:xfrm>
            <a:off x="3606840" y="2241720"/>
            <a:ext cx="28440" cy="312480"/>
          </a:xfrm>
          <a:custGeom>
            <a:avLst/>
            <a:gdLst/>
            <a:ahLst/>
            <a:rect l="l" t="t" r="r" b="b"/>
            <a:pathLst>
              <a:path w="76" h="869">
                <a:moveTo>
                  <a:pt x="10046" y="6226"/>
                </a:moveTo>
                <a:cubicBezTo>
                  <a:pt x="10046" y="6287"/>
                  <a:pt x="10029" y="6320"/>
                  <a:pt x="10021" y="6375"/>
                </a:cubicBezTo>
                <a:cubicBezTo>
                  <a:pt x="9999" y="6537"/>
                  <a:pt x="10027" y="6717"/>
                  <a:pt x="10046" y="6871"/>
                </a:cubicBezTo>
                <a:cubicBezTo>
                  <a:pt x="10054" y="6934"/>
                  <a:pt x="10044" y="7011"/>
                  <a:pt x="10071" y="7069"/>
                </a:cubicBezTo>
                <a:cubicBezTo>
                  <a:pt x="10079" y="7077"/>
                  <a:pt x="10088" y="7086"/>
                  <a:pt x="10096" y="70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Ink 13"/>
          <p:cNvSpPr/>
          <p:nvPr/>
        </p:nvSpPr>
        <p:spPr>
          <a:xfrm>
            <a:off x="4375080" y="2178000"/>
            <a:ext cx="679680" cy="287280"/>
          </a:xfrm>
          <a:custGeom>
            <a:avLst/>
            <a:gdLst/>
            <a:ahLst/>
            <a:rect l="l" t="t" r="r" b="b"/>
            <a:pathLst>
              <a:path w="1886" h="795">
                <a:moveTo>
                  <a:pt x="12452" y="6251"/>
                </a:moveTo>
                <a:cubicBezTo>
                  <a:pt x="12349" y="6251"/>
                  <a:pt x="12397" y="6266"/>
                  <a:pt x="12328" y="6325"/>
                </a:cubicBezTo>
                <a:cubicBezTo>
                  <a:pt x="12265" y="6378"/>
                  <a:pt x="12206" y="6462"/>
                  <a:pt x="12179" y="6548"/>
                </a:cubicBezTo>
                <a:cubicBezTo>
                  <a:pt x="12160" y="6606"/>
                  <a:pt x="12139" y="6673"/>
                  <a:pt x="12179" y="6722"/>
                </a:cubicBezTo>
                <a:cubicBezTo>
                  <a:pt x="12203" y="6752"/>
                  <a:pt x="12245" y="6785"/>
                  <a:pt x="12278" y="6796"/>
                </a:cubicBezTo>
                <a:cubicBezTo>
                  <a:pt x="12337" y="6815"/>
                  <a:pt x="12380" y="6774"/>
                  <a:pt x="12427" y="6747"/>
                </a:cubicBezTo>
              </a:path>
              <a:path w="1886" h="795">
                <a:moveTo>
                  <a:pt x="12675" y="6400"/>
                </a:moveTo>
                <a:cubicBezTo>
                  <a:pt x="12652" y="6482"/>
                  <a:pt x="12627" y="6571"/>
                  <a:pt x="12601" y="6648"/>
                </a:cubicBezTo>
                <a:cubicBezTo>
                  <a:pt x="12580" y="6709"/>
                  <a:pt x="12587" y="6761"/>
                  <a:pt x="12626" y="6821"/>
                </a:cubicBezTo>
                <a:cubicBezTo>
                  <a:pt x="12658" y="6870"/>
                  <a:pt x="12717" y="6851"/>
                  <a:pt x="12750" y="6821"/>
                </a:cubicBezTo>
                <a:cubicBezTo>
                  <a:pt x="12792" y="6783"/>
                  <a:pt x="12786" y="6723"/>
                  <a:pt x="12799" y="6672"/>
                </a:cubicBezTo>
                <a:cubicBezTo>
                  <a:pt x="12815" y="6609"/>
                  <a:pt x="12857" y="6527"/>
                  <a:pt x="12774" y="6499"/>
                </a:cubicBezTo>
                <a:cubicBezTo>
                  <a:pt x="12750" y="6499"/>
                  <a:pt x="12741" y="6499"/>
                  <a:pt x="12725" y="6499"/>
                </a:cubicBezTo>
              </a:path>
              <a:path w="1886" h="795">
                <a:moveTo>
                  <a:pt x="13146" y="6052"/>
                </a:moveTo>
                <a:cubicBezTo>
                  <a:pt x="13146" y="6181"/>
                  <a:pt x="13133" y="6300"/>
                  <a:pt x="13122" y="6424"/>
                </a:cubicBezTo>
                <a:cubicBezTo>
                  <a:pt x="13115" y="6503"/>
                  <a:pt x="13126" y="6645"/>
                  <a:pt x="13146" y="6722"/>
                </a:cubicBezTo>
                <a:cubicBezTo>
                  <a:pt x="13158" y="6767"/>
                  <a:pt x="13163" y="6879"/>
                  <a:pt x="13196" y="6846"/>
                </a:cubicBezTo>
                <a:cubicBezTo>
                  <a:pt x="13196" y="6821"/>
                  <a:pt x="13196" y="6813"/>
                  <a:pt x="13196" y="6796"/>
                </a:cubicBezTo>
              </a:path>
              <a:path w="1886" h="795">
                <a:moveTo>
                  <a:pt x="12948" y="6449"/>
                </a:moveTo>
                <a:cubicBezTo>
                  <a:pt x="13010" y="6476"/>
                  <a:pt x="13076" y="6489"/>
                  <a:pt x="13146" y="6474"/>
                </a:cubicBezTo>
                <a:cubicBezTo>
                  <a:pt x="13234" y="6455"/>
                  <a:pt x="13303" y="6449"/>
                  <a:pt x="13395" y="6449"/>
                </a:cubicBezTo>
              </a:path>
              <a:path w="1886" h="795">
                <a:moveTo>
                  <a:pt x="13643" y="6499"/>
                </a:moveTo>
                <a:cubicBezTo>
                  <a:pt x="13716" y="6479"/>
                  <a:pt x="13766" y="6474"/>
                  <a:pt x="13841" y="6474"/>
                </a:cubicBezTo>
                <a:cubicBezTo>
                  <a:pt x="13899" y="6474"/>
                  <a:pt x="13919" y="6471"/>
                  <a:pt x="13965" y="6499"/>
                </a:cubicBezTo>
              </a:path>
              <a:path w="1886" h="795">
                <a:moveTo>
                  <a:pt x="13767" y="6697"/>
                </a:moveTo>
                <a:cubicBezTo>
                  <a:pt x="13828" y="6670"/>
                  <a:pt x="13879" y="6675"/>
                  <a:pt x="13940" y="6648"/>
                </a:cubicBezTo>
                <a:cubicBezTo>
                  <a:pt x="13988" y="6624"/>
                  <a:pt x="14002" y="6616"/>
                  <a:pt x="14039" y="66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Ink 14"/>
          <p:cNvSpPr/>
          <p:nvPr/>
        </p:nvSpPr>
        <p:spPr>
          <a:xfrm>
            <a:off x="5214960" y="2081160"/>
            <a:ext cx="241200" cy="330120"/>
          </a:xfrm>
          <a:custGeom>
            <a:avLst/>
            <a:gdLst/>
            <a:ahLst/>
            <a:rect l="l" t="t" r="r" b="b"/>
            <a:pathLst>
              <a:path w="671" h="919">
                <a:moveTo>
                  <a:pt x="14486" y="6325"/>
                </a:moveTo>
                <a:cubicBezTo>
                  <a:pt x="14591" y="6325"/>
                  <a:pt x="14692" y="6323"/>
                  <a:pt x="14784" y="6300"/>
                </a:cubicBezTo>
                <a:cubicBezTo>
                  <a:pt x="14792" y="6300"/>
                  <a:pt x="14800" y="6300"/>
                  <a:pt x="14808" y="6300"/>
                </a:cubicBezTo>
              </a:path>
              <a:path w="671" h="919">
                <a:moveTo>
                  <a:pt x="15131" y="5779"/>
                </a:moveTo>
                <a:cubicBezTo>
                  <a:pt x="15104" y="5815"/>
                  <a:pt x="15087" y="5882"/>
                  <a:pt x="15081" y="5928"/>
                </a:cubicBezTo>
                <a:cubicBezTo>
                  <a:pt x="15055" y="6128"/>
                  <a:pt x="15082" y="6354"/>
                  <a:pt x="15106" y="6548"/>
                </a:cubicBezTo>
                <a:cubicBezTo>
                  <a:pt x="15112" y="6599"/>
                  <a:pt x="15126" y="6629"/>
                  <a:pt x="15131" y="6672"/>
                </a:cubicBezTo>
                <a:cubicBezTo>
                  <a:pt x="15131" y="6697"/>
                  <a:pt x="15131" y="6705"/>
                  <a:pt x="15156" y="66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Ink 15"/>
          <p:cNvSpPr/>
          <p:nvPr/>
        </p:nvSpPr>
        <p:spPr>
          <a:xfrm>
            <a:off x="2670120" y="2901960"/>
            <a:ext cx="1589040" cy="411120"/>
          </a:xfrm>
          <a:custGeom>
            <a:avLst/>
            <a:gdLst/>
            <a:ahLst/>
            <a:rect l="l" t="t" r="r" b="b"/>
            <a:pathLst>
              <a:path w="4416" h="1142">
                <a:moveTo>
                  <a:pt x="7565" y="8657"/>
                </a:moveTo>
                <a:cubicBezTo>
                  <a:pt x="7565" y="8616"/>
                  <a:pt x="7574" y="8599"/>
                  <a:pt x="7541" y="8607"/>
                </a:cubicBezTo>
                <a:cubicBezTo>
                  <a:pt x="7486" y="8684"/>
                  <a:pt x="7431" y="8783"/>
                  <a:pt x="7417" y="8880"/>
                </a:cubicBezTo>
                <a:cubicBezTo>
                  <a:pt x="7402" y="8983"/>
                  <a:pt x="7406" y="9076"/>
                  <a:pt x="7466" y="9153"/>
                </a:cubicBezTo>
                <a:cubicBezTo>
                  <a:pt x="7495" y="9190"/>
                  <a:pt x="7538" y="9225"/>
                  <a:pt x="7590" y="9203"/>
                </a:cubicBezTo>
                <a:cubicBezTo>
                  <a:pt x="7645" y="9180"/>
                  <a:pt x="7707" y="9131"/>
                  <a:pt x="7764" y="9103"/>
                </a:cubicBezTo>
              </a:path>
              <a:path w="4416" h="1142">
                <a:moveTo>
                  <a:pt x="8186" y="8533"/>
                </a:moveTo>
                <a:cubicBezTo>
                  <a:pt x="8114" y="8559"/>
                  <a:pt x="8048" y="8586"/>
                  <a:pt x="7987" y="8632"/>
                </a:cubicBezTo>
                <a:cubicBezTo>
                  <a:pt x="7960" y="8652"/>
                  <a:pt x="7937" y="8683"/>
                  <a:pt x="7913" y="8706"/>
                </a:cubicBezTo>
                <a:cubicBezTo>
                  <a:pt x="7927" y="8749"/>
                  <a:pt x="7940" y="8742"/>
                  <a:pt x="7987" y="8781"/>
                </a:cubicBezTo>
                <a:cubicBezTo>
                  <a:pt x="8032" y="8818"/>
                  <a:pt x="8083" y="8815"/>
                  <a:pt x="8136" y="8855"/>
                </a:cubicBezTo>
                <a:cubicBezTo>
                  <a:pt x="8184" y="8891"/>
                  <a:pt x="8159" y="8913"/>
                  <a:pt x="8136" y="8930"/>
                </a:cubicBezTo>
                <a:cubicBezTo>
                  <a:pt x="8098" y="8957"/>
                  <a:pt x="8084" y="8954"/>
                  <a:pt x="8037" y="8954"/>
                </a:cubicBezTo>
                <a:cubicBezTo>
                  <a:pt x="7994" y="8954"/>
                  <a:pt x="7996" y="8939"/>
                  <a:pt x="7987" y="8905"/>
                </a:cubicBezTo>
              </a:path>
              <a:path w="4416" h="1142">
                <a:moveTo>
                  <a:pt x="8657" y="8533"/>
                </a:moveTo>
                <a:cubicBezTo>
                  <a:pt x="8631" y="8507"/>
                  <a:pt x="8588" y="8446"/>
                  <a:pt x="8558" y="8508"/>
                </a:cubicBezTo>
                <a:cubicBezTo>
                  <a:pt x="8534" y="8556"/>
                  <a:pt x="8516" y="8652"/>
                  <a:pt x="8508" y="8706"/>
                </a:cubicBezTo>
                <a:cubicBezTo>
                  <a:pt x="8500" y="8760"/>
                  <a:pt x="8498" y="8816"/>
                  <a:pt x="8533" y="8855"/>
                </a:cubicBezTo>
                <a:cubicBezTo>
                  <a:pt x="8555" y="8880"/>
                  <a:pt x="8600" y="8903"/>
                  <a:pt x="8632" y="8905"/>
                </a:cubicBezTo>
                <a:cubicBezTo>
                  <a:pt x="8696" y="8910"/>
                  <a:pt x="8731" y="8865"/>
                  <a:pt x="8781" y="8830"/>
                </a:cubicBezTo>
                <a:cubicBezTo>
                  <a:pt x="8806" y="8814"/>
                  <a:pt x="8830" y="8797"/>
                  <a:pt x="8855" y="8781"/>
                </a:cubicBezTo>
              </a:path>
              <a:path w="4416" h="1142">
                <a:moveTo>
                  <a:pt x="9426" y="8682"/>
                </a:moveTo>
                <a:cubicBezTo>
                  <a:pt x="9418" y="8674"/>
                  <a:pt x="9409" y="8665"/>
                  <a:pt x="9401" y="8657"/>
                </a:cubicBezTo>
                <a:cubicBezTo>
                  <a:pt x="9437" y="8648"/>
                  <a:pt x="9467" y="8614"/>
                  <a:pt x="9500" y="8607"/>
                </a:cubicBezTo>
                <a:cubicBezTo>
                  <a:pt x="9568" y="8592"/>
                  <a:pt x="9622" y="8582"/>
                  <a:pt x="9699" y="8582"/>
                </a:cubicBezTo>
              </a:path>
              <a:path w="4416" h="1142">
                <a:moveTo>
                  <a:pt x="9500" y="8756"/>
                </a:moveTo>
                <a:cubicBezTo>
                  <a:pt x="9492" y="8756"/>
                  <a:pt x="9483" y="8756"/>
                  <a:pt x="9475" y="8756"/>
                </a:cubicBezTo>
                <a:cubicBezTo>
                  <a:pt x="9535" y="8756"/>
                  <a:pt x="9568" y="8741"/>
                  <a:pt x="9624" y="8731"/>
                </a:cubicBezTo>
                <a:cubicBezTo>
                  <a:pt x="9641" y="8731"/>
                  <a:pt x="9657" y="8731"/>
                  <a:pt x="9674" y="8731"/>
                </a:cubicBezTo>
              </a:path>
              <a:path w="4416" h="1142">
                <a:moveTo>
                  <a:pt x="10269" y="8682"/>
                </a:moveTo>
                <a:cubicBezTo>
                  <a:pt x="10313" y="8714"/>
                  <a:pt x="10321" y="8702"/>
                  <a:pt x="10368" y="8682"/>
                </a:cubicBezTo>
                <a:cubicBezTo>
                  <a:pt x="10385" y="8674"/>
                  <a:pt x="10401" y="8665"/>
                  <a:pt x="10418" y="8657"/>
                </a:cubicBezTo>
              </a:path>
              <a:path w="4416" h="1142">
                <a:moveTo>
                  <a:pt x="10641" y="8508"/>
                </a:moveTo>
                <a:cubicBezTo>
                  <a:pt x="10667" y="8586"/>
                  <a:pt x="10675" y="8688"/>
                  <a:pt x="10716" y="8756"/>
                </a:cubicBezTo>
                <a:cubicBezTo>
                  <a:pt x="10738" y="8792"/>
                  <a:pt x="10785" y="8825"/>
                  <a:pt x="10815" y="8855"/>
                </a:cubicBezTo>
                <a:cubicBezTo>
                  <a:pt x="10815" y="8675"/>
                  <a:pt x="10750" y="8347"/>
                  <a:pt x="10840" y="8186"/>
                </a:cubicBezTo>
                <a:cubicBezTo>
                  <a:pt x="10860" y="8151"/>
                  <a:pt x="10925" y="8093"/>
                  <a:pt x="10964" y="8086"/>
                </a:cubicBezTo>
                <a:cubicBezTo>
                  <a:pt x="11030" y="8074"/>
                  <a:pt x="11095" y="8064"/>
                  <a:pt x="11162" y="8062"/>
                </a:cubicBezTo>
                <a:cubicBezTo>
                  <a:pt x="11306" y="8057"/>
                  <a:pt x="11583" y="8015"/>
                  <a:pt x="11708" y="8086"/>
                </a:cubicBezTo>
                <a:cubicBezTo>
                  <a:pt x="11716" y="8094"/>
                  <a:pt x="11725" y="8103"/>
                  <a:pt x="11733" y="8111"/>
                </a:cubicBezTo>
              </a:path>
              <a:path w="4416" h="1142">
                <a:moveTo>
                  <a:pt x="11212" y="8508"/>
                </a:moveTo>
                <a:cubicBezTo>
                  <a:pt x="11251" y="8606"/>
                  <a:pt x="11258" y="8599"/>
                  <a:pt x="11336" y="8657"/>
                </a:cubicBezTo>
                <a:cubicBezTo>
                  <a:pt x="11377" y="8688"/>
                  <a:pt x="11384" y="8693"/>
                  <a:pt x="11410" y="8731"/>
                </a:cubicBezTo>
                <a:cubicBezTo>
                  <a:pt x="11418" y="8739"/>
                  <a:pt x="11427" y="8748"/>
                  <a:pt x="11435" y="8756"/>
                </a:cubicBezTo>
                <a:cubicBezTo>
                  <a:pt x="11406" y="8804"/>
                  <a:pt x="11405" y="8836"/>
                  <a:pt x="11361" y="8880"/>
                </a:cubicBezTo>
                <a:cubicBezTo>
                  <a:pt x="11319" y="8922"/>
                  <a:pt x="11333" y="8933"/>
                  <a:pt x="11361" y="8954"/>
                </a:cubicBezTo>
                <a:cubicBezTo>
                  <a:pt x="11421" y="9000"/>
                  <a:pt x="11484" y="8958"/>
                  <a:pt x="11559" y="8954"/>
                </a:cubicBezTo>
                <a:cubicBezTo>
                  <a:pt x="11625" y="8951"/>
                  <a:pt x="11691" y="8954"/>
                  <a:pt x="11757" y="8954"/>
                </a:cubicBezTo>
              </a:path>
              <a:path w="4416" h="1142">
                <a:moveTo>
                  <a:pt x="11237" y="8533"/>
                </a:moveTo>
                <a:cubicBezTo>
                  <a:pt x="11221" y="8538"/>
                  <a:pt x="11175" y="8556"/>
                  <a:pt x="11162" y="8582"/>
                </a:cubicBezTo>
                <a:cubicBezTo>
                  <a:pt x="11146" y="8614"/>
                  <a:pt x="11127" y="8625"/>
                  <a:pt x="11112" y="8682"/>
                </a:cubicBezTo>
                <a:cubicBezTo>
                  <a:pt x="11097" y="8742"/>
                  <a:pt x="11122" y="8727"/>
                  <a:pt x="11137" y="8682"/>
                </a:cubicBezTo>
                <a:cubicBezTo>
                  <a:pt x="11151" y="8641"/>
                  <a:pt x="11175" y="8597"/>
                  <a:pt x="11187" y="8558"/>
                </a:cubicBezTo>
                <a:cubicBezTo>
                  <a:pt x="11195" y="8533"/>
                  <a:pt x="11225" y="8489"/>
                  <a:pt x="11237" y="8483"/>
                </a:cubicBezTo>
                <a:cubicBezTo>
                  <a:pt x="11269" y="8467"/>
                  <a:pt x="11296" y="8458"/>
                  <a:pt x="11336" y="8458"/>
                </a:cubicBezTo>
                <a:cubicBezTo>
                  <a:pt x="11386" y="8458"/>
                  <a:pt x="11394" y="8469"/>
                  <a:pt x="11435" y="8483"/>
                </a:cubicBezTo>
                <a:cubicBezTo>
                  <a:pt x="11443" y="8483"/>
                  <a:pt x="11452" y="8483"/>
                  <a:pt x="11460" y="8483"/>
                </a:cubicBezTo>
                <a:cubicBezTo>
                  <a:pt x="11437" y="8514"/>
                  <a:pt x="11413" y="8570"/>
                  <a:pt x="11410" y="8607"/>
                </a:cubicBezTo>
                <a:cubicBezTo>
                  <a:pt x="11405" y="8678"/>
                  <a:pt x="11372" y="8730"/>
                  <a:pt x="11361" y="8806"/>
                </a:cubicBezTo>
                <a:cubicBezTo>
                  <a:pt x="11354" y="8854"/>
                  <a:pt x="11336" y="8893"/>
                  <a:pt x="11311" y="8930"/>
                </a:cubicBezTo>
                <a:cubicBezTo>
                  <a:pt x="11288" y="8952"/>
                  <a:pt x="11280" y="8957"/>
                  <a:pt x="11286" y="8979"/>
                </a:cubicBezTo>
                <a:cubicBezTo>
                  <a:pt x="11293" y="8959"/>
                  <a:pt x="11330" y="8936"/>
                  <a:pt x="11361" y="8930"/>
                </a:cubicBezTo>
                <a:cubicBezTo>
                  <a:pt x="11423" y="8917"/>
                  <a:pt x="11497" y="8908"/>
                  <a:pt x="11559" y="8905"/>
                </a:cubicBezTo>
                <a:cubicBezTo>
                  <a:pt x="11627" y="8901"/>
                  <a:pt x="11844" y="8936"/>
                  <a:pt x="11807" y="8880"/>
                </a:cubicBezTo>
              </a:path>
              <a:path w="4416" h="1142">
                <a:moveTo>
                  <a:pt x="11286" y="8533"/>
                </a:moveTo>
                <a:cubicBezTo>
                  <a:pt x="11294" y="8563"/>
                  <a:pt x="11303" y="8577"/>
                  <a:pt x="11311" y="8607"/>
                </a:cubicBezTo>
                <a:cubicBezTo>
                  <a:pt x="11336" y="8607"/>
                  <a:pt x="11344" y="8607"/>
                  <a:pt x="11336" y="85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Ink 16"/>
          <p:cNvSpPr/>
          <p:nvPr/>
        </p:nvSpPr>
        <p:spPr>
          <a:xfrm>
            <a:off x="1295280" y="4106880"/>
            <a:ext cx="3902040" cy="974880"/>
          </a:xfrm>
          <a:custGeom>
            <a:avLst/>
            <a:gdLst/>
            <a:ahLst/>
            <a:rect l="l" t="t" r="r" b="b"/>
            <a:pathLst>
              <a:path w="10840" h="2705">
                <a:moveTo>
                  <a:pt x="3621" y="12254"/>
                </a:moveTo>
                <a:cubicBezTo>
                  <a:pt x="3653" y="12347"/>
                  <a:pt x="3668" y="12449"/>
                  <a:pt x="3671" y="12551"/>
                </a:cubicBezTo>
                <a:cubicBezTo>
                  <a:pt x="3675" y="12718"/>
                  <a:pt x="3685" y="12882"/>
                  <a:pt x="3696" y="13047"/>
                </a:cubicBezTo>
                <a:cubicBezTo>
                  <a:pt x="3707" y="13216"/>
                  <a:pt x="3683" y="13377"/>
                  <a:pt x="3671" y="13543"/>
                </a:cubicBezTo>
                <a:cubicBezTo>
                  <a:pt x="3663" y="13647"/>
                  <a:pt x="3658" y="13742"/>
                  <a:pt x="3646" y="13841"/>
                </a:cubicBezTo>
                <a:cubicBezTo>
                  <a:pt x="3610" y="13722"/>
                  <a:pt x="3621" y="13597"/>
                  <a:pt x="3621" y="13469"/>
                </a:cubicBezTo>
                <a:cubicBezTo>
                  <a:pt x="3621" y="13262"/>
                  <a:pt x="3626" y="13054"/>
                  <a:pt x="3646" y="12849"/>
                </a:cubicBezTo>
                <a:cubicBezTo>
                  <a:pt x="3667" y="12636"/>
                  <a:pt x="3668" y="12413"/>
                  <a:pt x="3721" y="12204"/>
                </a:cubicBezTo>
                <a:cubicBezTo>
                  <a:pt x="3760" y="12049"/>
                  <a:pt x="3798" y="11896"/>
                  <a:pt x="3870" y="11757"/>
                </a:cubicBezTo>
                <a:cubicBezTo>
                  <a:pt x="3899" y="11697"/>
                  <a:pt x="3917" y="11674"/>
                  <a:pt x="3969" y="11658"/>
                </a:cubicBezTo>
                <a:cubicBezTo>
                  <a:pt x="4052" y="11758"/>
                  <a:pt x="4048" y="11776"/>
                  <a:pt x="4068" y="11906"/>
                </a:cubicBezTo>
                <a:cubicBezTo>
                  <a:pt x="4117" y="12228"/>
                  <a:pt x="4166" y="12552"/>
                  <a:pt x="4217" y="12874"/>
                </a:cubicBezTo>
                <a:cubicBezTo>
                  <a:pt x="4245" y="13053"/>
                  <a:pt x="4311" y="13208"/>
                  <a:pt x="4390" y="13370"/>
                </a:cubicBezTo>
                <a:cubicBezTo>
                  <a:pt x="4454" y="13502"/>
                  <a:pt x="4483" y="13534"/>
                  <a:pt x="4614" y="13519"/>
                </a:cubicBezTo>
                <a:cubicBezTo>
                  <a:pt x="4669" y="13491"/>
                  <a:pt x="4685" y="13476"/>
                  <a:pt x="4663" y="13419"/>
                </a:cubicBezTo>
              </a:path>
              <a:path w="10840" h="2705">
                <a:moveTo>
                  <a:pt x="3597" y="12898"/>
                </a:moveTo>
                <a:cubicBezTo>
                  <a:pt x="3737" y="12879"/>
                  <a:pt x="3881" y="12872"/>
                  <a:pt x="4018" y="12849"/>
                </a:cubicBezTo>
                <a:cubicBezTo>
                  <a:pt x="4160" y="12825"/>
                  <a:pt x="4299" y="12819"/>
                  <a:pt x="4440" y="12799"/>
                </a:cubicBezTo>
                <a:cubicBezTo>
                  <a:pt x="4561" y="12782"/>
                  <a:pt x="4671" y="12764"/>
                  <a:pt x="4787" y="12725"/>
                </a:cubicBezTo>
              </a:path>
              <a:path w="10840" h="2705">
                <a:moveTo>
                  <a:pt x="5308" y="12278"/>
                </a:moveTo>
                <a:cubicBezTo>
                  <a:pt x="5271" y="12256"/>
                  <a:pt x="5237" y="12239"/>
                  <a:pt x="5159" y="12278"/>
                </a:cubicBezTo>
                <a:cubicBezTo>
                  <a:pt x="5061" y="12327"/>
                  <a:pt x="4988" y="12374"/>
                  <a:pt x="4911" y="12452"/>
                </a:cubicBezTo>
                <a:cubicBezTo>
                  <a:pt x="4845" y="12519"/>
                  <a:pt x="4851" y="12567"/>
                  <a:pt x="4887" y="12650"/>
                </a:cubicBezTo>
                <a:cubicBezTo>
                  <a:pt x="4924" y="12734"/>
                  <a:pt x="5062" y="12817"/>
                  <a:pt x="5135" y="12874"/>
                </a:cubicBezTo>
                <a:cubicBezTo>
                  <a:pt x="5244" y="12959"/>
                  <a:pt x="5356" y="13026"/>
                  <a:pt x="5457" y="13122"/>
                </a:cubicBezTo>
                <a:cubicBezTo>
                  <a:pt x="5512" y="13174"/>
                  <a:pt x="5593" y="13259"/>
                  <a:pt x="5556" y="13345"/>
                </a:cubicBezTo>
                <a:cubicBezTo>
                  <a:pt x="5499" y="13477"/>
                  <a:pt x="5345" y="13552"/>
                  <a:pt x="5209" y="13568"/>
                </a:cubicBezTo>
                <a:cubicBezTo>
                  <a:pt x="5082" y="13583"/>
                  <a:pt x="4911" y="13579"/>
                  <a:pt x="4911" y="13419"/>
                </a:cubicBezTo>
                <a:cubicBezTo>
                  <a:pt x="4919" y="13394"/>
                  <a:pt x="4928" y="13370"/>
                  <a:pt x="4936" y="13345"/>
                </a:cubicBezTo>
              </a:path>
              <a:path w="10840" h="2705">
                <a:moveTo>
                  <a:pt x="5829" y="11633"/>
                </a:moveTo>
                <a:cubicBezTo>
                  <a:pt x="5807" y="11824"/>
                  <a:pt x="5783" y="12012"/>
                  <a:pt x="5779" y="12204"/>
                </a:cubicBezTo>
                <a:cubicBezTo>
                  <a:pt x="5775" y="12413"/>
                  <a:pt x="5787" y="12640"/>
                  <a:pt x="5804" y="12849"/>
                </a:cubicBezTo>
                <a:cubicBezTo>
                  <a:pt x="5820" y="13045"/>
                  <a:pt x="5833" y="13249"/>
                  <a:pt x="5854" y="13444"/>
                </a:cubicBezTo>
                <a:cubicBezTo>
                  <a:pt x="5866" y="13556"/>
                  <a:pt x="5879" y="13654"/>
                  <a:pt x="5879" y="13767"/>
                </a:cubicBezTo>
                <a:cubicBezTo>
                  <a:pt x="5879" y="13775"/>
                  <a:pt x="5879" y="13783"/>
                  <a:pt x="5879" y="13791"/>
                </a:cubicBezTo>
                <a:cubicBezTo>
                  <a:pt x="5900" y="13678"/>
                  <a:pt x="5907" y="13561"/>
                  <a:pt x="5928" y="13444"/>
                </a:cubicBezTo>
                <a:cubicBezTo>
                  <a:pt x="5974" y="13187"/>
                  <a:pt x="6026" y="12931"/>
                  <a:pt x="6077" y="12675"/>
                </a:cubicBezTo>
                <a:cubicBezTo>
                  <a:pt x="6104" y="12542"/>
                  <a:pt x="6135" y="12421"/>
                  <a:pt x="6201" y="12303"/>
                </a:cubicBezTo>
                <a:cubicBezTo>
                  <a:pt x="6232" y="12248"/>
                  <a:pt x="6262" y="12223"/>
                  <a:pt x="6300" y="12179"/>
                </a:cubicBezTo>
                <a:cubicBezTo>
                  <a:pt x="6357" y="12244"/>
                  <a:pt x="6372" y="12260"/>
                  <a:pt x="6375" y="12353"/>
                </a:cubicBezTo>
                <a:cubicBezTo>
                  <a:pt x="6380" y="12514"/>
                  <a:pt x="6360" y="12665"/>
                  <a:pt x="6350" y="12824"/>
                </a:cubicBezTo>
                <a:cubicBezTo>
                  <a:pt x="6339" y="12992"/>
                  <a:pt x="6304" y="13153"/>
                  <a:pt x="6300" y="13320"/>
                </a:cubicBezTo>
                <a:cubicBezTo>
                  <a:pt x="6298" y="13414"/>
                  <a:pt x="6307" y="13499"/>
                  <a:pt x="6375" y="13568"/>
                </a:cubicBezTo>
                <a:cubicBezTo>
                  <a:pt x="6447" y="13640"/>
                  <a:pt x="6558" y="13500"/>
                  <a:pt x="6598" y="13469"/>
                </a:cubicBezTo>
              </a:path>
              <a:path w="10840" h="2705">
                <a:moveTo>
                  <a:pt x="7169" y="12129"/>
                </a:moveTo>
                <a:cubicBezTo>
                  <a:pt x="7087" y="12149"/>
                  <a:pt x="7058" y="12176"/>
                  <a:pt x="6995" y="12254"/>
                </a:cubicBezTo>
                <a:cubicBezTo>
                  <a:pt x="6926" y="12340"/>
                  <a:pt x="6854" y="12497"/>
                  <a:pt x="6821" y="12601"/>
                </a:cubicBezTo>
                <a:cubicBezTo>
                  <a:pt x="6767" y="12769"/>
                  <a:pt x="6735" y="12947"/>
                  <a:pt x="6722" y="13122"/>
                </a:cubicBezTo>
                <a:cubicBezTo>
                  <a:pt x="6714" y="13229"/>
                  <a:pt x="6730" y="13350"/>
                  <a:pt x="6821" y="13419"/>
                </a:cubicBezTo>
                <a:cubicBezTo>
                  <a:pt x="6888" y="13470"/>
                  <a:pt x="6976" y="13399"/>
                  <a:pt x="7020" y="13345"/>
                </a:cubicBezTo>
                <a:cubicBezTo>
                  <a:pt x="7120" y="13223"/>
                  <a:pt x="7176" y="13117"/>
                  <a:pt x="7243" y="12973"/>
                </a:cubicBezTo>
                <a:cubicBezTo>
                  <a:pt x="7320" y="12808"/>
                  <a:pt x="7355" y="12649"/>
                  <a:pt x="7392" y="12477"/>
                </a:cubicBezTo>
                <a:cubicBezTo>
                  <a:pt x="7407" y="12408"/>
                  <a:pt x="7417" y="12373"/>
                  <a:pt x="7417" y="12303"/>
                </a:cubicBezTo>
                <a:cubicBezTo>
                  <a:pt x="7382" y="12291"/>
                  <a:pt x="7398" y="12289"/>
                  <a:pt x="7367" y="12378"/>
                </a:cubicBezTo>
                <a:cubicBezTo>
                  <a:pt x="7329" y="12486"/>
                  <a:pt x="7320" y="12611"/>
                  <a:pt x="7317" y="12725"/>
                </a:cubicBezTo>
                <a:cubicBezTo>
                  <a:pt x="7313" y="12879"/>
                  <a:pt x="7329" y="13021"/>
                  <a:pt x="7342" y="13171"/>
                </a:cubicBezTo>
                <a:cubicBezTo>
                  <a:pt x="7352" y="13285"/>
                  <a:pt x="7343" y="13413"/>
                  <a:pt x="7441" y="13494"/>
                </a:cubicBezTo>
                <a:cubicBezTo>
                  <a:pt x="7519" y="13559"/>
                  <a:pt x="7605" y="13538"/>
                  <a:pt x="7689" y="13494"/>
                </a:cubicBezTo>
                <a:cubicBezTo>
                  <a:pt x="7816" y="13428"/>
                  <a:pt x="7910" y="13318"/>
                  <a:pt x="8012" y="13221"/>
                </a:cubicBezTo>
              </a:path>
              <a:path w="10840" h="2705">
                <a:moveTo>
                  <a:pt x="7888" y="12849"/>
                </a:moveTo>
                <a:cubicBezTo>
                  <a:pt x="7967" y="12840"/>
                  <a:pt x="8059" y="12840"/>
                  <a:pt x="8136" y="12824"/>
                </a:cubicBezTo>
                <a:cubicBezTo>
                  <a:pt x="8229" y="12804"/>
                  <a:pt x="8313" y="12755"/>
                  <a:pt x="8384" y="12700"/>
                </a:cubicBezTo>
              </a:path>
              <a:path w="10840" h="2705">
                <a:moveTo>
                  <a:pt x="9451" y="11559"/>
                </a:moveTo>
                <a:cubicBezTo>
                  <a:pt x="9397" y="11751"/>
                  <a:pt x="9371" y="11909"/>
                  <a:pt x="9351" y="12105"/>
                </a:cubicBezTo>
                <a:cubicBezTo>
                  <a:pt x="9330" y="12315"/>
                  <a:pt x="9304" y="12546"/>
                  <a:pt x="9252" y="12750"/>
                </a:cubicBezTo>
                <a:cubicBezTo>
                  <a:pt x="9206" y="12931"/>
                  <a:pt x="9172" y="13113"/>
                  <a:pt x="9128" y="13295"/>
                </a:cubicBezTo>
                <a:cubicBezTo>
                  <a:pt x="9106" y="13383"/>
                  <a:pt x="9103" y="13454"/>
                  <a:pt x="9103" y="13543"/>
                </a:cubicBezTo>
                <a:cubicBezTo>
                  <a:pt x="9171" y="13409"/>
                  <a:pt x="9196" y="13268"/>
                  <a:pt x="9227" y="13122"/>
                </a:cubicBezTo>
              </a:path>
              <a:path w="10840" h="2705">
                <a:moveTo>
                  <a:pt x="9054" y="11410"/>
                </a:moveTo>
                <a:cubicBezTo>
                  <a:pt x="9170" y="11430"/>
                  <a:pt x="9287" y="11449"/>
                  <a:pt x="9401" y="11485"/>
                </a:cubicBezTo>
                <a:cubicBezTo>
                  <a:pt x="9598" y="11547"/>
                  <a:pt x="9759" y="11680"/>
                  <a:pt x="9922" y="11807"/>
                </a:cubicBezTo>
                <a:cubicBezTo>
                  <a:pt x="10073" y="11925"/>
                  <a:pt x="10212" y="12079"/>
                  <a:pt x="10244" y="12278"/>
                </a:cubicBezTo>
                <a:cubicBezTo>
                  <a:pt x="10276" y="12477"/>
                  <a:pt x="10182" y="12643"/>
                  <a:pt x="10071" y="12799"/>
                </a:cubicBezTo>
                <a:cubicBezTo>
                  <a:pt x="9906" y="13030"/>
                  <a:pt x="9688" y="13200"/>
                  <a:pt x="9451" y="13345"/>
                </a:cubicBezTo>
                <a:cubicBezTo>
                  <a:pt x="9367" y="13396"/>
                  <a:pt x="9291" y="13449"/>
                  <a:pt x="9203" y="13494"/>
                </a:cubicBezTo>
                <a:cubicBezTo>
                  <a:pt x="9249" y="13431"/>
                  <a:pt x="9295" y="13377"/>
                  <a:pt x="9351" y="13320"/>
                </a:cubicBezTo>
              </a:path>
              <a:path w="10840" h="2705">
                <a:moveTo>
                  <a:pt x="10790" y="12526"/>
                </a:moveTo>
                <a:cubicBezTo>
                  <a:pt x="10639" y="12635"/>
                  <a:pt x="10502" y="12744"/>
                  <a:pt x="10368" y="12874"/>
                </a:cubicBezTo>
                <a:cubicBezTo>
                  <a:pt x="10284" y="12956"/>
                  <a:pt x="10207" y="13048"/>
                  <a:pt x="10145" y="13146"/>
                </a:cubicBezTo>
                <a:cubicBezTo>
                  <a:pt x="10201" y="13243"/>
                  <a:pt x="10234" y="13245"/>
                  <a:pt x="10344" y="13221"/>
                </a:cubicBezTo>
                <a:cubicBezTo>
                  <a:pt x="10501" y="13186"/>
                  <a:pt x="10625" y="13127"/>
                  <a:pt x="10765" y="13047"/>
                </a:cubicBezTo>
                <a:cubicBezTo>
                  <a:pt x="10851" y="12998"/>
                  <a:pt x="11049" y="12877"/>
                  <a:pt x="11088" y="12774"/>
                </a:cubicBezTo>
                <a:cubicBezTo>
                  <a:pt x="11113" y="12707"/>
                  <a:pt x="11103" y="12593"/>
                  <a:pt x="11038" y="12551"/>
                </a:cubicBezTo>
                <a:cubicBezTo>
                  <a:pt x="10987" y="12518"/>
                  <a:pt x="10926" y="12489"/>
                  <a:pt x="10864" y="12502"/>
                </a:cubicBezTo>
                <a:cubicBezTo>
                  <a:pt x="10830" y="12509"/>
                  <a:pt x="10846" y="12511"/>
                  <a:pt x="10815" y="12526"/>
                </a:cubicBezTo>
              </a:path>
              <a:path w="10840" h="2705">
                <a:moveTo>
                  <a:pt x="11534" y="12576"/>
                </a:moveTo>
                <a:cubicBezTo>
                  <a:pt x="11447" y="12654"/>
                  <a:pt x="11352" y="12725"/>
                  <a:pt x="11261" y="12799"/>
                </a:cubicBezTo>
                <a:cubicBezTo>
                  <a:pt x="11148" y="12891"/>
                  <a:pt x="11029" y="13006"/>
                  <a:pt x="10939" y="13122"/>
                </a:cubicBezTo>
                <a:cubicBezTo>
                  <a:pt x="10902" y="13169"/>
                  <a:pt x="10896" y="13216"/>
                  <a:pt x="10889" y="13271"/>
                </a:cubicBezTo>
                <a:cubicBezTo>
                  <a:pt x="10983" y="13305"/>
                  <a:pt x="11035" y="13295"/>
                  <a:pt x="11137" y="13271"/>
                </a:cubicBezTo>
                <a:cubicBezTo>
                  <a:pt x="11297" y="13234"/>
                  <a:pt x="11455" y="13174"/>
                  <a:pt x="11584" y="13072"/>
                </a:cubicBezTo>
                <a:cubicBezTo>
                  <a:pt x="11686" y="12991"/>
                  <a:pt x="11842" y="12890"/>
                  <a:pt x="11857" y="12750"/>
                </a:cubicBezTo>
                <a:cubicBezTo>
                  <a:pt x="11865" y="12676"/>
                  <a:pt x="11850" y="12613"/>
                  <a:pt x="11807" y="12551"/>
                </a:cubicBezTo>
                <a:cubicBezTo>
                  <a:pt x="11782" y="12526"/>
                  <a:pt x="11774" y="12518"/>
                  <a:pt x="11757" y="12502"/>
                </a:cubicBezTo>
              </a:path>
              <a:path w="10840" h="2705">
                <a:moveTo>
                  <a:pt x="12402" y="11534"/>
                </a:moveTo>
                <a:cubicBezTo>
                  <a:pt x="12355" y="11732"/>
                  <a:pt x="12309" y="11928"/>
                  <a:pt x="12278" y="12129"/>
                </a:cubicBezTo>
                <a:cubicBezTo>
                  <a:pt x="12237" y="12398"/>
                  <a:pt x="12217" y="12684"/>
                  <a:pt x="12154" y="12948"/>
                </a:cubicBezTo>
                <a:cubicBezTo>
                  <a:pt x="12106" y="13148"/>
                  <a:pt x="12033" y="13345"/>
                  <a:pt x="11981" y="13543"/>
                </a:cubicBezTo>
                <a:cubicBezTo>
                  <a:pt x="11951" y="13659"/>
                  <a:pt x="11800" y="13946"/>
                  <a:pt x="11906" y="13891"/>
                </a:cubicBezTo>
                <a:cubicBezTo>
                  <a:pt x="11906" y="13933"/>
                  <a:pt x="11912" y="13924"/>
                  <a:pt x="11931" y="13841"/>
                </a:cubicBezTo>
              </a:path>
              <a:path w="10840" h="2705">
                <a:moveTo>
                  <a:pt x="13370" y="11782"/>
                </a:moveTo>
                <a:cubicBezTo>
                  <a:pt x="13313" y="11885"/>
                  <a:pt x="13253" y="11970"/>
                  <a:pt x="13171" y="12055"/>
                </a:cubicBezTo>
                <a:cubicBezTo>
                  <a:pt x="13024" y="12206"/>
                  <a:pt x="12891" y="12344"/>
                  <a:pt x="12725" y="12477"/>
                </a:cubicBezTo>
                <a:cubicBezTo>
                  <a:pt x="12572" y="12599"/>
                  <a:pt x="12408" y="12690"/>
                  <a:pt x="12254" y="12799"/>
                </a:cubicBezTo>
                <a:cubicBezTo>
                  <a:pt x="12177" y="12853"/>
                  <a:pt x="12105" y="12904"/>
                  <a:pt x="12030" y="12948"/>
                </a:cubicBezTo>
                <a:cubicBezTo>
                  <a:pt x="12117" y="12971"/>
                  <a:pt x="12230" y="12999"/>
                  <a:pt x="12328" y="13022"/>
                </a:cubicBezTo>
                <a:cubicBezTo>
                  <a:pt x="12455" y="13052"/>
                  <a:pt x="12598" y="13111"/>
                  <a:pt x="12700" y="13196"/>
                </a:cubicBezTo>
                <a:cubicBezTo>
                  <a:pt x="12803" y="13281"/>
                  <a:pt x="12853" y="13392"/>
                  <a:pt x="12874" y="13519"/>
                </a:cubicBezTo>
                <a:cubicBezTo>
                  <a:pt x="12884" y="13578"/>
                  <a:pt x="12849" y="13648"/>
                  <a:pt x="12898" y="13692"/>
                </a:cubicBezTo>
                <a:cubicBezTo>
                  <a:pt x="12951" y="13739"/>
                  <a:pt x="12953" y="13696"/>
                  <a:pt x="12998" y="13692"/>
                </a:cubicBezTo>
              </a:path>
              <a:path w="10840" h="2705">
                <a:moveTo>
                  <a:pt x="13320" y="12874"/>
                </a:moveTo>
                <a:cubicBezTo>
                  <a:pt x="13282" y="13008"/>
                  <a:pt x="13269" y="13137"/>
                  <a:pt x="13246" y="13271"/>
                </a:cubicBezTo>
                <a:cubicBezTo>
                  <a:pt x="13228" y="13380"/>
                  <a:pt x="13199" y="13514"/>
                  <a:pt x="13171" y="13618"/>
                </a:cubicBezTo>
                <a:cubicBezTo>
                  <a:pt x="13150" y="13696"/>
                  <a:pt x="13141" y="13687"/>
                  <a:pt x="13171" y="13767"/>
                </a:cubicBezTo>
                <a:cubicBezTo>
                  <a:pt x="13219" y="13719"/>
                  <a:pt x="13218" y="13713"/>
                  <a:pt x="13246" y="13643"/>
                </a:cubicBezTo>
              </a:path>
              <a:path w="10840" h="2705">
                <a:moveTo>
                  <a:pt x="13320" y="12129"/>
                </a:moveTo>
                <a:cubicBezTo>
                  <a:pt x="13320" y="12173"/>
                  <a:pt x="13328" y="12242"/>
                  <a:pt x="13345" y="12278"/>
                </a:cubicBezTo>
                <a:cubicBezTo>
                  <a:pt x="13353" y="12286"/>
                  <a:pt x="13362" y="12295"/>
                  <a:pt x="13370" y="12303"/>
                </a:cubicBezTo>
              </a:path>
              <a:path w="10840" h="2705">
                <a:moveTo>
                  <a:pt x="13568" y="13320"/>
                </a:moveTo>
                <a:cubicBezTo>
                  <a:pt x="13656" y="13281"/>
                  <a:pt x="13748" y="13247"/>
                  <a:pt x="13841" y="13221"/>
                </a:cubicBezTo>
                <a:cubicBezTo>
                  <a:pt x="13952" y="13189"/>
                  <a:pt x="14103" y="13131"/>
                  <a:pt x="14188" y="13047"/>
                </a:cubicBezTo>
                <a:cubicBezTo>
                  <a:pt x="14263" y="12973"/>
                  <a:pt x="14351" y="12888"/>
                  <a:pt x="14412" y="12799"/>
                </a:cubicBezTo>
                <a:cubicBezTo>
                  <a:pt x="14432" y="12759"/>
                  <a:pt x="14440" y="12752"/>
                  <a:pt x="14436" y="12725"/>
                </a:cubicBezTo>
                <a:cubicBezTo>
                  <a:pt x="14387" y="12712"/>
                  <a:pt x="14413" y="12669"/>
                  <a:pt x="14288" y="12725"/>
                </a:cubicBezTo>
                <a:cubicBezTo>
                  <a:pt x="14116" y="12801"/>
                  <a:pt x="13926" y="12971"/>
                  <a:pt x="13791" y="13097"/>
                </a:cubicBezTo>
                <a:cubicBezTo>
                  <a:pt x="13701" y="13181"/>
                  <a:pt x="13589" y="13310"/>
                  <a:pt x="13593" y="13444"/>
                </a:cubicBezTo>
                <a:cubicBezTo>
                  <a:pt x="13598" y="13623"/>
                  <a:pt x="13714" y="13737"/>
                  <a:pt x="13841" y="13841"/>
                </a:cubicBezTo>
                <a:cubicBezTo>
                  <a:pt x="13966" y="13944"/>
                  <a:pt x="14109" y="14062"/>
                  <a:pt x="14263" y="14114"/>
                </a:cubicBezTo>
                <a:cubicBezTo>
                  <a:pt x="14376" y="14152"/>
                  <a:pt x="14328" y="14048"/>
                  <a:pt x="14312" y="139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Ink 17"/>
          <p:cNvSpPr/>
          <p:nvPr/>
        </p:nvSpPr>
        <p:spPr>
          <a:xfrm>
            <a:off x="330120" y="1500120"/>
            <a:ext cx="822240" cy="992160"/>
          </a:xfrm>
          <a:custGeom>
            <a:avLst/>
            <a:gdLst/>
            <a:ahLst/>
            <a:rect l="l" t="t" r="r" b="b"/>
            <a:pathLst>
              <a:path w="2283" h="2755">
                <a:moveTo>
                  <a:pt x="918" y="4167"/>
                </a:moveTo>
                <a:lnTo>
                  <a:pt x="918" y="4167"/>
                </a:lnTo>
              </a:path>
              <a:path w="2283" h="2755">
                <a:moveTo>
                  <a:pt x="1786" y="4390"/>
                </a:moveTo>
                <a:cubicBezTo>
                  <a:pt x="1786" y="4543"/>
                  <a:pt x="1795" y="4687"/>
                  <a:pt x="1811" y="4837"/>
                </a:cubicBezTo>
                <a:cubicBezTo>
                  <a:pt x="1853" y="5235"/>
                  <a:pt x="1717" y="5785"/>
                  <a:pt x="1786" y="6127"/>
                </a:cubicBezTo>
                <a:cubicBezTo>
                  <a:pt x="1794" y="6127"/>
                  <a:pt x="1803" y="6127"/>
                  <a:pt x="1811" y="6127"/>
                </a:cubicBezTo>
              </a:path>
              <a:path w="2283" h="2755">
                <a:moveTo>
                  <a:pt x="1860" y="4366"/>
                </a:moveTo>
                <a:cubicBezTo>
                  <a:pt x="1883" y="4410"/>
                  <a:pt x="1888" y="4479"/>
                  <a:pt x="1910" y="4514"/>
                </a:cubicBezTo>
                <a:cubicBezTo>
                  <a:pt x="1980" y="4627"/>
                  <a:pt x="2054" y="4741"/>
                  <a:pt x="2108" y="4862"/>
                </a:cubicBezTo>
                <a:cubicBezTo>
                  <a:pt x="2180" y="5023"/>
                  <a:pt x="2266" y="5152"/>
                  <a:pt x="2332" y="5308"/>
                </a:cubicBezTo>
                <a:cubicBezTo>
                  <a:pt x="2376" y="5411"/>
                  <a:pt x="2405" y="5531"/>
                  <a:pt x="2456" y="5631"/>
                </a:cubicBezTo>
                <a:cubicBezTo>
                  <a:pt x="2495" y="5706"/>
                  <a:pt x="2542" y="5777"/>
                  <a:pt x="2580" y="5854"/>
                </a:cubicBezTo>
                <a:cubicBezTo>
                  <a:pt x="2609" y="5912"/>
                  <a:pt x="2612" y="5929"/>
                  <a:pt x="2654" y="5978"/>
                </a:cubicBezTo>
                <a:cubicBezTo>
                  <a:pt x="2663" y="5988"/>
                  <a:pt x="2710" y="6034"/>
                  <a:pt x="2679" y="6003"/>
                </a:cubicBezTo>
                <a:cubicBezTo>
                  <a:pt x="2650" y="5974"/>
                  <a:pt x="2647" y="5978"/>
                  <a:pt x="2580" y="5978"/>
                </a:cubicBezTo>
                <a:cubicBezTo>
                  <a:pt x="2483" y="5978"/>
                  <a:pt x="2397" y="5991"/>
                  <a:pt x="2307" y="6003"/>
                </a:cubicBezTo>
                <a:cubicBezTo>
                  <a:pt x="2216" y="6015"/>
                  <a:pt x="2122" y="6041"/>
                  <a:pt x="2034" y="6052"/>
                </a:cubicBezTo>
                <a:cubicBezTo>
                  <a:pt x="1953" y="6062"/>
                  <a:pt x="1866" y="6060"/>
                  <a:pt x="1786" y="6077"/>
                </a:cubicBezTo>
                <a:cubicBezTo>
                  <a:pt x="1723" y="6090"/>
                  <a:pt x="1726" y="6101"/>
                  <a:pt x="1687" y="6077"/>
                </a:cubicBezTo>
              </a:path>
              <a:path w="2283" h="2755">
                <a:moveTo>
                  <a:pt x="1885" y="5755"/>
                </a:moveTo>
                <a:cubicBezTo>
                  <a:pt x="1942" y="5755"/>
                  <a:pt x="1963" y="5745"/>
                  <a:pt x="2009" y="5730"/>
                </a:cubicBezTo>
                <a:cubicBezTo>
                  <a:pt x="2028" y="5724"/>
                  <a:pt x="2064" y="5730"/>
                  <a:pt x="2084" y="5730"/>
                </a:cubicBezTo>
                <a:cubicBezTo>
                  <a:pt x="2076" y="5761"/>
                  <a:pt x="2072" y="5824"/>
                  <a:pt x="2059" y="5854"/>
                </a:cubicBezTo>
                <a:cubicBezTo>
                  <a:pt x="2031" y="5921"/>
                  <a:pt x="2052" y="5930"/>
                  <a:pt x="2059" y="6003"/>
                </a:cubicBezTo>
                <a:cubicBezTo>
                  <a:pt x="2062" y="6029"/>
                  <a:pt x="2084" y="6108"/>
                  <a:pt x="2108" y="6052"/>
                </a:cubicBezTo>
                <a:cubicBezTo>
                  <a:pt x="2108" y="6044"/>
                  <a:pt x="2108" y="6036"/>
                  <a:pt x="2108" y="6028"/>
                </a:cubicBezTo>
              </a:path>
              <a:path w="2283" h="2755">
                <a:moveTo>
                  <a:pt x="2654" y="4862"/>
                </a:moveTo>
                <a:cubicBezTo>
                  <a:pt x="2675" y="4846"/>
                  <a:pt x="2729" y="4794"/>
                  <a:pt x="2753" y="4787"/>
                </a:cubicBezTo>
                <a:cubicBezTo>
                  <a:pt x="2798" y="4787"/>
                  <a:pt x="2811" y="4790"/>
                  <a:pt x="2828" y="4762"/>
                </a:cubicBezTo>
                <a:cubicBezTo>
                  <a:pt x="2903" y="4823"/>
                  <a:pt x="2922" y="4807"/>
                  <a:pt x="2927" y="4911"/>
                </a:cubicBezTo>
                <a:cubicBezTo>
                  <a:pt x="2931" y="4987"/>
                  <a:pt x="2921" y="5045"/>
                  <a:pt x="2877" y="5110"/>
                </a:cubicBezTo>
                <a:cubicBezTo>
                  <a:pt x="2846" y="5156"/>
                  <a:pt x="2828" y="5178"/>
                  <a:pt x="2828" y="5234"/>
                </a:cubicBezTo>
                <a:cubicBezTo>
                  <a:pt x="2910" y="5234"/>
                  <a:pt x="2975" y="5222"/>
                  <a:pt x="3051" y="5209"/>
                </a:cubicBezTo>
                <a:cubicBezTo>
                  <a:pt x="3069" y="5206"/>
                  <a:pt x="3200" y="5203"/>
                  <a:pt x="3200" y="5184"/>
                </a:cubicBezTo>
                <a:cubicBezTo>
                  <a:pt x="3192" y="5184"/>
                  <a:pt x="3183" y="5184"/>
                  <a:pt x="3175" y="5184"/>
                </a:cubicBezTo>
              </a:path>
              <a:path w="2283" h="2755">
                <a:moveTo>
                  <a:pt x="943" y="5259"/>
                </a:moveTo>
                <a:cubicBezTo>
                  <a:pt x="976" y="5303"/>
                  <a:pt x="969" y="5338"/>
                  <a:pt x="992" y="5383"/>
                </a:cubicBezTo>
                <a:cubicBezTo>
                  <a:pt x="1013" y="5424"/>
                  <a:pt x="1083" y="5466"/>
                  <a:pt x="1116" y="5507"/>
                </a:cubicBezTo>
                <a:cubicBezTo>
                  <a:pt x="1116" y="5462"/>
                  <a:pt x="1108" y="5395"/>
                  <a:pt x="1091" y="5358"/>
                </a:cubicBezTo>
                <a:cubicBezTo>
                  <a:pt x="1075" y="5322"/>
                  <a:pt x="1036" y="5263"/>
                  <a:pt x="1017" y="5234"/>
                </a:cubicBezTo>
                <a:cubicBezTo>
                  <a:pt x="991" y="5194"/>
                  <a:pt x="992" y="5184"/>
                  <a:pt x="992" y="5135"/>
                </a:cubicBezTo>
                <a:cubicBezTo>
                  <a:pt x="992" y="5068"/>
                  <a:pt x="1017" y="5061"/>
                  <a:pt x="1067" y="5011"/>
                </a:cubicBezTo>
                <a:cubicBezTo>
                  <a:pt x="1110" y="4967"/>
                  <a:pt x="1179" y="4923"/>
                  <a:pt x="1240" y="4911"/>
                </a:cubicBezTo>
                <a:cubicBezTo>
                  <a:pt x="1250" y="4909"/>
                  <a:pt x="1352" y="4873"/>
                  <a:pt x="1364" y="4887"/>
                </a:cubicBezTo>
                <a:cubicBezTo>
                  <a:pt x="1364" y="4911"/>
                  <a:pt x="1364" y="4920"/>
                  <a:pt x="1364" y="4936"/>
                </a:cubicBezTo>
              </a:path>
              <a:path w="2283" h="2755">
                <a:moveTo>
                  <a:pt x="1240" y="5159"/>
                </a:moveTo>
                <a:cubicBezTo>
                  <a:pt x="1277" y="5095"/>
                  <a:pt x="1319" y="5061"/>
                  <a:pt x="1389" y="5035"/>
                </a:cubicBezTo>
                <a:cubicBezTo>
                  <a:pt x="1422" y="5023"/>
                  <a:pt x="1461" y="5065"/>
                  <a:pt x="1463" y="5085"/>
                </a:cubicBezTo>
                <a:cubicBezTo>
                  <a:pt x="1469" y="5139"/>
                  <a:pt x="1426" y="5207"/>
                  <a:pt x="1414" y="5259"/>
                </a:cubicBezTo>
                <a:cubicBezTo>
                  <a:pt x="1404" y="5303"/>
                  <a:pt x="1352" y="5315"/>
                  <a:pt x="1364" y="5358"/>
                </a:cubicBezTo>
                <a:cubicBezTo>
                  <a:pt x="1372" y="5366"/>
                  <a:pt x="1381" y="5375"/>
                  <a:pt x="1389" y="5383"/>
                </a:cubicBezTo>
                <a:cubicBezTo>
                  <a:pt x="1428" y="5354"/>
                  <a:pt x="1488" y="5324"/>
                  <a:pt x="1538" y="5308"/>
                </a:cubicBezTo>
                <a:cubicBezTo>
                  <a:pt x="1572" y="5298"/>
                  <a:pt x="1632" y="5277"/>
                  <a:pt x="1662" y="5259"/>
                </a:cubicBezTo>
                <a:cubicBezTo>
                  <a:pt x="1670" y="5251"/>
                  <a:pt x="1679" y="5242"/>
                  <a:pt x="1687" y="5234"/>
                </a:cubicBezTo>
              </a:path>
              <a:path w="2283" h="2755">
                <a:moveTo>
                  <a:pt x="2059" y="6524"/>
                </a:moveTo>
                <a:cubicBezTo>
                  <a:pt x="2019" y="6484"/>
                  <a:pt x="2046" y="6613"/>
                  <a:pt x="2059" y="6672"/>
                </a:cubicBezTo>
                <a:cubicBezTo>
                  <a:pt x="2075" y="6740"/>
                  <a:pt x="2117" y="6837"/>
                  <a:pt x="2158" y="6896"/>
                </a:cubicBezTo>
                <a:cubicBezTo>
                  <a:pt x="2181" y="6919"/>
                  <a:pt x="2185" y="6927"/>
                  <a:pt x="2208" y="6921"/>
                </a:cubicBezTo>
                <a:cubicBezTo>
                  <a:pt x="2237" y="6891"/>
                  <a:pt x="2190" y="6811"/>
                  <a:pt x="2183" y="6747"/>
                </a:cubicBezTo>
                <a:cubicBezTo>
                  <a:pt x="2170" y="6624"/>
                  <a:pt x="2174" y="6493"/>
                  <a:pt x="2133" y="6375"/>
                </a:cubicBezTo>
                <a:cubicBezTo>
                  <a:pt x="2103" y="6291"/>
                  <a:pt x="2110" y="6320"/>
                  <a:pt x="2133" y="6251"/>
                </a:cubicBezTo>
                <a:cubicBezTo>
                  <a:pt x="2150" y="6200"/>
                  <a:pt x="2169" y="6202"/>
                  <a:pt x="2208" y="6176"/>
                </a:cubicBezTo>
                <a:cubicBezTo>
                  <a:pt x="2262" y="6141"/>
                  <a:pt x="2288" y="6118"/>
                  <a:pt x="2356" y="6102"/>
                </a:cubicBezTo>
                <a:cubicBezTo>
                  <a:pt x="2415" y="6088"/>
                  <a:pt x="2485" y="6094"/>
                  <a:pt x="2530" y="6127"/>
                </a:cubicBezTo>
              </a:path>
              <a:path w="2283" h="2755">
                <a:moveTo>
                  <a:pt x="2332" y="6350"/>
                </a:moveTo>
                <a:cubicBezTo>
                  <a:pt x="2401" y="6306"/>
                  <a:pt x="2451" y="6253"/>
                  <a:pt x="2530" y="6300"/>
                </a:cubicBezTo>
                <a:cubicBezTo>
                  <a:pt x="2580" y="6330"/>
                  <a:pt x="2601" y="6372"/>
                  <a:pt x="2604" y="6424"/>
                </a:cubicBezTo>
                <a:cubicBezTo>
                  <a:pt x="2608" y="6498"/>
                  <a:pt x="2562" y="6559"/>
                  <a:pt x="2530" y="6623"/>
                </a:cubicBezTo>
                <a:cubicBezTo>
                  <a:pt x="2507" y="6668"/>
                  <a:pt x="2464" y="6726"/>
                  <a:pt x="2505" y="6747"/>
                </a:cubicBezTo>
                <a:cubicBezTo>
                  <a:pt x="2548" y="6769"/>
                  <a:pt x="2618" y="6735"/>
                  <a:pt x="2654" y="6722"/>
                </a:cubicBezTo>
                <a:cubicBezTo>
                  <a:pt x="2725" y="6697"/>
                  <a:pt x="2805" y="6639"/>
                  <a:pt x="2877" y="6623"/>
                </a:cubicBezTo>
                <a:cubicBezTo>
                  <a:pt x="2922" y="6623"/>
                  <a:pt x="2935" y="6626"/>
                  <a:pt x="2952" y="65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Ink 4"/>
          <p:cNvSpPr/>
          <p:nvPr/>
        </p:nvSpPr>
        <p:spPr>
          <a:xfrm>
            <a:off x="687240" y="1509840"/>
            <a:ext cx="482760" cy="482400"/>
          </a:xfrm>
          <a:custGeom>
            <a:avLst/>
            <a:gdLst/>
            <a:ahLst/>
            <a:rect l="l" t="t" r="r" b="b"/>
            <a:pathLst>
              <a:path w="1340" h="1340">
                <a:moveTo>
                  <a:pt x="2282" y="4539"/>
                </a:moveTo>
                <a:cubicBezTo>
                  <a:pt x="2282" y="4611"/>
                  <a:pt x="2261" y="4669"/>
                  <a:pt x="2257" y="4738"/>
                </a:cubicBezTo>
                <a:cubicBezTo>
                  <a:pt x="2253" y="4805"/>
                  <a:pt x="2251" y="4832"/>
                  <a:pt x="2232" y="4887"/>
                </a:cubicBezTo>
                <a:cubicBezTo>
                  <a:pt x="2226" y="4906"/>
                  <a:pt x="2232" y="4941"/>
                  <a:pt x="2232" y="4961"/>
                </a:cubicBezTo>
                <a:cubicBezTo>
                  <a:pt x="2216" y="4953"/>
                  <a:pt x="2230" y="4904"/>
                  <a:pt x="2257" y="4887"/>
                </a:cubicBezTo>
                <a:cubicBezTo>
                  <a:pt x="2281" y="4871"/>
                  <a:pt x="2349" y="4845"/>
                  <a:pt x="2381" y="4837"/>
                </a:cubicBezTo>
                <a:cubicBezTo>
                  <a:pt x="2450" y="4820"/>
                  <a:pt x="2525" y="4845"/>
                  <a:pt x="2580" y="4862"/>
                </a:cubicBezTo>
                <a:cubicBezTo>
                  <a:pt x="2624" y="4875"/>
                  <a:pt x="2638" y="4918"/>
                  <a:pt x="2679" y="4936"/>
                </a:cubicBezTo>
                <a:cubicBezTo>
                  <a:pt x="2711" y="4950"/>
                  <a:pt x="2744" y="4970"/>
                  <a:pt x="2753" y="5011"/>
                </a:cubicBezTo>
                <a:cubicBezTo>
                  <a:pt x="2766" y="5073"/>
                  <a:pt x="2742" y="5109"/>
                  <a:pt x="2729" y="5135"/>
                </a:cubicBezTo>
                <a:cubicBezTo>
                  <a:pt x="2703" y="5188"/>
                  <a:pt x="2683" y="5229"/>
                  <a:pt x="2629" y="5259"/>
                </a:cubicBezTo>
                <a:cubicBezTo>
                  <a:pt x="2577" y="5288"/>
                  <a:pt x="2515" y="5305"/>
                  <a:pt x="2456" y="5308"/>
                </a:cubicBezTo>
                <a:cubicBezTo>
                  <a:pt x="2375" y="5313"/>
                  <a:pt x="2306" y="5311"/>
                  <a:pt x="2232" y="5283"/>
                </a:cubicBezTo>
              </a:path>
              <a:path w="1340" h="1340">
                <a:moveTo>
                  <a:pt x="2332" y="4539"/>
                </a:moveTo>
                <a:cubicBezTo>
                  <a:pt x="2407" y="4539"/>
                  <a:pt x="2467" y="4527"/>
                  <a:pt x="2530" y="4514"/>
                </a:cubicBezTo>
                <a:cubicBezTo>
                  <a:pt x="2562" y="4508"/>
                  <a:pt x="2621" y="4514"/>
                  <a:pt x="2654" y="4514"/>
                </a:cubicBezTo>
              </a:path>
              <a:path w="1340" h="1340">
                <a:moveTo>
                  <a:pt x="2778" y="4192"/>
                </a:moveTo>
                <a:cubicBezTo>
                  <a:pt x="2685" y="4192"/>
                  <a:pt x="2590" y="4179"/>
                  <a:pt x="2505" y="4217"/>
                </a:cubicBezTo>
                <a:cubicBezTo>
                  <a:pt x="2437" y="4248"/>
                  <a:pt x="2282" y="4329"/>
                  <a:pt x="2232" y="4390"/>
                </a:cubicBezTo>
                <a:cubicBezTo>
                  <a:pt x="2149" y="4492"/>
                  <a:pt x="2063" y="4592"/>
                  <a:pt x="2009" y="4713"/>
                </a:cubicBezTo>
                <a:cubicBezTo>
                  <a:pt x="1958" y="4826"/>
                  <a:pt x="1922" y="4937"/>
                  <a:pt x="1910" y="5060"/>
                </a:cubicBezTo>
                <a:cubicBezTo>
                  <a:pt x="1900" y="5163"/>
                  <a:pt x="1894" y="5257"/>
                  <a:pt x="1960" y="5333"/>
                </a:cubicBezTo>
                <a:cubicBezTo>
                  <a:pt x="2023" y="5405"/>
                  <a:pt x="2075" y="5442"/>
                  <a:pt x="2158" y="5482"/>
                </a:cubicBezTo>
                <a:cubicBezTo>
                  <a:pt x="2246" y="5524"/>
                  <a:pt x="2332" y="5546"/>
                  <a:pt x="2431" y="5531"/>
                </a:cubicBezTo>
                <a:cubicBezTo>
                  <a:pt x="2552" y="5513"/>
                  <a:pt x="2675" y="5469"/>
                  <a:pt x="2778" y="5407"/>
                </a:cubicBezTo>
                <a:cubicBezTo>
                  <a:pt x="2896" y="5336"/>
                  <a:pt x="2955" y="5247"/>
                  <a:pt x="3051" y="5159"/>
                </a:cubicBezTo>
                <a:cubicBezTo>
                  <a:pt x="3150" y="5068"/>
                  <a:pt x="3182" y="5017"/>
                  <a:pt x="3225" y="4887"/>
                </a:cubicBezTo>
                <a:cubicBezTo>
                  <a:pt x="3247" y="4819"/>
                  <a:pt x="3280" y="4659"/>
                  <a:pt x="3249" y="4589"/>
                </a:cubicBezTo>
                <a:cubicBezTo>
                  <a:pt x="3212" y="4507"/>
                  <a:pt x="3130" y="4446"/>
                  <a:pt x="3051" y="4415"/>
                </a:cubicBezTo>
                <a:cubicBezTo>
                  <a:pt x="3026" y="4407"/>
                  <a:pt x="3002" y="4398"/>
                  <a:pt x="2977" y="43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Ink 5"/>
          <p:cNvSpPr/>
          <p:nvPr/>
        </p:nvSpPr>
        <p:spPr>
          <a:xfrm>
            <a:off x="1374840" y="1562040"/>
            <a:ext cx="1893960" cy="457200"/>
          </a:xfrm>
          <a:custGeom>
            <a:avLst/>
            <a:gdLst/>
            <a:ahLst/>
            <a:rect l="l" t="t" r="r" b="b"/>
            <a:pathLst>
              <a:path w="5260" h="1266">
                <a:moveTo>
                  <a:pt x="4142" y="4440"/>
                </a:moveTo>
                <a:cubicBezTo>
                  <a:pt x="4153" y="4505"/>
                  <a:pt x="4167" y="4477"/>
                  <a:pt x="4167" y="4539"/>
                </a:cubicBezTo>
                <a:cubicBezTo>
                  <a:pt x="4167" y="4607"/>
                  <a:pt x="4187" y="4670"/>
                  <a:pt x="4192" y="4738"/>
                </a:cubicBezTo>
                <a:cubicBezTo>
                  <a:pt x="4204" y="4909"/>
                  <a:pt x="4164" y="5104"/>
                  <a:pt x="4217" y="5259"/>
                </a:cubicBezTo>
                <a:cubicBezTo>
                  <a:pt x="4217" y="5267"/>
                  <a:pt x="4217" y="5275"/>
                  <a:pt x="4217" y="5283"/>
                </a:cubicBezTo>
              </a:path>
              <a:path w="5260" h="1266">
                <a:moveTo>
                  <a:pt x="3820" y="4936"/>
                </a:moveTo>
                <a:cubicBezTo>
                  <a:pt x="3887" y="4936"/>
                  <a:pt x="3940" y="4950"/>
                  <a:pt x="3994" y="4961"/>
                </a:cubicBezTo>
                <a:cubicBezTo>
                  <a:pt x="4061" y="4975"/>
                  <a:pt x="4126" y="4971"/>
                  <a:pt x="4192" y="4986"/>
                </a:cubicBezTo>
                <a:cubicBezTo>
                  <a:pt x="4235" y="4996"/>
                  <a:pt x="4297" y="4986"/>
                  <a:pt x="4341" y="4986"/>
                </a:cubicBezTo>
              </a:path>
              <a:path w="5260" h="1266">
                <a:moveTo>
                  <a:pt x="4862" y="4961"/>
                </a:moveTo>
                <a:cubicBezTo>
                  <a:pt x="4801" y="4915"/>
                  <a:pt x="4837" y="4955"/>
                  <a:pt x="4787" y="4961"/>
                </a:cubicBezTo>
                <a:cubicBezTo>
                  <a:pt x="4758" y="4965"/>
                  <a:pt x="4707" y="4985"/>
                  <a:pt x="4688" y="5011"/>
                </a:cubicBezTo>
                <a:cubicBezTo>
                  <a:pt x="4657" y="5055"/>
                  <a:pt x="4627" y="5107"/>
                  <a:pt x="4614" y="5159"/>
                </a:cubicBezTo>
                <a:cubicBezTo>
                  <a:pt x="4600" y="5215"/>
                  <a:pt x="4625" y="5242"/>
                  <a:pt x="4638" y="5283"/>
                </a:cubicBezTo>
                <a:cubicBezTo>
                  <a:pt x="4657" y="5342"/>
                  <a:pt x="4675" y="5333"/>
                  <a:pt x="4738" y="5333"/>
                </a:cubicBezTo>
                <a:cubicBezTo>
                  <a:pt x="4806" y="5333"/>
                  <a:pt x="4852" y="5323"/>
                  <a:pt x="4911" y="5283"/>
                </a:cubicBezTo>
                <a:cubicBezTo>
                  <a:pt x="4938" y="5265"/>
                  <a:pt x="4980" y="5212"/>
                  <a:pt x="4986" y="5184"/>
                </a:cubicBezTo>
                <a:cubicBezTo>
                  <a:pt x="4999" y="5126"/>
                  <a:pt x="5011" y="5098"/>
                  <a:pt x="5011" y="5035"/>
                </a:cubicBezTo>
                <a:cubicBezTo>
                  <a:pt x="5011" y="5027"/>
                  <a:pt x="5011" y="5019"/>
                  <a:pt x="5011" y="5011"/>
                </a:cubicBezTo>
                <a:cubicBezTo>
                  <a:pt x="4983" y="5025"/>
                  <a:pt x="5011" y="5033"/>
                  <a:pt x="5011" y="5085"/>
                </a:cubicBezTo>
                <a:cubicBezTo>
                  <a:pt x="5011" y="5122"/>
                  <a:pt x="5020" y="5224"/>
                  <a:pt x="5035" y="5259"/>
                </a:cubicBezTo>
                <a:cubicBezTo>
                  <a:pt x="5046" y="5286"/>
                  <a:pt x="5081" y="5325"/>
                  <a:pt x="5085" y="5333"/>
                </a:cubicBezTo>
                <a:cubicBezTo>
                  <a:pt x="5085" y="5341"/>
                  <a:pt x="5085" y="5350"/>
                  <a:pt x="5085" y="5358"/>
                </a:cubicBezTo>
              </a:path>
              <a:path w="5260" h="1266">
                <a:moveTo>
                  <a:pt x="5283" y="4911"/>
                </a:moveTo>
                <a:cubicBezTo>
                  <a:pt x="5323" y="4924"/>
                  <a:pt x="5308" y="4960"/>
                  <a:pt x="5308" y="5011"/>
                </a:cubicBezTo>
                <a:cubicBezTo>
                  <a:pt x="5308" y="5062"/>
                  <a:pt x="5333" y="5104"/>
                  <a:pt x="5333" y="5159"/>
                </a:cubicBezTo>
                <a:cubicBezTo>
                  <a:pt x="5333" y="5242"/>
                  <a:pt x="5333" y="5324"/>
                  <a:pt x="5333" y="5407"/>
                </a:cubicBezTo>
                <a:cubicBezTo>
                  <a:pt x="5366" y="5396"/>
                  <a:pt x="5373" y="5353"/>
                  <a:pt x="5358" y="5308"/>
                </a:cubicBezTo>
                <a:cubicBezTo>
                  <a:pt x="5337" y="5244"/>
                  <a:pt x="5333" y="5204"/>
                  <a:pt x="5333" y="5135"/>
                </a:cubicBezTo>
                <a:cubicBezTo>
                  <a:pt x="5333" y="5074"/>
                  <a:pt x="5367" y="5038"/>
                  <a:pt x="5383" y="4986"/>
                </a:cubicBezTo>
                <a:cubicBezTo>
                  <a:pt x="5395" y="4946"/>
                  <a:pt x="5390" y="4947"/>
                  <a:pt x="5432" y="4936"/>
                </a:cubicBezTo>
              </a:path>
              <a:path w="5260" h="1266">
                <a:moveTo>
                  <a:pt x="5655" y="4936"/>
                </a:moveTo>
                <a:cubicBezTo>
                  <a:pt x="5749" y="5059"/>
                  <a:pt x="5795" y="5179"/>
                  <a:pt x="5879" y="5308"/>
                </a:cubicBezTo>
                <a:cubicBezTo>
                  <a:pt x="5901" y="5342"/>
                  <a:pt x="5941" y="5379"/>
                  <a:pt x="5978" y="5383"/>
                </a:cubicBezTo>
                <a:cubicBezTo>
                  <a:pt x="5986" y="5383"/>
                  <a:pt x="5995" y="5383"/>
                  <a:pt x="6003" y="5383"/>
                </a:cubicBezTo>
              </a:path>
              <a:path w="5260" h="1266">
                <a:moveTo>
                  <a:pt x="6400" y="4738"/>
                </a:moveTo>
                <a:cubicBezTo>
                  <a:pt x="6410" y="4777"/>
                  <a:pt x="6437" y="4801"/>
                  <a:pt x="6449" y="4837"/>
                </a:cubicBezTo>
                <a:cubicBezTo>
                  <a:pt x="6468" y="4893"/>
                  <a:pt x="6494" y="4913"/>
                  <a:pt x="6524" y="4961"/>
                </a:cubicBezTo>
                <a:cubicBezTo>
                  <a:pt x="6560" y="5018"/>
                  <a:pt x="6582" y="5082"/>
                  <a:pt x="6623" y="5135"/>
                </a:cubicBezTo>
                <a:cubicBezTo>
                  <a:pt x="6659" y="5182"/>
                  <a:pt x="6686" y="5236"/>
                  <a:pt x="6722" y="5283"/>
                </a:cubicBezTo>
                <a:cubicBezTo>
                  <a:pt x="6744" y="5312"/>
                  <a:pt x="6790" y="5347"/>
                  <a:pt x="6821" y="5358"/>
                </a:cubicBezTo>
                <a:cubicBezTo>
                  <a:pt x="6829" y="5358"/>
                  <a:pt x="6838" y="5358"/>
                  <a:pt x="6846" y="5358"/>
                </a:cubicBezTo>
              </a:path>
              <a:path w="5260" h="1266">
                <a:moveTo>
                  <a:pt x="6772" y="4688"/>
                </a:moveTo>
                <a:cubicBezTo>
                  <a:pt x="6742" y="4696"/>
                  <a:pt x="6692" y="4709"/>
                  <a:pt x="6672" y="4738"/>
                </a:cubicBezTo>
                <a:cubicBezTo>
                  <a:pt x="6619" y="4815"/>
                  <a:pt x="6600" y="4905"/>
                  <a:pt x="6573" y="4986"/>
                </a:cubicBezTo>
                <a:cubicBezTo>
                  <a:pt x="6549" y="5058"/>
                  <a:pt x="6512" y="5121"/>
                  <a:pt x="6474" y="5184"/>
                </a:cubicBezTo>
                <a:cubicBezTo>
                  <a:pt x="6441" y="5239"/>
                  <a:pt x="6445" y="5262"/>
                  <a:pt x="6400" y="5308"/>
                </a:cubicBezTo>
              </a:path>
              <a:path w="5260" h="1266">
                <a:moveTo>
                  <a:pt x="7169" y="4663"/>
                </a:moveTo>
                <a:cubicBezTo>
                  <a:pt x="7214" y="4663"/>
                  <a:pt x="7228" y="4684"/>
                  <a:pt x="7268" y="4688"/>
                </a:cubicBezTo>
                <a:cubicBezTo>
                  <a:pt x="7349" y="4697"/>
                  <a:pt x="7434" y="4688"/>
                  <a:pt x="7516" y="4688"/>
                </a:cubicBezTo>
              </a:path>
              <a:path w="5260" h="1266">
                <a:moveTo>
                  <a:pt x="7243" y="4936"/>
                </a:moveTo>
                <a:cubicBezTo>
                  <a:pt x="7235" y="4944"/>
                  <a:pt x="7226" y="4953"/>
                  <a:pt x="7218" y="4961"/>
                </a:cubicBezTo>
                <a:cubicBezTo>
                  <a:pt x="7263" y="4961"/>
                  <a:pt x="7277" y="4939"/>
                  <a:pt x="7317" y="4936"/>
                </a:cubicBezTo>
                <a:cubicBezTo>
                  <a:pt x="7381" y="4931"/>
                  <a:pt x="7390" y="4928"/>
                  <a:pt x="7441" y="4911"/>
                </a:cubicBezTo>
                <a:cubicBezTo>
                  <a:pt x="7460" y="4905"/>
                  <a:pt x="7496" y="4911"/>
                  <a:pt x="7516" y="4911"/>
                </a:cubicBezTo>
              </a:path>
              <a:path w="5260" h="1266">
                <a:moveTo>
                  <a:pt x="7938" y="4341"/>
                </a:moveTo>
                <a:cubicBezTo>
                  <a:pt x="7977" y="4351"/>
                  <a:pt x="7992" y="4366"/>
                  <a:pt x="8037" y="4366"/>
                </a:cubicBezTo>
                <a:cubicBezTo>
                  <a:pt x="8088" y="4366"/>
                  <a:pt x="8258" y="4338"/>
                  <a:pt x="8285" y="4390"/>
                </a:cubicBezTo>
                <a:cubicBezTo>
                  <a:pt x="8290" y="4400"/>
                  <a:pt x="8312" y="4485"/>
                  <a:pt x="8310" y="4490"/>
                </a:cubicBezTo>
                <a:cubicBezTo>
                  <a:pt x="8294" y="4525"/>
                  <a:pt x="8281" y="4583"/>
                  <a:pt x="8260" y="4614"/>
                </a:cubicBezTo>
                <a:cubicBezTo>
                  <a:pt x="8237" y="4636"/>
                  <a:pt x="8229" y="4641"/>
                  <a:pt x="8235" y="4663"/>
                </a:cubicBezTo>
              </a:path>
              <a:path w="5260" h="1266">
                <a:moveTo>
                  <a:pt x="7863" y="4887"/>
                </a:moveTo>
                <a:cubicBezTo>
                  <a:pt x="7934" y="4887"/>
                  <a:pt x="8004" y="4871"/>
                  <a:pt x="8062" y="4862"/>
                </a:cubicBezTo>
                <a:cubicBezTo>
                  <a:pt x="8129" y="4852"/>
                  <a:pt x="8203" y="4848"/>
                  <a:pt x="8260" y="4837"/>
                </a:cubicBezTo>
                <a:cubicBezTo>
                  <a:pt x="8312" y="4827"/>
                  <a:pt x="8380" y="4837"/>
                  <a:pt x="8434" y="4837"/>
                </a:cubicBezTo>
              </a:path>
              <a:path w="5260" h="1266">
                <a:moveTo>
                  <a:pt x="7789" y="5135"/>
                </a:moveTo>
                <a:cubicBezTo>
                  <a:pt x="7798" y="5106"/>
                  <a:pt x="7822" y="5090"/>
                  <a:pt x="7863" y="5085"/>
                </a:cubicBezTo>
                <a:cubicBezTo>
                  <a:pt x="7905" y="5080"/>
                  <a:pt x="7958" y="5110"/>
                  <a:pt x="7987" y="5135"/>
                </a:cubicBezTo>
                <a:cubicBezTo>
                  <a:pt x="8013" y="5158"/>
                  <a:pt x="8055" y="5202"/>
                  <a:pt x="8062" y="5234"/>
                </a:cubicBezTo>
                <a:cubicBezTo>
                  <a:pt x="8068" y="5262"/>
                  <a:pt x="8058" y="5344"/>
                  <a:pt x="8037" y="5358"/>
                </a:cubicBezTo>
                <a:cubicBezTo>
                  <a:pt x="8003" y="5381"/>
                  <a:pt x="8001" y="5383"/>
                  <a:pt x="7938" y="5383"/>
                </a:cubicBezTo>
                <a:cubicBezTo>
                  <a:pt x="7889" y="5383"/>
                  <a:pt x="7876" y="5387"/>
                  <a:pt x="7838" y="5358"/>
                </a:cubicBezTo>
                <a:cubicBezTo>
                  <a:pt x="7870" y="5382"/>
                  <a:pt x="7909" y="5387"/>
                  <a:pt x="7938" y="5407"/>
                </a:cubicBezTo>
                <a:cubicBezTo>
                  <a:pt x="7980" y="5435"/>
                  <a:pt x="8015" y="5470"/>
                  <a:pt x="8062" y="5482"/>
                </a:cubicBezTo>
              </a:path>
              <a:path w="5260" h="1266">
                <a:moveTo>
                  <a:pt x="8235" y="4986"/>
                </a:moveTo>
                <a:cubicBezTo>
                  <a:pt x="8235" y="5072"/>
                  <a:pt x="8218" y="5116"/>
                  <a:pt x="8210" y="5184"/>
                </a:cubicBezTo>
                <a:cubicBezTo>
                  <a:pt x="8205" y="5230"/>
                  <a:pt x="8212" y="5254"/>
                  <a:pt x="8260" y="5259"/>
                </a:cubicBezTo>
                <a:cubicBezTo>
                  <a:pt x="8322" y="5266"/>
                  <a:pt x="8351" y="5239"/>
                  <a:pt x="8409" y="5234"/>
                </a:cubicBezTo>
                <a:cubicBezTo>
                  <a:pt x="8441" y="5231"/>
                  <a:pt x="8452" y="5217"/>
                  <a:pt x="8483" y="5209"/>
                </a:cubicBezTo>
              </a:path>
              <a:path w="5260" h="1266">
                <a:moveTo>
                  <a:pt x="8458" y="4986"/>
                </a:moveTo>
                <a:cubicBezTo>
                  <a:pt x="8492" y="5074"/>
                  <a:pt x="8473" y="5077"/>
                  <a:pt x="8458" y="5159"/>
                </a:cubicBezTo>
                <a:cubicBezTo>
                  <a:pt x="8445" y="5231"/>
                  <a:pt x="8479" y="5289"/>
                  <a:pt x="8483" y="5358"/>
                </a:cubicBezTo>
                <a:cubicBezTo>
                  <a:pt x="8486" y="5407"/>
                  <a:pt x="8483" y="5458"/>
                  <a:pt x="8483" y="5507"/>
                </a:cubicBezTo>
              </a:path>
              <a:path w="5260" h="1266">
                <a:moveTo>
                  <a:pt x="9079" y="5184"/>
                </a:moveTo>
                <a:cubicBezTo>
                  <a:pt x="9079" y="5274"/>
                  <a:pt x="9075" y="5348"/>
                  <a:pt x="9054" y="5432"/>
                </a:cubicBezTo>
                <a:cubicBezTo>
                  <a:pt x="9045" y="5469"/>
                  <a:pt x="9025" y="5529"/>
                  <a:pt x="9004" y="5556"/>
                </a:cubicBezTo>
                <a:cubicBezTo>
                  <a:pt x="8959" y="5613"/>
                  <a:pt x="8960" y="5606"/>
                  <a:pt x="8905" y="56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Ink 6"/>
          <p:cNvSpPr/>
          <p:nvPr/>
        </p:nvSpPr>
        <p:spPr>
          <a:xfrm>
            <a:off x="3500280" y="1589040"/>
            <a:ext cx="1438560" cy="500040"/>
          </a:xfrm>
          <a:custGeom>
            <a:avLst/>
            <a:gdLst/>
            <a:ahLst/>
            <a:rect l="l" t="t" r="r" b="b"/>
            <a:pathLst>
              <a:path w="3995" h="1390">
                <a:moveTo>
                  <a:pt x="10071" y="4663"/>
                </a:moveTo>
                <a:cubicBezTo>
                  <a:pt x="10020" y="4663"/>
                  <a:pt x="10030" y="4672"/>
                  <a:pt x="9996" y="4688"/>
                </a:cubicBezTo>
                <a:cubicBezTo>
                  <a:pt x="9939" y="4715"/>
                  <a:pt x="9871" y="4738"/>
                  <a:pt x="9823" y="4762"/>
                </a:cubicBezTo>
                <a:cubicBezTo>
                  <a:pt x="9795" y="4776"/>
                  <a:pt x="9754" y="4827"/>
                  <a:pt x="9773" y="4862"/>
                </a:cubicBezTo>
                <a:cubicBezTo>
                  <a:pt x="9783" y="4881"/>
                  <a:pt x="9852" y="4955"/>
                  <a:pt x="9872" y="4961"/>
                </a:cubicBezTo>
                <a:cubicBezTo>
                  <a:pt x="9947" y="4982"/>
                  <a:pt x="9981" y="5001"/>
                  <a:pt x="10046" y="5060"/>
                </a:cubicBezTo>
                <a:cubicBezTo>
                  <a:pt x="10077" y="5088"/>
                  <a:pt x="10092" y="5142"/>
                  <a:pt x="10096" y="5184"/>
                </a:cubicBezTo>
                <a:cubicBezTo>
                  <a:pt x="10099" y="5210"/>
                  <a:pt x="10087" y="5272"/>
                  <a:pt x="10071" y="5283"/>
                </a:cubicBezTo>
                <a:cubicBezTo>
                  <a:pt x="10025" y="5313"/>
                  <a:pt x="9932" y="5266"/>
                  <a:pt x="9897" y="5259"/>
                </a:cubicBezTo>
                <a:cubicBezTo>
                  <a:pt x="9837" y="5248"/>
                  <a:pt x="9786" y="5234"/>
                  <a:pt x="9723" y="5234"/>
                </a:cubicBezTo>
              </a:path>
              <a:path w="3995" h="1390">
                <a:moveTo>
                  <a:pt x="10418" y="4961"/>
                </a:moveTo>
                <a:cubicBezTo>
                  <a:pt x="10480" y="4976"/>
                  <a:pt x="10481" y="4979"/>
                  <a:pt x="10542" y="4961"/>
                </a:cubicBezTo>
                <a:cubicBezTo>
                  <a:pt x="10568" y="4953"/>
                  <a:pt x="10626" y="4941"/>
                  <a:pt x="10641" y="4911"/>
                </a:cubicBezTo>
                <a:cubicBezTo>
                  <a:pt x="10657" y="4879"/>
                  <a:pt x="10666" y="4852"/>
                  <a:pt x="10666" y="4812"/>
                </a:cubicBezTo>
                <a:cubicBezTo>
                  <a:pt x="10666" y="4766"/>
                  <a:pt x="10668" y="4744"/>
                  <a:pt x="10616" y="4738"/>
                </a:cubicBezTo>
                <a:cubicBezTo>
                  <a:pt x="10553" y="4731"/>
                  <a:pt x="10535" y="4784"/>
                  <a:pt x="10492" y="4812"/>
                </a:cubicBezTo>
                <a:cubicBezTo>
                  <a:pt x="10424" y="4857"/>
                  <a:pt x="10405" y="4911"/>
                  <a:pt x="10368" y="4986"/>
                </a:cubicBezTo>
                <a:cubicBezTo>
                  <a:pt x="10329" y="5065"/>
                  <a:pt x="10304" y="5088"/>
                  <a:pt x="10368" y="5159"/>
                </a:cubicBezTo>
                <a:cubicBezTo>
                  <a:pt x="10419" y="5216"/>
                  <a:pt x="10472" y="5209"/>
                  <a:pt x="10542" y="5209"/>
                </a:cubicBezTo>
                <a:cubicBezTo>
                  <a:pt x="10616" y="5209"/>
                  <a:pt x="10625" y="5209"/>
                  <a:pt x="10666" y="5209"/>
                </a:cubicBezTo>
              </a:path>
              <a:path w="3995" h="1390">
                <a:moveTo>
                  <a:pt x="11063" y="4713"/>
                </a:moveTo>
                <a:cubicBezTo>
                  <a:pt x="11008" y="4767"/>
                  <a:pt x="10960" y="4806"/>
                  <a:pt x="10914" y="4862"/>
                </a:cubicBezTo>
                <a:cubicBezTo>
                  <a:pt x="10864" y="4922"/>
                  <a:pt x="10864" y="4958"/>
                  <a:pt x="10864" y="5035"/>
                </a:cubicBezTo>
                <a:cubicBezTo>
                  <a:pt x="10864" y="5084"/>
                  <a:pt x="10898" y="5132"/>
                  <a:pt x="10939" y="5159"/>
                </a:cubicBezTo>
                <a:cubicBezTo>
                  <a:pt x="11006" y="5202"/>
                  <a:pt x="11032" y="5209"/>
                  <a:pt x="11112" y="5209"/>
                </a:cubicBezTo>
                <a:cubicBezTo>
                  <a:pt x="11174" y="5209"/>
                  <a:pt x="11237" y="5171"/>
                  <a:pt x="11286" y="5135"/>
                </a:cubicBezTo>
                <a:cubicBezTo>
                  <a:pt x="11294" y="5127"/>
                  <a:pt x="11303" y="5118"/>
                  <a:pt x="11311" y="5110"/>
                </a:cubicBezTo>
              </a:path>
              <a:path w="3995" h="1390">
                <a:moveTo>
                  <a:pt x="11509" y="4787"/>
                </a:moveTo>
                <a:cubicBezTo>
                  <a:pt x="11521" y="4837"/>
                  <a:pt x="11566" y="4857"/>
                  <a:pt x="11584" y="4911"/>
                </a:cubicBezTo>
                <a:cubicBezTo>
                  <a:pt x="11603" y="4967"/>
                  <a:pt x="11630" y="5006"/>
                  <a:pt x="11658" y="5060"/>
                </a:cubicBezTo>
                <a:cubicBezTo>
                  <a:pt x="11691" y="5121"/>
                  <a:pt x="11733" y="5160"/>
                  <a:pt x="11782" y="5209"/>
                </a:cubicBezTo>
                <a:cubicBezTo>
                  <a:pt x="11807" y="5234"/>
                  <a:pt x="11815" y="5242"/>
                  <a:pt x="11832" y="5259"/>
                </a:cubicBezTo>
              </a:path>
              <a:path w="3995" h="1390">
                <a:moveTo>
                  <a:pt x="11832" y="4787"/>
                </a:moveTo>
                <a:cubicBezTo>
                  <a:pt x="11773" y="4836"/>
                  <a:pt x="11783" y="4870"/>
                  <a:pt x="11733" y="4936"/>
                </a:cubicBezTo>
                <a:cubicBezTo>
                  <a:pt x="11692" y="4990"/>
                  <a:pt x="11671" y="5054"/>
                  <a:pt x="11633" y="5110"/>
                </a:cubicBezTo>
                <a:cubicBezTo>
                  <a:pt x="11608" y="5148"/>
                  <a:pt x="11584" y="5175"/>
                  <a:pt x="11559" y="5209"/>
                </a:cubicBezTo>
              </a:path>
              <a:path w="3995" h="1390">
                <a:moveTo>
                  <a:pt x="12030" y="4911"/>
                </a:moveTo>
                <a:cubicBezTo>
                  <a:pt x="12077" y="4911"/>
                  <a:pt x="12093" y="4928"/>
                  <a:pt x="12129" y="4936"/>
                </a:cubicBezTo>
                <a:cubicBezTo>
                  <a:pt x="12161" y="4943"/>
                  <a:pt x="12222" y="4936"/>
                  <a:pt x="12254" y="4936"/>
                </a:cubicBezTo>
              </a:path>
              <a:path w="3995" h="1390">
                <a:moveTo>
                  <a:pt x="12080" y="5110"/>
                </a:moveTo>
                <a:cubicBezTo>
                  <a:pt x="12163" y="5110"/>
                  <a:pt x="12245" y="5110"/>
                  <a:pt x="12328" y="5110"/>
                </a:cubicBezTo>
              </a:path>
              <a:path w="3995" h="1390">
                <a:moveTo>
                  <a:pt x="12551" y="4738"/>
                </a:moveTo>
                <a:cubicBezTo>
                  <a:pt x="12584" y="4738"/>
                  <a:pt x="12617" y="4738"/>
                  <a:pt x="12650" y="4738"/>
                </a:cubicBezTo>
              </a:path>
              <a:path w="3995" h="1390">
                <a:moveTo>
                  <a:pt x="12849" y="4539"/>
                </a:moveTo>
                <a:cubicBezTo>
                  <a:pt x="12849" y="4531"/>
                  <a:pt x="12849" y="4522"/>
                  <a:pt x="12849" y="4514"/>
                </a:cubicBezTo>
              </a:path>
              <a:path w="3995" h="1390">
                <a:moveTo>
                  <a:pt x="12973" y="4564"/>
                </a:moveTo>
                <a:cubicBezTo>
                  <a:pt x="13008" y="4625"/>
                  <a:pt x="13022" y="4643"/>
                  <a:pt x="13022" y="4713"/>
                </a:cubicBezTo>
                <a:cubicBezTo>
                  <a:pt x="13022" y="4746"/>
                  <a:pt x="13022" y="4762"/>
                  <a:pt x="13022" y="4787"/>
                </a:cubicBezTo>
              </a:path>
              <a:path w="3995" h="1390">
                <a:moveTo>
                  <a:pt x="12923" y="4837"/>
                </a:moveTo>
                <a:cubicBezTo>
                  <a:pt x="12857" y="4827"/>
                  <a:pt x="12849" y="4829"/>
                  <a:pt x="12849" y="4762"/>
                </a:cubicBezTo>
                <a:cubicBezTo>
                  <a:pt x="12849" y="4718"/>
                  <a:pt x="12861" y="4693"/>
                  <a:pt x="12898" y="4688"/>
                </a:cubicBezTo>
                <a:cubicBezTo>
                  <a:pt x="12941" y="4683"/>
                  <a:pt x="12967" y="4685"/>
                  <a:pt x="12998" y="4713"/>
                </a:cubicBezTo>
                <a:cubicBezTo>
                  <a:pt x="13011" y="4725"/>
                  <a:pt x="13069" y="4783"/>
                  <a:pt x="13072" y="4787"/>
                </a:cubicBezTo>
                <a:cubicBezTo>
                  <a:pt x="13072" y="4815"/>
                  <a:pt x="13074" y="4826"/>
                  <a:pt x="13097" y="4837"/>
                </a:cubicBezTo>
              </a:path>
              <a:path w="3995" h="1390">
                <a:moveTo>
                  <a:pt x="13444" y="4465"/>
                </a:moveTo>
                <a:cubicBezTo>
                  <a:pt x="13436" y="4457"/>
                  <a:pt x="13427" y="4448"/>
                  <a:pt x="13419" y="4440"/>
                </a:cubicBezTo>
                <a:cubicBezTo>
                  <a:pt x="13379" y="4471"/>
                  <a:pt x="13357" y="4444"/>
                  <a:pt x="13320" y="4465"/>
                </a:cubicBezTo>
                <a:cubicBezTo>
                  <a:pt x="13302" y="4475"/>
                  <a:pt x="13248" y="4509"/>
                  <a:pt x="13246" y="4514"/>
                </a:cubicBezTo>
                <a:cubicBezTo>
                  <a:pt x="13229" y="4548"/>
                  <a:pt x="13265" y="4601"/>
                  <a:pt x="13295" y="4614"/>
                </a:cubicBezTo>
                <a:cubicBezTo>
                  <a:pt x="13341" y="4635"/>
                  <a:pt x="13366" y="4664"/>
                  <a:pt x="13395" y="4713"/>
                </a:cubicBezTo>
                <a:cubicBezTo>
                  <a:pt x="13429" y="4769"/>
                  <a:pt x="13444" y="4751"/>
                  <a:pt x="13444" y="4812"/>
                </a:cubicBezTo>
                <a:cubicBezTo>
                  <a:pt x="13444" y="4866"/>
                  <a:pt x="13400" y="4820"/>
                  <a:pt x="13370" y="4812"/>
                </a:cubicBezTo>
              </a:path>
              <a:path w="3995" h="1390">
                <a:moveTo>
                  <a:pt x="13271" y="4465"/>
                </a:moveTo>
                <a:cubicBezTo>
                  <a:pt x="13326" y="4450"/>
                  <a:pt x="13397" y="4425"/>
                  <a:pt x="13444" y="4415"/>
                </a:cubicBezTo>
                <a:cubicBezTo>
                  <a:pt x="13488" y="4406"/>
                  <a:pt x="13548" y="4415"/>
                  <a:pt x="13593" y="4415"/>
                </a:cubicBezTo>
              </a:path>
              <a:path w="3995" h="1390">
                <a:moveTo>
                  <a:pt x="12526" y="5060"/>
                </a:moveTo>
                <a:cubicBezTo>
                  <a:pt x="12572" y="5045"/>
                  <a:pt x="12550" y="5035"/>
                  <a:pt x="12626" y="5035"/>
                </a:cubicBezTo>
                <a:cubicBezTo>
                  <a:pt x="12787" y="5035"/>
                  <a:pt x="12941" y="5028"/>
                  <a:pt x="13097" y="5011"/>
                </a:cubicBezTo>
                <a:cubicBezTo>
                  <a:pt x="13298" y="4989"/>
                  <a:pt x="13515" y="5011"/>
                  <a:pt x="13717" y="5011"/>
                </a:cubicBezTo>
              </a:path>
              <a:path w="3995" h="1390">
                <a:moveTo>
                  <a:pt x="12551" y="5383"/>
                </a:moveTo>
                <a:cubicBezTo>
                  <a:pt x="12612" y="5322"/>
                  <a:pt x="12616" y="5308"/>
                  <a:pt x="12700" y="5308"/>
                </a:cubicBezTo>
                <a:cubicBezTo>
                  <a:pt x="12767" y="5308"/>
                  <a:pt x="12797" y="5316"/>
                  <a:pt x="12849" y="5333"/>
                </a:cubicBezTo>
                <a:cubicBezTo>
                  <a:pt x="12885" y="5345"/>
                  <a:pt x="12924" y="5370"/>
                  <a:pt x="12948" y="5407"/>
                </a:cubicBezTo>
                <a:cubicBezTo>
                  <a:pt x="12969" y="5439"/>
                  <a:pt x="12992" y="5518"/>
                  <a:pt x="12973" y="5556"/>
                </a:cubicBezTo>
                <a:cubicBezTo>
                  <a:pt x="12956" y="5589"/>
                  <a:pt x="12933" y="5632"/>
                  <a:pt x="12898" y="5655"/>
                </a:cubicBezTo>
                <a:cubicBezTo>
                  <a:pt x="12837" y="5694"/>
                  <a:pt x="12821" y="5705"/>
                  <a:pt x="12750" y="5705"/>
                </a:cubicBezTo>
                <a:cubicBezTo>
                  <a:pt x="12724" y="5705"/>
                  <a:pt x="12637" y="5672"/>
                  <a:pt x="12626" y="5655"/>
                </a:cubicBezTo>
                <a:cubicBezTo>
                  <a:pt x="12626" y="5631"/>
                  <a:pt x="12626" y="5622"/>
                  <a:pt x="12626" y="5606"/>
                </a:cubicBezTo>
                <a:cubicBezTo>
                  <a:pt x="12684" y="5606"/>
                  <a:pt x="12741" y="5606"/>
                  <a:pt x="12799" y="5606"/>
                </a:cubicBezTo>
              </a:path>
              <a:path w="3995" h="1390">
                <a:moveTo>
                  <a:pt x="12874" y="5705"/>
                </a:moveTo>
                <a:cubicBezTo>
                  <a:pt x="12917" y="5755"/>
                  <a:pt x="12915" y="5761"/>
                  <a:pt x="12948" y="5804"/>
                </a:cubicBezTo>
              </a:path>
              <a:path w="3995" h="1390">
                <a:moveTo>
                  <a:pt x="13146" y="5209"/>
                </a:moveTo>
                <a:cubicBezTo>
                  <a:pt x="13131" y="5283"/>
                  <a:pt x="13122" y="5335"/>
                  <a:pt x="13122" y="5407"/>
                </a:cubicBezTo>
                <a:cubicBezTo>
                  <a:pt x="13122" y="5415"/>
                  <a:pt x="13122" y="5424"/>
                  <a:pt x="13122" y="5432"/>
                </a:cubicBezTo>
                <a:cubicBezTo>
                  <a:pt x="13190" y="5432"/>
                  <a:pt x="13238" y="5424"/>
                  <a:pt x="13295" y="5407"/>
                </a:cubicBezTo>
                <a:cubicBezTo>
                  <a:pt x="13320" y="5407"/>
                  <a:pt x="13328" y="5407"/>
                  <a:pt x="13345" y="5407"/>
                </a:cubicBezTo>
              </a:path>
              <a:path w="3995" h="1390">
                <a:moveTo>
                  <a:pt x="13320" y="5209"/>
                </a:moveTo>
                <a:cubicBezTo>
                  <a:pt x="13320" y="5276"/>
                  <a:pt x="13306" y="5322"/>
                  <a:pt x="13295" y="5383"/>
                </a:cubicBezTo>
                <a:cubicBezTo>
                  <a:pt x="13283" y="5453"/>
                  <a:pt x="13264" y="5521"/>
                  <a:pt x="13246" y="5581"/>
                </a:cubicBezTo>
                <a:cubicBezTo>
                  <a:pt x="13235" y="5618"/>
                  <a:pt x="13251" y="5630"/>
                  <a:pt x="13271" y="56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Ink 7"/>
          <p:cNvSpPr/>
          <p:nvPr/>
        </p:nvSpPr>
        <p:spPr>
          <a:xfrm>
            <a:off x="768240" y="2340000"/>
            <a:ext cx="1017720" cy="911160"/>
          </a:xfrm>
          <a:custGeom>
            <a:avLst/>
            <a:gdLst/>
            <a:ahLst/>
            <a:rect l="l" t="t" r="r" b="b"/>
            <a:pathLst>
              <a:path w="2829" h="2531">
                <a:moveTo>
                  <a:pt x="2853" y="6499"/>
                </a:moveTo>
                <a:cubicBezTo>
                  <a:pt x="2832" y="6554"/>
                  <a:pt x="2831" y="6568"/>
                  <a:pt x="2828" y="6623"/>
                </a:cubicBezTo>
                <a:cubicBezTo>
                  <a:pt x="2822" y="6728"/>
                  <a:pt x="2820" y="6822"/>
                  <a:pt x="2803" y="6921"/>
                </a:cubicBezTo>
                <a:cubicBezTo>
                  <a:pt x="2785" y="7026"/>
                  <a:pt x="2794" y="7141"/>
                  <a:pt x="2778" y="7243"/>
                </a:cubicBezTo>
                <a:cubicBezTo>
                  <a:pt x="2756" y="7381"/>
                  <a:pt x="2773" y="7527"/>
                  <a:pt x="2753" y="7665"/>
                </a:cubicBezTo>
                <a:cubicBezTo>
                  <a:pt x="2741" y="7745"/>
                  <a:pt x="2733" y="7833"/>
                  <a:pt x="2729" y="7913"/>
                </a:cubicBezTo>
                <a:cubicBezTo>
                  <a:pt x="2725" y="7982"/>
                  <a:pt x="2707" y="8042"/>
                  <a:pt x="2704" y="8111"/>
                </a:cubicBezTo>
                <a:cubicBezTo>
                  <a:pt x="2700" y="8194"/>
                  <a:pt x="2701" y="8150"/>
                  <a:pt x="2679" y="8186"/>
                </a:cubicBezTo>
              </a:path>
              <a:path w="2829" h="2531">
                <a:moveTo>
                  <a:pt x="2952" y="6499"/>
                </a:moveTo>
                <a:cubicBezTo>
                  <a:pt x="2972" y="6531"/>
                  <a:pt x="2962" y="6530"/>
                  <a:pt x="2977" y="6573"/>
                </a:cubicBezTo>
                <a:cubicBezTo>
                  <a:pt x="2987" y="6603"/>
                  <a:pt x="3020" y="6644"/>
                  <a:pt x="3026" y="6672"/>
                </a:cubicBezTo>
                <a:cubicBezTo>
                  <a:pt x="3041" y="6738"/>
                  <a:pt x="3068" y="6760"/>
                  <a:pt x="3101" y="6821"/>
                </a:cubicBezTo>
                <a:cubicBezTo>
                  <a:pt x="3140" y="6894"/>
                  <a:pt x="3180" y="6953"/>
                  <a:pt x="3225" y="7020"/>
                </a:cubicBezTo>
                <a:cubicBezTo>
                  <a:pt x="3268" y="7085"/>
                  <a:pt x="3319" y="7172"/>
                  <a:pt x="3349" y="7243"/>
                </a:cubicBezTo>
                <a:cubicBezTo>
                  <a:pt x="3385" y="7327"/>
                  <a:pt x="3424" y="7439"/>
                  <a:pt x="3473" y="7516"/>
                </a:cubicBezTo>
                <a:cubicBezTo>
                  <a:pt x="3522" y="7593"/>
                  <a:pt x="3588" y="7692"/>
                  <a:pt x="3646" y="7764"/>
                </a:cubicBezTo>
                <a:cubicBezTo>
                  <a:pt x="3717" y="7851"/>
                  <a:pt x="3783" y="7945"/>
                  <a:pt x="3845" y="8037"/>
                </a:cubicBezTo>
                <a:cubicBezTo>
                  <a:pt x="3879" y="8087"/>
                  <a:pt x="3911" y="8137"/>
                  <a:pt x="3944" y="8186"/>
                </a:cubicBezTo>
                <a:cubicBezTo>
                  <a:pt x="3973" y="8229"/>
                  <a:pt x="4004" y="8289"/>
                  <a:pt x="4018" y="8334"/>
                </a:cubicBezTo>
                <a:cubicBezTo>
                  <a:pt x="4018" y="8342"/>
                  <a:pt x="4018" y="8351"/>
                  <a:pt x="4018" y="8359"/>
                </a:cubicBezTo>
                <a:cubicBezTo>
                  <a:pt x="3874" y="8359"/>
                  <a:pt x="3734" y="8357"/>
                  <a:pt x="3597" y="8334"/>
                </a:cubicBezTo>
                <a:cubicBezTo>
                  <a:pt x="3529" y="8323"/>
                  <a:pt x="3438" y="8317"/>
                  <a:pt x="3373" y="8310"/>
                </a:cubicBezTo>
                <a:cubicBezTo>
                  <a:pt x="3284" y="8301"/>
                  <a:pt x="3209" y="8299"/>
                  <a:pt x="3125" y="8285"/>
                </a:cubicBezTo>
                <a:cubicBezTo>
                  <a:pt x="3046" y="8272"/>
                  <a:pt x="2953" y="8270"/>
                  <a:pt x="2877" y="8260"/>
                </a:cubicBezTo>
                <a:cubicBezTo>
                  <a:pt x="2798" y="8250"/>
                  <a:pt x="2710" y="8260"/>
                  <a:pt x="2629" y="8260"/>
                </a:cubicBezTo>
              </a:path>
              <a:path w="2829" h="2531">
                <a:moveTo>
                  <a:pt x="2729" y="7913"/>
                </a:moveTo>
                <a:cubicBezTo>
                  <a:pt x="2772" y="7880"/>
                  <a:pt x="2795" y="7888"/>
                  <a:pt x="2853" y="7888"/>
                </a:cubicBezTo>
              </a:path>
              <a:path w="2829" h="2531">
                <a:moveTo>
                  <a:pt x="3001" y="7913"/>
                </a:moveTo>
                <a:cubicBezTo>
                  <a:pt x="3036" y="7940"/>
                  <a:pt x="3071" y="7938"/>
                  <a:pt x="3076" y="7987"/>
                </a:cubicBezTo>
                <a:cubicBezTo>
                  <a:pt x="3076" y="8015"/>
                  <a:pt x="3078" y="8026"/>
                  <a:pt x="3101" y="8037"/>
                </a:cubicBezTo>
                <a:cubicBezTo>
                  <a:pt x="3068" y="8081"/>
                  <a:pt x="3086" y="8117"/>
                  <a:pt x="3051" y="8161"/>
                </a:cubicBezTo>
                <a:cubicBezTo>
                  <a:pt x="3034" y="8182"/>
                  <a:pt x="2984" y="8224"/>
                  <a:pt x="2977" y="8235"/>
                </a:cubicBezTo>
                <a:cubicBezTo>
                  <a:pt x="2977" y="8243"/>
                  <a:pt x="2977" y="8252"/>
                  <a:pt x="2977" y="8260"/>
                </a:cubicBezTo>
              </a:path>
              <a:path w="2829" h="2531">
                <a:moveTo>
                  <a:pt x="3845" y="7962"/>
                </a:moveTo>
                <a:cubicBezTo>
                  <a:pt x="3792" y="7975"/>
                  <a:pt x="3794" y="7999"/>
                  <a:pt x="3770" y="8037"/>
                </a:cubicBezTo>
                <a:cubicBezTo>
                  <a:pt x="3749" y="8070"/>
                  <a:pt x="3725" y="8096"/>
                  <a:pt x="3721" y="8136"/>
                </a:cubicBezTo>
                <a:cubicBezTo>
                  <a:pt x="3716" y="8185"/>
                  <a:pt x="3701" y="8218"/>
                  <a:pt x="3696" y="8260"/>
                </a:cubicBezTo>
                <a:cubicBezTo>
                  <a:pt x="3693" y="8291"/>
                  <a:pt x="3714" y="8306"/>
                  <a:pt x="3721" y="8334"/>
                </a:cubicBezTo>
              </a:path>
              <a:path w="2829" h="2531">
                <a:moveTo>
                  <a:pt x="2853" y="7888"/>
                </a:moveTo>
                <a:cubicBezTo>
                  <a:pt x="2877" y="7888"/>
                  <a:pt x="2886" y="7888"/>
                  <a:pt x="2902" y="7888"/>
                </a:cubicBezTo>
              </a:path>
              <a:path w="2829" h="2531">
                <a:moveTo>
                  <a:pt x="2952" y="7888"/>
                </a:moveTo>
                <a:cubicBezTo>
                  <a:pt x="2987" y="7915"/>
                  <a:pt x="2982" y="7913"/>
                  <a:pt x="3026" y="7913"/>
                </a:cubicBezTo>
                <a:cubicBezTo>
                  <a:pt x="3039" y="7951"/>
                  <a:pt x="3051" y="7933"/>
                  <a:pt x="3051" y="7987"/>
                </a:cubicBezTo>
                <a:cubicBezTo>
                  <a:pt x="3051" y="8053"/>
                  <a:pt x="3051" y="8120"/>
                  <a:pt x="3051" y="8186"/>
                </a:cubicBezTo>
                <a:cubicBezTo>
                  <a:pt x="3026" y="8186"/>
                  <a:pt x="3018" y="8186"/>
                  <a:pt x="3026" y="8210"/>
                </a:cubicBezTo>
              </a:path>
              <a:path w="2829" h="2531">
                <a:moveTo>
                  <a:pt x="2133" y="7317"/>
                </a:moveTo>
                <a:cubicBezTo>
                  <a:pt x="2216" y="7317"/>
                  <a:pt x="2298" y="7317"/>
                  <a:pt x="2381" y="7317"/>
                </a:cubicBezTo>
                <a:cubicBezTo>
                  <a:pt x="2381" y="7360"/>
                  <a:pt x="2391" y="7355"/>
                  <a:pt x="2356" y="7367"/>
                </a:cubicBezTo>
                <a:cubicBezTo>
                  <a:pt x="2356" y="7423"/>
                  <a:pt x="2347" y="7445"/>
                  <a:pt x="2332" y="7491"/>
                </a:cubicBezTo>
                <a:cubicBezTo>
                  <a:pt x="2316" y="7541"/>
                  <a:pt x="2316" y="7644"/>
                  <a:pt x="2307" y="7689"/>
                </a:cubicBezTo>
                <a:cubicBezTo>
                  <a:pt x="2296" y="7744"/>
                  <a:pt x="2297" y="7790"/>
                  <a:pt x="2282" y="7838"/>
                </a:cubicBezTo>
                <a:cubicBezTo>
                  <a:pt x="2274" y="7865"/>
                  <a:pt x="2282" y="7909"/>
                  <a:pt x="2282" y="7938"/>
                </a:cubicBezTo>
              </a:path>
              <a:path w="2829" h="2531">
                <a:moveTo>
                  <a:pt x="3497" y="7193"/>
                </a:moveTo>
                <a:cubicBezTo>
                  <a:pt x="3560" y="7193"/>
                  <a:pt x="3621" y="7205"/>
                  <a:pt x="3671" y="7169"/>
                </a:cubicBezTo>
              </a:path>
              <a:path w="2829" h="2531">
                <a:moveTo>
                  <a:pt x="3919" y="6995"/>
                </a:moveTo>
                <a:cubicBezTo>
                  <a:pt x="3941" y="6978"/>
                  <a:pt x="3985" y="6951"/>
                  <a:pt x="4018" y="6970"/>
                </a:cubicBezTo>
                <a:cubicBezTo>
                  <a:pt x="4063" y="6995"/>
                  <a:pt x="4068" y="7009"/>
                  <a:pt x="4093" y="7045"/>
                </a:cubicBezTo>
                <a:cubicBezTo>
                  <a:pt x="4115" y="7077"/>
                  <a:pt x="4139" y="7104"/>
                  <a:pt x="4142" y="7144"/>
                </a:cubicBezTo>
                <a:cubicBezTo>
                  <a:pt x="4146" y="7208"/>
                  <a:pt x="4134" y="7218"/>
                  <a:pt x="4118" y="7268"/>
                </a:cubicBezTo>
                <a:cubicBezTo>
                  <a:pt x="4108" y="7299"/>
                  <a:pt x="4080" y="7350"/>
                  <a:pt x="4043" y="7367"/>
                </a:cubicBezTo>
                <a:cubicBezTo>
                  <a:pt x="4007" y="7383"/>
                  <a:pt x="3958" y="7348"/>
                  <a:pt x="3944" y="7317"/>
                </a:cubicBezTo>
                <a:cubicBezTo>
                  <a:pt x="3925" y="7275"/>
                  <a:pt x="3957" y="7246"/>
                  <a:pt x="3994" y="7243"/>
                </a:cubicBezTo>
                <a:cubicBezTo>
                  <a:pt x="4027" y="7241"/>
                  <a:pt x="4101" y="7259"/>
                  <a:pt x="4118" y="7293"/>
                </a:cubicBezTo>
                <a:cubicBezTo>
                  <a:pt x="4132" y="7321"/>
                  <a:pt x="4160" y="7401"/>
                  <a:pt x="4192" y="7417"/>
                </a:cubicBezTo>
                <a:cubicBezTo>
                  <a:pt x="4221" y="7432"/>
                  <a:pt x="4217" y="7448"/>
                  <a:pt x="4217" y="7417"/>
                </a:cubicBezTo>
              </a:path>
              <a:path w="2829" h="2531">
                <a:moveTo>
                  <a:pt x="4589" y="6896"/>
                </a:moveTo>
                <a:cubicBezTo>
                  <a:pt x="4533" y="6905"/>
                  <a:pt x="4534" y="6906"/>
                  <a:pt x="4490" y="6945"/>
                </a:cubicBezTo>
                <a:cubicBezTo>
                  <a:pt x="4465" y="6967"/>
                  <a:pt x="4442" y="7013"/>
                  <a:pt x="4440" y="7045"/>
                </a:cubicBezTo>
                <a:cubicBezTo>
                  <a:pt x="4434" y="7134"/>
                  <a:pt x="4481" y="7105"/>
                  <a:pt x="4539" y="7144"/>
                </a:cubicBezTo>
                <a:cubicBezTo>
                  <a:pt x="4583" y="7174"/>
                  <a:pt x="4615" y="7246"/>
                  <a:pt x="4663" y="7268"/>
                </a:cubicBezTo>
                <a:cubicBezTo>
                  <a:pt x="4677" y="7274"/>
                  <a:pt x="4729" y="7307"/>
                  <a:pt x="4713" y="7342"/>
                </a:cubicBezTo>
                <a:cubicBezTo>
                  <a:pt x="4693" y="7387"/>
                  <a:pt x="4685" y="7392"/>
                  <a:pt x="4638" y="7392"/>
                </a:cubicBezTo>
                <a:cubicBezTo>
                  <a:pt x="4630" y="7392"/>
                  <a:pt x="4622" y="7392"/>
                  <a:pt x="4614" y="7392"/>
                </a:cubicBezTo>
              </a:path>
              <a:path w="2829" h="2531">
                <a:moveTo>
                  <a:pt x="4514" y="6896"/>
                </a:moveTo>
                <a:cubicBezTo>
                  <a:pt x="4558" y="6863"/>
                  <a:pt x="4592" y="6869"/>
                  <a:pt x="4638" y="6846"/>
                </a:cubicBezTo>
                <a:cubicBezTo>
                  <a:pt x="4697" y="6816"/>
                  <a:pt x="4744" y="6787"/>
                  <a:pt x="4812" y="6772"/>
                </a:cubicBezTo>
                <a:cubicBezTo>
                  <a:pt x="4858" y="6762"/>
                  <a:pt x="4914" y="6772"/>
                  <a:pt x="4961" y="6772"/>
                </a:cubicBezTo>
              </a:path>
              <a:path w="2829" h="2531">
                <a:moveTo>
                  <a:pt x="2952" y="8607"/>
                </a:moveTo>
                <a:cubicBezTo>
                  <a:pt x="2965" y="8569"/>
                  <a:pt x="2981" y="8582"/>
                  <a:pt x="3026" y="8582"/>
                </a:cubicBezTo>
                <a:cubicBezTo>
                  <a:pt x="3062" y="8582"/>
                  <a:pt x="3098" y="8589"/>
                  <a:pt x="3125" y="8607"/>
                </a:cubicBezTo>
                <a:cubicBezTo>
                  <a:pt x="3151" y="8624"/>
                  <a:pt x="3172" y="8704"/>
                  <a:pt x="3175" y="8731"/>
                </a:cubicBezTo>
                <a:cubicBezTo>
                  <a:pt x="3180" y="8775"/>
                  <a:pt x="3171" y="8823"/>
                  <a:pt x="3150" y="8855"/>
                </a:cubicBezTo>
                <a:cubicBezTo>
                  <a:pt x="3127" y="8890"/>
                  <a:pt x="3102" y="8925"/>
                  <a:pt x="3076" y="8954"/>
                </a:cubicBezTo>
                <a:cubicBezTo>
                  <a:pt x="3045" y="8988"/>
                  <a:pt x="3020" y="8979"/>
                  <a:pt x="2977" y="8979"/>
                </a:cubicBezTo>
                <a:cubicBezTo>
                  <a:pt x="2949" y="8979"/>
                  <a:pt x="2938" y="8977"/>
                  <a:pt x="2927" y="8954"/>
                </a:cubicBezTo>
                <a:cubicBezTo>
                  <a:pt x="2965" y="8917"/>
                  <a:pt x="2974" y="8905"/>
                  <a:pt x="3026" y="8905"/>
                </a:cubicBezTo>
                <a:cubicBezTo>
                  <a:pt x="3076" y="8905"/>
                  <a:pt x="3085" y="8916"/>
                  <a:pt x="3125" y="8930"/>
                </a:cubicBezTo>
                <a:cubicBezTo>
                  <a:pt x="3162" y="8943"/>
                  <a:pt x="3149" y="8987"/>
                  <a:pt x="3175" y="9004"/>
                </a:cubicBezTo>
                <a:cubicBezTo>
                  <a:pt x="3200" y="9004"/>
                  <a:pt x="3208" y="9004"/>
                  <a:pt x="3200" y="9029"/>
                </a:cubicBezTo>
              </a:path>
              <a:path w="2829" h="2531">
                <a:moveTo>
                  <a:pt x="3448" y="8558"/>
                </a:moveTo>
                <a:cubicBezTo>
                  <a:pt x="3427" y="8605"/>
                  <a:pt x="3403" y="8655"/>
                  <a:pt x="3398" y="8706"/>
                </a:cubicBezTo>
                <a:cubicBezTo>
                  <a:pt x="3393" y="8751"/>
                  <a:pt x="3413" y="8768"/>
                  <a:pt x="3423" y="8806"/>
                </a:cubicBezTo>
                <a:cubicBezTo>
                  <a:pt x="3486" y="8806"/>
                  <a:pt x="3520" y="8798"/>
                  <a:pt x="3572" y="8781"/>
                </a:cubicBezTo>
                <a:cubicBezTo>
                  <a:pt x="3600" y="8781"/>
                  <a:pt x="3611" y="8779"/>
                  <a:pt x="3621" y="8756"/>
                </a:cubicBezTo>
              </a:path>
              <a:path w="2829" h="2531">
                <a:moveTo>
                  <a:pt x="3621" y="8508"/>
                </a:moveTo>
                <a:cubicBezTo>
                  <a:pt x="3621" y="8628"/>
                  <a:pt x="3618" y="8748"/>
                  <a:pt x="3597" y="8855"/>
                </a:cubicBezTo>
                <a:cubicBezTo>
                  <a:pt x="3586" y="8911"/>
                  <a:pt x="3588" y="8932"/>
                  <a:pt x="3572" y="8979"/>
                </a:cubicBezTo>
                <a:cubicBezTo>
                  <a:pt x="3572" y="8987"/>
                  <a:pt x="3572" y="8996"/>
                  <a:pt x="3572" y="90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Ink 8"/>
          <p:cNvSpPr/>
          <p:nvPr/>
        </p:nvSpPr>
        <p:spPr>
          <a:xfrm>
            <a:off x="2116080" y="2340000"/>
            <a:ext cx="1278000" cy="534960"/>
          </a:xfrm>
          <a:custGeom>
            <a:avLst/>
            <a:gdLst/>
            <a:ahLst/>
            <a:rect l="l" t="t" r="r" b="b"/>
            <a:pathLst>
              <a:path w="3548" h="1489">
                <a:moveTo>
                  <a:pt x="6325" y="7045"/>
                </a:moveTo>
                <a:cubicBezTo>
                  <a:pt x="6316" y="7018"/>
                  <a:pt x="6290" y="7006"/>
                  <a:pt x="6251" y="7020"/>
                </a:cubicBezTo>
                <a:cubicBezTo>
                  <a:pt x="6213" y="7034"/>
                  <a:pt x="6156" y="7075"/>
                  <a:pt x="6127" y="7094"/>
                </a:cubicBezTo>
                <a:cubicBezTo>
                  <a:pt x="6106" y="7108"/>
                  <a:pt x="6039" y="7164"/>
                  <a:pt x="6052" y="7193"/>
                </a:cubicBezTo>
                <a:cubicBezTo>
                  <a:pt x="6071" y="7235"/>
                  <a:pt x="6107" y="7244"/>
                  <a:pt x="6127" y="7268"/>
                </a:cubicBezTo>
                <a:cubicBezTo>
                  <a:pt x="6176" y="7326"/>
                  <a:pt x="6215" y="7346"/>
                  <a:pt x="6276" y="7392"/>
                </a:cubicBezTo>
                <a:cubicBezTo>
                  <a:pt x="6325" y="7430"/>
                  <a:pt x="6323" y="7497"/>
                  <a:pt x="6350" y="7541"/>
                </a:cubicBezTo>
                <a:cubicBezTo>
                  <a:pt x="6391" y="7608"/>
                  <a:pt x="6368" y="7618"/>
                  <a:pt x="6350" y="7689"/>
                </a:cubicBezTo>
                <a:cubicBezTo>
                  <a:pt x="6338" y="7735"/>
                  <a:pt x="6295" y="7755"/>
                  <a:pt x="6251" y="7764"/>
                </a:cubicBezTo>
                <a:cubicBezTo>
                  <a:pt x="6177" y="7779"/>
                  <a:pt x="6068" y="7755"/>
                  <a:pt x="6003" y="7739"/>
                </a:cubicBezTo>
                <a:cubicBezTo>
                  <a:pt x="5941" y="7723"/>
                  <a:pt x="5933" y="7714"/>
                  <a:pt x="5879" y="7714"/>
                </a:cubicBezTo>
              </a:path>
              <a:path w="3548" h="1489">
                <a:moveTo>
                  <a:pt x="6598" y="7317"/>
                </a:moveTo>
                <a:cubicBezTo>
                  <a:pt x="6622" y="7373"/>
                  <a:pt x="6634" y="7433"/>
                  <a:pt x="6648" y="7491"/>
                </a:cubicBezTo>
                <a:cubicBezTo>
                  <a:pt x="6656" y="7528"/>
                  <a:pt x="6648" y="7577"/>
                  <a:pt x="6648" y="7615"/>
                </a:cubicBezTo>
              </a:path>
              <a:path w="3548" h="1489">
                <a:moveTo>
                  <a:pt x="6648" y="7020"/>
                </a:moveTo>
                <a:cubicBezTo>
                  <a:pt x="6670" y="6998"/>
                  <a:pt x="6681" y="6989"/>
                  <a:pt x="6648" y="6995"/>
                </a:cubicBezTo>
              </a:path>
              <a:path w="3548" h="1489">
                <a:moveTo>
                  <a:pt x="6846" y="7119"/>
                </a:moveTo>
                <a:cubicBezTo>
                  <a:pt x="6862" y="7172"/>
                  <a:pt x="6892" y="7239"/>
                  <a:pt x="6896" y="7293"/>
                </a:cubicBezTo>
                <a:cubicBezTo>
                  <a:pt x="6900" y="7347"/>
                  <a:pt x="6896" y="7546"/>
                  <a:pt x="6896" y="7516"/>
                </a:cubicBezTo>
                <a:cubicBezTo>
                  <a:pt x="6896" y="7450"/>
                  <a:pt x="6910" y="7397"/>
                  <a:pt x="6921" y="7342"/>
                </a:cubicBezTo>
                <a:cubicBezTo>
                  <a:pt x="6934" y="7276"/>
                  <a:pt x="6946" y="7267"/>
                  <a:pt x="6995" y="7218"/>
                </a:cubicBezTo>
                <a:cubicBezTo>
                  <a:pt x="7042" y="7171"/>
                  <a:pt x="7053" y="7150"/>
                  <a:pt x="7119" y="7144"/>
                </a:cubicBezTo>
                <a:cubicBezTo>
                  <a:pt x="7127" y="7144"/>
                  <a:pt x="7136" y="7144"/>
                  <a:pt x="7144" y="7144"/>
                </a:cubicBezTo>
              </a:path>
              <a:path w="3548" h="1489">
                <a:moveTo>
                  <a:pt x="7218" y="7169"/>
                </a:moveTo>
                <a:cubicBezTo>
                  <a:pt x="7256" y="7277"/>
                  <a:pt x="7294" y="7378"/>
                  <a:pt x="7317" y="7491"/>
                </a:cubicBezTo>
                <a:cubicBezTo>
                  <a:pt x="7327" y="7539"/>
                  <a:pt x="7338" y="7565"/>
                  <a:pt x="7342" y="7615"/>
                </a:cubicBezTo>
                <a:cubicBezTo>
                  <a:pt x="7342" y="7643"/>
                  <a:pt x="7344" y="7654"/>
                  <a:pt x="7367" y="7665"/>
                </a:cubicBezTo>
              </a:path>
              <a:path w="3548" h="1489">
                <a:moveTo>
                  <a:pt x="7689" y="7169"/>
                </a:moveTo>
                <a:cubicBezTo>
                  <a:pt x="7697" y="7169"/>
                  <a:pt x="7706" y="7169"/>
                  <a:pt x="7714" y="7169"/>
                </a:cubicBezTo>
                <a:cubicBezTo>
                  <a:pt x="7714" y="7219"/>
                  <a:pt x="7725" y="7227"/>
                  <a:pt x="7739" y="7268"/>
                </a:cubicBezTo>
                <a:cubicBezTo>
                  <a:pt x="7750" y="7301"/>
                  <a:pt x="7744" y="7338"/>
                  <a:pt x="7764" y="7367"/>
                </a:cubicBezTo>
                <a:cubicBezTo>
                  <a:pt x="7791" y="7407"/>
                  <a:pt x="7788" y="7454"/>
                  <a:pt x="7813" y="7491"/>
                </a:cubicBezTo>
                <a:cubicBezTo>
                  <a:pt x="7840" y="7532"/>
                  <a:pt x="7876" y="7532"/>
                  <a:pt x="7888" y="7565"/>
                </a:cubicBezTo>
              </a:path>
              <a:path w="3548" h="1489">
                <a:moveTo>
                  <a:pt x="7838" y="7243"/>
                </a:moveTo>
                <a:cubicBezTo>
                  <a:pt x="7815" y="7283"/>
                  <a:pt x="7786" y="7334"/>
                  <a:pt x="7764" y="7367"/>
                </a:cubicBezTo>
                <a:cubicBezTo>
                  <a:pt x="7736" y="7408"/>
                  <a:pt x="7694" y="7451"/>
                  <a:pt x="7665" y="7491"/>
                </a:cubicBezTo>
                <a:cubicBezTo>
                  <a:pt x="7634" y="7533"/>
                  <a:pt x="7599" y="7576"/>
                  <a:pt x="7565" y="7615"/>
                </a:cubicBezTo>
                <a:cubicBezTo>
                  <a:pt x="7532" y="7652"/>
                  <a:pt x="7554" y="7652"/>
                  <a:pt x="7516" y="7665"/>
                </a:cubicBezTo>
              </a:path>
              <a:path w="3548" h="1489">
                <a:moveTo>
                  <a:pt x="7987" y="7367"/>
                </a:moveTo>
                <a:cubicBezTo>
                  <a:pt x="8062" y="7367"/>
                  <a:pt x="8107" y="7382"/>
                  <a:pt x="8161" y="7342"/>
                </a:cubicBezTo>
              </a:path>
              <a:path w="3548" h="1489">
                <a:moveTo>
                  <a:pt x="8012" y="7491"/>
                </a:moveTo>
                <a:cubicBezTo>
                  <a:pt x="8073" y="7491"/>
                  <a:pt x="8112" y="7477"/>
                  <a:pt x="8161" y="7466"/>
                </a:cubicBezTo>
                <a:cubicBezTo>
                  <a:pt x="8202" y="7466"/>
                  <a:pt x="8210" y="7466"/>
                  <a:pt x="8235" y="7466"/>
                </a:cubicBezTo>
              </a:path>
              <a:path w="3548" h="1489">
                <a:moveTo>
                  <a:pt x="8806" y="6499"/>
                </a:moveTo>
                <a:cubicBezTo>
                  <a:pt x="8806" y="6507"/>
                  <a:pt x="8806" y="6516"/>
                  <a:pt x="8806" y="6524"/>
                </a:cubicBezTo>
                <a:cubicBezTo>
                  <a:pt x="8867" y="6524"/>
                  <a:pt x="8897" y="6534"/>
                  <a:pt x="8954" y="6548"/>
                </a:cubicBezTo>
                <a:cubicBezTo>
                  <a:pt x="8994" y="6558"/>
                  <a:pt x="9019" y="6561"/>
                  <a:pt x="9054" y="6573"/>
                </a:cubicBezTo>
                <a:cubicBezTo>
                  <a:pt x="9062" y="6573"/>
                  <a:pt x="9071" y="6573"/>
                  <a:pt x="9079" y="6573"/>
                </a:cubicBezTo>
                <a:cubicBezTo>
                  <a:pt x="9090" y="6608"/>
                  <a:pt x="9086" y="6598"/>
                  <a:pt x="9128" y="6598"/>
                </a:cubicBezTo>
                <a:cubicBezTo>
                  <a:pt x="9135" y="6624"/>
                  <a:pt x="9171" y="6665"/>
                  <a:pt x="9153" y="6697"/>
                </a:cubicBezTo>
                <a:cubicBezTo>
                  <a:pt x="9130" y="6738"/>
                  <a:pt x="9132" y="6778"/>
                  <a:pt x="9103" y="6821"/>
                </a:cubicBezTo>
                <a:cubicBezTo>
                  <a:pt x="9068" y="6874"/>
                  <a:pt x="9061" y="6947"/>
                  <a:pt x="9029" y="6995"/>
                </a:cubicBezTo>
                <a:cubicBezTo>
                  <a:pt x="9003" y="7035"/>
                  <a:pt x="9004" y="7045"/>
                  <a:pt x="9004" y="7094"/>
                </a:cubicBezTo>
              </a:path>
              <a:path w="3548" h="1489">
                <a:moveTo>
                  <a:pt x="8458" y="7317"/>
                </a:moveTo>
                <a:cubicBezTo>
                  <a:pt x="8512" y="7317"/>
                  <a:pt x="8530" y="7306"/>
                  <a:pt x="8582" y="7293"/>
                </a:cubicBezTo>
                <a:cubicBezTo>
                  <a:pt x="8646" y="7277"/>
                  <a:pt x="8743" y="7276"/>
                  <a:pt x="8806" y="7268"/>
                </a:cubicBezTo>
                <a:cubicBezTo>
                  <a:pt x="8941" y="7250"/>
                  <a:pt x="9091" y="7268"/>
                  <a:pt x="9227" y="7268"/>
                </a:cubicBezTo>
              </a:path>
              <a:path w="3548" h="1489">
                <a:moveTo>
                  <a:pt x="8558" y="7615"/>
                </a:moveTo>
                <a:cubicBezTo>
                  <a:pt x="8609" y="7594"/>
                  <a:pt x="8671" y="7547"/>
                  <a:pt x="8731" y="7565"/>
                </a:cubicBezTo>
                <a:cubicBezTo>
                  <a:pt x="8800" y="7585"/>
                  <a:pt x="8800" y="7594"/>
                  <a:pt x="8830" y="7640"/>
                </a:cubicBezTo>
                <a:cubicBezTo>
                  <a:pt x="8856" y="7680"/>
                  <a:pt x="8855" y="7689"/>
                  <a:pt x="8855" y="7739"/>
                </a:cubicBezTo>
                <a:cubicBezTo>
                  <a:pt x="8855" y="7797"/>
                  <a:pt x="8798" y="7787"/>
                  <a:pt x="8781" y="7813"/>
                </a:cubicBezTo>
                <a:cubicBezTo>
                  <a:pt x="8760" y="7844"/>
                  <a:pt x="8757" y="7838"/>
                  <a:pt x="8706" y="7838"/>
                </a:cubicBezTo>
                <a:cubicBezTo>
                  <a:pt x="8719" y="7800"/>
                  <a:pt x="8736" y="7813"/>
                  <a:pt x="8781" y="7813"/>
                </a:cubicBezTo>
                <a:cubicBezTo>
                  <a:pt x="8815" y="7813"/>
                  <a:pt x="8855" y="7840"/>
                  <a:pt x="8880" y="7863"/>
                </a:cubicBezTo>
                <a:cubicBezTo>
                  <a:pt x="8909" y="7889"/>
                  <a:pt x="8943" y="7928"/>
                  <a:pt x="8954" y="7962"/>
                </a:cubicBezTo>
                <a:cubicBezTo>
                  <a:pt x="8954" y="7970"/>
                  <a:pt x="8954" y="7979"/>
                  <a:pt x="8954" y="7987"/>
                </a:cubicBezTo>
              </a:path>
              <a:path w="3548" h="1489">
                <a:moveTo>
                  <a:pt x="9203" y="7491"/>
                </a:moveTo>
                <a:cubicBezTo>
                  <a:pt x="9160" y="7516"/>
                  <a:pt x="9115" y="7531"/>
                  <a:pt x="9103" y="7565"/>
                </a:cubicBezTo>
                <a:cubicBezTo>
                  <a:pt x="9134" y="7606"/>
                  <a:pt x="9133" y="7614"/>
                  <a:pt x="9178" y="7640"/>
                </a:cubicBezTo>
                <a:cubicBezTo>
                  <a:pt x="9195" y="7650"/>
                  <a:pt x="9270" y="7703"/>
                  <a:pt x="9277" y="7714"/>
                </a:cubicBezTo>
                <a:cubicBezTo>
                  <a:pt x="9284" y="7725"/>
                  <a:pt x="9277" y="7775"/>
                  <a:pt x="9277" y="7789"/>
                </a:cubicBezTo>
                <a:cubicBezTo>
                  <a:pt x="9224" y="7789"/>
                  <a:pt x="9195" y="7795"/>
                  <a:pt x="9153" y="7764"/>
                </a:cubicBezTo>
              </a:path>
              <a:path w="3548" h="1489">
                <a:moveTo>
                  <a:pt x="9153" y="7491"/>
                </a:moveTo>
                <a:cubicBezTo>
                  <a:pt x="9202" y="7470"/>
                  <a:pt x="9257" y="7454"/>
                  <a:pt x="9302" y="7441"/>
                </a:cubicBezTo>
                <a:cubicBezTo>
                  <a:pt x="9343" y="7429"/>
                  <a:pt x="9381" y="7417"/>
                  <a:pt x="9426" y="7417"/>
                </a:cubicBezTo>
              </a:path>
              <a:path w="3548" h="1489">
                <a:moveTo>
                  <a:pt x="8235" y="7268"/>
                </a:moveTo>
                <a:cubicBezTo>
                  <a:pt x="8263" y="7268"/>
                  <a:pt x="8274" y="7266"/>
                  <a:pt x="8285" y="7243"/>
                </a:cubicBezTo>
              </a:path>
              <a:path w="3548" h="1489">
                <a:moveTo>
                  <a:pt x="8235" y="7268"/>
                </a:moveTo>
                <a:cubicBezTo>
                  <a:pt x="8252" y="7268"/>
                  <a:pt x="8268" y="7268"/>
                  <a:pt x="8285" y="7268"/>
                </a:cubicBezTo>
              </a:path>
              <a:path w="3548" h="1489">
                <a:moveTo>
                  <a:pt x="8285" y="7268"/>
                </a:moveTo>
                <a:cubicBezTo>
                  <a:pt x="8274" y="7268"/>
                  <a:pt x="8168" y="7268"/>
                  <a:pt x="8235" y="7268"/>
                </a:cubicBezTo>
                <a:cubicBezTo>
                  <a:pt x="8267" y="7268"/>
                  <a:pt x="8280" y="7251"/>
                  <a:pt x="8310" y="7243"/>
                </a:cubicBezTo>
                <a:cubicBezTo>
                  <a:pt x="8275" y="7269"/>
                  <a:pt x="8279" y="7268"/>
                  <a:pt x="8235" y="72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Ink 9"/>
          <p:cNvSpPr/>
          <p:nvPr/>
        </p:nvSpPr>
        <p:spPr>
          <a:xfrm>
            <a:off x="3697200" y="2411280"/>
            <a:ext cx="1312920" cy="428760"/>
          </a:xfrm>
          <a:custGeom>
            <a:avLst/>
            <a:gdLst/>
            <a:ahLst/>
            <a:rect l="l" t="t" r="r" b="b"/>
            <a:pathLst>
              <a:path w="3647" h="1192">
                <a:moveTo>
                  <a:pt x="10542" y="7119"/>
                </a:moveTo>
                <a:cubicBezTo>
                  <a:pt x="10515" y="7139"/>
                  <a:pt x="10433" y="7147"/>
                  <a:pt x="10418" y="7169"/>
                </a:cubicBezTo>
                <a:cubicBezTo>
                  <a:pt x="10384" y="7218"/>
                  <a:pt x="10376" y="7226"/>
                  <a:pt x="10344" y="7293"/>
                </a:cubicBezTo>
                <a:cubicBezTo>
                  <a:pt x="10312" y="7361"/>
                  <a:pt x="10273" y="7388"/>
                  <a:pt x="10269" y="7466"/>
                </a:cubicBezTo>
                <a:cubicBezTo>
                  <a:pt x="10265" y="7531"/>
                  <a:pt x="10279" y="7562"/>
                  <a:pt x="10319" y="7615"/>
                </a:cubicBezTo>
                <a:cubicBezTo>
                  <a:pt x="10342" y="7645"/>
                  <a:pt x="10385" y="7679"/>
                  <a:pt x="10418" y="7689"/>
                </a:cubicBezTo>
                <a:cubicBezTo>
                  <a:pt x="10426" y="7689"/>
                  <a:pt x="10435" y="7689"/>
                  <a:pt x="10443" y="7689"/>
                </a:cubicBezTo>
              </a:path>
              <a:path w="3647" h="1192">
                <a:moveTo>
                  <a:pt x="10988" y="7243"/>
                </a:moveTo>
                <a:cubicBezTo>
                  <a:pt x="10919" y="7243"/>
                  <a:pt x="10912" y="7245"/>
                  <a:pt x="10864" y="7293"/>
                </a:cubicBezTo>
                <a:cubicBezTo>
                  <a:pt x="10818" y="7339"/>
                  <a:pt x="10802" y="7388"/>
                  <a:pt x="10765" y="7441"/>
                </a:cubicBezTo>
                <a:cubicBezTo>
                  <a:pt x="10717" y="7510"/>
                  <a:pt x="10727" y="7503"/>
                  <a:pt x="10740" y="7565"/>
                </a:cubicBezTo>
                <a:cubicBezTo>
                  <a:pt x="10754" y="7632"/>
                  <a:pt x="10770" y="7651"/>
                  <a:pt x="10840" y="7665"/>
                </a:cubicBezTo>
                <a:cubicBezTo>
                  <a:pt x="10907" y="7679"/>
                  <a:pt x="11021" y="7648"/>
                  <a:pt x="11063" y="7590"/>
                </a:cubicBezTo>
                <a:cubicBezTo>
                  <a:pt x="11096" y="7545"/>
                  <a:pt x="11150" y="7471"/>
                  <a:pt x="11162" y="7417"/>
                </a:cubicBezTo>
                <a:cubicBezTo>
                  <a:pt x="11176" y="7353"/>
                  <a:pt x="11150" y="7300"/>
                  <a:pt x="11137" y="7243"/>
                </a:cubicBezTo>
                <a:cubicBezTo>
                  <a:pt x="11125" y="7191"/>
                  <a:pt x="11086" y="7193"/>
                  <a:pt x="11038" y="7193"/>
                </a:cubicBezTo>
                <a:cubicBezTo>
                  <a:pt x="10972" y="7193"/>
                  <a:pt x="10959" y="7223"/>
                  <a:pt x="10914" y="7268"/>
                </a:cubicBezTo>
              </a:path>
              <a:path w="3647" h="1192">
                <a:moveTo>
                  <a:pt x="11633" y="7144"/>
                </a:moveTo>
                <a:cubicBezTo>
                  <a:pt x="11593" y="7151"/>
                  <a:pt x="11570" y="7150"/>
                  <a:pt x="11534" y="7169"/>
                </a:cubicBezTo>
                <a:cubicBezTo>
                  <a:pt x="11516" y="7178"/>
                  <a:pt x="11443" y="7228"/>
                  <a:pt x="11435" y="7243"/>
                </a:cubicBezTo>
                <a:cubicBezTo>
                  <a:pt x="11415" y="7282"/>
                  <a:pt x="11435" y="7339"/>
                  <a:pt x="11460" y="7367"/>
                </a:cubicBezTo>
                <a:cubicBezTo>
                  <a:pt x="11495" y="7407"/>
                  <a:pt x="11540" y="7439"/>
                  <a:pt x="11584" y="7466"/>
                </a:cubicBezTo>
                <a:cubicBezTo>
                  <a:pt x="11629" y="7494"/>
                  <a:pt x="11667" y="7516"/>
                  <a:pt x="11683" y="7565"/>
                </a:cubicBezTo>
                <a:cubicBezTo>
                  <a:pt x="11698" y="7611"/>
                  <a:pt x="11678" y="7625"/>
                  <a:pt x="11658" y="7640"/>
                </a:cubicBezTo>
                <a:cubicBezTo>
                  <a:pt x="11636" y="7657"/>
                  <a:pt x="11590" y="7697"/>
                  <a:pt x="11559" y="7689"/>
                </a:cubicBezTo>
                <a:cubicBezTo>
                  <a:pt x="11512" y="7676"/>
                  <a:pt x="11445" y="7668"/>
                  <a:pt x="11410" y="7640"/>
                </a:cubicBezTo>
                <a:cubicBezTo>
                  <a:pt x="11379" y="7615"/>
                  <a:pt x="11368" y="7614"/>
                  <a:pt x="11336" y="7590"/>
                </a:cubicBezTo>
              </a:path>
              <a:path w="3647" h="1192">
                <a:moveTo>
                  <a:pt x="11956" y="7144"/>
                </a:moveTo>
                <a:cubicBezTo>
                  <a:pt x="11956" y="7152"/>
                  <a:pt x="11956" y="7161"/>
                  <a:pt x="11956" y="7169"/>
                </a:cubicBezTo>
                <a:cubicBezTo>
                  <a:pt x="11985" y="7178"/>
                  <a:pt x="12016" y="7224"/>
                  <a:pt x="12030" y="7268"/>
                </a:cubicBezTo>
                <a:cubicBezTo>
                  <a:pt x="12047" y="7320"/>
                  <a:pt x="12070" y="7371"/>
                  <a:pt x="12105" y="7417"/>
                </a:cubicBezTo>
                <a:cubicBezTo>
                  <a:pt x="12140" y="7464"/>
                  <a:pt x="12190" y="7486"/>
                  <a:pt x="12204" y="7541"/>
                </a:cubicBezTo>
                <a:cubicBezTo>
                  <a:pt x="12229" y="7541"/>
                  <a:pt x="12237" y="7541"/>
                  <a:pt x="12229" y="7565"/>
                </a:cubicBezTo>
              </a:path>
              <a:path w="3647" h="1192">
                <a:moveTo>
                  <a:pt x="12229" y="7169"/>
                </a:moveTo>
                <a:cubicBezTo>
                  <a:pt x="12182" y="7215"/>
                  <a:pt x="12170" y="7279"/>
                  <a:pt x="12129" y="7317"/>
                </a:cubicBezTo>
                <a:cubicBezTo>
                  <a:pt x="12069" y="7373"/>
                  <a:pt x="12053" y="7420"/>
                  <a:pt x="12005" y="7491"/>
                </a:cubicBezTo>
                <a:cubicBezTo>
                  <a:pt x="11977" y="7533"/>
                  <a:pt x="11943" y="7569"/>
                  <a:pt x="11931" y="7615"/>
                </a:cubicBezTo>
              </a:path>
              <a:path w="3647" h="1192">
                <a:moveTo>
                  <a:pt x="12402" y="7169"/>
                </a:moveTo>
                <a:cubicBezTo>
                  <a:pt x="12471" y="7169"/>
                  <a:pt x="12518" y="7174"/>
                  <a:pt x="12576" y="7193"/>
                </a:cubicBezTo>
                <a:cubicBezTo>
                  <a:pt x="12635" y="7212"/>
                  <a:pt x="12736" y="7193"/>
                  <a:pt x="12799" y="7193"/>
                </a:cubicBezTo>
              </a:path>
              <a:path w="3647" h="1192">
                <a:moveTo>
                  <a:pt x="12378" y="7392"/>
                </a:moveTo>
                <a:cubicBezTo>
                  <a:pt x="12378" y="7400"/>
                  <a:pt x="12378" y="7409"/>
                  <a:pt x="12378" y="7417"/>
                </a:cubicBezTo>
                <a:cubicBezTo>
                  <a:pt x="12494" y="7417"/>
                  <a:pt x="12609" y="7417"/>
                  <a:pt x="12725" y="7417"/>
                </a:cubicBezTo>
              </a:path>
              <a:path w="3647" h="1192">
                <a:moveTo>
                  <a:pt x="13395" y="6821"/>
                </a:moveTo>
                <a:cubicBezTo>
                  <a:pt x="13415" y="6890"/>
                  <a:pt x="13419" y="6925"/>
                  <a:pt x="13419" y="6995"/>
                </a:cubicBezTo>
                <a:cubicBezTo>
                  <a:pt x="13419" y="7013"/>
                  <a:pt x="13378" y="7088"/>
                  <a:pt x="13370" y="7094"/>
                </a:cubicBezTo>
                <a:cubicBezTo>
                  <a:pt x="13355" y="7104"/>
                  <a:pt x="13296" y="7133"/>
                  <a:pt x="13271" y="7119"/>
                </a:cubicBezTo>
                <a:cubicBezTo>
                  <a:pt x="13212" y="7086"/>
                  <a:pt x="13246" y="7090"/>
                  <a:pt x="13221" y="7045"/>
                </a:cubicBezTo>
                <a:cubicBezTo>
                  <a:pt x="13203" y="7013"/>
                  <a:pt x="13202" y="6976"/>
                  <a:pt x="13246" y="6970"/>
                </a:cubicBezTo>
                <a:cubicBezTo>
                  <a:pt x="13268" y="6967"/>
                  <a:pt x="13334" y="6998"/>
                  <a:pt x="13345" y="7020"/>
                </a:cubicBezTo>
                <a:cubicBezTo>
                  <a:pt x="13359" y="7048"/>
                  <a:pt x="13352" y="7092"/>
                  <a:pt x="13370" y="7119"/>
                </a:cubicBezTo>
                <a:cubicBezTo>
                  <a:pt x="13378" y="7127"/>
                  <a:pt x="13387" y="7136"/>
                  <a:pt x="13395" y="7144"/>
                </a:cubicBezTo>
              </a:path>
              <a:path w="3647" h="1192">
                <a:moveTo>
                  <a:pt x="13667" y="6697"/>
                </a:moveTo>
                <a:cubicBezTo>
                  <a:pt x="13667" y="6742"/>
                  <a:pt x="13647" y="6756"/>
                  <a:pt x="13643" y="6796"/>
                </a:cubicBezTo>
                <a:cubicBezTo>
                  <a:pt x="13638" y="6846"/>
                  <a:pt x="13623" y="6878"/>
                  <a:pt x="13618" y="6921"/>
                </a:cubicBezTo>
                <a:cubicBezTo>
                  <a:pt x="13618" y="6929"/>
                  <a:pt x="13618" y="6937"/>
                  <a:pt x="13618" y="6945"/>
                </a:cubicBezTo>
                <a:cubicBezTo>
                  <a:pt x="13677" y="6965"/>
                  <a:pt x="13624" y="6960"/>
                  <a:pt x="13692" y="6945"/>
                </a:cubicBezTo>
                <a:cubicBezTo>
                  <a:pt x="13736" y="6936"/>
                  <a:pt x="13796" y="6945"/>
                  <a:pt x="13841" y="6945"/>
                </a:cubicBezTo>
              </a:path>
              <a:path w="3647" h="1192">
                <a:moveTo>
                  <a:pt x="13791" y="6697"/>
                </a:moveTo>
                <a:cubicBezTo>
                  <a:pt x="13791" y="6809"/>
                  <a:pt x="13782" y="6908"/>
                  <a:pt x="13767" y="7020"/>
                </a:cubicBezTo>
                <a:cubicBezTo>
                  <a:pt x="13761" y="7069"/>
                  <a:pt x="13764" y="7107"/>
                  <a:pt x="13791" y="7144"/>
                </a:cubicBezTo>
              </a:path>
              <a:path w="3647" h="1192">
                <a:moveTo>
                  <a:pt x="13196" y="6772"/>
                </a:moveTo>
                <a:cubicBezTo>
                  <a:pt x="13234" y="6734"/>
                  <a:pt x="13242" y="6722"/>
                  <a:pt x="13295" y="6722"/>
                </a:cubicBezTo>
                <a:cubicBezTo>
                  <a:pt x="13334" y="6722"/>
                  <a:pt x="13320" y="6739"/>
                  <a:pt x="13320" y="6772"/>
                </a:cubicBezTo>
              </a:path>
              <a:path w="3647" h="1192">
                <a:moveTo>
                  <a:pt x="12948" y="7243"/>
                </a:moveTo>
                <a:cubicBezTo>
                  <a:pt x="13001" y="7266"/>
                  <a:pt x="13018" y="7268"/>
                  <a:pt x="13072" y="7268"/>
                </a:cubicBezTo>
                <a:cubicBezTo>
                  <a:pt x="13300" y="7268"/>
                  <a:pt x="13549" y="7242"/>
                  <a:pt x="13767" y="7293"/>
                </a:cubicBezTo>
                <a:cubicBezTo>
                  <a:pt x="13804" y="7302"/>
                  <a:pt x="13853" y="7293"/>
                  <a:pt x="13891" y="7293"/>
                </a:cubicBezTo>
              </a:path>
              <a:path w="3647" h="1192">
                <a:moveTo>
                  <a:pt x="12923" y="7565"/>
                </a:moveTo>
                <a:cubicBezTo>
                  <a:pt x="12964" y="7565"/>
                  <a:pt x="13006" y="7565"/>
                  <a:pt x="13047" y="7565"/>
                </a:cubicBezTo>
              </a:path>
              <a:path w="3647" h="1192">
                <a:moveTo>
                  <a:pt x="13196" y="7466"/>
                </a:moveTo>
                <a:cubicBezTo>
                  <a:pt x="13240" y="7466"/>
                  <a:pt x="13247" y="7472"/>
                  <a:pt x="13271" y="7491"/>
                </a:cubicBezTo>
                <a:cubicBezTo>
                  <a:pt x="13304" y="7516"/>
                  <a:pt x="13301" y="7561"/>
                  <a:pt x="13320" y="7590"/>
                </a:cubicBezTo>
                <a:cubicBezTo>
                  <a:pt x="13338" y="7616"/>
                  <a:pt x="13366" y="7677"/>
                  <a:pt x="13345" y="7714"/>
                </a:cubicBezTo>
                <a:cubicBezTo>
                  <a:pt x="13321" y="7758"/>
                  <a:pt x="13307" y="7765"/>
                  <a:pt x="13271" y="7789"/>
                </a:cubicBezTo>
                <a:cubicBezTo>
                  <a:pt x="13230" y="7816"/>
                  <a:pt x="13212" y="7795"/>
                  <a:pt x="13171" y="7764"/>
                </a:cubicBezTo>
                <a:cubicBezTo>
                  <a:pt x="13181" y="7724"/>
                  <a:pt x="13199" y="7692"/>
                  <a:pt x="13246" y="7689"/>
                </a:cubicBezTo>
                <a:cubicBezTo>
                  <a:pt x="13305" y="7685"/>
                  <a:pt x="13345" y="7724"/>
                  <a:pt x="13395" y="7739"/>
                </a:cubicBezTo>
                <a:cubicBezTo>
                  <a:pt x="13449" y="7756"/>
                  <a:pt x="13444" y="7811"/>
                  <a:pt x="13444" y="7863"/>
                </a:cubicBezTo>
                <a:cubicBezTo>
                  <a:pt x="13444" y="7871"/>
                  <a:pt x="13444" y="7880"/>
                  <a:pt x="13444" y="7888"/>
                </a:cubicBezTo>
              </a:path>
              <a:path w="3647" h="1192">
                <a:moveTo>
                  <a:pt x="13618" y="7491"/>
                </a:moveTo>
                <a:cubicBezTo>
                  <a:pt x="13595" y="7514"/>
                  <a:pt x="13591" y="7522"/>
                  <a:pt x="13568" y="7516"/>
                </a:cubicBezTo>
                <a:cubicBezTo>
                  <a:pt x="13591" y="7547"/>
                  <a:pt x="13629" y="7594"/>
                  <a:pt x="13643" y="7615"/>
                </a:cubicBezTo>
                <a:cubicBezTo>
                  <a:pt x="13657" y="7637"/>
                  <a:pt x="13705" y="7687"/>
                  <a:pt x="13717" y="7714"/>
                </a:cubicBezTo>
                <a:cubicBezTo>
                  <a:pt x="13729" y="7741"/>
                  <a:pt x="13720" y="7800"/>
                  <a:pt x="13692" y="7813"/>
                </a:cubicBezTo>
                <a:cubicBezTo>
                  <a:pt x="13650" y="7834"/>
                  <a:pt x="13627" y="7793"/>
                  <a:pt x="13618" y="7789"/>
                </a:cubicBezTo>
                <a:cubicBezTo>
                  <a:pt x="13593" y="7789"/>
                  <a:pt x="13585" y="7789"/>
                  <a:pt x="13593" y="7764"/>
                </a:cubicBezTo>
              </a:path>
              <a:path w="3647" h="1192">
                <a:moveTo>
                  <a:pt x="13643" y="7516"/>
                </a:moveTo>
                <a:cubicBezTo>
                  <a:pt x="13687" y="7480"/>
                  <a:pt x="13733" y="7447"/>
                  <a:pt x="13791" y="7441"/>
                </a:cubicBezTo>
                <a:cubicBezTo>
                  <a:pt x="13831" y="7437"/>
                  <a:pt x="13874" y="7441"/>
                  <a:pt x="13915" y="74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Ink 10"/>
          <p:cNvSpPr/>
          <p:nvPr/>
        </p:nvSpPr>
        <p:spPr>
          <a:xfrm>
            <a:off x="2108160" y="2946240"/>
            <a:ext cx="1419120" cy="428760"/>
          </a:xfrm>
          <a:custGeom>
            <a:avLst/>
            <a:gdLst/>
            <a:ahLst/>
            <a:rect l="l" t="t" r="r" b="b"/>
            <a:pathLst>
              <a:path w="3945" h="1191">
                <a:moveTo>
                  <a:pt x="6201" y="8359"/>
                </a:moveTo>
                <a:cubicBezTo>
                  <a:pt x="6150" y="8359"/>
                  <a:pt x="6148" y="8374"/>
                  <a:pt x="6127" y="8384"/>
                </a:cubicBezTo>
                <a:cubicBezTo>
                  <a:pt x="6095" y="8400"/>
                  <a:pt x="6026" y="8425"/>
                  <a:pt x="6003" y="8458"/>
                </a:cubicBezTo>
                <a:cubicBezTo>
                  <a:pt x="5951" y="8533"/>
                  <a:pt x="5939" y="8569"/>
                  <a:pt x="5904" y="8657"/>
                </a:cubicBezTo>
                <a:cubicBezTo>
                  <a:pt x="5874" y="8735"/>
                  <a:pt x="5867" y="8752"/>
                  <a:pt x="5879" y="8830"/>
                </a:cubicBezTo>
                <a:cubicBezTo>
                  <a:pt x="5886" y="8874"/>
                  <a:pt x="5920" y="8898"/>
                  <a:pt x="5953" y="8930"/>
                </a:cubicBezTo>
                <a:cubicBezTo>
                  <a:pt x="5978" y="8954"/>
                  <a:pt x="6019" y="8975"/>
                  <a:pt x="6052" y="8979"/>
                </a:cubicBezTo>
                <a:cubicBezTo>
                  <a:pt x="6076" y="8982"/>
                  <a:pt x="6103" y="8979"/>
                  <a:pt x="6127" y="8979"/>
                </a:cubicBezTo>
              </a:path>
              <a:path w="3945" h="1191">
                <a:moveTo>
                  <a:pt x="6648" y="8359"/>
                </a:moveTo>
                <a:cubicBezTo>
                  <a:pt x="6620" y="8380"/>
                  <a:pt x="6580" y="8419"/>
                  <a:pt x="6548" y="8434"/>
                </a:cubicBezTo>
                <a:cubicBezTo>
                  <a:pt x="6508" y="8452"/>
                  <a:pt x="6484" y="8473"/>
                  <a:pt x="6449" y="8508"/>
                </a:cubicBezTo>
                <a:cubicBezTo>
                  <a:pt x="6401" y="8556"/>
                  <a:pt x="6433" y="8560"/>
                  <a:pt x="6449" y="8607"/>
                </a:cubicBezTo>
                <a:cubicBezTo>
                  <a:pt x="6462" y="8647"/>
                  <a:pt x="6512" y="8670"/>
                  <a:pt x="6548" y="8706"/>
                </a:cubicBezTo>
                <a:cubicBezTo>
                  <a:pt x="6588" y="8746"/>
                  <a:pt x="6627" y="8736"/>
                  <a:pt x="6672" y="8781"/>
                </a:cubicBezTo>
                <a:cubicBezTo>
                  <a:pt x="6695" y="8805"/>
                  <a:pt x="6745" y="8839"/>
                  <a:pt x="6722" y="8880"/>
                </a:cubicBezTo>
                <a:cubicBezTo>
                  <a:pt x="6703" y="8914"/>
                  <a:pt x="6658" y="8950"/>
                  <a:pt x="6623" y="8954"/>
                </a:cubicBezTo>
                <a:cubicBezTo>
                  <a:pt x="6573" y="8959"/>
                  <a:pt x="6559" y="8979"/>
                  <a:pt x="6499" y="8979"/>
                </a:cubicBezTo>
                <a:cubicBezTo>
                  <a:pt x="6449" y="8979"/>
                  <a:pt x="6400" y="8979"/>
                  <a:pt x="6350" y="8979"/>
                </a:cubicBezTo>
              </a:path>
              <a:path w="3945" h="1191">
                <a:moveTo>
                  <a:pt x="7119" y="8508"/>
                </a:moveTo>
                <a:cubicBezTo>
                  <a:pt x="7111" y="8508"/>
                  <a:pt x="7102" y="8508"/>
                  <a:pt x="7094" y="8508"/>
                </a:cubicBezTo>
                <a:cubicBezTo>
                  <a:pt x="7086" y="8532"/>
                  <a:pt x="7063" y="8555"/>
                  <a:pt x="7045" y="8582"/>
                </a:cubicBezTo>
                <a:cubicBezTo>
                  <a:pt x="7021" y="8618"/>
                  <a:pt x="6984" y="8642"/>
                  <a:pt x="6970" y="8682"/>
                </a:cubicBezTo>
                <a:cubicBezTo>
                  <a:pt x="6956" y="8722"/>
                  <a:pt x="6958" y="8769"/>
                  <a:pt x="6945" y="8806"/>
                </a:cubicBezTo>
                <a:cubicBezTo>
                  <a:pt x="6941" y="8818"/>
                  <a:pt x="6961" y="8914"/>
                  <a:pt x="6970" y="8930"/>
                </a:cubicBezTo>
                <a:cubicBezTo>
                  <a:pt x="6986" y="8958"/>
                  <a:pt x="7019" y="9033"/>
                  <a:pt x="7045" y="9054"/>
                </a:cubicBezTo>
                <a:cubicBezTo>
                  <a:pt x="7058" y="9064"/>
                  <a:pt x="7126" y="9054"/>
                  <a:pt x="7144" y="9054"/>
                </a:cubicBezTo>
              </a:path>
              <a:path w="3945" h="1191">
                <a:moveTo>
                  <a:pt x="7417" y="8483"/>
                </a:moveTo>
                <a:cubicBezTo>
                  <a:pt x="7465" y="8533"/>
                  <a:pt x="7501" y="8578"/>
                  <a:pt x="7541" y="8632"/>
                </a:cubicBezTo>
                <a:cubicBezTo>
                  <a:pt x="7575" y="8678"/>
                  <a:pt x="7583" y="8709"/>
                  <a:pt x="7615" y="8756"/>
                </a:cubicBezTo>
                <a:cubicBezTo>
                  <a:pt x="7638" y="8790"/>
                  <a:pt x="7673" y="8862"/>
                  <a:pt x="7714" y="8880"/>
                </a:cubicBezTo>
                <a:cubicBezTo>
                  <a:pt x="7722" y="8880"/>
                  <a:pt x="7731" y="8880"/>
                  <a:pt x="7739" y="8880"/>
                </a:cubicBezTo>
              </a:path>
              <a:path w="3945" h="1191">
                <a:moveTo>
                  <a:pt x="7714" y="8458"/>
                </a:moveTo>
                <a:cubicBezTo>
                  <a:pt x="7686" y="8508"/>
                  <a:pt x="7645" y="8536"/>
                  <a:pt x="7615" y="8582"/>
                </a:cubicBezTo>
                <a:cubicBezTo>
                  <a:pt x="7579" y="8637"/>
                  <a:pt x="7546" y="8699"/>
                  <a:pt x="7516" y="8756"/>
                </a:cubicBezTo>
                <a:cubicBezTo>
                  <a:pt x="7489" y="8807"/>
                  <a:pt x="7451" y="8859"/>
                  <a:pt x="7417" y="8905"/>
                </a:cubicBezTo>
                <a:cubicBezTo>
                  <a:pt x="7409" y="8913"/>
                  <a:pt x="7400" y="8922"/>
                  <a:pt x="7392" y="8930"/>
                </a:cubicBezTo>
              </a:path>
              <a:path w="3945" h="1191">
                <a:moveTo>
                  <a:pt x="7987" y="8533"/>
                </a:moveTo>
                <a:cubicBezTo>
                  <a:pt x="7995" y="8533"/>
                  <a:pt x="8004" y="8533"/>
                  <a:pt x="8012" y="8533"/>
                </a:cubicBezTo>
                <a:cubicBezTo>
                  <a:pt x="8030" y="8480"/>
                  <a:pt x="8039" y="8530"/>
                  <a:pt x="8086" y="8533"/>
                </a:cubicBezTo>
                <a:cubicBezTo>
                  <a:pt x="8151" y="8538"/>
                  <a:pt x="8219" y="8533"/>
                  <a:pt x="8285" y="8533"/>
                </a:cubicBezTo>
              </a:path>
              <a:path w="3945" h="1191">
                <a:moveTo>
                  <a:pt x="7938" y="8731"/>
                </a:moveTo>
                <a:cubicBezTo>
                  <a:pt x="7946" y="8731"/>
                  <a:pt x="7954" y="8731"/>
                  <a:pt x="7962" y="8731"/>
                </a:cubicBezTo>
                <a:cubicBezTo>
                  <a:pt x="7975" y="8769"/>
                  <a:pt x="7992" y="8756"/>
                  <a:pt x="8037" y="8756"/>
                </a:cubicBezTo>
                <a:cubicBezTo>
                  <a:pt x="8144" y="8756"/>
                  <a:pt x="8252" y="8756"/>
                  <a:pt x="8359" y="8756"/>
                </a:cubicBezTo>
              </a:path>
              <a:path w="3945" h="1191">
                <a:moveTo>
                  <a:pt x="8558" y="8458"/>
                </a:moveTo>
                <a:cubicBezTo>
                  <a:pt x="8582" y="8458"/>
                  <a:pt x="8591" y="8458"/>
                  <a:pt x="8607" y="8458"/>
                </a:cubicBezTo>
                <a:cubicBezTo>
                  <a:pt x="8620" y="8422"/>
                  <a:pt x="8644" y="8422"/>
                  <a:pt x="8657" y="8458"/>
                </a:cubicBezTo>
                <a:cubicBezTo>
                  <a:pt x="8692" y="8433"/>
                  <a:pt x="8688" y="8434"/>
                  <a:pt x="8731" y="8434"/>
                </a:cubicBezTo>
              </a:path>
              <a:path w="3945" h="1191">
                <a:moveTo>
                  <a:pt x="8855" y="8285"/>
                </a:moveTo>
                <a:cubicBezTo>
                  <a:pt x="8868" y="8247"/>
                  <a:pt x="8885" y="8260"/>
                  <a:pt x="8930" y="8260"/>
                </a:cubicBezTo>
                <a:cubicBezTo>
                  <a:pt x="8990" y="8260"/>
                  <a:pt x="8981" y="8288"/>
                  <a:pt x="9029" y="8310"/>
                </a:cubicBezTo>
                <a:cubicBezTo>
                  <a:pt x="9065" y="8326"/>
                  <a:pt x="9089" y="8341"/>
                  <a:pt x="9103" y="8384"/>
                </a:cubicBezTo>
                <a:cubicBezTo>
                  <a:pt x="9118" y="8431"/>
                  <a:pt x="9089" y="8473"/>
                  <a:pt x="9079" y="8508"/>
                </a:cubicBezTo>
                <a:cubicBezTo>
                  <a:pt x="9067" y="8548"/>
                  <a:pt x="9052" y="8579"/>
                  <a:pt x="9004" y="8582"/>
                </a:cubicBezTo>
                <a:cubicBezTo>
                  <a:pt x="8987" y="8583"/>
                  <a:pt x="8882" y="8578"/>
                  <a:pt x="8905" y="8533"/>
                </a:cubicBezTo>
                <a:cubicBezTo>
                  <a:pt x="8906" y="8532"/>
                  <a:pt x="8963" y="8488"/>
                  <a:pt x="8979" y="8483"/>
                </a:cubicBezTo>
                <a:cubicBezTo>
                  <a:pt x="9032" y="8465"/>
                  <a:pt x="9089" y="8500"/>
                  <a:pt x="9128" y="8508"/>
                </a:cubicBezTo>
                <a:cubicBezTo>
                  <a:pt x="9205" y="8523"/>
                  <a:pt x="9165" y="8524"/>
                  <a:pt x="9203" y="8582"/>
                </a:cubicBezTo>
                <a:cubicBezTo>
                  <a:pt x="9225" y="8605"/>
                  <a:pt x="9233" y="8610"/>
                  <a:pt x="9227" y="8632"/>
                </a:cubicBezTo>
              </a:path>
              <a:path w="3945" h="1191">
                <a:moveTo>
                  <a:pt x="9475" y="8235"/>
                </a:moveTo>
                <a:cubicBezTo>
                  <a:pt x="9424" y="8235"/>
                  <a:pt x="9422" y="8250"/>
                  <a:pt x="9401" y="8260"/>
                </a:cubicBezTo>
                <a:cubicBezTo>
                  <a:pt x="9375" y="8273"/>
                  <a:pt x="9356" y="8291"/>
                  <a:pt x="9351" y="8334"/>
                </a:cubicBezTo>
                <a:cubicBezTo>
                  <a:pt x="9347" y="8366"/>
                  <a:pt x="9380" y="8411"/>
                  <a:pt x="9401" y="8434"/>
                </a:cubicBezTo>
                <a:cubicBezTo>
                  <a:pt x="9441" y="8478"/>
                  <a:pt x="9545" y="8472"/>
                  <a:pt x="9575" y="8508"/>
                </a:cubicBezTo>
                <a:cubicBezTo>
                  <a:pt x="9575" y="8536"/>
                  <a:pt x="9577" y="8547"/>
                  <a:pt x="9599" y="8558"/>
                </a:cubicBezTo>
                <a:cubicBezTo>
                  <a:pt x="9590" y="8585"/>
                  <a:pt x="9581" y="8603"/>
                  <a:pt x="9550" y="8607"/>
                </a:cubicBezTo>
                <a:cubicBezTo>
                  <a:pt x="9499" y="8613"/>
                  <a:pt x="9485" y="8592"/>
                  <a:pt x="9451" y="8558"/>
                </a:cubicBezTo>
              </a:path>
              <a:path w="3945" h="1191">
                <a:moveTo>
                  <a:pt x="9376" y="8235"/>
                </a:moveTo>
                <a:cubicBezTo>
                  <a:pt x="9429" y="8212"/>
                  <a:pt x="9494" y="8195"/>
                  <a:pt x="9550" y="8186"/>
                </a:cubicBezTo>
                <a:cubicBezTo>
                  <a:pt x="9620" y="8175"/>
                  <a:pt x="9743" y="8170"/>
                  <a:pt x="9798" y="8210"/>
                </a:cubicBezTo>
              </a:path>
              <a:path w="3945" h="1191">
                <a:moveTo>
                  <a:pt x="8632" y="8731"/>
                </a:moveTo>
                <a:cubicBezTo>
                  <a:pt x="8749" y="8731"/>
                  <a:pt x="8896" y="8698"/>
                  <a:pt x="9004" y="8706"/>
                </a:cubicBezTo>
                <a:cubicBezTo>
                  <a:pt x="9103" y="8713"/>
                  <a:pt x="9198" y="8731"/>
                  <a:pt x="9302" y="8731"/>
                </a:cubicBezTo>
                <a:cubicBezTo>
                  <a:pt x="9442" y="8731"/>
                  <a:pt x="9583" y="8731"/>
                  <a:pt x="9723" y="8731"/>
                </a:cubicBezTo>
              </a:path>
              <a:path w="3945" h="1191">
                <a:moveTo>
                  <a:pt x="8954" y="8930"/>
                </a:moveTo>
                <a:cubicBezTo>
                  <a:pt x="9051" y="8930"/>
                  <a:pt x="9144" y="8927"/>
                  <a:pt x="9227" y="8954"/>
                </a:cubicBezTo>
                <a:cubicBezTo>
                  <a:pt x="9261" y="8965"/>
                  <a:pt x="9314" y="8954"/>
                  <a:pt x="9351" y="8954"/>
                </a:cubicBezTo>
                <a:cubicBezTo>
                  <a:pt x="9345" y="8978"/>
                  <a:pt x="9339" y="9033"/>
                  <a:pt x="9327" y="9054"/>
                </a:cubicBezTo>
                <a:cubicBezTo>
                  <a:pt x="9305" y="9094"/>
                  <a:pt x="9269" y="9113"/>
                  <a:pt x="9252" y="9153"/>
                </a:cubicBezTo>
                <a:cubicBezTo>
                  <a:pt x="9227" y="9210"/>
                  <a:pt x="9184" y="9228"/>
                  <a:pt x="9153" y="9277"/>
                </a:cubicBezTo>
                <a:cubicBezTo>
                  <a:pt x="9132" y="9310"/>
                  <a:pt x="9086" y="9337"/>
                  <a:pt x="9079" y="9351"/>
                </a:cubicBezTo>
                <a:cubicBezTo>
                  <a:pt x="9079" y="9359"/>
                  <a:pt x="9079" y="9368"/>
                  <a:pt x="9079" y="93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Ink 11"/>
          <p:cNvSpPr/>
          <p:nvPr/>
        </p:nvSpPr>
        <p:spPr>
          <a:xfrm>
            <a:off x="3732120" y="2919240"/>
            <a:ext cx="1233720" cy="625680"/>
          </a:xfrm>
          <a:custGeom>
            <a:avLst/>
            <a:gdLst/>
            <a:ahLst/>
            <a:rect l="l" t="t" r="r" b="b"/>
            <a:pathLst>
              <a:path w="3424" h="1737">
                <a:moveTo>
                  <a:pt x="10616" y="8582"/>
                </a:moveTo>
                <a:cubicBezTo>
                  <a:pt x="10566" y="8582"/>
                  <a:pt x="10558" y="8593"/>
                  <a:pt x="10517" y="8607"/>
                </a:cubicBezTo>
                <a:cubicBezTo>
                  <a:pt x="10487" y="8617"/>
                  <a:pt x="10476" y="8628"/>
                  <a:pt x="10443" y="8657"/>
                </a:cubicBezTo>
                <a:cubicBezTo>
                  <a:pt x="10429" y="8669"/>
                  <a:pt x="10373" y="8739"/>
                  <a:pt x="10368" y="8756"/>
                </a:cubicBezTo>
                <a:cubicBezTo>
                  <a:pt x="10354" y="8805"/>
                  <a:pt x="10365" y="8896"/>
                  <a:pt x="10393" y="8930"/>
                </a:cubicBezTo>
                <a:cubicBezTo>
                  <a:pt x="10420" y="8963"/>
                  <a:pt x="10478" y="9000"/>
                  <a:pt x="10517" y="9004"/>
                </a:cubicBezTo>
                <a:cubicBezTo>
                  <a:pt x="10564" y="9009"/>
                  <a:pt x="10575" y="8984"/>
                  <a:pt x="10616" y="8979"/>
                </a:cubicBezTo>
                <a:cubicBezTo>
                  <a:pt x="10644" y="8979"/>
                  <a:pt x="10655" y="8977"/>
                  <a:pt x="10666" y="8954"/>
                </a:cubicBezTo>
              </a:path>
              <a:path w="3424" h="1737">
                <a:moveTo>
                  <a:pt x="10939" y="8682"/>
                </a:moveTo>
                <a:cubicBezTo>
                  <a:pt x="10895" y="8750"/>
                  <a:pt x="10846" y="8803"/>
                  <a:pt x="10840" y="8880"/>
                </a:cubicBezTo>
                <a:cubicBezTo>
                  <a:pt x="10839" y="8887"/>
                  <a:pt x="10883" y="8950"/>
                  <a:pt x="10889" y="8954"/>
                </a:cubicBezTo>
                <a:cubicBezTo>
                  <a:pt x="10928" y="8979"/>
                  <a:pt x="11011" y="8938"/>
                  <a:pt x="11038" y="8930"/>
                </a:cubicBezTo>
                <a:cubicBezTo>
                  <a:pt x="11075" y="8919"/>
                  <a:pt x="11113" y="8892"/>
                  <a:pt x="11137" y="8855"/>
                </a:cubicBezTo>
                <a:cubicBezTo>
                  <a:pt x="11163" y="8815"/>
                  <a:pt x="11210" y="8760"/>
                  <a:pt x="11187" y="8706"/>
                </a:cubicBezTo>
                <a:cubicBezTo>
                  <a:pt x="11176" y="8680"/>
                  <a:pt x="11142" y="8621"/>
                  <a:pt x="11112" y="8607"/>
                </a:cubicBezTo>
                <a:cubicBezTo>
                  <a:pt x="11074" y="8590"/>
                  <a:pt x="11046" y="8608"/>
                  <a:pt x="11038" y="8632"/>
                </a:cubicBezTo>
              </a:path>
              <a:path w="3424" h="1737">
                <a:moveTo>
                  <a:pt x="11460" y="8260"/>
                </a:moveTo>
                <a:cubicBezTo>
                  <a:pt x="11460" y="8365"/>
                  <a:pt x="11452" y="8460"/>
                  <a:pt x="11435" y="8558"/>
                </a:cubicBezTo>
                <a:cubicBezTo>
                  <a:pt x="11418" y="8657"/>
                  <a:pt x="11432" y="8771"/>
                  <a:pt x="11460" y="8855"/>
                </a:cubicBezTo>
                <a:cubicBezTo>
                  <a:pt x="11460" y="8863"/>
                  <a:pt x="11460" y="8872"/>
                  <a:pt x="11460" y="8880"/>
                </a:cubicBezTo>
              </a:path>
              <a:path w="3424" h="1737">
                <a:moveTo>
                  <a:pt x="11286" y="8582"/>
                </a:moveTo>
                <a:cubicBezTo>
                  <a:pt x="11381" y="8582"/>
                  <a:pt x="11507" y="8561"/>
                  <a:pt x="11584" y="8607"/>
                </a:cubicBezTo>
              </a:path>
              <a:path w="3424" h="1737">
                <a:moveTo>
                  <a:pt x="11832" y="8533"/>
                </a:moveTo>
                <a:cubicBezTo>
                  <a:pt x="11841" y="8592"/>
                  <a:pt x="11865" y="8607"/>
                  <a:pt x="11881" y="8657"/>
                </a:cubicBezTo>
                <a:cubicBezTo>
                  <a:pt x="11899" y="8712"/>
                  <a:pt x="11914" y="8739"/>
                  <a:pt x="11956" y="8781"/>
                </a:cubicBezTo>
                <a:cubicBezTo>
                  <a:pt x="11992" y="8817"/>
                  <a:pt x="11976" y="8841"/>
                  <a:pt x="12030" y="8855"/>
                </a:cubicBezTo>
                <a:cubicBezTo>
                  <a:pt x="12030" y="8880"/>
                  <a:pt x="12030" y="8888"/>
                  <a:pt x="12055" y="8880"/>
                </a:cubicBezTo>
              </a:path>
              <a:path w="3424" h="1737">
                <a:moveTo>
                  <a:pt x="12005" y="8533"/>
                </a:moveTo>
                <a:cubicBezTo>
                  <a:pt x="11970" y="8595"/>
                  <a:pt x="11929" y="8652"/>
                  <a:pt x="11881" y="8706"/>
                </a:cubicBezTo>
                <a:cubicBezTo>
                  <a:pt x="11847" y="8744"/>
                  <a:pt x="11831" y="8795"/>
                  <a:pt x="11807" y="8830"/>
                </a:cubicBezTo>
                <a:cubicBezTo>
                  <a:pt x="11776" y="8876"/>
                  <a:pt x="11757" y="8872"/>
                  <a:pt x="11757" y="8930"/>
                </a:cubicBezTo>
              </a:path>
              <a:path w="3424" h="1737">
                <a:moveTo>
                  <a:pt x="12204" y="8582"/>
                </a:moveTo>
                <a:cubicBezTo>
                  <a:pt x="12243" y="8573"/>
                  <a:pt x="12259" y="8558"/>
                  <a:pt x="12303" y="8558"/>
                </a:cubicBezTo>
                <a:cubicBezTo>
                  <a:pt x="12386" y="8558"/>
                  <a:pt x="12468" y="8558"/>
                  <a:pt x="12551" y="8558"/>
                </a:cubicBezTo>
              </a:path>
              <a:path w="3424" h="1737">
                <a:moveTo>
                  <a:pt x="12204" y="8756"/>
                </a:moveTo>
                <a:cubicBezTo>
                  <a:pt x="12310" y="8756"/>
                  <a:pt x="12403" y="8756"/>
                  <a:pt x="12502" y="8731"/>
                </a:cubicBezTo>
                <a:cubicBezTo>
                  <a:pt x="12539" y="8722"/>
                  <a:pt x="12587" y="8731"/>
                  <a:pt x="12626" y="8731"/>
                </a:cubicBezTo>
              </a:path>
              <a:path w="3424" h="1737">
                <a:moveTo>
                  <a:pt x="12849" y="8161"/>
                </a:moveTo>
                <a:cubicBezTo>
                  <a:pt x="12858" y="8135"/>
                  <a:pt x="12867" y="8115"/>
                  <a:pt x="12898" y="8111"/>
                </a:cubicBezTo>
                <a:cubicBezTo>
                  <a:pt x="12939" y="8106"/>
                  <a:pt x="13018" y="8102"/>
                  <a:pt x="13047" y="8136"/>
                </a:cubicBezTo>
                <a:cubicBezTo>
                  <a:pt x="13070" y="8162"/>
                  <a:pt x="13097" y="8226"/>
                  <a:pt x="13122" y="8260"/>
                </a:cubicBezTo>
                <a:cubicBezTo>
                  <a:pt x="13142" y="8287"/>
                  <a:pt x="13181" y="8373"/>
                  <a:pt x="13171" y="8409"/>
                </a:cubicBezTo>
                <a:cubicBezTo>
                  <a:pt x="13163" y="8440"/>
                  <a:pt x="13138" y="8509"/>
                  <a:pt x="13122" y="8533"/>
                </a:cubicBezTo>
                <a:cubicBezTo>
                  <a:pt x="13103" y="8561"/>
                  <a:pt x="13031" y="8593"/>
                  <a:pt x="12998" y="8582"/>
                </a:cubicBezTo>
                <a:cubicBezTo>
                  <a:pt x="12953" y="8567"/>
                  <a:pt x="12948" y="8521"/>
                  <a:pt x="12948" y="8483"/>
                </a:cubicBezTo>
                <a:cubicBezTo>
                  <a:pt x="12948" y="8431"/>
                  <a:pt x="12980" y="8434"/>
                  <a:pt x="13022" y="8434"/>
                </a:cubicBezTo>
                <a:cubicBezTo>
                  <a:pt x="13074" y="8434"/>
                  <a:pt x="13133" y="8438"/>
                  <a:pt x="13171" y="8483"/>
                </a:cubicBezTo>
                <a:cubicBezTo>
                  <a:pt x="13192" y="8508"/>
                  <a:pt x="13236" y="8577"/>
                  <a:pt x="13246" y="8607"/>
                </a:cubicBezTo>
                <a:cubicBezTo>
                  <a:pt x="13246" y="8632"/>
                  <a:pt x="13246" y="8640"/>
                  <a:pt x="13246" y="8657"/>
                </a:cubicBezTo>
              </a:path>
              <a:path w="3424" h="1737">
                <a:moveTo>
                  <a:pt x="13444" y="8186"/>
                </a:moveTo>
                <a:cubicBezTo>
                  <a:pt x="13438" y="8224"/>
                  <a:pt x="13434" y="8297"/>
                  <a:pt x="13419" y="8334"/>
                </a:cubicBezTo>
                <a:cubicBezTo>
                  <a:pt x="13398" y="8385"/>
                  <a:pt x="13379" y="8379"/>
                  <a:pt x="13419" y="8409"/>
                </a:cubicBezTo>
                <a:cubicBezTo>
                  <a:pt x="13427" y="8417"/>
                  <a:pt x="13436" y="8426"/>
                  <a:pt x="13444" y="8434"/>
                </a:cubicBezTo>
                <a:cubicBezTo>
                  <a:pt x="13498" y="8401"/>
                  <a:pt x="13538" y="8432"/>
                  <a:pt x="13593" y="8409"/>
                </a:cubicBezTo>
                <a:cubicBezTo>
                  <a:pt x="13637" y="8391"/>
                  <a:pt x="13664" y="8384"/>
                  <a:pt x="13717" y="8384"/>
                </a:cubicBezTo>
              </a:path>
              <a:path w="3424" h="1737">
                <a:moveTo>
                  <a:pt x="13618" y="8161"/>
                </a:moveTo>
                <a:cubicBezTo>
                  <a:pt x="13618" y="8302"/>
                  <a:pt x="13559" y="8598"/>
                  <a:pt x="13643" y="8706"/>
                </a:cubicBezTo>
              </a:path>
              <a:path w="3424" h="1737">
                <a:moveTo>
                  <a:pt x="12750" y="8905"/>
                </a:moveTo>
                <a:cubicBezTo>
                  <a:pt x="12815" y="8905"/>
                  <a:pt x="12863" y="8890"/>
                  <a:pt x="12923" y="8880"/>
                </a:cubicBezTo>
                <a:cubicBezTo>
                  <a:pt x="13166" y="8839"/>
                  <a:pt x="13452" y="8884"/>
                  <a:pt x="13692" y="8905"/>
                </a:cubicBezTo>
                <a:cubicBezTo>
                  <a:pt x="13725" y="8905"/>
                  <a:pt x="13758" y="8905"/>
                  <a:pt x="13791" y="8905"/>
                </a:cubicBezTo>
              </a:path>
              <a:path w="3424" h="1737">
                <a:moveTo>
                  <a:pt x="12998" y="9153"/>
                </a:moveTo>
                <a:cubicBezTo>
                  <a:pt x="13139" y="9153"/>
                  <a:pt x="13294" y="9140"/>
                  <a:pt x="13419" y="9178"/>
                </a:cubicBezTo>
                <a:cubicBezTo>
                  <a:pt x="13454" y="9189"/>
                  <a:pt x="13490" y="9193"/>
                  <a:pt x="13494" y="9227"/>
                </a:cubicBezTo>
                <a:cubicBezTo>
                  <a:pt x="13500" y="9275"/>
                  <a:pt x="13473" y="9313"/>
                  <a:pt x="13444" y="9351"/>
                </a:cubicBezTo>
                <a:cubicBezTo>
                  <a:pt x="13400" y="9409"/>
                  <a:pt x="13339" y="9449"/>
                  <a:pt x="13295" y="9500"/>
                </a:cubicBezTo>
                <a:cubicBezTo>
                  <a:pt x="13253" y="9550"/>
                  <a:pt x="13225" y="9635"/>
                  <a:pt x="13171" y="9674"/>
                </a:cubicBezTo>
                <a:cubicBezTo>
                  <a:pt x="13107" y="9721"/>
                  <a:pt x="13072" y="9764"/>
                  <a:pt x="13072" y="98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Ink 12"/>
          <p:cNvSpPr/>
          <p:nvPr/>
        </p:nvSpPr>
        <p:spPr>
          <a:xfrm>
            <a:off x="1527120" y="4071960"/>
            <a:ext cx="2071800" cy="446040"/>
          </a:xfrm>
          <a:custGeom>
            <a:avLst/>
            <a:gdLst/>
            <a:ahLst/>
            <a:rect l="l" t="t" r="r" b="b"/>
            <a:pathLst>
              <a:path w="5755" h="1241">
                <a:moveTo>
                  <a:pt x="4440" y="11385"/>
                </a:moveTo>
                <a:lnTo>
                  <a:pt x="4440" y="11385"/>
                </a:lnTo>
              </a:path>
              <a:path w="5755" h="1241">
                <a:moveTo>
                  <a:pt x="4440" y="11385"/>
                </a:moveTo>
                <a:cubicBezTo>
                  <a:pt x="4440" y="11377"/>
                  <a:pt x="4440" y="11369"/>
                  <a:pt x="4440" y="11361"/>
                </a:cubicBezTo>
              </a:path>
              <a:path w="5755" h="1241">
                <a:moveTo>
                  <a:pt x="4440" y="11361"/>
                </a:moveTo>
                <a:cubicBezTo>
                  <a:pt x="4440" y="11369"/>
                  <a:pt x="4440" y="11377"/>
                  <a:pt x="4440" y="11385"/>
                </a:cubicBezTo>
                <a:cubicBezTo>
                  <a:pt x="4391" y="11401"/>
                  <a:pt x="4427" y="11431"/>
                  <a:pt x="4415" y="11485"/>
                </a:cubicBezTo>
                <a:cubicBezTo>
                  <a:pt x="4402" y="11542"/>
                  <a:pt x="4370" y="11601"/>
                  <a:pt x="4366" y="11658"/>
                </a:cubicBezTo>
                <a:cubicBezTo>
                  <a:pt x="4363" y="11702"/>
                  <a:pt x="4355" y="11764"/>
                  <a:pt x="4341" y="11807"/>
                </a:cubicBezTo>
                <a:cubicBezTo>
                  <a:pt x="4326" y="11853"/>
                  <a:pt x="4296" y="11887"/>
                  <a:pt x="4291" y="11931"/>
                </a:cubicBezTo>
                <a:cubicBezTo>
                  <a:pt x="4287" y="11963"/>
                  <a:pt x="4274" y="11975"/>
                  <a:pt x="4266" y="12005"/>
                </a:cubicBezTo>
              </a:path>
              <a:path w="5755" h="1241">
                <a:moveTo>
                  <a:pt x="4440" y="11311"/>
                </a:moveTo>
                <a:cubicBezTo>
                  <a:pt x="4474" y="11356"/>
                  <a:pt x="4498" y="11399"/>
                  <a:pt x="4514" y="11460"/>
                </a:cubicBezTo>
                <a:cubicBezTo>
                  <a:pt x="4526" y="11506"/>
                  <a:pt x="4526" y="11564"/>
                  <a:pt x="4539" y="11609"/>
                </a:cubicBezTo>
                <a:cubicBezTo>
                  <a:pt x="4555" y="11662"/>
                  <a:pt x="4566" y="11737"/>
                  <a:pt x="4589" y="11782"/>
                </a:cubicBezTo>
                <a:cubicBezTo>
                  <a:pt x="4609" y="11821"/>
                  <a:pt x="4614" y="11810"/>
                  <a:pt x="4614" y="11857"/>
                </a:cubicBezTo>
              </a:path>
              <a:path w="5755" h="1241">
                <a:moveTo>
                  <a:pt x="4490" y="11410"/>
                </a:moveTo>
                <a:cubicBezTo>
                  <a:pt x="4432" y="11387"/>
                  <a:pt x="4443" y="11381"/>
                  <a:pt x="4390" y="11435"/>
                </a:cubicBezTo>
                <a:cubicBezTo>
                  <a:pt x="4333" y="11492"/>
                  <a:pt x="4316" y="11515"/>
                  <a:pt x="4291" y="11584"/>
                </a:cubicBezTo>
                <a:cubicBezTo>
                  <a:pt x="4270" y="11644"/>
                  <a:pt x="4228" y="11769"/>
                  <a:pt x="4242" y="11832"/>
                </a:cubicBezTo>
                <a:cubicBezTo>
                  <a:pt x="4254" y="11886"/>
                  <a:pt x="4278" y="11918"/>
                  <a:pt x="4316" y="11956"/>
                </a:cubicBezTo>
                <a:cubicBezTo>
                  <a:pt x="4359" y="11999"/>
                  <a:pt x="4376" y="11988"/>
                  <a:pt x="4415" y="11981"/>
                </a:cubicBezTo>
                <a:cubicBezTo>
                  <a:pt x="4475" y="11971"/>
                  <a:pt x="4496" y="11945"/>
                  <a:pt x="4539" y="11906"/>
                </a:cubicBezTo>
                <a:cubicBezTo>
                  <a:pt x="4577" y="11871"/>
                  <a:pt x="4606" y="11799"/>
                  <a:pt x="4614" y="11757"/>
                </a:cubicBezTo>
                <a:cubicBezTo>
                  <a:pt x="4629" y="11684"/>
                  <a:pt x="4614" y="11658"/>
                  <a:pt x="4614" y="11584"/>
                </a:cubicBezTo>
                <a:cubicBezTo>
                  <a:pt x="4584" y="11634"/>
                  <a:pt x="4589" y="11671"/>
                  <a:pt x="4589" y="11733"/>
                </a:cubicBezTo>
                <a:cubicBezTo>
                  <a:pt x="4589" y="11808"/>
                  <a:pt x="4584" y="11863"/>
                  <a:pt x="4614" y="11931"/>
                </a:cubicBezTo>
                <a:cubicBezTo>
                  <a:pt x="4634" y="11976"/>
                  <a:pt x="4664" y="12006"/>
                  <a:pt x="4688" y="12030"/>
                </a:cubicBezTo>
                <a:cubicBezTo>
                  <a:pt x="4718" y="12060"/>
                  <a:pt x="4776" y="12036"/>
                  <a:pt x="4812" y="12005"/>
                </a:cubicBezTo>
                <a:cubicBezTo>
                  <a:pt x="4853" y="11970"/>
                  <a:pt x="4884" y="11925"/>
                  <a:pt x="4911" y="11881"/>
                </a:cubicBezTo>
                <a:cubicBezTo>
                  <a:pt x="4933" y="11844"/>
                  <a:pt x="4960" y="11758"/>
                  <a:pt x="4986" y="11733"/>
                </a:cubicBezTo>
                <a:cubicBezTo>
                  <a:pt x="5026" y="11713"/>
                  <a:pt x="5032" y="11704"/>
                  <a:pt x="5060" y="11708"/>
                </a:cubicBezTo>
                <a:cubicBezTo>
                  <a:pt x="5078" y="11738"/>
                  <a:pt x="5113" y="11797"/>
                  <a:pt x="5110" y="11832"/>
                </a:cubicBezTo>
                <a:cubicBezTo>
                  <a:pt x="5104" y="11900"/>
                  <a:pt x="5085" y="11958"/>
                  <a:pt x="5085" y="12030"/>
                </a:cubicBezTo>
                <a:cubicBezTo>
                  <a:pt x="5116" y="11991"/>
                  <a:pt x="5127" y="11949"/>
                  <a:pt x="5159" y="11906"/>
                </a:cubicBezTo>
                <a:cubicBezTo>
                  <a:pt x="5190" y="11864"/>
                  <a:pt x="5243" y="11778"/>
                  <a:pt x="5308" y="11782"/>
                </a:cubicBezTo>
                <a:cubicBezTo>
                  <a:pt x="5336" y="11782"/>
                  <a:pt x="5347" y="11784"/>
                  <a:pt x="5358" y="11807"/>
                </a:cubicBezTo>
                <a:cubicBezTo>
                  <a:pt x="5344" y="11843"/>
                  <a:pt x="5335" y="11864"/>
                  <a:pt x="5333" y="11906"/>
                </a:cubicBezTo>
                <a:cubicBezTo>
                  <a:pt x="5330" y="11958"/>
                  <a:pt x="5315" y="11980"/>
                  <a:pt x="5308" y="12030"/>
                </a:cubicBezTo>
                <a:cubicBezTo>
                  <a:pt x="5331" y="12044"/>
                  <a:pt x="5342" y="12065"/>
                  <a:pt x="5383" y="12055"/>
                </a:cubicBezTo>
                <a:cubicBezTo>
                  <a:pt x="5416" y="12047"/>
                  <a:pt x="5455" y="12006"/>
                  <a:pt x="5482" y="11981"/>
                </a:cubicBezTo>
                <a:cubicBezTo>
                  <a:pt x="5542" y="11926"/>
                  <a:pt x="5625" y="11916"/>
                  <a:pt x="5680" y="11881"/>
                </a:cubicBezTo>
                <a:cubicBezTo>
                  <a:pt x="5746" y="11839"/>
                  <a:pt x="5744" y="11820"/>
                  <a:pt x="5829" y="11832"/>
                </a:cubicBezTo>
                <a:cubicBezTo>
                  <a:pt x="5885" y="11840"/>
                  <a:pt x="5876" y="11884"/>
                  <a:pt x="5904" y="11906"/>
                </a:cubicBezTo>
                <a:cubicBezTo>
                  <a:pt x="5912" y="11906"/>
                  <a:pt x="5920" y="11906"/>
                  <a:pt x="5928" y="11906"/>
                </a:cubicBezTo>
              </a:path>
              <a:path w="5755" h="1241">
                <a:moveTo>
                  <a:pt x="5407" y="11981"/>
                </a:moveTo>
                <a:cubicBezTo>
                  <a:pt x="5443" y="11949"/>
                  <a:pt x="5468" y="11928"/>
                  <a:pt x="5507" y="11906"/>
                </a:cubicBezTo>
                <a:cubicBezTo>
                  <a:pt x="5539" y="11888"/>
                  <a:pt x="5571" y="11892"/>
                  <a:pt x="5606" y="11881"/>
                </a:cubicBezTo>
                <a:cubicBezTo>
                  <a:pt x="5639" y="11870"/>
                  <a:pt x="5671" y="11868"/>
                  <a:pt x="5705" y="11857"/>
                </a:cubicBezTo>
                <a:cubicBezTo>
                  <a:pt x="5742" y="11845"/>
                  <a:pt x="5762" y="11837"/>
                  <a:pt x="5804" y="11832"/>
                </a:cubicBezTo>
                <a:cubicBezTo>
                  <a:pt x="5822" y="11862"/>
                  <a:pt x="5826" y="11858"/>
                  <a:pt x="5829" y="11906"/>
                </a:cubicBezTo>
                <a:cubicBezTo>
                  <a:pt x="5833" y="11972"/>
                  <a:pt x="5850" y="11936"/>
                  <a:pt x="5854" y="12005"/>
                </a:cubicBezTo>
                <a:cubicBezTo>
                  <a:pt x="5856" y="12036"/>
                  <a:pt x="5859" y="12085"/>
                  <a:pt x="5879" y="12105"/>
                </a:cubicBezTo>
                <a:cubicBezTo>
                  <a:pt x="5928" y="12154"/>
                  <a:pt x="5920" y="12127"/>
                  <a:pt x="5953" y="12129"/>
                </a:cubicBezTo>
                <a:cubicBezTo>
                  <a:pt x="6012" y="12133"/>
                  <a:pt x="6039" y="12105"/>
                  <a:pt x="6077" y="12055"/>
                </a:cubicBezTo>
                <a:cubicBezTo>
                  <a:pt x="6099" y="12026"/>
                  <a:pt x="6114" y="11985"/>
                  <a:pt x="6152" y="11956"/>
                </a:cubicBezTo>
                <a:cubicBezTo>
                  <a:pt x="6185" y="11931"/>
                  <a:pt x="6214" y="11906"/>
                  <a:pt x="6251" y="11881"/>
                </a:cubicBezTo>
                <a:cubicBezTo>
                  <a:pt x="6291" y="11854"/>
                  <a:pt x="6301" y="11860"/>
                  <a:pt x="6350" y="11857"/>
                </a:cubicBezTo>
                <a:cubicBezTo>
                  <a:pt x="6411" y="11854"/>
                  <a:pt x="6402" y="11892"/>
                  <a:pt x="6449" y="11906"/>
                </a:cubicBezTo>
                <a:cubicBezTo>
                  <a:pt x="6480" y="11916"/>
                  <a:pt x="6428" y="11875"/>
                  <a:pt x="6400" y="11857"/>
                </a:cubicBezTo>
                <a:cubicBezTo>
                  <a:pt x="6379" y="11844"/>
                  <a:pt x="6331" y="11822"/>
                  <a:pt x="6300" y="11832"/>
                </a:cubicBezTo>
                <a:cubicBezTo>
                  <a:pt x="6262" y="11844"/>
                  <a:pt x="6254" y="11878"/>
                  <a:pt x="6226" y="11906"/>
                </a:cubicBezTo>
                <a:cubicBezTo>
                  <a:pt x="6188" y="11944"/>
                  <a:pt x="6155" y="11985"/>
                  <a:pt x="6127" y="12030"/>
                </a:cubicBezTo>
                <a:cubicBezTo>
                  <a:pt x="6092" y="12087"/>
                  <a:pt x="6109" y="12093"/>
                  <a:pt x="6102" y="12154"/>
                </a:cubicBezTo>
                <a:cubicBezTo>
                  <a:pt x="6164" y="12154"/>
                  <a:pt x="6200" y="12151"/>
                  <a:pt x="6251" y="12129"/>
                </a:cubicBezTo>
                <a:cubicBezTo>
                  <a:pt x="6331" y="12094"/>
                  <a:pt x="6323" y="12057"/>
                  <a:pt x="6350" y="11981"/>
                </a:cubicBezTo>
                <a:cubicBezTo>
                  <a:pt x="6367" y="11933"/>
                  <a:pt x="6401" y="11887"/>
                  <a:pt x="6424" y="11857"/>
                </a:cubicBezTo>
                <a:cubicBezTo>
                  <a:pt x="6406" y="11894"/>
                  <a:pt x="6384" y="11914"/>
                  <a:pt x="6375" y="11956"/>
                </a:cubicBezTo>
                <a:cubicBezTo>
                  <a:pt x="6363" y="12011"/>
                  <a:pt x="6353" y="12045"/>
                  <a:pt x="6350" y="12105"/>
                </a:cubicBezTo>
                <a:cubicBezTo>
                  <a:pt x="6350" y="12146"/>
                  <a:pt x="6350" y="12154"/>
                  <a:pt x="6350" y="12179"/>
                </a:cubicBezTo>
                <a:cubicBezTo>
                  <a:pt x="6399" y="12167"/>
                  <a:pt x="6411" y="12176"/>
                  <a:pt x="6449" y="12129"/>
                </a:cubicBezTo>
                <a:cubicBezTo>
                  <a:pt x="6482" y="12088"/>
                  <a:pt x="6499" y="12032"/>
                  <a:pt x="6524" y="11981"/>
                </a:cubicBezTo>
                <a:cubicBezTo>
                  <a:pt x="6556" y="11917"/>
                  <a:pt x="6581" y="11916"/>
                  <a:pt x="6623" y="11881"/>
                </a:cubicBezTo>
                <a:cubicBezTo>
                  <a:pt x="6631" y="11873"/>
                  <a:pt x="6640" y="11865"/>
                  <a:pt x="6648" y="11857"/>
                </a:cubicBezTo>
                <a:cubicBezTo>
                  <a:pt x="6652" y="11862"/>
                  <a:pt x="6698" y="11908"/>
                  <a:pt x="6697" y="11931"/>
                </a:cubicBezTo>
                <a:cubicBezTo>
                  <a:pt x="6695" y="11966"/>
                  <a:pt x="6683" y="12021"/>
                  <a:pt x="6672" y="12055"/>
                </a:cubicBezTo>
                <a:cubicBezTo>
                  <a:pt x="6663" y="12082"/>
                  <a:pt x="6672" y="12077"/>
                  <a:pt x="6672" y="12105"/>
                </a:cubicBezTo>
                <a:cubicBezTo>
                  <a:pt x="6689" y="12076"/>
                  <a:pt x="6702" y="12049"/>
                  <a:pt x="6722" y="12005"/>
                </a:cubicBezTo>
                <a:cubicBezTo>
                  <a:pt x="6743" y="11959"/>
                  <a:pt x="6755" y="11955"/>
                  <a:pt x="6796" y="11931"/>
                </a:cubicBezTo>
                <a:cubicBezTo>
                  <a:pt x="6837" y="11907"/>
                  <a:pt x="6825" y="11912"/>
                  <a:pt x="6871" y="11906"/>
                </a:cubicBezTo>
                <a:cubicBezTo>
                  <a:pt x="6876" y="11948"/>
                  <a:pt x="6890" y="11967"/>
                  <a:pt x="6896" y="12005"/>
                </a:cubicBezTo>
                <a:cubicBezTo>
                  <a:pt x="6904" y="12051"/>
                  <a:pt x="6912" y="12092"/>
                  <a:pt x="6921" y="12129"/>
                </a:cubicBezTo>
                <a:cubicBezTo>
                  <a:pt x="6921" y="12137"/>
                  <a:pt x="6921" y="12146"/>
                  <a:pt x="6921" y="12154"/>
                </a:cubicBezTo>
                <a:cubicBezTo>
                  <a:pt x="6988" y="12120"/>
                  <a:pt x="7023" y="12101"/>
                  <a:pt x="7069" y="12030"/>
                </a:cubicBezTo>
                <a:cubicBezTo>
                  <a:pt x="7099" y="11984"/>
                  <a:pt x="7118" y="11948"/>
                  <a:pt x="7169" y="11931"/>
                </a:cubicBezTo>
                <a:cubicBezTo>
                  <a:pt x="7217" y="11915"/>
                  <a:pt x="7252" y="11935"/>
                  <a:pt x="7268" y="11956"/>
                </a:cubicBezTo>
                <a:cubicBezTo>
                  <a:pt x="7290" y="11978"/>
                  <a:pt x="7299" y="11983"/>
                  <a:pt x="7293" y="12005"/>
                </a:cubicBezTo>
                <a:cubicBezTo>
                  <a:pt x="7278" y="11987"/>
                  <a:pt x="7246" y="11941"/>
                  <a:pt x="7218" y="11906"/>
                </a:cubicBezTo>
                <a:cubicBezTo>
                  <a:pt x="7201" y="11885"/>
                  <a:pt x="7192" y="11870"/>
                  <a:pt x="7144" y="11881"/>
                </a:cubicBezTo>
                <a:cubicBezTo>
                  <a:pt x="7108" y="11890"/>
                  <a:pt x="7086" y="11926"/>
                  <a:pt x="7069" y="11956"/>
                </a:cubicBezTo>
                <a:cubicBezTo>
                  <a:pt x="7055" y="11980"/>
                  <a:pt x="7022" y="12075"/>
                  <a:pt x="7045" y="12105"/>
                </a:cubicBezTo>
                <a:cubicBezTo>
                  <a:pt x="7071" y="12139"/>
                  <a:pt x="7161" y="12131"/>
                  <a:pt x="7193" y="12105"/>
                </a:cubicBezTo>
                <a:cubicBezTo>
                  <a:pt x="7228" y="12076"/>
                  <a:pt x="7278" y="12000"/>
                  <a:pt x="7293" y="11956"/>
                </a:cubicBezTo>
                <a:cubicBezTo>
                  <a:pt x="7314" y="11895"/>
                  <a:pt x="7338" y="11822"/>
                  <a:pt x="7342" y="11757"/>
                </a:cubicBezTo>
                <a:cubicBezTo>
                  <a:pt x="7345" y="11703"/>
                  <a:pt x="7363" y="11663"/>
                  <a:pt x="7367" y="11609"/>
                </a:cubicBezTo>
                <a:cubicBezTo>
                  <a:pt x="7367" y="11601"/>
                  <a:pt x="7367" y="11592"/>
                  <a:pt x="7367" y="11584"/>
                </a:cubicBezTo>
                <a:cubicBezTo>
                  <a:pt x="7351" y="11625"/>
                  <a:pt x="7355" y="11663"/>
                  <a:pt x="7342" y="11708"/>
                </a:cubicBezTo>
                <a:cubicBezTo>
                  <a:pt x="7318" y="11792"/>
                  <a:pt x="7297" y="11893"/>
                  <a:pt x="7293" y="11981"/>
                </a:cubicBezTo>
                <a:cubicBezTo>
                  <a:pt x="7290" y="12052"/>
                  <a:pt x="7296" y="12096"/>
                  <a:pt x="7317" y="12154"/>
                </a:cubicBezTo>
                <a:cubicBezTo>
                  <a:pt x="7342" y="12134"/>
                  <a:pt x="7357" y="12134"/>
                  <a:pt x="7392" y="12105"/>
                </a:cubicBezTo>
                <a:cubicBezTo>
                  <a:pt x="7440" y="12066"/>
                  <a:pt x="7502" y="11956"/>
                  <a:pt x="7565" y="11956"/>
                </a:cubicBezTo>
                <a:cubicBezTo>
                  <a:pt x="7591" y="11956"/>
                  <a:pt x="7637" y="11972"/>
                  <a:pt x="7665" y="11981"/>
                </a:cubicBezTo>
                <a:cubicBezTo>
                  <a:pt x="7699" y="11992"/>
                  <a:pt x="7699" y="12000"/>
                  <a:pt x="7739" y="12005"/>
                </a:cubicBezTo>
                <a:cubicBezTo>
                  <a:pt x="7714" y="11976"/>
                  <a:pt x="7724" y="11945"/>
                  <a:pt x="7665" y="11956"/>
                </a:cubicBezTo>
                <a:cubicBezTo>
                  <a:pt x="7643" y="11960"/>
                  <a:pt x="7577" y="12006"/>
                  <a:pt x="7565" y="12030"/>
                </a:cubicBezTo>
                <a:cubicBezTo>
                  <a:pt x="7549" y="12064"/>
                  <a:pt x="7534" y="12138"/>
                  <a:pt x="7541" y="12179"/>
                </a:cubicBezTo>
                <a:cubicBezTo>
                  <a:pt x="7541" y="12207"/>
                  <a:pt x="7543" y="12218"/>
                  <a:pt x="7565" y="12229"/>
                </a:cubicBezTo>
                <a:cubicBezTo>
                  <a:pt x="7618" y="12217"/>
                  <a:pt x="7638" y="12215"/>
                  <a:pt x="7689" y="12179"/>
                </a:cubicBezTo>
                <a:cubicBezTo>
                  <a:pt x="7697" y="12171"/>
                  <a:pt x="7706" y="12162"/>
                  <a:pt x="7714" y="12154"/>
                </a:cubicBezTo>
              </a:path>
              <a:path w="5755" h="1241">
                <a:moveTo>
                  <a:pt x="7739" y="12005"/>
                </a:moveTo>
                <a:cubicBezTo>
                  <a:pt x="7718" y="12074"/>
                  <a:pt x="7692" y="12121"/>
                  <a:pt x="7739" y="12179"/>
                </a:cubicBezTo>
                <a:cubicBezTo>
                  <a:pt x="7780" y="12231"/>
                  <a:pt x="7799" y="12229"/>
                  <a:pt x="7863" y="12229"/>
                </a:cubicBezTo>
                <a:cubicBezTo>
                  <a:pt x="7896" y="12229"/>
                  <a:pt x="7913" y="12229"/>
                  <a:pt x="7938" y="12229"/>
                </a:cubicBezTo>
              </a:path>
              <a:path w="5755" h="1241">
                <a:moveTo>
                  <a:pt x="8434" y="11708"/>
                </a:moveTo>
                <a:cubicBezTo>
                  <a:pt x="8434" y="11774"/>
                  <a:pt x="8434" y="11840"/>
                  <a:pt x="8434" y="11906"/>
                </a:cubicBezTo>
              </a:path>
              <a:path w="5755" h="1241">
                <a:moveTo>
                  <a:pt x="8384" y="12080"/>
                </a:moveTo>
                <a:cubicBezTo>
                  <a:pt x="8359" y="12141"/>
                  <a:pt x="8345" y="12181"/>
                  <a:pt x="8310" y="12229"/>
                </a:cubicBezTo>
                <a:cubicBezTo>
                  <a:pt x="8310" y="12160"/>
                  <a:pt x="8324" y="12123"/>
                  <a:pt x="8334" y="12055"/>
                </a:cubicBezTo>
                <a:cubicBezTo>
                  <a:pt x="8349" y="11951"/>
                  <a:pt x="8376" y="11883"/>
                  <a:pt x="8434" y="11782"/>
                </a:cubicBezTo>
                <a:cubicBezTo>
                  <a:pt x="8460" y="11737"/>
                  <a:pt x="8495" y="11696"/>
                  <a:pt x="8533" y="11658"/>
                </a:cubicBezTo>
                <a:cubicBezTo>
                  <a:pt x="8574" y="11617"/>
                  <a:pt x="8614" y="11610"/>
                  <a:pt x="8657" y="11584"/>
                </a:cubicBezTo>
                <a:cubicBezTo>
                  <a:pt x="8704" y="11556"/>
                  <a:pt x="8739" y="11551"/>
                  <a:pt x="8781" y="11609"/>
                </a:cubicBezTo>
                <a:cubicBezTo>
                  <a:pt x="8820" y="11663"/>
                  <a:pt x="8830" y="11692"/>
                  <a:pt x="8830" y="11757"/>
                </a:cubicBezTo>
                <a:cubicBezTo>
                  <a:pt x="8830" y="11827"/>
                  <a:pt x="8817" y="11893"/>
                  <a:pt x="8781" y="11956"/>
                </a:cubicBezTo>
                <a:cubicBezTo>
                  <a:pt x="8757" y="11999"/>
                  <a:pt x="8702" y="12025"/>
                  <a:pt x="8657" y="12030"/>
                </a:cubicBezTo>
                <a:cubicBezTo>
                  <a:pt x="8625" y="12033"/>
                  <a:pt x="8590" y="12030"/>
                  <a:pt x="8558" y="12030"/>
                </a:cubicBezTo>
              </a:path>
              <a:path w="5755" h="1241">
                <a:moveTo>
                  <a:pt x="8706" y="12303"/>
                </a:moveTo>
                <a:cubicBezTo>
                  <a:pt x="8755" y="12255"/>
                  <a:pt x="8802" y="12219"/>
                  <a:pt x="8855" y="12179"/>
                </a:cubicBezTo>
                <a:cubicBezTo>
                  <a:pt x="8895" y="12149"/>
                  <a:pt x="8952" y="12088"/>
                  <a:pt x="8979" y="12055"/>
                </a:cubicBezTo>
                <a:cubicBezTo>
                  <a:pt x="9028" y="11994"/>
                  <a:pt x="9058" y="11922"/>
                  <a:pt x="9103" y="11857"/>
                </a:cubicBezTo>
                <a:cubicBezTo>
                  <a:pt x="9132" y="11814"/>
                  <a:pt x="9151" y="11772"/>
                  <a:pt x="9178" y="11733"/>
                </a:cubicBezTo>
                <a:cubicBezTo>
                  <a:pt x="9125" y="11740"/>
                  <a:pt x="9120" y="11741"/>
                  <a:pt x="9079" y="11782"/>
                </a:cubicBezTo>
                <a:cubicBezTo>
                  <a:pt x="9033" y="11828"/>
                  <a:pt x="8987" y="11875"/>
                  <a:pt x="8954" y="11931"/>
                </a:cubicBezTo>
                <a:cubicBezTo>
                  <a:pt x="8929" y="11974"/>
                  <a:pt x="8889" y="12080"/>
                  <a:pt x="8880" y="12129"/>
                </a:cubicBezTo>
                <a:cubicBezTo>
                  <a:pt x="8870" y="12185"/>
                  <a:pt x="8872" y="12262"/>
                  <a:pt x="8905" y="12303"/>
                </a:cubicBezTo>
                <a:cubicBezTo>
                  <a:pt x="8910" y="12309"/>
                  <a:pt x="8956" y="12355"/>
                  <a:pt x="8979" y="12353"/>
                </a:cubicBezTo>
                <a:cubicBezTo>
                  <a:pt x="9029" y="12348"/>
                  <a:pt x="9089" y="12310"/>
                  <a:pt x="9128" y="12278"/>
                </a:cubicBezTo>
                <a:cubicBezTo>
                  <a:pt x="9155" y="12256"/>
                  <a:pt x="9185" y="12225"/>
                  <a:pt x="9203" y="12204"/>
                </a:cubicBezTo>
                <a:cubicBezTo>
                  <a:pt x="9222" y="12183"/>
                  <a:pt x="9207" y="12199"/>
                  <a:pt x="9227" y="12179"/>
                </a:cubicBezTo>
                <a:cubicBezTo>
                  <a:pt x="9212" y="12194"/>
                  <a:pt x="9175" y="12220"/>
                  <a:pt x="9153" y="12254"/>
                </a:cubicBezTo>
                <a:cubicBezTo>
                  <a:pt x="9134" y="12282"/>
                  <a:pt x="9130" y="12316"/>
                  <a:pt x="9128" y="12353"/>
                </a:cubicBezTo>
                <a:cubicBezTo>
                  <a:pt x="9128" y="12378"/>
                  <a:pt x="9128" y="12386"/>
                  <a:pt x="9128" y="12402"/>
                </a:cubicBezTo>
                <a:cubicBezTo>
                  <a:pt x="9176" y="12381"/>
                  <a:pt x="9229" y="12360"/>
                  <a:pt x="9277" y="12328"/>
                </a:cubicBezTo>
                <a:cubicBezTo>
                  <a:pt x="9277" y="12365"/>
                  <a:pt x="9259" y="12427"/>
                  <a:pt x="9302" y="12427"/>
                </a:cubicBezTo>
                <a:cubicBezTo>
                  <a:pt x="9337" y="12427"/>
                  <a:pt x="9400" y="12376"/>
                  <a:pt x="9426" y="12353"/>
                </a:cubicBezTo>
                <a:cubicBezTo>
                  <a:pt x="9477" y="12307"/>
                  <a:pt x="9517" y="12215"/>
                  <a:pt x="9550" y="12154"/>
                </a:cubicBezTo>
                <a:cubicBezTo>
                  <a:pt x="9578" y="12101"/>
                  <a:pt x="9598" y="12017"/>
                  <a:pt x="9649" y="11981"/>
                </a:cubicBezTo>
                <a:cubicBezTo>
                  <a:pt x="9690" y="11961"/>
                  <a:pt x="9706" y="11963"/>
                  <a:pt x="9699" y="11931"/>
                </a:cubicBezTo>
                <a:cubicBezTo>
                  <a:pt x="9678" y="11967"/>
                  <a:pt x="9653" y="12017"/>
                  <a:pt x="9624" y="12055"/>
                </a:cubicBezTo>
                <a:cubicBezTo>
                  <a:pt x="9592" y="12098"/>
                  <a:pt x="9580" y="12153"/>
                  <a:pt x="9550" y="12204"/>
                </a:cubicBezTo>
                <a:cubicBezTo>
                  <a:pt x="9524" y="12247"/>
                  <a:pt x="9507" y="12309"/>
                  <a:pt x="9500" y="12353"/>
                </a:cubicBezTo>
                <a:cubicBezTo>
                  <a:pt x="9495" y="12384"/>
                  <a:pt x="9500" y="12421"/>
                  <a:pt x="9500" y="12452"/>
                </a:cubicBezTo>
                <a:cubicBezTo>
                  <a:pt x="9551" y="12446"/>
                  <a:pt x="9556" y="12450"/>
                  <a:pt x="9599" y="12427"/>
                </a:cubicBezTo>
                <a:cubicBezTo>
                  <a:pt x="9652" y="12399"/>
                  <a:pt x="9704" y="12368"/>
                  <a:pt x="9748" y="12328"/>
                </a:cubicBezTo>
                <a:cubicBezTo>
                  <a:pt x="9784" y="12295"/>
                  <a:pt x="9800" y="12306"/>
                  <a:pt x="9847" y="12303"/>
                </a:cubicBezTo>
                <a:cubicBezTo>
                  <a:pt x="9876" y="12301"/>
                  <a:pt x="9926" y="12314"/>
                  <a:pt x="9922" y="12353"/>
                </a:cubicBezTo>
                <a:cubicBezTo>
                  <a:pt x="9922" y="12378"/>
                  <a:pt x="9922" y="12386"/>
                  <a:pt x="9897" y="12378"/>
                </a:cubicBezTo>
                <a:cubicBezTo>
                  <a:pt x="9897" y="12345"/>
                  <a:pt x="9911" y="12358"/>
                  <a:pt x="9897" y="12328"/>
                </a:cubicBezTo>
                <a:cubicBezTo>
                  <a:pt x="9874" y="12305"/>
                  <a:pt x="9870" y="12297"/>
                  <a:pt x="9847" y="12303"/>
                </a:cubicBezTo>
                <a:cubicBezTo>
                  <a:pt x="9812" y="12339"/>
                  <a:pt x="9809" y="12343"/>
                  <a:pt x="9773" y="12378"/>
                </a:cubicBezTo>
                <a:cubicBezTo>
                  <a:pt x="9765" y="12385"/>
                  <a:pt x="9699" y="12471"/>
                  <a:pt x="9699" y="12477"/>
                </a:cubicBezTo>
                <a:cubicBezTo>
                  <a:pt x="9707" y="12493"/>
                  <a:pt x="9715" y="12510"/>
                  <a:pt x="9723" y="12526"/>
                </a:cubicBezTo>
                <a:cubicBezTo>
                  <a:pt x="9776" y="12519"/>
                  <a:pt x="9782" y="12518"/>
                  <a:pt x="9823" y="12477"/>
                </a:cubicBezTo>
                <a:cubicBezTo>
                  <a:pt x="9875" y="12424"/>
                  <a:pt x="9873" y="12392"/>
                  <a:pt x="9897" y="12353"/>
                </a:cubicBezTo>
                <a:cubicBezTo>
                  <a:pt x="9883" y="12389"/>
                  <a:pt x="9874" y="12409"/>
                  <a:pt x="9872" y="12452"/>
                </a:cubicBezTo>
                <a:cubicBezTo>
                  <a:pt x="9869" y="12514"/>
                  <a:pt x="9865" y="12533"/>
                  <a:pt x="9922" y="12551"/>
                </a:cubicBezTo>
                <a:cubicBezTo>
                  <a:pt x="9941" y="12557"/>
                  <a:pt x="9976" y="12551"/>
                  <a:pt x="9996" y="12551"/>
                </a:cubicBezTo>
              </a:path>
              <a:path w="5755" h="1241">
                <a:moveTo>
                  <a:pt x="9426" y="11956"/>
                </a:moveTo>
                <a:cubicBezTo>
                  <a:pt x="9478" y="11987"/>
                  <a:pt x="9519" y="11985"/>
                  <a:pt x="9575" y="12005"/>
                </a:cubicBezTo>
                <a:cubicBezTo>
                  <a:pt x="9632" y="12025"/>
                  <a:pt x="9690" y="12040"/>
                  <a:pt x="9748" y="12055"/>
                </a:cubicBezTo>
                <a:cubicBezTo>
                  <a:pt x="9756" y="12055"/>
                  <a:pt x="9765" y="12055"/>
                  <a:pt x="9773" y="120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Ink 4"/>
          <p:cNvSpPr/>
          <p:nvPr/>
        </p:nvSpPr>
        <p:spPr>
          <a:xfrm>
            <a:off x="142920" y="1357200"/>
            <a:ext cx="420480" cy="482760"/>
          </a:xfrm>
          <a:custGeom>
            <a:avLst/>
            <a:gdLst/>
            <a:ahLst/>
            <a:rect l="l" t="t" r="r" b="b"/>
            <a:pathLst>
              <a:path w="1167" h="1341">
                <a:moveTo>
                  <a:pt x="744" y="4217"/>
                </a:moveTo>
                <a:cubicBezTo>
                  <a:pt x="719" y="4217"/>
                  <a:pt x="711" y="4217"/>
                  <a:pt x="719" y="4192"/>
                </a:cubicBezTo>
                <a:cubicBezTo>
                  <a:pt x="727" y="4169"/>
                  <a:pt x="762" y="4153"/>
                  <a:pt x="794" y="4142"/>
                </a:cubicBezTo>
                <a:cubicBezTo>
                  <a:pt x="826" y="4131"/>
                  <a:pt x="909" y="4124"/>
                  <a:pt x="943" y="4118"/>
                </a:cubicBezTo>
                <a:cubicBezTo>
                  <a:pt x="996" y="4109"/>
                  <a:pt x="1061" y="4118"/>
                  <a:pt x="1116" y="4118"/>
                </a:cubicBezTo>
                <a:cubicBezTo>
                  <a:pt x="1116" y="4163"/>
                  <a:pt x="1094" y="4177"/>
                  <a:pt x="1091" y="4217"/>
                </a:cubicBezTo>
                <a:cubicBezTo>
                  <a:pt x="1085" y="4296"/>
                  <a:pt x="1067" y="4357"/>
                  <a:pt x="1067" y="4440"/>
                </a:cubicBezTo>
                <a:cubicBezTo>
                  <a:pt x="1067" y="4522"/>
                  <a:pt x="1045" y="4582"/>
                  <a:pt x="1042" y="4663"/>
                </a:cubicBezTo>
                <a:cubicBezTo>
                  <a:pt x="1042" y="4673"/>
                  <a:pt x="1042" y="4881"/>
                  <a:pt x="1042" y="4812"/>
                </a:cubicBezTo>
                <a:cubicBezTo>
                  <a:pt x="1042" y="4764"/>
                  <a:pt x="1045" y="4762"/>
                  <a:pt x="1067" y="4713"/>
                </a:cubicBezTo>
              </a:path>
              <a:path w="1167" h="1341">
                <a:moveTo>
                  <a:pt x="1067" y="3770"/>
                </a:moveTo>
                <a:cubicBezTo>
                  <a:pt x="901" y="3779"/>
                  <a:pt x="874" y="3804"/>
                  <a:pt x="744" y="3894"/>
                </a:cubicBezTo>
                <a:cubicBezTo>
                  <a:pt x="636" y="3969"/>
                  <a:pt x="590" y="4083"/>
                  <a:pt x="521" y="4192"/>
                </a:cubicBezTo>
                <a:cubicBezTo>
                  <a:pt x="462" y="4286"/>
                  <a:pt x="394" y="4451"/>
                  <a:pt x="397" y="4564"/>
                </a:cubicBezTo>
                <a:cubicBezTo>
                  <a:pt x="402" y="4733"/>
                  <a:pt x="457" y="4927"/>
                  <a:pt x="595" y="5035"/>
                </a:cubicBezTo>
                <a:cubicBezTo>
                  <a:pt x="719" y="5132"/>
                  <a:pt x="878" y="5129"/>
                  <a:pt x="1017" y="5060"/>
                </a:cubicBezTo>
                <a:cubicBezTo>
                  <a:pt x="1145" y="4996"/>
                  <a:pt x="1258" y="4907"/>
                  <a:pt x="1364" y="4812"/>
                </a:cubicBezTo>
                <a:cubicBezTo>
                  <a:pt x="1472" y="4715"/>
                  <a:pt x="1501" y="4600"/>
                  <a:pt x="1538" y="4465"/>
                </a:cubicBezTo>
                <a:cubicBezTo>
                  <a:pt x="1578" y="4320"/>
                  <a:pt x="1530" y="4242"/>
                  <a:pt x="1463" y="4118"/>
                </a:cubicBezTo>
                <a:cubicBezTo>
                  <a:pt x="1397" y="3996"/>
                  <a:pt x="1307" y="3917"/>
                  <a:pt x="1191" y="3845"/>
                </a:cubicBezTo>
                <a:cubicBezTo>
                  <a:pt x="1141" y="3814"/>
                  <a:pt x="1138" y="3826"/>
                  <a:pt x="1091" y="38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Ink 5"/>
          <p:cNvSpPr/>
          <p:nvPr/>
        </p:nvSpPr>
        <p:spPr>
          <a:xfrm>
            <a:off x="839880" y="1357200"/>
            <a:ext cx="1554120" cy="374760"/>
          </a:xfrm>
          <a:custGeom>
            <a:avLst/>
            <a:gdLst/>
            <a:ahLst/>
            <a:rect l="l" t="t" r="r" b="b"/>
            <a:pathLst>
              <a:path w="4317" h="1043">
                <a:moveTo>
                  <a:pt x="2828" y="3845"/>
                </a:moveTo>
                <a:cubicBezTo>
                  <a:pt x="2726" y="3845"/>
                  <a:pt x="2667" y="3841"/>
                  <a:pt x="2580" y="3894"/>
                </a:cubicBezTo>
                <a:cubicBezTo>
                  <a:pt x="2501" y="3942"/>
                  <a:pt x="2456" y="3968"/>
                  <a:pt x="2381" y="4018"/>
                </a:cubicBezTo>
                <a:cubicBezTo>
                  <a:pt x="2351" y="4038"/>
                  <a:pt x="2304" y="4067"/>
                  <a:pt x="2332" y="4118"/>
                </a:cubicBezTo>
                <a:cubicBezTo>
                  <a:pt x="2360" y="4168"/>
                  <a:pt x="2548" y="4246"/>
                  <a:pt x="2580" y="4266"/>
                </a:cubicBezTo>
                <a:cubicBezTo>
                  <a:pt x="2682" y="4330"/>
                  <a:pt x="2757" y="4362"/>
                  <a:pt x="2828" y="4465"/>
                </a:cubicBezTo>
                <a:cubicBezTo>
                  <a:pt x="2881" y="4541"/>
                  <a:pt x="2856" y="4603"/>
                  <a:pt x="2803" y="4663"/>
                </a:cubicBezTo>
                <a:cubicBezTo>
                  <a:pt x="2735" y="4739"/>
                  <a:pt x="2649" y="4756"/>
                  <a:pt x="2555" y="4787"/>
                </a:cubicBezTo>
                <a:cubicBezTo>
                  <a:pt x="2542" y="4791"/>
                  <a:pt x="2371" y="4842"/>
                  <a:pt x="2356" y="4812"/>
                </a:cubicBezTo>
                <a:cubicBezTo>
                  <a:pt x="2356" y="4795"/>
                  <a:pt x="2356" y="4779"/>
                  <a:pt x="2356" y="4762"/>
                </a:cubicBezTo>
              </a:path>
              <a:path w="4317" h="1043">
                <a:moveTo>
                  <a:pt x="3001" y="4415"/>
                </a:moveTo>
                <a:cubicBezTo>
                  <a:pt x="3069" y="4434"/>
                  <a:pt x="3101" y="4422"/>
                  <a:pt x="3175" y="4390"/>
                </a:cubicBezTo>
                <a:cubicBezTo>
                  <a:pt x="3256" y="4355"/>
                  <a:pt x="3368" y="4314"/>
                  <a:pt x="3423" y="4242"/>
                </a:cubicBezTo>
                <a:cubicBezTo>
                  <a:pt x="3449" y="4208"/>
                  <a:pt x="3496" y="4139"/>
                  <a:pt x="3473" y="4093"/>
                </a:cubicBezTo>
                <a:cubicBezTo>
                  <a:pt x="3440" y="4028"/>
                  <a:pt x="3401" y="4043"/>
                  <a:pt x="3349" y="4068"/>
                </a:cubicBezTo>
                <a:cubicBezTo>
                  <a:pt x="3266" y="4107"/>
                  <a:pt x="3225" y="4168"/>
                  <a:pt x="3175" y="4242"/>
                </a:cubicBezTo>
                <a:cubicBezTo>
                  <a:pt x="3111" y="4335"/>
                  <a:pt x="3081" y="4401"/>
                  <a:pt x="3076" y="4514"/>
                </a:cubicBezTo>
                <a:cubicBezTo>
                  <a:pt x="3073" y="4570"/>
                  <a:pt x="3058" y="4669"/>
                  <a:pt x="3101" y="4713"/>
                </a:cubicBezTo>
                <a:cubicBezTo>
                  <a:pt x="3129" y="4741"/>
                  <a:pt x="3241" y="4756"/>
                  <a:pt x="3274" y="4738"/>
                </a:cubicBezTo>
                <a:cubicBezTo>
                  <a:pt x="3291" y="4721"/>
                  <a:pt x="3307" y="4705"/>
                  <a:pt x="3324" y="4688"/>
                </a:cubicBezTo>
              </a:path>
              <a:path w="4317" h="1043">
                <a:moveTo>
                  <a:pt x="4068" y="4093"/>
                </a:moveTo>
                <a:cubicBezTo>
                  <a:pt x="4089" y="4052"/>
                  <a:pt x="4070" y="4036"/>
                  <a:pt x="4018" y="4018"/>
                </a:cubicBezTo>
                <a:cubicBezTo>
                  <a:pt x="3972" y="4002"/>
                  <a:pt x="3947" y="4040"/>
                  <a:pt x="3919" y="4068"/>
                </a:cubicBezTo>
                <a:cubicBezTo>
                  <a:pt x="3851" y="4137"/>
                  <a:pt x="3816" y="4210"/>
                  <a:pt x="3770" y="4291"/>
                </a:cubicBezTo>
                <a:cubicBezTo>
                  <a:pt x="3716" y="4386"/>
                  <a:pt x="3676" y="4456"/>
                  <a:pt x="3671" y="4564"/>
                </a:cubicBezTo>
                <a:cubicBezTo>
                  <a:pt x="3667" y="4655"/>
                  <a:pt x="3694" y="4698"/>
                  <a:pt x="3770" y="4738"/>
                </a:cubicBezTo>
                <a:cubicBezTo>
                  <a:pt x="3841" y="4775"/>
                  <a:pt x="3926" y="4759"/>
                  <a:pt x="3994" y="4713"/>
                </a:cubicBezTo>
                <a:cubicBezTo>
                  <a:pt x="4010" y="4696"/>
                  <a:pt x="4027" y="4680"/>
                  <a:pt x="4043" y="4663"/>
                </a:cubicBezTo>
              </a:path>
              <a:path w="4317" h="1043">
                <a:moveTo>
                  <a:pt x="4465" y="4093"/>
                </a:moveTo>
                <a:cubicBezTo>
                  <a:pt x="4421" y="4226"/>
                  <a:pt x="4337" y="4390"/>
                  <a:pt x="4366" y="4539"/>
                </a:cubicBezTo>
                <a:cubicBezTo>
                  <a:pt x="4379" y="4608"/>
                  <a:pt x="4412" y="4695"/>
                  <a:pt x="4490" y="4713"/>
                </a:cubicBezTo>
                <a:cubicBezTo>
                  <a:pt x="4556" y="4729"/>
                  <a:pt x="4656" y="4719"/>
                  <a:pt x="4713" y="4688"/>
                </a:cubicBezTo>
                <a:cubicBezTo>
                  <a:pt x="4856" y="4610"/>
                  <a:pt x="4941" y="4456"/>
                  <a:pt x="4936" y="4291"/>
                </a:cubicBezTo>
                <a:cubicBezTo>
                  <a:pt x="4933" y="4191"/>
                  <a:pt x="4805" y="3995"/>
                  <a:pt x="4713" y="3944"/>
                </a:cubicBezTo>
                <a:cubicBezTo>
                  <a:pt x="4676" y="3924"/>
                  <a:pt x="4554" y="3899"/>
                  <a:pt x="4514" y="3894"/>
                </a:cubicBezTo>
                <a:cubicBezTo>
                  <a:pt x="4498" y="3894"/>
                  <a:pt x="4481" y="3894"/>
                  <a:pt x="4465" y="3894"/>
                </a:cubicBezTo>
              </a:path>
              <a:path w="4317" h="1043">
                <a:moveTo>
                  <a:pt x="4167" y="4366"/>
                </a:moveTo>
                <a:cubicBezTo>
                  <a:pt x="4316" y="4344"/>
                  <a:pt x="4465" y="4306"/>
                  <a:pt x="4614" y="4291"/>
                </a:cubicBezTo>
                <a:cubicBezTo>
                  <a:pt x="4699" y="4282"/>
                  <a:pt x="4776" y="4266"/>
                  <a:pt x="4862" y="4266"/>
                </a:cubicBezTo>
                <a:cubicBezTo>
                  <a:pt x="4917" y="4266"/>
                  <a:pt x="5019" y="4289"/>
                  <a:pt x="5035" y="4242"/>
                </a:cubicBezTo>
              </a:path>
              <a:path w="4317" h="1043">
                <a:moveTo>
                  <a:pt x="5184" y="4242"/>
                </a:moveTo>
                <a:cubicBezTo>
                  <a:pt x="5308" y="4242"/>
                  <a:pt x="5432" y="4242"/>
                  <a:pt x="5556" y="4242"/>
                </a:cubicBezTo>
              </a:path>
              <a:path w="4317" h="1043">
                <a:moveTo>
                  <a:pt x="5234" y="4539"/>
                </a:moveTo>
                <a:cubicBezTo>
                  <a:pt x="5366" y="4539"/>
                  <a:pt x="5508" y="4555"/>
                  <a:pt x="5631" y="4514"/>
                </a:cubicBezTo>
              </a:path>
              <a:path w="4317" h="1043">
                <a:moveTo>
                  <a:pt x="5854" y="4316"/>
                </a:moveTo>
                <a:cubicBezTo>
                  <a:pt x="5941" y="4294"/>
                  <a:pt x="6038" y="4276"/>
                  <a:pt x="6127" y="4266"/>
                </a:cubicBezTo>
                <a:cubicBezTo>
                  <a:pt x="6202" y="4257"/>
                  <a:pt x="6253" y="4265"/>
                  <a:pt x="6325" y="4242"/>
                </a:cubicBezTo>
              </a:path>
              <a:path w="4317" h="1043">
                <a:moveTo>
                  <a:pt x="6524" y="3770"/>
                </a:moveTo>
                <a:cubicBezTo>
                  <a:pt x="6524" y="3865"/>
                  <a:pt x="6494" y="3982"/>
                  <a:pt x="6499" y="4068"/>
                </a:cubicBezTo>
                <a:cubicBezTo>
                  <a:pt x="6504" y="4153"/>
                  <a:pt x="6507" y="4281"/>
                  <a:pt x="6524" y="4366"/>
                </a:cubicBezTo>
                <a:cubicBezTo>
                  <a:pt x="6540" y="4446"/>
                  <a:pt x="6581" y="4512"/>
                  <a:pt x="6598" y="4589"/>
                </a:cubicBezTo>
                <a:cubicBezTo>
                  <a:pt x="6602" y="4607"/>
                  <a:pt x="6650" y="4731"/>
                  <a:pt x="6648" y="4738"/>
                </a:cubicBezTo>
                <a:cubicBezTo>
                  <a:pt x="6625" y="4760"/>
                  <a:pt x="6620" y="4768"/>
                  <a:pt x="6598" y="47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Ink 6"/>
          <p:cNvSpPr/>
          <p:nvPr/>
        </p:nvSpPr>
        <p:spPr>
          <a:xfrm>
            <a:off x="3224160" y="1393920"/>
            <a:ext cx="1660680" cy="436320"/>
          </a:xfrm>
          <a:custGeom>
            <a:avLst/>
            <a:gdLst/>
            <a:ahLst/>
            <a:rect l="l" t="t" r="r" b="b"/>
            <a:pathLst>
              <a:path w="4615" h="1216">
                <a:moveTo>
                  <a:pt x="9451" y="3994"/>
                </a:moveTo>
                <a:cubicBezTo>
                  <a:pt x="9440" y="3926"/>
                  <a:pt x="9442" y="3944"/>
                  <a:pt x="9376" y="3944"/>
                </a:cubicBezTo>
                <a:cubicBezTo>
                  <a:pt x="9263" y="3944"/>
                  <a:pt x="9206" y="3971"/>
                  <a:pt x="9103" y="4018"/>
                </a:cubicBezTo>
                <a:cubicBezTo>
                  <a:pt x="9028" y="4052"/>
                  <a:pt x="9003" y="4082"/>
                  <a:pt x="8954" y="4142"/>
                </a:cubicBezTo>
                <a:cubicBezTo>
                  <a:pt x="9027" y="4215"/>
                  <a:pt x="9090" y="4242"/>
                  <a:pt x="9178" y="4291"/>
                </a:cubicBezTo>
                <a:cubicBezTo>
                  <a:pt x="9266" y="4340"/>
                  <a:pt x="9388" y="4409"/>
                  <a:pt x="9451" y="4490"/>
                </a:cubicBezTo>
                <a:cubicBezTo>
                  <a:pt x="9487" y="4537"/>
                  <a:pt x="9516" y="4639"/>
                  <a:pt x="9475" y="4688"/>
                </a:cubicBezTo>
                <a:cubicBezTo>
                  <a:pt x="9410" y="4766"/>
                  <a:pt x="9295" y="4784"/>
                  <a:pt x="9203" y="4812"/>
                </a:cubicBezTo>
                <a:cubicBezTo>
                  <a:pt x="9177" y="4820"/>
                  <a:pt x="9034" y="4867"/>
                  <a:pt x="9004" y="4837"/>
                </a:cubicBezTo>
                <a:cubicBezTo>
                  <a:pt x="9004" y="4802"/>
                  <a:pt x="9009" y="4784"/>
                  <a:pt x="9029" y="4762"/>
                </a:cubicBezTo>
              </a:path>
              <a:path w="4615" h="1216">
                <a:moveTo>
                  <a:pt x="9897" y="4291"/>
                </a:moveTo>
                <a:cubicBezTo>
                  <a:pt x="9921" y="4423"/>
                  <a:pt x="9954" y="4557"/>
                  <a:pt x="9971" y="4688"/>
                </a:cubicBezTo>
                <a:cubicBezTo>
                  <a:pt x="9981" y="4762"/>
                  <a:pt x="9991" y="4777"/>
                  <a:pt x="9971" y="4837"/>
                </a:cubicBezTo>
                <a:cubicBezTo>
                  <a:pt x="9938" y="4935"/>
                  <a:pt x="9899" y="4713"/>
                  <a:pt x="9872" y="4614"/>
                </a:cubicBezTo>
              </a:path>
              <a:path w="4615" h="1216">
                <a:moveTo>
                  <a:pt x="10071" y="3870"/>
                </a:moveTo>
                <a:lnTo>
                  <a:pt x="10071" y="3870"/>
                </a:lnTo>
              </a:path>
              <a:path w="4615" h="1216">
                <a:moveTo>
                  <a:pt x="10220" y="4589"/>
                </a:moveTo>
                <a:cubicBezTo>
                  <a:pt x="10220" y="4697"/>
                  <a:pt x="10220" y="4970"/>
                  <a:pt x="10220" y="4862"/>
                </a:cubicBezTo>
                <a:cubicBezTo>
                  <a:pt x="10197" y="4802"/>
                  <a:pt x="10180" y="4731"/>
                  <a:pt x="10195" y="4663"/>
                </a:cubicBezTo>
                <a:cubicBezTo>
                  <a:pt x="10218" y="4560"/>
                  <a:pt x="10239" y="4502"/>
                  <a:pt x="10294" y="4415"/>
                </a:cubicBezTo>
                <a:cubicBezTo>
                  <a:pt x="10350" y="4327"/>
                  <a:pt x="10384" y="4297"/>
                  <a:pt x="10492" y="4291"/>
                </a:cubicBezTo>
                <a:cubicBezTo>
                  <a:pt x="10578" y="4286"/>
                  <a:pt x="10633" y="4338"/>
                  <a:pt x="10666" y="4415"/>
                </a:cubicBezTo>
                <a:cubicBezTo>
                  <a:pt x="10713" y="4522"/>
                  <a:pt x="10691" y="4648"/>
                  <a:pt x="10691" y="4762"/>
                </a:cubicBezTo>
                <a:cubicBezTo>
                  <a:pt x="10691" y="4799"/>
                  <a:pt x="10691" y="4983"/>
                  <a:pt x="10691" y="4936"/>
                </a:cubicBezTo>
              </a:path>
              <a:path w="4615" h="1216">
                <a:moveTo>
                  <a:pt x="11460" y="3944"/>
                </a:moveTo>
                <a:cubicBezTo>
                  <a:pt x="11421" y="4077"/>
                  <a:pt x="11372" y="4187"/>
                  <a:pt x="11311" y="4316"/>
                </a:cubicBezTo>
                <a:cubicBezTo>
                  <a:pt x="11251" y="4443"/>
                  <a:pt x="11205" y="4597"/>
                  <a:pt x="11187" y="4738"/>
                </a:cubicBezTo>
                <a:cubicBezTo>
                  <a:pt x="11175" y="4828"/>
                  <a:pt x="11186" y="4911"/>
                  <a:pt x="11237" y="4986"/>
                </a:cubicBezTo>
                <a:cubicBezTo>
                  <a:pt x="11283" y="5054"/>
                  <a:pt x="11344" y="5057"/>
                  <a:pt x="11410" y="5035"/>
                </a:cubicBezTo>
                <a:cubicBezTo>
                  <a:pt x="11509" y="5001"/>
                  <a:pt x="11573" y="4944"/>
                  <a:pt x="11633" y="4862"/>
                </a:cubicBezTo>
                <a:cubicBezTo>
                  <a:pt x="11692" y="4781"/>
                  <a:pt x="11745" y="4641"/>
                  <a:pt x="11757" y="4539"/>
                </a:cubicBezTo>
                <a:cubicBezTo>
                  <a:pt x="11769" y="4439"/>
                  <a:pt x="11748" y="4357"/>
                  <a:pt x="11733" y="4266"/>
                </a:cubicBezTo>
                <a:cubicBezTo>
                  <a:pt x="11718" y="4176"/>
                  <a:pt x="11657" y="4166"/>
                  <a:pt x="11584" y="4118"/>
                </a:cubicBezTo>
                <a:cubicBezTo>
                  <a:pt x="11541" y="4090"/>
                  <a:pt x="11535" y="4099"/>
                  <a:pt x="11485" y="4093"/>
                </a:cubicBezTo>
              </a:path>
              <a:path w="4615" h="1216">
                <a:moveTo>
                  <a:pt x="11063" y="4589"/>
                </a:moveTo>
                <a:cubicBezTo>
                  <a:pt x="11166" y="4626"/>
                  <a:pt x="11252" y="4638"/>
                  <a:pt x="11361" y="4638"/>
                </a:cubicBezTo>
                <a:cubicBezTo>
                  <a:pt x="11526" y="4638"/>
                  <a:pt x="11727" y="4670"/>
                  <a:pt x="11881" y="4614"/>
                </a:cubicBezTo>
              </a:path>
              <a:path w="4615" h="1216">
                <a:moveTo>
                  <a:pt x="12278" y="4514"/>
                </a:moveTo>
                <a:cubicBezTo>
                  <a:pt x="12357" y="4514"/>
                  <a:pt x="12463" y="4537"/>
                  <a:pt x="12526" y="4490"/>
                </a:cubicBezTo>
              </a:path>
              <a:path w="4615" h="1216">
                <a:moveTo>
                  <a:pt x="12154" y="4762"/>
                </a:moveTo>
                <a:cubicBezTo>
                  <a:pt x="12260" y="4762"/>
                  <a:pt x="12331" y="4753"/>
                  <a:pt x="12427" y="4738"/>
                </a:cubicBezTo>
                <a:cubicBezTo>
                  <a:pt x="12444" y="4738"/>
                  <a:pt x="12460" y="4738"/>
                  <a:pt x="12477" y="4738"/>
                </a:cubicBezTo>
              </a:path>
              <a:path w="4615" h="1216">
                <a:moveTo>
                  <a:pt x="13022" y="4217"/>
                </a:moveTo>
                <a:cubicBezTo>
                  <a:pt x="12994" y="4359"/>
                  <a:pt x="12949" y="4454"/>
                  <a:pt x="12898" y="4589"/>
                </a:cubicBezTo>
                <a:cubicBezTo>
                  <a:pt x="12867" y="4672"/>
                  <a:pt x="12874" y="4750"/>
                  <a:pt x="12874" y="4837"/>
                </a:cubicBezTo>
                <a:cubicBezTo>
                  <a:pt x="12874" y="4908"/>
                  <a:pt x="12883" y="4970"/>
                  <a:pt x="12948" y="5011"/>
                </a:cubicBezTo>
                <a:cubicBezTo>
                  <a:pt x="13043" y="5071"/>
                  <a:pt x="13115" y="5080"/>
                  <a:pt x="13221" y="5060"/>
                </a:cubicBezTo>
                <a:cubicBezTo>
                  <a:pt x="13354" y="5035"/>
                  <a:pt x="13456" y="4990"/>
                  <a:pt x="13519" y="4862"/>
                </a:cubicBezTo>
                <a:cubicBezTo>
                  <a:pt x="13565" y="4769"/>
                  <a:pt x="13568" y="4691"/>
                  <a:pt x="13568" y="4589"/>
                </a:cubicBezTo>
                <a:cubicBezTo>
                  <a:pt x="13568" y="4503"/>
                  <a:pt x="13574" y="4415"/>
                  <a:pt x="13519" y="4341"/>
                </a:cubicBezTo>
                <a:cubicBezTo>
                  <a:pt x="13464" y="4266"/>
                  <a:pt x="13354" y="4223"/>
                  <a:pt x="13271" y="4192"/>
                </a:cubicBezTo>
                <a:cubicBezTo>
                  <a:pt x="13173" y="4159"/>
                  <a:pt x="13125" y="4147"/>
                  <a:pt x="13047" y="41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Ink 7"/>
          <p:cNvSpPr/>
          <p:nvPr/>
        </p:nvSpPr>
        <p:spPr>
          <a:xfrm>
            <a:off x="750960" y="2562120"/>
            <a:ext cx="1062000" cy="339840"/>
          </a:xfrm>
          <a:custGeom>
            <a:avLst/>
            <a:gdLst/>
            <a:ahLst/>
            <a:rect l="l" t="t" r="r" b="b"/>
            <a:pathLst>
              <a:path w="2952" h="944">
                <a:moveTo>
                  <a:pt x="2555" y="7193"/>
                </a:moveTo>
                <a:cubicBezTo>
                  <a:pt x="2555" y="7226"/>
                  <a:pt x="2555" y="7260"/>
                  <a:pt x="2555" y="7293"/>
                </a:cubicBezTo>
                <a:cubicBezTo>
                  <a:pt x="2517" y="7280"/>
                  <a:pt x="2526" y="7271"/>
                  <a:pt x="2505" y="7243"/>
                </a:cubicBezTo>
                <a:cubicBezTo>
                  <a:pt x="2483" y="7214"/>
                  <a:pt x="2470" y="7161"/>
                  <a:pt x="2431" y="7144"/>
                </a:cubicBezTo>
                <a:cubicBezTo>
                  <a:pt x="2374" y="7119"/>
                  <a:pt x="2384" y="7127"/>
                  <a:pt x="2332" y="7144"/>
                </a:cubicBezTo>
                <a:cubicBezTo>
                  <a:pt x="2301" y="7154"/>
                  <a:pt x="2233" y="7233"/>
                  <a:pt x="2208" y="7268"/>
                </a:cubicBezTo>
                <a:cubicBezTo>
                  <a:pt x="2157" y="7340"/>
                  <a:pt x="2135" y="7434"/>
                  <a:pt x="2108" y="7516"/>
                </a:cubicBezTo>
                <a:cubicBezTo>
                  <a:pt x="2071" y="7629"/>
                  <a:pt x="2077" y="7747"/>
                  <a:pt x="2108" y="7863"/>
                </a:cubicBezTo>
                <a:cubicBezTo>
                  <a:pt x="2125" y="7928"/>
                  <a:pt x="2218" y="8019"/>
                  <a:pt x="2282" y="8037"/>
                </a:cubicBezTo>
                <a:cubicBezTo>
                  <a:pt x="2343" y="8054"/>
                  <a:pt x="2447" y="8071"/>
                  <a:pt x="2505" y="8037"/>
                </a:cubicBezTo>
                <a:cubicBezTo>
                  <a:pt x="2566" y="8002"/>
                  <a:pt x="2623" y="7956"/>
                  <a:pt x="2679" y="7913"/>
                </a:cubicBezTo>
              </a:path>
              <a:path w="2952" h="944">
                <a:moveTo>
                  <a:pt x="2877" y="7516"/>
                </a:moveTo>
                <a:cubicBezTo>
                  <a:pt x="2850" y="7662"/>
                  <a:pt x="2795" y="7780"/>
                  <a:pt x="2853" y="7913"/>
                </a:cubicBezTo>
                <a:cubicBezTo>
                  <a:pt x="2874" y="7961"/>
                  <a:pt x="2893" y="8035"/>
                  <a:pt x="2952" y="8037"/>
                </a:cubicBezTo>
                <a:cubicBezTo>
                  <a:pt x="3089" y="8043"/>
                  <a:pt x="3089" y="8007"/>
                  <a:pt x="3175" y="7938"/>
                </a:cubicBezTo>
                <a:cubicBezTo>
                  <a:pt x="3251" y="7877"/>
                  <a:pt x="3269" y="7814"/>
                  <a:pt x="3274" y="7714"/>
                </a:cubicBezTo>
                <a:cubicBezTo>
                  <a:pt x="3277" y="7652"/>
                  <a:pt x="3283" y="7582"/>
                  <a:pt x="3225" y="7541"/>
                </a:cubicBezTo>
                <a:cubicBezTo>
                  <a:pt x="3189" y="7515"/>
                  <a:pt x="3143" y="7429"/>
                  <a:pt x="3101" y="7417"/>
                </a:cubicBezTo>
                <a:cubicBezTo>
                  <a:pt x="3056" y="7417"/>
                  <a:pt x="3043" y="7420"/>
                  <a:pt x="3026" y="7392"/>
                </a:cubicBezTo>
              </a:path>
              <a:path w="2952" h="944">
                <a:moveTo>
                  <a:pt x="3820" y="7342"/>
                </a:moveTo>
                <a:cubicBezTo>
                  <a:pt x="3737" y="7377"/>
                  <a:pt x="3640" y="7405"/>
                  <a:pt x="3572" y="7466"/>
                </a:cubicBezTo>
                <a:cubicBezTo>
                  <a:pt x="3527" y="7507"/>
                  <a:pt x="3549" y="7525"/>
                  <a:pt x="3572" y="7565"/>
                </a:cubicBezTo>
                <a:cubicBezTo>
                  <a:pt x="3626" y="7659"/>
                  <a:pt x="3693" y="7670"/>
                  <a:pt x="3770" y="7739"/>
                </a:cubicBezTo>
                <a:cubicBezTo>
                  <a:pt x="3794" y="7761"/>
                  <a:pt x="3871" y="7816"/>
                  <a:pt x="3845" y="7863"/>
                </a:cubicBezTo>
                <a:cubicBezTo>
                  <a:pt x="3810" y="7925"/>
                  <a:pt x="3724" y="7921"/>
                  <a:pt x="3671" y="7938"/>
                </a:cubicBezTo>
                <a:cubicBezTo>
                  <a:pt x="3615" y="7956"/>
                  <a:pt x="3580" y="7962"/>
                  <a:pt x="3522" y="7962"/>
                </a:cubicBezTo>
                <a:cubicBezTo>
                  <a:pt x="3565" y="7920"/>
                  <a:pt x="3596" y="7901"/>
                  <a:pt x="3646" y="7888"/>
                </a:cubicBezTo>
              </a:path>
              <a:path w="2952" h="944">
                <a:moveTo>
                  <a:pt x="4564" y="7243"/>
                </a:moveTo>
                <a:cubicBezTo>
                  <a:pt x="4517" y="7318"/>
                  <a:pt x="4453" y="7384"/>
                  <a:pt x="4415" y="7466"/>
                </a:cubicBezTo>
                <a:cubicBezTo>
                  <a:pt x="4374" y="7554"/>
                  <a:pt x="4349" y="7667"/>
                  <a:pt x="4366" y="7764"/>
                </a:cubicBezTo>
                <a:cubicBezTo>
                  <a:pt x="4382" y="7853"/>
                  <a:pt x="4445" y="7963"/>
                  <a:pt x="4539" y="7987"/>
                </a:cubicBezTo>
                <a:cubicBezTo>
                  <a:pt x="4626" y="8009"/>
                  <a:pt x="4736" y="7982"/>
                  <a:pt x="4812" y="7938"/>
                </a:cubicBezTo>
                <a:cubicBezTo>
                  <a:pt x="4941" y="7863"/>
                  <a:pt x="4958" y="7820"/>
                  <a:pt x="5011" y="7689"/>
                </a:cubicBezTo>
                <a:cubicBezTo>
                  <a:pt x="5044" y="7607"/>
                  <a:pt x="5038" y="7519"/>
                  <a:pt x="4986" y="7441"/>
                </a:cubicBezTo>
                <a:cubicBezTo>
                  <a:pt x="4944" y="7379"/>
                  <a:pt x="4828" y="7330"/>
                  <a:pt x="4762" y="7293"/>
                </a:cubicBezTo>
                <a:cubicBezTo>
                  <a:pt x="4708" y="7263"/>
                  <a:pt x="4674" y="7268"/>
                  <a:pt x="4614" y="7268"/>
                </a:cubicBezTo>
              </a:path>
              <a:path w="2952" h="944">
                <a:moveTo>
                  <a:pt x="4118" y="7615"/>
                </a:moveTo>
                <a:cubicBezTo>
                  <a:pt x="4201" y="7647"/>
                  <a:pt x="4275" y="7640"/>
                  <a:pt x="4366" y="7640"/>
                </a:cubicBezTo>
                <a:cubicBezTo>
                  <a:pt x="4503" y="7640"/>
                  <a:pt x="4628" y="7627"/>
                  <a:pt x="4762" y="7615"/>
                </a:cubicBezTo>
                <a:cubicBezTo>
                  <a:pt x="4787" y="7615"/>
                  <a:pt x="4812" y="7615"/>
                  <a:pt x="4837" y="76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Ink 8"/>
          <p:cNvSpPr/>
          <p:nvPr/>
        </p:nvSpPr>
        <p:spPr>
          <a:xfrm>
            <a:off x="2017800" y="2705040"/>
            <a:ext cx="206280" cy="108000"/>
          </a:xfrm>
          <a:custGeom>
            <a:avLst/>
            <a:gdLst/>
            <a:ahLst/>
            <a:rect l="l" t="t" r="r" b="b"/>
            <a:pathLst>
              <a:path w="571" h="298">
                <a:moveTo>
                  <a:pt x="5606" y="7516"/>
                </a:moveTo>
                <a:cubicBezTo>
                  <a:pt x="5730" y="7516"/>
                  <a:pt x="5854" y="7516"/>
                  <a:pt x="5978" y="7516"/>
                </a:cubicBezTo>
              </a:path>
              <a:path w="571" h="298">
                <a:moveTo>
                  <a:pt x="5705" y="7739"/>
                </a:moveTo>
                <a:cubicBezTo>
                  <a:pt x="5802" y="7766"/>
                  <a:pt x="5877" y="7785"/>
                  <a:pt x="5978" y="7789"/>
                </a:cubicBezTo>
                <a:cubicBezTo>
                  <a:pt x="6048" y="7791"/>
                  <a:pt x="6108" y="7806"/>
                  <a:pt x="6176" y="78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Ink 9"/>
          <p:cNvSpPr/>
          <p:nvPr/>
        </p:nvSpPr>
        <p:spPr>
          <a:xfrm>
            <a:off x="2428920" y="2724120"/>
            <a:ext cx="142920" cy="1440"/>
          </a:xfrm>
          <a:custGeom>
            <a:avLst/>
            <a:gdLst/>
            <a:ahLst/>
            <a:rect l="l" t="t" r="r" b="b"/>
            <a:pathLst>
              <a:path w="398" h="1">
                <a:moveTo>
                  <a:pt x="6747" y="7565"/>
                </a:moveTo>
                <a:cubicBezTo>
                  <a:pt x="6879" y="7565"/>
                  <a:pt x="7012" y="7565"/>
                  <a:pt x="7144" y="75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Ink 10"/>
          <p:cNvSpPr/>
          <p:nvPr/>
        </p:nvSpPr>
        <p:spPr>
          <a:xfrm>
            <a:off x="2786040" y="2544840"/>
            <a:ext cx="19080" cy="330120"/>
          </a:xfrm>
          <a:custGeom>
            <a:avLst/>
            <a:gdLst/>
            <a:ahLst/>
            <a:rect l="l" t="t" r="r" b="b"/>
            <a:pathLst>
              <a:path w="51" h="919">
                <a:moveTo>
                  <a:pt x="7764" y="7069"/>
                </a:moveTo>
                <a:cubicBezTo>
                  <a:pt x="7742" y="7163"/>
                  <a:pt x="7739" y="7221"/>
                  <a:pt x="7739" y="7317"/>
                </a:cubicBezTo>
                <a:cubicBezTo>
                  <a:pt x="7739" y="7397"/>
                  <a:pt x="7760" y="7463"/>
                  <a:pt x="7764" y="7541"/>
                </a:cubicBezTo>
                <a:cubicBezTo>
                  <a:pt x="7770" y="7654"/>
                  <a:pt x="7759" y="7763"/>
                  <a:pt x="7789" y="7863"/>
                </a:cubicBezTo>
                <a:cubicBezTo>
                  <a:pt x="7799" y="7897"/>
                  <a:pt x="7789" y="7951"/>
                  <a:pt x="7789" y="79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Ink 11"/>
          <p:cNvSpPr/>
          <p:nvPr/>
        </p:nvSpPr>
        <p:spPr>
          <a:xfrm>
            <a:off x="723960" y="3643200"/>
            <a:ext cx="1089000" cy="482760"/>
          </a:xfrm>
          <a:custGeom>
            <a:avLst/>
            <a:gdLst/>
            <a:ahLst/>
            <a:rect l="l" t="t" r="r" b="b"/>
            <a:pathLst>
              <a:path w="3027" h="1341">
                <a:moveTo>
                  <a:pt x="2505" y="10120"/>
                </a:moveTo>
                <a:cubicBezTo>
                  <a:pt x="2490" y="10180"/>
                  <a:pt x="2488" y="10195"/>
                  <a:pt x="2480" y="10269"/>
                </a:cubicBezTo>
                <a:cubicBezTo>
                  <a:pt x="2463" y="10427"/>
                  <a:pt x="2435" y="10582"/>
                  <a:pt x="2431" y="10740"/>
                </a:cubicBezTo>
                <a:cubicBezTo>
                  <a:pt x="2427" y="10878"/>
                  <a:pt x="2443" y="11003"/>
                  <a:pt x="2456" y="11137"/>
                </a:cubicBezTo>
                <a:cubicBezTo>
                  <a:pt x="2462" y="11194"/>
                  <a:pt x="2478" y="11370"/>
                  <a:pt x="2431" y="11385"/>
                </a:cubicBezTo>
              </a:path>
              <a:path w="3027" h="1341">
                <a:moveTo>
                  <a:pt x="2009" y="10765"/>
                </a:moveTo>
                <a:cubicBezTo>
                  <a:pt x="2067" y="10773"/>
                  <a:pt x="2122" y="10777"/>
                  <a:pt x="2183" y="10790"/>
                </a:cubicBezTo>
                <a:cubicBezTo>
                  <a:pt x="2286" y="10813"/>
                  <a:pt x="2372" y="10836"/>
                  <a:pt x="2480" y="10840"/>
                </a:cubicBezTo>
                <a:cubicBezTo>
                  <a:pt x="2555" y="10840"/>
                  <a:pt x="2579" y="10840"/>
                  <a:pt x="2629" y="10840"/>
                </a:cubicBezTo>
              </a:path>
              <a:path w="3027" h="1341">
                <a:moveTo>
                  <a:pt x="3175" y="10964"/>
                </a:moveTo>
                <a:cubicBezTo>
                  <a:pt x="3236" y="11022"/>
                  <a:pt x="3159" y="10927"/>
                  <a:pt x="3150" y="10914"/>
                </a:cubicBezTo>
                <a:cubicBezTo>
                  <a:pt x="3133" y="10889"/>
                  <a:pt x="3078" y="10827"/>
                  <a:pt x="3051" y="10815"/>
                </a:cubicBezTo>
                <a:cubicBezTo>
                  <a:pt x="3010" y="10797"/>
                  <a:pt x="2928" y="10833"/>
                  <a:pt x="2902" y="10864"/>
                </a:cubicBezTo>
                <a:cubicBezTo>
                  <a:pt x="2842" y="10933"/>
                  <a:pt x="2806" y="11061"/>
                  <a:pt x="2778" y="11137"/>
                </a:cubicBezTo>
                <a:cubicBezTo>
                  <a:pt x="2762" y="11181"/>
                  <a:pt x="2731" y="11272"/>
                  <a:pt x="2778" y="11311"/>
                </a:cubicBezTo>
                <a:cubicBezTo>
                  <a:pt x="2799" y="11328"/>
                  <a:pt x="2870" y="11350"/>
                  <a:pt x="2902" y="11336"/>
                </a:cubicBezTo>
                <a:cubicBezTo>
                  <a:pt x="2931" y="11324"/>
                  <a:pt x="3030" y="11262"/>
                  <a:pt x="3051" y="11237"/>
                </a:cubicBezTo>
                <a:cubicBezTo>
                  <a:pt x="3095" y="11185"/>
                  <a:pt x="3100" y="11113"/>
                  <a:pt x="3125" y="11063"/>
                </a:cubicBezTo>
                <a:cubicBezTo>
                  <a:pt x="3133" y="11055"/>
                  <a:pt x="3142" y="11046"/>
                  <a:pt x="3150" y="11038"/>
                </a:cubicBezTo>
                <a:cubicBezTo>
                  <a:pt x="3150" y="10971"/>
                  <a:pt x="3150" y="11122"/>
                  <a:pt x="3150" y="11137"/>
                </a:cubicBezTo>
                <a:cubicBezTo>
                  <a:pt x="3150" y="11180"/>
                  <a:pt x="3144" y="11258"/>
                  <a:pt x="3175" y="11286"/>
                </a:cubicBezTo>
                <a:cubicBezTo>
                  <a:pt x="3235" y="11339"/>
                  <a:pt x="3282" y="11356"/>
                  <a:pt x="3349" y="11311"/>
                </a:cubicBezTo>
                <a:cubicBezTo>
                  <a:pt x="3357" y="11303"/>
                  <a:pt x="3365" y="11294"/>
                  <a:pt x="3373" y="11286"/>
                </a:cubicBezTo>
              </a:path>
              <a:path w="3027" h="1341">
                <a:moveTo>
                  <a:pt x="3572" y="10939"/>
                </a:moveTo>
                <a:cubicBezTo>
                  <a:pt x="3565" y="11031"/>
                  <a:pt x="3559" y="11104"/>
                  <a:pt x="3522" y="11187"/>
                </a:cubicBezTo>
                <a:cubicBezTo>
                  <a:pt x="3504" y="11226"/>
                  <a:pt x="3485" y="11274"/>
                  <a:pt x="3473" y="11311"/>
                </a:cubicBezTo>
                <a:cubicBezTo>
                  <a:pt x="3473" y="11319"/>
                  <a:pt x="3473" y="11328"/>
                  <a:pt x="3473" y="11336"/>
                </a:cubicBezTo>
                <a:cubicBezTo>
                  <a:pt x="3482" y="11297"/>
                  <a:pt x="3485" y="11253"/>
                  <a:pt x="3497" y="11212"/>
                </a:cubicBezTo>
                <a:cubicBezTo>
                  <a:pt x="3527" y="11110"/>
                  <a:pt x="3601" y="10990"/>
                  <a:pt x="3671" y="10914"/>
                </a:cubicBezTo>
                <a:cubicBezTo>
                  <a:pt x="3721" y="10860"/>
                  <a:pt x="3734" y="10856"/>
                  <a:pt x="3795" y="10889"/>
                </a:cubicBezTo>
                <a:cubicBezTo>
                  <a:pt x="3881" y="10935"/>
                  <a:pt x="3867" y="10983"/>
                  <a:pt x="3894" y="11063"/>
                </a:cubicBezTo>
                <a:cubicBezTo>
                  <a:pt x="3917" y="11131"/>
                  <a:pt x="3957" y="11191"/>
                  <a:pt x="3969" y="11261"/>
                </a:cubicBezTo>
                <a:cubicBezTo>
                  <a:pt x="3976" y="11302"/>
                  <a:pt x="3992" y="11348"/>
                  <a:pt x="4018" y="11361"/>
                </a:cubicBezTo>
                <a:cubicBezTo>
                  <a:pt x="4043" y="11361"/>
                  <a:pt x="4051" y="11361"/>
                  <a:pt x="4068" y="11361"/>
                </a:cubicBezTo>
              </a:path>
              <a:path w="3027" h="1341">
                <a:moveTo>
                  <a:pt x="4663" y="10740"/>
                </a:moveTo>
                <a:cubicBezTo>
                  <a:pt x="4663" y="10829"/>
                  <a:pt x="4643" y="10880"/>
                  <a:pt x="4614" y="10964"/>
                </a:cubicBezTo>
                <a:cubicBezTo>
                  <a:pt x="4583" y="11054"/>
                  <a:pt x="4544" y="11142"/>
                  <a:pt x="4539" y="11237"/>
                </a:cubicBezTo>
                <a:cubicBezTo>
                  <a:pt x="4536" y="11300"/>
                  <a:pt x="4531" y="11368"/>
                  <a:pt x="4589" y="11410"/>
                </a:cubicBezTo>
                <a:cubicBezTo>
                  <a:pt x="4670" y="11468"/>
                  <a:pt x="4756" y="11469"/>
                  <a:pt x="4837" y="11410"/>
                </a:cubicBezTo>
                <a:cubicBezTo>
                  <a:pt x="4934" y="11339"/>
                  <a:pt x="4968" y="11266"/>
                  <a:pt x="5011" y="11162"/>
                </a:cubicBezTo>
                <a:cubicBezTo>
                  <a:pt x="5053" y="11059"/>
                  <a:pt x="5032" y="10986"/>
                  <a:pt x="4986" y="10889"/>
                </a:cubicBezTo>
                <a:cubicBezTo>
                  <a:pt x="4956" y="10827"/>
                  <a:pt x="4895" y="10755"/>
                  <a:pt x="4837" y="10716"/>
                </a:cubicBezTo>
                <a:cubicBezTo>
                  <a:pt x="4792" y="10686"/>
                  <a:pt x="4740" y="10675"/>
                  <a:pt x="4688" y="10666"/>
                </a:cubicBezTo>
              </a:path>
              <a:path w="3027" h="1341">
                <a:moveTo>
                  <a:pt x="4390" y="11063"/>
                </a:moveTo>
                <a:cubicBezTo>
                  <a:pt x="4468" y="11092"/>
                  <a:pt x="4529" y="11088"/>
                  <a:pt x="4614" y="11088"/>
                </a:cubicBezTo>
                <a:cubicBezTo>
                  <a:pt x="4721" y="11088"/>
                  <a:pt x="4829" y="11088"/>
                  <a:pt x="4936" y="110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Ink 12"/>
          <p:cNvSpPr/>
          <p:nvPr/>
        </p:nvSpPr>
        <p:spPr>
          <a:xfrm>
            <a:off x="1963800" y="3963960"/>
            <a:ext cx="179280" cy="100080"/>
          </a:xfrm>
          <a:custGeom>
            <a:avLst/>
            <a:gdLst/>
            <a:ahLst/>
            <a:rect l="l" t="t" r="r" b="b"/>
            <a:pathLst>
              <a:path w="497" h="274">
                <a:moveTo>
                  <a:pt x="5507" y="11013"/>
                </a:moveTo>
                <a:cubicBezTo>
                  <a:pt x="5599" y="11029"/>
                  <a:pt x="5665" y="11038"/>
                  <a:pt x="5755" y="11038"/>
                </a:cubicBezTo>
              </a:path>
              <a:path w="497" h="274">
                <a:moveTo>
                  <a:pt x="5457" y="11261"/>
                </a:moveTo>
                <a:cubicBezTo>
                  <a:pt x="5559" y="11285"/>
                  <a:pt x="5650" y="11286"/>
                  <a:pt x="5755" y="11286"/>
                </a:cubicBezTo>
                <a:cubicBezTo>
                  <a:pt x="5778" y="11286"/>
                  <a:pt x="5987" y="11286"/>
                  <a:pt x="5928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Ink 13"/>
          <p:cNvSpPr/>
          <p:nvPr/>
        </p:nvSpPr>
        <p:spPr>
          <a:xfrm>
            <a:off x="2419200" y="3795840"/>
            <a:ext cx="339840" cy="419040"/>
          </a:xfrm>
          <a:custGeom>
            <a:avLst/>
            <a:gdLst/>
            <a:ahLst/>
            <a:rect l="l" t="t" r="r" b="b"/>
            <a:pathLst>
              <a:path w="944" h="1167">
                <a:moveTo>
                  <a:pt x="6896" y="10616"/>
                </a:moveTo>
                <a:cubicBezTo>
                  <a:pt x="6896" y="10674"/>
                  <a:pt x="6880" y="10719"/>
                  <a:pt x="6871" y="10765"/>
                </a:cubicBezTo>
                <a:cubicBezTo>
                  <a:pt x="6856" y="10838"/>
                  <a:pt x="6833" y="10917"/>
                  <a:pt x="6821" y="10988"/>
                </a:cubicBezTo>
                <a:cubicBezTo>
                  <a:pt x="6807" y="11073"/>
                  <a:pt x="6796" y="11149"/>
                  <a:pt x="6796" y="11237"/>
                </a:cubicBezTo>
                <a:cubicBezTo>
                  <a:pt x="6796" y="11364"/>
                  <a:pt x="6832" y="11409"/>
                  <a:pt x="6896" y="11509"/>
                </a:cubicBezTo>
                <a:cubicBezTo>
                  <a:pt x="6935" y="11571"/>
                  <a:pt x="6998" y="11627"/>
                  <a:pt x="7069" y="11658"/>
                </a:cubicBezTo>
                <a:cubicBezTo>
                  <a:pt x="7176" y="11705"/>
                  <a:pt x="7212" y="11696"/>
                  <a:pt x="7317" y="11683"/>
                </a:cubicBezTo>
                <a:cubicBezTo>
                  <a:pt x="7420" y="11670"/>
                  <a:pt x="7441" y="11660"/>
                  <a:pt x="7516" y="11584"/>
                </a:cubicBezTo>
                <a:cubicBezTo>
                  <a:pt x="7575" y="11524"/>
                  <a:pt x="7624" y="11446"/>
                  <a:pt x="7640" y="11361"/>
                </a:cubicBezTo>
                <a:cubicBezTo>
                  <a:pt x="7658" y="11265"/>
                  <a:pt x="7651" y="11203"/>
                  <a:pt x="7640" y="11112"/>
                </a:cubicBezTo>
                <a:cubicBezTo>
                  <a:pt x="7628" y="11015"/>
                  <a:pt x="7616" y="10928"/>
                  <a:pt x="7565" y="10840"/>
                </a:cubicBezTo>
                <a:cubicBezTo>
                  <a:pt x="7502" y="10731"/>
                  <a:pt x="7449" y="10664"/>
                  <a:pt x="7342" y="10592"/>
                </a:cubicBezTo>
                <a:cubicBezTo>
                  <a:pt x="7271" y="10545"/>
                  <a:pt x="7200" y="10542"/>
                  <a:pt x="7119" y="10542"/>
                </a:cubicBezTo>
                <a:cubicBezTo>
                  <a:pt x="7065" y="10542"/>
                  <a:pt x="6960" y="10574"/>
                  <a:pt x="6921" y="10616"/>
                </a:cubicBezTo>
                <a:cubicBezTo>
                  <a:pt x="6866" y="10675"/>
                  <a:pt x="6828" y="10743"/>
                  <a:pt x="6796" y="10815"/>
                </a:cubicBezTo>
                <a:cubicBezTo>
                  <a:pt x="6774" y="10866"/>
                  <a:pt x="6747" y="10915"/>
                  <a:pt x="6722" y="109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Ink 14"/>
          <p:cNvSpPr/>
          <p:nvPr/>
        </p:nvSpPr>
        <p:spPr>
          <a:xfrm>
            <a:off x="4357800" y="3929040"/>
            <a:ext cx="901440" cy="312840"/>
          </a:xfrm>
          <a:custGeom>
            <a:avLst/>
            <a:gdLst/>
            <a:ahLst/>
            <a:rect l="l" t="t" r="r" b="b"/>
            <a:pathLst>
              <a:path w="2506" h="869">
                <a:moveTo>
                  <a:pt x="12477" y="11088"/>
                </a:moveTo>
                <a:cubicBezTo>
                  <a:pt x="12512" y="11113"/>
                  <a:pt x="12508" y="11112"/>
                  <a:pt x="12551" y="11112"/>
                </a:cubicBezTo>
                <a:cubicBezTo>
                  <a:pt x="12551" y="11062"/>
                  <a:pt x="12540" y="11054"/>
                  <a:pt x="12526" y="11013"/>
                </a:cubicBezTo>
                <a:cubicBezTo>
                  <a:pt x="12514" y="10976"/>
                  <a:pt x="12483" y="10903"/>
                  <a:pt x="12427" y="10914"/>
                </a:cubicBezTo>
                <a:cubicBezTo>
                  <a:pt x="12351" y="10929"/>
                  <a:pt x="12307" y="10984"/>
                  <a:pt x="12254" y="11038"/>
                </a:cubicBezTo>
                <a:cubicBezTo>
                  <a:pt x="12182" y="11111"/>
                  <a:pt x="12115" y="11236"/>
                  <a:pt x="12105" y="11336"/>
                </a:cubicBezTo>
                <a:cubicBezTo>
                  <a:pt x="12099" y="11397"/>
                  <a:pt x="12105" y="11488"/>
                  <a:pt x="12154" y="11534"/>
                </a:cubicBezTo>
                <a:cubicBezTo>
                  <a:pt x="12201" y="11578"/>
                  <a:pt x="12292" y="11606"/>
                  <a:pt x="12353" y="11609"/>
                </a:cubicBezTo>
                <a:cubicBezTo>
                  <a:pt x="12404" y="11609"/>
                  <a:pt x="12423" y="11608"/>
                  <a:pt x="12452" y="11584"/>
                </a:cubicBezTo>
              </a:path>
              <a:path w="2506" h="869">
                <a:moveTo>
                  <a:pt x="12675" y="11286"/>
                </a:moveTo>
                <a:cubicBezTo>
                  <a:pt x="12675" y="11382"/>
                  <a:pt x="12678" y="11407"/>
                  <a:pt x="12725" y="11485"/>
                </a:cubicBezTo>
                <a:cubicBezTo>
                  <a:pt x="12760" y="11543"/>
                  <a:pt x="12786" y="11571"/>
                  <a:pt x="12849" y="11584"/>
                </a:cubicBezTo>
                <a:cubicBezTo>
                  <a:pt x="12925" y="11599"/>
                  <a:pt x="12991" y="11585"/>
                  <a:pt x="13047" y="11534"/>
                </a:cubicBezTo>
                <a:cubicBezTo>
                  <a:pt x="13119" y="11468"/>
                  <a:pt x="13163" y="11388"/>
                  <a:pt x="13146" y="11286"/>
                </a:cubicBezTo>
                <a:cubicBezTo>
                  <a:pt x="13138" y="11236"/>
                  <a:pt x="13047" y="11123"/>
                  <a:pt x="12998" y="11112"/>
                </a:cubicBezTo>
                <a:cubicBezTo>
                  <a:pt x="12922" y="11095"/>
                  <a:pt x="12836" y="11118"/>
                  <a:pt x="12774" y="11162"/>
                </a:cubicBezTo>
                <a:cubicBezTo>
                  <a:pt x="12732" y="11192"/>
                  <a:pt x="12747" y="11231"/>
                  <a:pt x="12774" y="11261"/>
                </a:cubicBezTo>
                <a:cubicBezTo>
                  <a:pt x="12782" y="11269"/>
                  <a:pt x="12791" y="11278"/>
                  <a:pt x="12799" y="11286"/>
                </a:cubicBezTo>
              </a:path>
              <a:path w="2506" h="869">
                <a:moveTo>
                  <a:pt x="13494" y="11013"/>
                </a:moveTo>
                <a:cubicBezTo>
                  <a:pt x="13474" y="11130"/>
                  <a:pt x="13448" y="11244"/>
                  <a:pt x="13444" y="11361"/>
                </a:cubicBezTo>
                <a:cubicBezTo>
                  <a:pt x="13441" y="11447"/>
                  <a:pt x="13456" y="11506"/>
                  <a:pt x="13469" y="11584"/>
                </a:cubicBezTo>
                <a:cubicBezTo>
                  <a:pt x="13470" y="11591"/>
                  <a:pt x="13488" y="11721"/>
                  <a:pt x="13469" y="11658"/>
                </a:cubicBezTo>
                <a:cubicBezTo>
                  <a:pt x="13461" y="11633"/>
                  <a:pt x="13452" y="11609"/>
                  <a:pt x="13444" y="11584"/>
                </a:cubicBezTo>
              </a:path>
              <a:path w="2506" h="869">
                <a:moveTo>
                  <a:pt x="13146" y="11286"/>
                </a:moveTo>
                <a:cubicBezTo>
                  <a:pt x="13303" y="11286"/>
                  <a:pt x="13461" y="11286"/>
                  <a:pt x="13618" y="11286"/>
                </a:cubicBezTo>
              </a:path>
              <a:path w="2506" h="869">
                <a:moveTo>
                  <a:pt x="14213" y="11112"/>
                </a:moveTo>
                <a:cubicBezTo>
                  <a:pt x="14135" y="11235"/>
                  <a:pt x="14127" y="11290"/>
                  <a:pt x="14089" y="11435"/>
                </a:cubicBezTo>
                <a:cubicBezTo>
                  <a:pt x="14068" y="11516"/>
                  <a:pt x="14050" y="11609"/>
                  <a:pt x="14114" y="11683"/>
                </a:cubicBezTo>
                <a:cubicBezTo>
                  <a:pt x="14167" y="11744"/>
                  <a:pt x="14237" y="11778"/>
                  <a:pt x="14312" y="11782"/>
                </a:cubicBezTo>
                <a:cubicBezTo>
                  <a:pt x="14406" y="11787"/>
                  <a:pt x="14442" y="11774"/>
                  <a:pt x="14511" y="11708"/>
                </a:cubicBezTo>
                <a:cubicBezTo>
                  <a:pt x="14583" y="11640"/>
                  <a:pt x="14606" y="11555"/>
                  <a:pt x="14610" y="11460"/>
                </a:cubicBezTo>
                <a:cubicBezTo>
                  <a:pt x="14615" y="11333"/>
                  <a:pt x="14515" y="11198"/>
                  <a:pt x="14412" y="11137"/>
                </a:cubicBezTo>
                <a:cubicBezTo>
                  <a:pt x="14338" y="11093"/>
                  <a:pt x="14289" y="11097"/>
                  <a:pt x="14213" y="11112"/>
                </a:cubicBezTo>
              </a:path>
              <a:path w="2506" h="869">
                <a:moveTo>
                  <a:pt x="13915" y="11385"/>
                </a:moveTo>
                <a:cubicBezTo>
                  <a:pt x="14002" y="11461"/>
                  <a:pt x="14055" y="11453"/>
                  <a:pt x="14163" y="11485"/>
                </a:cubicBezTo>
                <a:cubicBezTo>
                  <a:pt x="14275" y="11517"/>
                  <a:pt x="14395" y="11524"/>
                  <a:pt x="14511" y="115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Ink 15"/>
          <p:cNvSpPr/>
          <p:nvPr/>
        </p:nvSpPr>
        <p:spPr>
          <a:xfrm>
            <a:off x="5419800" y="4089240"/>
            <a:ext cx="179280" cy="152640"/>
          </a:xfrm>
          <a:custGeom>
            <a:avLst/>
            <a:gdLst/>
            <a:ahLst/>
            <a:rect l="l" t="t" r="r" b="b"/>
            <a:pathLst>
              <a:path w="498" h="422">
                <a:moveTo>
                  <a:pt x="15081" y="11361"/>
                </a:moveTo>
                <a:cubicBezTo>
                  <a:pt x="15182" y="11378"/>
                  <a:pt x="15255" y="11385"/>
                  <a:pt x="15354" y="11385"/>
                </a:cubicBezTo>
                <a:cubicBezTo>
                  <a:pt x="15362" y="11385"/>
                  <a:pt x="15371" y="11385"/>
                  <a:pt x="15379" y="11385"/>
                </a:cubicBezTo>
              </a:path>
              <a:path w="498" h="422">
                <a:moveTo>
                  <a:pt x="15056" y="11683"/>
                </a:moveTo>
                <a:cubicBezTo>
                  <a:pt x="15144" y="11727"/>
                  <a:pt x="15251" y="11767"/>
                  <a:pt x="15354" y="11782"/>
                </a:cubicBezTo>
                <a:cubicBezTo>
                  <a:pt x="15422" y="11792"/>
                  <a:pt x="15500" y="11789"/>
                  <a:pt x="15553" y="117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Ink 16"/>
          <p:cNvSpPr/>
          <p:nvPr/>
        </p:nvSpPr>
        <p:spPr>
          <a:xfrm>
            <a:off x="5796000" y="3963960"/>
            <a:ext cx="1884240" cy="509760"/>
          </a:xfrm>
          <a:custGeom>
            <a:avLst/>
            <a:gdLst/>
            <a:ahLst/>
            <a:rect l="l" t="t" r="r" b="b"/>
            <a:pathLst>
              <a:path w="5235" h="1415">
                <a:moveTo>
                  <a:pt x="16148" y="11336"/>
                </a:moveTo>
                <a:cubicBezTo>
                  <a:pt x="16148" y="11393"/>
                  <a:pt x="16141" y="11457"/>
                  <a:pt x="16123" y="11509"/>
                </a:cubicBezTo>
                <a:cubicBezTo>
                  <a:pt x="16097" y="11586"/>
                  <a:pt x="16098" y="11649"/>
                  <a:pt x="16098" y="11733"/>
                </a:cubicBezTo>
                <a:cubicBezTo>
                  <a:pt x="16098" y="11802"/>
                  <a:pt x="16128" y="11855"/>
                  <a:pt x="16173" y="11906"/>
                </a:cubicBezTo>
                <a:cubicBezTo>
                  <a:pt x="16214" y="11952"/>
                  <a:pt x="16257" y="11936"/>
                  <a:pt x="16297" y="11931"/>
                </a:cubicBezTo>
                <a:cubicBezTo>
                  <a:pt x="16388" y="11919"/>
                  <a:pt x="16387" y="11896"/>
                  <a:pt x="16446" y="11832"/>
                </a:cubicBezTo>
                <a:cubicBezTo>
                  <a:pt x="16493" y="11781"/>
                  <a:pt x="16557" y="11682"/>
                  <a:pt x="16570" y="11609"/>
                </a:cubicBezTo>
                <a:cubicBezTo>
                  <a:pt x="16583" y="11537"/>
                  <a:pt x="16594" y="11486"/>
                  <a:pt x="16594" y="11410"/>
                </a:cubicBezTo>
                <a:cubicBezTo>
                  <a:pt x="16594" y="11482"/>
                  <a:pt x="16608" y="11520"/>
                  <a:pt x="16619" y="11584"/>
                </a:cubicBezTo>
                <a:cubicBezTo>
                  <a:pt x="16630" y="11645"/>
                  <a:pt x="16620" y="11699"/>
                  <a:pt x="16644" y="11757"/>
                </a:cubicBezTo>
                <a:cubicBezTo>
                  <a:pt x="16659" y="11793"/>
                  <a:pt x="16703" y="11864"/>
                  <a:pt x="16743" y="11881"/>
                </a:cubicBezTo>
                <a:cubicBezTo>
                  <a:pt x="16751" y="11881"/>
                  <a:pt x="16760" y="11881"/>
                  <a:pt x="16768" y="11881"/>
                </a:cubicBezTo>
              </a:path>
              <a:path w="5235" h="1415">
                <a:moveTo>
                  <a:pt x="16966" y="11509"/>
                </a:moveTo>
                <a:cubicBezTo>
                  <a:pt x="16945" y="11596"/>
                  <a:pt x="16942" y="11668"/>
                  <a:pt x="16942" y="11757"/>
                </a:cubicBezTo>
                <a:cubicBezTo>
                  <a:pt x="16942" y="11832"/>
                  <a:pt x="16923" y="11922"/>
                  <a:pt x="16966" y="11981"/>
                </a:cubicBezTo>
                <a:cubicBezTo>
                  <a:pt x="17007" y="11940"/>
                  <a:pt x="16972" y="11896"/>
                  <a:pt x="16991" y="11832"/>
                </a:cubicBezTo>
                <a:cubicBezTo>
                  <a:pt x="17011" y="11766"/>
                  <a:pt x="16998" y="11698"/>
                  <a:pt x="17016" y="11633"/>
                </a:cubicBezTo>
                <a:cubicBezTo>
                  <a:pt x="17037" y="11557"/>
                  <a:pt x="17061" y="11470"/>
                  <a:pt x="17115" y="11410"/>
                </a:cubicBezTo>
                <a:cubicBezTo>
                  <a:pt x="17159" y="11360"/>
                  <a:pt x="17173" y="11361"/>
                  <a:pt x="17239" y="11361"/>
                </a:cubicBezTo>
                <a:cubicBezTo>
                  <a:pt x="17305" y="11361"/>
                  <a:pt x="17307" y="11440"/>
                  <a:pt x="17338" y="11485"/>
                </a:cubicBezTo>
                <a:cubicBezTo>
                  <a:pt x="17387" y="11556"/>
                  <a:pt x="17388" y="11595"/>
                  <a:pt x="17388" y="11683"/>
                </a:cubicBezTo>
                <a:cubicBezTo>
                  <a:pt x="17388" y="11767"/>
                  <a:pt x="17392" y="11835"/>
                  <a:pt x="17413" y="11906"/>
                </a:cubicBezTo>
                <a:cubicBezTo>
                  <a:pt x="17413" y="11931"/>
                  <a:pt x="17413" y="11939"/>
                  <a:pt x="17438" y="11931"/>
                </a:cubicBezTo>
              </a:path>
              <a:path w="5235" h="1415">
                <a:moveTo>
                  <a:pt x="17934" y="11609"/>
                </a:moveTo>
                <a:cubicBezTo>
                  <a:pt x="17934" y="11549"/>
                  <a:pt x="17941" y="11552"/>
                  <a:pt x="17909" y="11509"/>
                </a:cubicBezTo>
                <a:cubicBezTo>
                  <a:pt x="17864" y="11520"/>
                  <a:pt x="17826" y="11537"/>
                  <a:pt x="17785" y="11559"/>
                </a:cubicBezTo>
                <a:cubicBezTo>
                  <a:pt x="17698" y="11605"/>
                  <a:pt x="17669" y="11699"/>
                  <a:pt x="17636" y="11782"/>
                </a:cubicBezTo>
                <a:cubicBezTo>
                  <a:pt x="17615" y="11833"/>
                  <a:pt x="17589" y="11924"/>
                  <a:pt x="17611" y="11981"/>
                </a:cubicBezTo>
                <a:cubicBezTo>
                  <a:pt x="17624" y="12014"/>
                  <a:pt x="17681" y="12052"/>
                  <a:pt x="17711" y="12055"/>
                </a:cubicBezTo>
                <a:cubicBezTo>
                  <a:pt x="17754" y="12060"/>
                  <a:pt x="17834" y="12017"/>
                  <a:pt x="17859" y="11981"/>
                </a:cubicBezTo>
                <a:cubicBezTo>
                  <a:pt x="17916" y="11900"/>
                  <a:pt x="17937" y="11795"/>
                  <a:pt x="17959" y="11708"/>
                </a:cubicBezTo>
                <a:cubicBezTo>
                  <a:pt x="17986" y="11600"/>
                  <a:pt x="18003" y="11497"/>
                  <a:pt x="18008" y="11385"/>
                </a:cubicBezTo>
                <a:cubicBezTo>
                  <a:pt x="18013" y="11270"/>
                  <a:pt x="18008" y="11153"/>
                  <a:pt x="18008" y="11038"/>
                </a:cubicBezTo>
                <a:cubicBezTo>
                  <a:pt x="17963" y="11098"/>
                  <a:pt x="17975" y="11164"/>
                  <a:pt x="17959" y="11237"/>
                </a:cubicBezTo>
                <a:cubicBezTo>
                  <a:pt x="17938" y="11330"/>
                  <a:pt x="17913" y="11412"/>
                  <a:pt x="17909" y="11509"/>
                </a:cubicBezTo>
                <a:cubicBezTo>
                  <a:pt x="17905" y="11618"/>
                  <a:pt x="17865" y="11870"/>
                  <a:pt x="17934" y="11956"/>
                </a:cubicBezTo>
                <a:cubicBezTo>
                  <a:pt x="17942" y="11964"/>
                  <a:pt x="17951" y="11973"/>
                  <a:pt x="17959" y="11981"/>
                </a:cubicBezTo>
              </a:path>
              <a:path w="5235" h="1415">
                <a:moveTo>
                  <a:pt x="18132" y="11956"/>
                </a:moveTo>
                <a:cubicBezTo>
                  <a:pt x="18182" y="11931"/>
                  <a:pt x="18243" y="11916"/>
                  <a:pt x="18281" y="11881"/>
                </a:cubicBezTo>
                <a:cubicBezTo>
                  <a:pt x="18317" y="11848"/>
                  <a:pt x="18378" y="11799"/>
                  <a:pt x="18405" y="11757"/>
                </a:cubicBezTo>
                <a:cubicBezTo>
                  <a:pt x="18435" y="11710"/>
                  <a:pt x="18455" y="11686"/>
                  <a:pt x="18455" y="11633"/>
                </a:cubicBezTo>
                <a:cubicBezTo>
                  <a:pt x="18455" y="11605"/>
                  <a:pt x="18452" y="11595"/>
                  <a:pt x="18430" y="11584"/>
                </a:cubicBezTo>
                <a:cubicBezTo>
                  <a:pt x="18381" y="11594"/>
                  <a:pt x="18313" y="11613"/>
                  <a:pt x="18281" y="11658"/>
                </a:cubicBezTo>
                <a:cubicBezTo>
                  <a:pt x="18250" y="11701"/>
                  <a:pt x="18170" y="11784"/>
                  <a:pt x="18157" y="11832"/>
                </a:cubicBezTo>
                <a:cubicBezTo>
                  <a:pt x="18139" y="11898"/>
                  <a:pt x="18170" y="11955"/>
                  <a:pt x="18207" y="12005"/>
                </a:cubicBezTo>
                <a:cubicBezTo>
                  <a:pt x="18253" y="12068"/>
                  <a:pt x="18329" y="12071"/>
                  <a:pt x="18405" y="12055"/>
                </a:cubicBezTo>
                <a:cubicBezTo>
                  <a:pt x="18422" y="12047"/>
                  <a:pt x="18438" y="12038"/>
                  <a:pt x="18455" y="12030"/>
                </a:cubicBezTo>
              </a:path>
              <a:path w="5235" h="1415">
                <a:moveTo>
                  <a:pt x="19174" y="11162"/>
                </a:moveTo>
                <a:cubicBezTo>
                  <a:pt x="19146" y="11110"/>
                  <a:pt x="19120" y="11018"/>
                  <a:pt x="19050" y="11013"/>
                </a:cubicBezTo>
                <a:cubicBezTo>
                  <a:pt x="18968" y="11007"/>
                  <a:pt x="18927" y="11016"/>
                  <a:pt x="18876" y="11088"/>
                </a:cubicBezTo>
                <a:cubicBezTo>
                  <a:pt x="18823" y="11163"/>
                  <a:pt x="18825" y="11232"/>
                  <a:pt x="18802" y="11311"/>
                </a:cubicBezTo>
                <a:cubicBezTo>
                  <a:pt x="18770" y="11423"/>
                  <a:pt x="18777" y="11539"/>
                  <a:pt x="18777" y="11658"/>
                </a:cubicBezTo>
                <a:cubicBezTo>
                  <a:pt x="18777" y="11762"/>
                  <a:pt x="18802" y="11849"/>
                  <a:pt x="18802" y="11956"/>
                </a:cubicBezTo>
                <a:cubicBezTo>
                  <a:pt x="18802" y="11965"/>
                  <a:pt x="18821" y="12117"/>
                  <a:pt x="18827" y="12105"/>
                </a:cubicBezTo>
                <a:cubicBezTo>
                  <a:pt x="18827" y="12088"/>
                  <a:pt x="18827" y="12072"/>
                  <a:pt x="18827" y="12055"/>
                </a:cubicBezTo>
              </a:path>
              <a:path w="5235" h="1415">
                <a:moveTo>
                  <a:pt x="18604" y="11633"/>
                </a:moveTo>
                <a:cubicBezTo>
                  <a:pt x="18684" y="11612"/>
                  <a:pt x="18744" y="11609"/>
                  <a:pt x="18827" y="11609"/>
                </a:cubicBezTo>
                <a:cubicBezTo>
                  <a:pt x="18901" y="11609"/>
                  <a:pt x="18957" y="11622"/>
                  <a:pt x="19025" y="11633"/>
                </a:cubicBezTo>
                <a:cubicBezTo>
                  <a:pt x="19103" y="11646"/>
                  <a:pt x="19087" y="11653"/>
                  <a:pt x="19124" y="11708"/>
                </a:cubicBezTo>
                <a:cubicBezTo>
                  <a:pt x="19159" y="11761"/>
                  <a:pt x="19149" y="11815"/>
                  <a:pt x="19149" y="11881"/>
                </a:cubicBezTo>
                <a:cubicBezTo>
                  <a:pt x="19149" y="11945"/>
                  <a:pt x="19124" y="11989"/>
                  <a:pt x="19124" y="12055"/>
                </a:cubicBezTo>
                <a:cubicBezTo>
                  <a:pt x="19124" y="12109"/>
                  <a:pt x="19149" y="12115"/>
                  <a:pt x="19149" y="12055"/>
                </a:cubicBezTo>
              </a:path>
              <a:path w="5235" h="1415">
                <a:moveTo>
                  <a:pt x="19273" y="11336"/>
                </a:moveTo>
                <a:cubicBezTo>
                  <a:pt x="19290" y="11328"/>
                  <a:pt x="19306" y="11319"/>
                  <a:pt x="19323" y="11311"/>
                </a:cubicBezTo>
              </a:path>
              <a:path w="5235" h="1415">
                <a:moveTo>
                  <a:pt x="19397" y="11733"/>
                </a:moveTo>
                <a:cubicBezTo>
                  <a:pt x="19387" y="11840"/>
                  <a:pt x="19449" y="11995"/>
                  <a:pt x="19348" y="12030"/>
                </a:cubicBezTo>
                <a:cubicBezTo>
                  <a:pt x="19348" y="11956"/>
                  <a:pt x="19361" y="11900"/>
                  <a:pt x="19372" y="11832"/>
                </a:cubicBezTo>
                <a:cubicBezTo>
                  <a:pt x="19383" y="11764"/>
                  <a:pt x="19425" y="11728"/>
                  <a:pt x="19447" y="11658"/>
                </a:cubicBezTo>
                <a:cubicBezTo>
                  <a:pt x="19460" y="11617"/>
                  <a:pt x="19473" y="11555"/>
                  <a:pt x="19521" y="11534"/>
                </a:cubicBezTo>
                <a:cubicBezTo>
                  <a:pt x="19545" y="11523"/>
                  <a:pt x="19569" y="11516"/>
                  <a:pt x="19596" y="11509"/>
                </a:cubicBezTo>
                <a:cubicBezTo>
                  <a:pt x="19618" y="11575"/>
                  <a:pt x="19621" y="11525"/>
                  <a:pt x="19621" y="11658"/>
                </a:cubicBezTo>
                <a:cubicBezTo>
                  <a:pt x="19621" y="11772"/>
                  <a:pt x="19619" y="11874"/>
                  <a:pt x="19645" y="11981"/>
                </a:cubicBezTo>
                <a:cubicBezTo>
                  <a:pt x="19657" y="12028"/>
                  <a:pt x="19701" y="12037"/>
                  <a:pt x="19720" y="12080"/>
                </a:cubicBezTo>
                <a:cubicBezTo>
                  <a:pt x="19737" y="12117"/>
                  <a:pt x="19747" y="12105"/>
                  <a:pt x="19794" y="12105"/>
                </a:cubicBezTo>
              </a:path>
              <a:path w="5235" h="1415">
                <a:moveTo>
                  <a:pt x="19893" y="11981"/>
                </a:moveTo>
                <a:cubicBezTo>
                  <a:pt x="19978" y="11950"/>
                  <a:pt x="20047" y="11917"/>
                  <a:pt x="20117" y="11857"/>
                </a:cubicBezTo>
                <a:cubicBezTo>
                  <a:pt x="20151" y="11828"/>
                  <a:pt x="20229" y="11752"/>
                  <a:pt x="20241" y="11708"/>
                </a:cubicBezTo>
                <a:cubicBezTo>
                  <a:pt x="20255" y="11656"/>
                  <a:pt x="20243" y="11615"/>
                  <a:pt x="20191" y="11609"/>
                </a:cubicBezTo>
                <a:cubicBezTo>
                  <a:pt x="20146" y="11604"/>
                  <a:pt x="20106" y="11607"/>
                  <a:pt x="20067" y="11633"/>
                </a:cubicBezTo>
                <a:cubicBezTo>
                  <a:pt x="20015" y="11667"/>
                  <a:pt x="19975" y="11704"/>
                  <a:pt x="19943" y="11757"/>
                </a:cubicBezTo>
                <a:cubicBezTo>
                  <a:pt x="19916" y="11801"/>
                  <a:pt x="19884" y="11905"/>
                  <a:pt x="19893" y="11956"/>
                </a:cubicBezTo>
                <a:cubicBezTo>
                  <a:pt x="19907" y="12036"/>
                  <a:pt x="19942" y="12099"/>
                  <a:pt x="20017" y="12129"/>
                </a:cubicBezTo>
                <a:cubicBezTo>
                  <a:pt x="20090" y="12153"/>
                  <a:pt x="20114" y="12162"/>
                  <a:pt x="20166" y="12154"/>
                </a:cubicBezTo>
              </a:path>
              <a:path w="5235" h="1415">
                <a:moveTo>
                  <a:pt x="20662" y="11733"/>
                </a:moveTo>
                <a:cubicBezTo>
                  <a:pt x="20633" y="11657"/>
                  <a:pt x="20631" y="11614"/>
                  <a:pt x="20538" y="11633"/>
                </a:cubicBezTo>
                <a:cubicBezTo>
                  <a:pt x="20478" y="11645"/>
                  <a:pt x="20400" y="11708"/>
                  <a:pt x="20365" y="11757"/>
                </a:cubicBezTo>
                <a:cubicBezTo>
                  <a:pt x="20323" y="11817"/>
                  <a:pt x="20319" y="11863"/>
                  <a:pt x="20315" y="11931"/>
                </a:cubicBezTo>
                <a:cubicBezTo>
                  <a:pt x="20311" y="11997"/>
                  <a:pt x="20320" y="12029"/>
                  <a:pt x="20365" y="12080"/>
                </a:cubicBezTo>
                <a:cubicBezTo>
                  <a:pt x="20408" y="12128"/>
                  <a:pt x="20458" y="12122"/>
                  <a:pt x="20513" y="12105"/>
                </a:cubicBezTo>
                <a:cubicBezTo>
                  <a:pt x="20580" y="12085"/>
                  <a:pt x="20610" y="12056"/>
                  <a:pt x="20662" y="12005"/>
                </a:cubicBezTo>
                <a:cubicBezTo>
                  <a:pt x="20746" y="11922"/>
                  <a:pt x="20739" y="11865"/>
                  <a:pt x="20762" y="11757"/>
                </a:cubicBezTo>
                <a:cubicBezTo>
                  <a:pt x="20781" y="11667"/>
                  <a:pt x="20807" y="11577"/>
                  <a:pt x="20811" y="11485"/>
                </a:cubicBezTo>
                <a:cubicBezTo>
                  <a:pt x="20815" y="11395"/>
                  <a:pt x="20801" y="11346"/>
                  <a:pt x="20786" y="11261"/>
                </a:cubicBezTo>
                <a:cubicBezTo>
                  <a:pt x="20786" y="11253"/>
                  <a:pt x="20786" y="11245"/>
                  <a:pt x="20786" y="11237"/>
                </a:cubicBezTo>
                <a:cubicBezTo>
                  <a:pt x="20769" y="11266"/>
                  <a:pt x="20733" y="11375"/>
                  <a:pt x="20737" y="11410"/>
                </a:cubicBezTo>
                <a:cubicBezTo>
                  <a:pt x="20747" y="11502"/>
                  <a:pt x="20771" y="11646"/>
                  <a:pt x="20811" y="11733"/>
                </a:cubicBezTo>
                <a:cubicBezTo>
                  <a:pt x="20876" y="11876"/>
                  <a:pt x="20968" y="12001"/>
                  <a:pt x="21059" y="12129"/>
                </a:cubicBezTo>
                <a:cubicBezTo>
                  <a:pt x="21138" y="12241"/>
                  <a:pt x="21235" y="12330"/>
                  <a:pt x="21332" y="124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Ink 17"/>
          <p:cNvSpPr/>
          <p:nvPr/>
        </p:nvSpPr>
        <p:spPr>
          <a:xfrm>
            <a:off x="268200" y="4724280"/>
            <a:ext cx="2500560" cy="588960"/>
          </a:xfrm>
          <a:custGeom>
            <a:avLst/>
            <a:gdLst/>
            <a:ahLst/>
            <a:rect l="l" t="t" r="r" b="b"/>
            <a:pathLst>
              <a:path w="6946" h="1638">
                <a:moveTo>
                  <a:pt x="744" y="14536"/>
                </a:moveTo>
                <a:cubicBezTo>
                  <a:pt x="795" y="14576"/>
                  <a:pt x="797" y="14610"/>
                  <a:pt x="868" y="14610"/>
                </a:cubicBezTo>
                <a:cubicBezTo>
                  <a:pt x="947" y="14610"/>
                  <a:pt x="1067" y="14506"/>
                  <a:pt x="1116" y="14461"/>
                </a:cubicBezTo>
                <a:cubicBezTo>
                  <a:pt x="1229" y="14356"/>
                  <a:pt x="1341" y="14259"/>
                  <a:pt x="1439" y="14139"/>
                </a:cubicBezTo>
                <a:cubicBezTo>
                  <a:pt x="1551" y="14001"/>
                  <a:pt x="1644" y="13820"/>
                  <a:pt x="1736" y="13667"/>
                </a:cubicBezTo>
                <a:cubicBezTo>
                  <a:pt x="1799" y="13562"/>
                  <a:pt x="1845" y="13450"/>
                  <a:pt x="1910" y="13345"/>
                </a:cubicBezTo>
                <a:cubicBezTo>
                  <a:pt x="1873" y="13423"/>
                  <a:pt x="1836" y="13505"/>
                  <a:pt x="1811" y="13593"/>
                </a:cubicBezTo>
                <a:cubicBezTo>
                  <a:pt x="1780" y="13702"/>
                  <a:pt x="1736" y="13825"/>
                  <a:pt x="1761" y="13940"/>
                </a:cubicBezTo>
                <a:cubicBezTo>
                  <a:pt x="1771" y="13987"/>
                  <a:pt x="1808" y="14093"/>
                  <a:pt x="1860" y="14114"/>
                </a:cubicBezTo>
                <a:cubicBezTo>
                  <a:pt x="1926" y="14141"/>
                  <a:pt x="1996" y="14085"/>
                  <a:pt x="2034" y="14039"/>
                </a:cubicBezTo>
                <a:cubicBezTo>
                  <a:pt x="2116" y="13940"/>
                  <a:pt x="2179" y="13844"/>
                  <a:pt x="2257" y="13742"/>
                </a:cubicBezTo>
                <a:cubicBezTo>
                  <a:pt x="2343" y="13629"/>
                  <a:pt x="2406" y="13518"/>
                  <a:pt x="2480" y="13395"/>
                </a:cubicBezTo>
                <a:cubicBezTo>
                  <a:pt x="2525" y="13319"/>
                  <a:pt x="2578" y="13232"/>
                  <a:pt x="2604" y="13146"/>
                </a:cubicBezTo>
                <a:cubicBezTo>
                  <a:pt x="2627" y="13124"/>
                  <a:pt x="2638" y="13116"/>
                  <a:pt x="2604" y="13122"/>
                </a:cubicBezTo>
                <a:cubicBezTo>
                  <a:pt x="2581" y="13212"/>
                  <a:pt x="2538" y="13283"/>
                  <a:pt x="2505" y="13370"/>
                </a:cubicBezTo>
                <a:cubicBezTo>
                  <a:pt x="2440" y="13543"/>
                  <a:pt x="2443" y="13756"/>
                  <a:pt x="2406" y="13940"/>
                </a:cubicBezTo>
                <a:cubicBezTo>
                  <a:pt x="2371" y="14111"/>
                  <a:pt x="2356" y="14261"/>
                  <a:pt x="2356" y="14436"/>
                </a:cubicBezTo>
                <a:cubicBezTo>
                  <a:pt x="2356" y="14543"/>
                  <a:pt x="2345" y="14640"/>
                  <a:pt x="2406" y="14734"/>
                </a:cubicBezTo>
                <a:cubicBezTo>
                  <a:pt x="2414" y="14742"/>
                  <a:pt x="2423" y="14751"/>
                  <a:pt x="2431" y="14759"/>
                </a:cubicBezTo>
              </a:path>
              <a:path w="6946" h="1638">
                <a:moveTo>
                  <a:pt x="2059" y="14511"/>
                </a:moveTo>
                <a:cubicBezTo>
                  <a:pt x="2175" y="14482"/>
                  <a:pt x="2307" y="14455"/>
                  <a:pt x="2406" y="14387"/>
                </a:cubicBezTo>
                <a:cubicBezTo>
                  <a:pt x="2517" y="14311"/>
                  <a:pt x="2592" y="14177"/>
                  <a:pt x="2704" y="14114"/>
                </a:cubicBezTo>
                <a:cubicBezTo>
                  <a:pt x="2692" y="14163"/>
                  <a:pt x="2691" y="14215"/>
                  <a:pt x="2679" y="14263"/>
                </a:cubicBezTo>
                <a:cubicBezTo>
                  <a:pt x="2659" y="14340"/>
                  <a:pt x="2642" y="14388"/>
                  <a:pt x="2679" y="14461"/>
                </a:cubicBezTo>
                <a:cubicBezTo>
                  <a:pt x="2706" y="14514"/>
                  <a:pt x="2724" y="14531"/>
                  <a:pt x="2778" y="14536"/>
                </a:cubicBezTo>
                <a:cubicBezTo>
                  <a:pt x="2843" y="14542"/>
                  <a:pt x="2887" y="14510"/>
                  <a:pt x="2927" y="14461"/>
                </a:cubicBezTo>
                <a:cubicBezTo>
                  <a:pt x="2974" y="14403"/>
                  <a:pt x="3000" y="14307"/>
                  <a:pt x="3026" y="14238"/>
                </a:cubicBezTo>
                <a:cubicBezTo>
                  <a:pt x="3061" y="14145"/>
                  <a:pt x="3097" y="14094"/>
                  <a:pt x="3150" y="14015"/>
                </a:cubicBezTo>
                <a:cubicBezTo>
                  <a:pt x="3195" y="13947"/>
                  <a:pt x="3225" y="13892"/>
                  <a:pt x="3299" y="13940"/>
                </a:cubicBezTo>
                <a:cubicBezTo>
                  <a:pt x="3383" y="13995"/>
                  <a:pt x="3395" y="14099"/>
                  <a:pt x="3398" y="14188"/>
                </a:cubicBezTo>
                <a:cubicBezTo>
                  <a:pt x="3402" y="14291"/>
                  <a:pt x="3406" y="14391"/>
                  <a:pt x="3373" y="14486"/>
                </a:cubicBezTo>
                <a:cubicBezTo>
                  <a:pt x="3353" y="14544"/>
                  <a:pt x="3337" y="14575"/>
                  <a:pt x="3274" y="14585"/>
                </a:cubicBezTo>
                <a:cubicBezTo>
                  <a:pt x="3215" y="14594"/>
                  <a:pt x="3193" y="14572"/>
                  <a:pt x="3150" y="14560"/>
                </a:cubicBezTo>
                <a:cubicBezTo>
                  <a:pt x="3142" y="14560"/>
                  <a:pt x="3133" y="14560"/>
                  <a:pt x="3125" y="14560"/>
                </a:cubicBezTo>
              </a:path>
              <a:path w="6946" h="1638">
                <a:moveTo>
                  <a:pt x="3572" y="14585"/>
                </a:moveTo>
                <a:cubicBezTo>
                  <a:pt x="3597" y="14585"/>
                  <a:pt x="3605" y="14585"/>
                  <a:pt x="3597" y="14560"/>
                </a:cubicBezTo>
              </a:path>
              <a:path w="6946" h="1638">
                <a:moveTo>
                  <a:pt x="4142" y="13568"/>
                </a:moveTo>
                <a:cubicBezTo>
                  <a:pt x="4173" y="13711"/>
                  <a:pt x="4136" y="13749"/>
                  <a:pt x="4118" y="13891"/>
                </a:cubicBezTo>
                <a:cubicBezTo>
                  <a:pt x="4103" y="14008"/>
                  <a:pt x="4060" y="14122"/>
                  <a:pt x="4043" y="14238"/>
                </a:cubicBezTo>
                <a:cubicBezTo>
                  <a:pt x="4031" y="14321"/>
                  <a:pt x="4018" y="14401"/>
                  <a:pt x="4018" y="14486"/>
                </a:cubicBezTo>
                <a:cubicBezTo>
                  <a:pt x="4018" y="14511"/>
                  <a:pt x="4018" y="14519"/>
                  <a:pt x="4018" y="14536"/>
                </a:cubicBezTo>
                <a:cubicBezTo>
                  <a:pt x="4004" y="14507"/>
                  <a:pt x="3994" y="14502"/>
                  <a:pt x="3994" y="14436"/>
                </a:cubicBezTo>
                <a:cubicBezTo>
                  <a:pt x="3994" y="14305"/>
                  <a:pt x="4014" y="14166"/>
                  <a:pt x="4043" y="14039"/>
                </a:cubicBezTo>
                <a:cubicBezTo>
                  <a:pt x="4075" y="13898"/>
                  <a:pt x="4096" y="13781"/>
                  <a:pt x="4142" y="13643"/>
                </a:cubicBezTo>
                <a:cubicBezTo>
                  <a:pt x="4196" y="13480"/>
                  <a:pt x="4273" y="13384"/>
                  <a:pt x="4366" y="13246"/>
                </a:cubicBezTo>
                <a:cubicBezTo>
                  <a:pt x="4404" y="13190"/>
                  <a:pt x="4458" y="13140"/>
                  <a:pt x="4539" y="13171"/>
                </a:cubicBezTo>
                <a:cubicBezTo>
                  <a:pt x="4589" y="13191"/>
                  <a:pt x="4622" y="13272"/>
                  <a:pt x="4614" y="13320"/>
                </a:cubicBezTo>
                <a:cubicBezTo>
                  <a:pt x="4596" y="13425"/>
                  <a:pt x="4571" y="13501"/>
                  <a:pt x="4514" y="13593"/>
                </a:cubicBezTo>
                <a:cubicBezTo>
                  <a:pt x="4457" y="13685"/>
                  <a:pt x="4418" y="13720"/>
                  <a:pt x="4341" y="13791"/>
                </a:cubicBezTo>
                <a:cubicBezTo>
                  <a:pt x="4319" y="13811"/>
                  <a:pt x="4269" y="13854"/>
                  <a:pt x="4242" y="13866"/>
                </a:cubicBezTo>
                <a:cubicBezTo>
                  <a:pt x="4234" y="13866"/>
                  <a:pt x="4225" y="13866"/>
                  <a:pt x="4217" y="13866"/>
                </a:cubicBezTo>
                <a:cubicBezTo>
                  <a:pt x="4264" y="13866"/>
                  <a:pt x="4329" y="13854"/>
                  <a:pt x="4366" y="13891"/>
                </a:cubicBezTo>
                <a:cubicBezTo>
                  <a:pt x="4454" y="13979"/>
                  <a:pt x="4437" y="14065"/>
                  <a:pt x="4440" y="14188"/>
                </a:cubicBezTo>
                <a:cubicBezTo>
                  <a:pt x="4442" y="14282"/>
                  <a:pt x="4451" y="14375"/>
                  <a:pt x="4415" y="14461"/>
                </a:cubicBezTo>
                <a:cubicBezTo>
                  <a:pt x="4392" y="14516"/>
                  <a:pt x="4325" y="14594"/>
                  <a:pt x="4266" y="14610"/>
                </a:cubicBezTo>
                <a:cubicBezTo>
                  <a:pt x="4223" y="14622"/>
                  <a:pt x="4127" y="14601"/>
                  <a:pt x="4093" y="14585"/>
                </a:cubicBezTo>
                <a:cubicBezTo>
                  <a:pt x="4068" y="14574"/>
                  <a:pt x="4038" y="14530"/>
                  <a:pt x="4018" y="14511"/>
                </a:cubicBezTo>
                <a:cubicBezTo>
                  <a:pt x="3997" y="14468"/>
                  <a:pt x="3977" y="14455"/>
                  <a:pt x="4043" y="14461"/>
                </a:cubicBezTo>
                <a:cubicBezTo>
                  <a:pt x="4153" y="14470"/>
                  <a:pt x="4277" y="14507"/>
                  <a:pt x="4390" y="14486"/>
                </a:cubicBezTo>
                <a:cubicBezTo>
                  <a:pt x="4505" y="14465"/>
                  <a:pt x="4627" y="14411"/>
                  <a:pt x="4713" y="14337"/>
                </a:cubicBezTo>
                <a:cubicBezTo>
                  <a:pt x="4771" y="14287"/>
                  <a:pt x="4829" y="14184"/>
                  <a:pt x="4837" y="14114"/>
                </a:cubicBezTo>
                <a:cubicBezTo>
                  <a:pt x="4845" y="14043"/>
                  <a:pt x="4852" y="14025"/>
                  <a:pt x="4837" y="13965"/>
                </a:cubicBezTo>
                <a:cubicBezTo>
                  <a:pt x="4783" y="13980"/>
                  <a:pt x="4796" y="13961"/>
                  <a:pt x="4762" y="14015"/>
                </a:cubicBezTo>
                <a:cubicBezTo>
                  <a:pt x="4709" y="14098"/>
                  <a:pt x="4713" y="14167"/>
                  <a:pt x="4713" y="14263"/>
                </a:cubicBezTo>
                <a:cubicBezTo>
                  <a:pt x="4713" y="14346"/>
                  <a:pt x="4741" y="14439"/>
                  <a:pt x="4787" y="14511"/>
                </a:cubicBezTo>
                <a:cubicBezTo>
                  <a:pt x="4808" y="14543"/>
                  <a:pt x="4845" y="14569"/>
                  <a:pt x="4862" y="14585"/>
                </a:cubicBezTo>
              </a:path>
              <a:path w="6946" h="1638">
                <a:moveTo>
                  <a:pt x="5407" y="14163"/>
                </a:moveTo>
                <a:cubicBezTo>
                  <a:pt x="5480" y="14139"/>
                  <a:pt x="5448" y="14163"/>
                  <a:pt x="5457" y="14089"/>
                </a:cubicBezTo>
                <a:cubicBezTo>
                  <a:pt x="5462" y="14048"/>
                  <a:pt x="5459" y="13980"/>
                  <a:pt x="5407" y="13965"/>
                </a:cubicBezTo>
                <a:cubicBezTo>
                  <a:pt x="5360" y="13951"/>
                  <a:pt x="5319" y="13971"/>
                  <a:pt x="5283" y="13990"/>
                </a:cubicBezTo>
                <a:cubicBezTo>
                  <a:pt x="5202" y="14034"/>
                  <a:pt x="5157" y="14056"/>
                  <a:pt x="5110" y="14139"/>
                </a:cubicBezTo>
                <a:cubicBezTo>
                  <a:pt x="5069" y="14212"/>
                  <a:pt x="5039" y="14279"/>
                  <a:pt x="5035" y="14362"/>
                </a:cubicBezTo>
                <a:cubicBezTo>
                  <a:pt x="5032" y="14425"/>
                  <a:pt x="5061" y="14542"/>
                  <a:pt x="5135" y="14560"/>
                </a:cubicBezTo>
                <a:cubicBezTo>
                  <a:pt x="5176" y="14570"/>
                  <a:pt x="5250" y="14556"/>
                  <a:pt x="5283" y="14536"/>
                </a:cubicBezTo>
                <a:cubicBezTo>
                  <a:pt x="5335" y="14504"/>
                  <a:pt x="5403" y="14411"/>
                  <a:pt x="5432" y="14362"/>
                </a:cubicBezTo>
                <a:cubicBezTo>
                  <a:pt x="5469" y="14298"/>
                  <a:pt x="5457" y="14233"/>
                  <a:pt x="5457" y="14163"/>
                </a:cubicBezTo>
                <a:cubicBezTo>
                  <a:pt x="5457" y="14155"/>
                  <a:pt x="5457" y="14147"/>
                  <a:pt x="5457" y="14139"/>
                </a:cubicBezTo>
                <a:cubicBezTo>
                  <a:pt x="5426" y="14189"/>
                  <a:pt x="5432" y="14226"/>
                  <a:pt x="5432" y="14288"/>
                </a:cubicBezTo>
                <a:cubicBezTo>
                  <a:pt x="5432" y="14343"/>
                  <a:pt x="5451" y="14414"/>
                  <a:pt x="5482" y="14461"/>
                </a:cubicBezTo>
                <a:cubicBezTo>
                  <a:pt x="5517" y="14515"/>
                  <a:pt x="5549" y="14508"/>
                  <a:pt x="5606" y="14511"/>
                </a:cubicBezTo>
                <a:cubicBezTo>
                  <a:pt x="5651" y="14513"/>
                  <a:pt x="5678" y="14502"/>
                  <a:pt x="5705" y="14461"/>
                </a:cubicBezTo>
                <a:cubicBezTo>
                  <a:pt x="5748" y="14395"/>
                  <a:pt x="5786" y="14327"/>
                  <a:pt x="5829" y="14263"/>
                </a:cubicBezTo>
                <a:cubicBezTo>
                  <a:pt x="5872" y="14199"/>
                  <a:pt x="5882" y="14133"/>
                  <a:pt x="5928" y="14064"/>
                </a:cubicBezTo>
                <a:cubicBezTo>
                  <a:pt x="5971" y="14000"/>
                  <a:pt x="5991" y="13943"/>
                  <a:pt x="6077" y="13990"/>
                </a:cubicBezTo>
                <a:cubicBezTo>
                  <a:pt x="6141" y="14025"/>
                  <a:pt x="6134" y="14084"/>
                  <a:pt x="6152" y="14139"/>
                </a:cubicBezTo>
                <a:cubicBezTo>
                  <a:pt x="6174" y="14207"/>
                  <a:pt x="6168" y="14296"/>
                  <a:pt x="6127" y="14362"/>
                </a:cubicBezTo>
                <a:cubicBezTo>
                  <a:pt x="6107" y="14394"/>
                  <a:pt x="6017" y="14488"/>
                  <a:pt x="5978" y="14486"/>
                </a:cubicBezTo>
                <a:cubicBezTo>
                  <a:pt x="5930" y="14484"/>
                  <a:pt x="5854" y="14472"/>
                  <a:pt x="5804" y="14461"/>
                </a:cubicBezTo>
                <a:cubicBezTo>
                  <a:pt x="5756" y="14450"/>
                  <a:pt x="5719" y="14438"/>
                  <a:pt x="5680" y="14412"/>
                </a:cubicBezTo>
              </a:path>
              <a:path w="6946" h="1638">
                <a:moveTo>
                  <a:pt x="6325" y="13990"/>
                </a:moveTo>
                <a:cubicBezTo>
                  <a:pt x="6318" y="14078"/>
                  <a:pt x="6281" y="14153"/>
                  <a:pt x="6276" y="14238"/>
                </a:cubicBezTo>
                <a:cubicBezTo>
                  <a:pt x="6274" y="14279"/>
                  <a:pt x="6276" y="14355"/>
                  <a:pt x="6300" y="14387"/>
                </a:cubicBezTo>
                <a:cubicBezTo>
                  <a:pt x="6324" y="14419"/>
                  <a:pt x="6392" y="14402"/>
                  <a:pt x="6424" y="14387"/>
                </a:cubicBezTo>
                <a:cubicBezTo>
                  <a:pt x="6473" y="14364"/>
                  <a:pt x="6529" y="14285"/>
                  <a:pt x="6548" y="14238"/>
                </a:cubicBezTo>
                <a:cubicBezTo>
                  <a:pt x="6585" y="14143"/>
                  <a:pt x="6606" y="14000"/>
                  <a:pt x="6672" y="13915"/>
                </a:cubicBezTo>
                <a:cubicBezTo>
                  <a:pt x="6695" y="13885"/>
                  <a:pt x="6726" y="13882"/>
                  <a:pt x="6747" y="13866"/>
                </a:cubicBezTo>
                <a:cubicBezTo>
                  <a:pt x="6765" y="13899"/>
                  <a:pt x="6809" y="13948"/>
                  <a:pt x="6821" y="13990"/>
                </a:cubicBezTo>
                <a:cubicBezTo>
                  <a:pt x="6831" y="14025"/>
                  <a:pt x="6821" y="14078"/>
                  <a:pt x="6821" y="14114"/>
                </a:cubicBezTo>
                <a:cubicBezTo>
                  <a:pt x="6841" y="14090"/>
                  <a:pt x="6838" y="14071"/>
                  <a:pt x="6871" y="14039"/>
                </a:cubicBezTo>
                <a:cubicBezTo>
                  <a:pt x="6871" y="14015"/>
                  <a:pt x="6871" y="14007"/>
                  <a:pt x="6896" y="14015"/>
                </a:cubicBezTo>
                <a:cubicBezTo>
                  <a:pt x="6961" y="14098"/>
                  <a:pt x="6874" y="14057"/>
                  <a:pt x="7020" y="14139"/>
                </a:cubicBezTo>
                <a:cubicBezTo>
                  <a:pt x="7090" y="14179"/>
                  <a:pt x="7189" y="14185"/>
                  <a:pt x="7268" y="14188"/>
                </a:cubicBezTo>
                <a:cubicBezTo>
                  <a:pt x="7385" y="14192"/>
                  <a:pt x="7448" y="14193"/>
                  <a:pt x="7541" y="14139"/>
                </a:cubicBezTo>
                <a:cubicBezTo>
                  <a:pt x="7613" y="14097"/>
                  <a:pt x="7682" y="14005"/>
                  <a:pt x="7689" y="13915"/>
                </a:cubicBezTo>
                <a:cubicBezTo>
                  <a:pt x="7699" y="13779"/>
                  <a:pt x="7703" y="13636"/>
                  <a:pt x="7590" y="13543"/>
                </a:cubicBezTo>
                <a:cubicBezTo>
                  <a:pt x="7536" y="13499"/>
                  <a:pt x="7487" y="13472"/>
                  <a:pt x="7417" y="13469"/>
                </a:cubicBezTo>
                <a:cubicBezTo>
                  <a:pt x="7349" y="13469"/>
                  <a:pt x="7330" y="13466"/>
                  <a:pt x="7293" y="134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Ink 18"/>
          <p:cNvSpPr/>
          <p:nvPr/>
        </p:nvSpPr>
        <p:spPr>
          <a:xfrm>
            <a:off x="4125960" y="2081160"/>
            <a:ext cx="1089000" cy="249120"/>
          </a:xfrm>
          <a:custGeom>
            <a:avLst/>
            <a:gdLst/>
            <a:ahLst/>
            <a:rect l="l" t="t" r="r" b="b"/>
            <a:pathLst>
              <a:path w="3027" h="696">
                <a:moveTo>
                  <a:pt x="11881" y="5854"/>
                </a:moveTo>
                <a:cubicBezTo>
                  <a:pt x="11900" y="5911"/>
                  <a:pt x="11891" y="5936"/>
                  <a:pt x="11931" y="5928"/>
                </a:cubicBezTo>
                <a:cubicBezTo>
                  <a:pt x="11921" y="5889"/>
                  <a:pt x="11893" y="5865"/>
                  <a:pt x="11881" y="5829"/>
                </a:cubicBezTo>
                <a:cubicBezTo>
                  <a:pt x="11858" y="5759"/>
                  <a:pt x="11834" y="5773"/>
                  <a:pt x="11757" y="5804"/>
                </a:cubicBezTo>
                <a:cubicBezTo>
                  <a:pt x="11652" y="5846"/>
                  <a:pt x="11637" y="5887"/>
                  <a:pt x="11584" y="5978"/>
                </a:cubicBezTo>
                <a:cubicBezTo>
                  <a:pt x="11524" y="6081"/>
                  <a:pt x="11466" y="6131"/>
                  <a:pt x="11460" y="6251"/>
                </a:cubicBezTo>
                <a:cubicBezTo>
                  <a:pt x="11457" y="6311"/>
                  <a:pt x="11459" y="6381"/>
                  <a:pt x="11509" y="6424"/>
                </a:cubicBezTo>
                <a:cubicBezTo>
                  <a:pt x="11561" y="6469"/>
                  <a:pt x="11642" y="6453"/>
                  <a:pt x="11683" y="6449"/>
                </a:cubicBezTo>
                <a:cubicBezTo>
                  <a:pt x="11751" y="6449"/>
                  <a:pt x="11770" y="6452"/>
                  <a:pt x="11807" y="6424"/>
                </a:cubicBezTo>
              </a:path>
              <a:path w="3027" h="696">
                <a:moveTo>
                  <a:pt x="12303" y="5804"/>
                </a:moveTo>
                <a:cubicBezTo>
                  <a:pt x="12229" y="5831"/>
                  <a:pt x="12146" y="5859"/>
                  <a:pt x="12080" y="5904"/>
                </a:cubicBezTo>
                <a:cubicBezTo>
                  <a:pt x="12072" y="5912"/>
                  <a:pt x="12063" y="5920"/>
                  <a:pt x="12055" y="5928"/>
                </a:cubicBezTo>
                <a:cubicBezTo>
                  <a:pt x="12068" y="5980"/>
                  <a:pt x="12108" y="6042"/>
                  <a:pt x="12154" y="6077"/>
                </a:cubicBezTo>
                <a:cubicBezTo>
                  <a:pt x="12222" y="6129"/>
                  <a:pt x="12291" y="6166"/>
                  <a:pt x="12328" y="6251"/>
                </a:cubicBezTo>
                <a:cubicBezTo>
                  <a:pt x="12365" y="6336"/>
                  <a:pt x="12361" y="6344"/>
                  <a:pt x="12303" y="6400"/>
                </a:cubicBezTo>
                <a:cubicBezTo>
                  <a:pt x="12273" y="6429"/>
                  <a:pt x="12221" y="6446"/>
                  <a:pt x="12179" y="6449"/>
                </a:cubicBezTo>
                <a:cubicBezTo>
                  <a:pt x="12136" y="6452"/>
                  <a:pt x="12085" y="6436"/>
                  <a:pt x="12080" y="6400"/>
                </a:cubicBezTo>
                <a:cubicBezTo>
                  <a:pt x="12080" y="6372"/>
                  <a:pt x="12082" y="6361"/>
                  <a:pt x="12105" y="6350"/>
                </a:cubicBezTo>
              </a:path>
              <a:path w="3027" h="696">
                <a:moveTo>
                  <a:pt x="12923" y="5854"/>
                </a:moveTo>
                <a:cubicBezTo>
                  <a:pt x="12940" y="5871"/>
                  <a:pt x="12956" y="5887"/>
                  <a:pt x="12973" y="5904"/>
                </a:cubicBezTo>
                <a:cubicBezTo>
                  <a:pt x="12937" y="5892"/>
                  <a:pt x="12949" y="5860"/>
                  <a:pt x="12898" y="5854"/>
                </a:cubicBezTo>
                <a:cubicBezTo>
                  <a:pt x="12855" y="5849"/>
                  <a:pt x="12830" y="5850"/>
                  <a:pt x="12799" y="5879"/>
                </a:cubicBezTo>
                <a:cubicBezTo>
                  <a:pt x="12745" y="5929"/>
                  <a:pt x="12679" y="5984"/>
                  <a:pt x="12650" y="6052"/>
                </a:cubicBezTo>
                <a:cubicBezTo>
                  <a:pt x="12622" y="6117"/>
                  <a:pt x="12608" y="6230"/>
                  <a:pt x="12626" y="6300"/>
                </a:cubicBezTo>
                <a:cubicBezTo>
                  <a:pt x="12642" y="6363"/>
                  <a:pt x="12713" y="6411"/>
                  <a:pt x="12774" y="6424"/>
                </a:cubicBezTo>
                <a:cubicBezTo>
                  <a:pt x="12834" y="6437"/>
                  <a:pt x="12912" y="6424"/>
                  <a:pt x="12973" y="6424"/>
                </a:cubicBezTo>
              </a:path>
              <a:path w="3027" h="696">
                <a:moveTo>
                  <a:pt x="13320" y="5978"/>
                </a:moveTo>
                <a:cubicBezTo>
                  <a:pt x="13299" y="6031"/>
                  <a:pt x="13143" y="6286"/>
                  <a:pt x="13221" y="6375"/>
                </a:cubicBezTo>
                <a:cubicBezTo>
                  <a:pt x="13302" y="6467"/>
                  <a:pt x="13316" y="6439"/>
                  <a:pt x="13419" y="6424"/>
                </a:cubicBezTo>
                <a:cubicBezTo>
                  <a:pt x="13490" y="6413"/>
                  <a:pt x="13569" y="6361"/>
                  <a:pt x="13618" y="6300"/>
                </a:cubicBezTo>
                <a:cubicBezTo>
                  <a:pt x="13668" y="6239"/>
                  <a:pt x="13731" y="6135"/>
                  <a:pt x="13717" y="6052"/>
                </a:cubicBezTo>
                <a:cubicBezTo>
                  <a:pt x="13704" y="5975"/>
                  <a:pt x="13663" y="5887"/>
                  <a:pt x="13593" y="5854"/>
                </a:cubicBezTo>
                <a:cubicBezTo>
                  <a:pt x="13490" y="5806"/>
                  <a:pt x="13428" y="5779"/>
                  <a:pt x="13320" y="5779"/>
                </a:cubicBezTo>
                <a:cubicBezTo>
                  <a:pt x="13304" y="5779"/>
                  <a:pt x="13287" y="5779"/>
                  <a:pt x="13271" y="5779"/>
                </a:cubicBezTo>
              </a:path>
              <a:path w="3027" h="696">
                <a:moveTo>
                  <a:pt x="13047" y="6102"/>
                </a:moveTo>
                <a:cubicBezTo>
                  <a:pt x="13123" y="6135"/>
                  <a:pt x="13186" y="6127"/>
                  <a:pt x="13271" y="6127"/>
                </a:cubicBezTo>
                <a:cubicBezTo>
                  <a:pt x="13380" y="6127"/>
                  <a:pt x="13482" y="6102"/>
                  <a:pt x="13593" y="6102"/>
                </a:cubicBezTo>
              </a:path>
              <a:path w="3027" h="696">
                <a:moveTo>
                  <a:pt x="14114" y="5978"/>
                </a:moveTo>
                <a:cubicBezTo>
                  <a:pt x="14197" y="5978"/>
                  <a:pt x="14279" y="5978"/>
                  <a:pt x="14362" y="5978"/>
                </a:cubicBezTo>
              </a:path>
              <a:path w="3027" h="696">
                <a:moveTo>
                  <a:pt x="14064" y="6176"/>
                </a:moveTo>
                <a:cubicBezTo>
                  <a:pt x="14156" y="6210"/>
                  <a:pt x="14213" y="6226"/>
                  <a:pt x="14312" y="6226"/>
                </a:cubicBezTo>
                <a:cubicBezTo>
                  <a:pt x="14380" y="6226"/>
                  <a:pt x="14422" y="6243"/>
                  <a:pt x="14486" y="62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Ink 19"/>
          <p:cNvSpPr/>
          <p:nvPr/>
        </p:nvSpPr>
        <p:spPr>
          <a:xfrm>
            <a:off x="5419800" y="1963800"/>
            <a:ext cx="1573200" cy="341280"/>
          </a:xfrm>
          <a:custGeom>
            <a:avLst/>
            <a:gdLst/>
            <a:ahLst/>
            <a:rect l="l" t="t" r="r" b="b"/>
            <a:pathLst>
              <a:path w="4367" h="944">
                <a:moveTo>
                  <a:pt x="15081" y="5829"/>
                </a:moveTo>
                <a:cubicBezTo>
                  <a:pt x="15081" y="5917"/>
                  <a:pt x="15068" y="5992"/>
                  <a:pt x="15056" y="6077"/>
                </a:cubicBezTo>
                <a:cubicBezTo>
                  <a:pt x="15047" y="6141"/>
                  <a:pt x="15055" y="6244"/>
                  <a:pt x="15081" y="6300"/>
                </a:cubicBezTo>
                <a:cubicBezTo>
                  <a:pt x="15096" y="6333"/>
                  <a:pt x="15148" y="6371"/>
                  <a:pt x="15180" y="6375"/>
                </a:cubicBezTo>
                <a:cubicBezTo>
                  <a:pt x="15246" y="6382"/>
                  <a:pt x="15276" y="6343"/>
                  <a:pt x="15304" y="6300"/>
                </a:cubicBezTo>
                <a:cubicBezTo>
                  <a:pt x="15353" y="6226"/>
                  <a:pt x="15399" y="6165"/>
                  <a:pt x="15404" y="6077"/>
                </a:cubicBezTo>
                <a:cubicBezTo>
                  <a:pt x="15407" y="6017"/>
                  <a:pt x="15423" y="5978"/>
                  <a:pt x="15429" y="5928"/>
                </a:cubicBezTo>
                <a:cubicBezTo>
                  <a:pt x="15429" y="5904"/>
                  <a:pt x="15429" y="5895"/>
                  <a:pt x="15429" y="5879"/>
                </a:cubicBezTo>
                <a:cubicBezTo>
                  <a:pt x="15429" y="5998"/>
                  <a:pt x="15433" y="6121"/>
                  <a:pt x="15453" y="6226"/>
                </a:cubicBezTo>
                <a:cubicBezTo>
                  <a:pt x="15466" y="6292"/>
                  <a:pt x="15458" y="6300"/>
                  <a:pt x="15528" y="6300"/>
                </a:cubicBezTo>
                <a:cubicBezTo>
                  <a:pt x="15606" y="6300"/>
                  <a:pt x="15610" y="6268"/>
                  <a:pt x="15627" y="6201"/>
                </a:cubicBezTo>
              </a:path>
              <a:path w="4367" h="944">
                <a:moveTo>
                  <a:pt x="15677" y="5978"/>
                </a:moveTo>
                <a:cubicBezTo>
                  <a:pt x="15677" y="6113"/>
                  <a:pt x="15694" y="6186"/>
                  <a:pt x="15701" y="6300"/>
                </a:cubicBezTo>
                <a:cubicBezTo>
                  <a:pt x="15706" y="6385"/>
                  <a:pt x="15708" y="6321"/>
                  <a:pt x="15726" y="6375"/>
                </a:cubicBezTo>
                <a:cubicBezTo>
                  <a:pt x="15726" y="6301"/>
                  <a:pt x="15713" y="6244"/>
                  <a:pt x="15701" y="6176"/>
                </a:cubicBezTo>
                <a:cubicBezTo>
                  <a:pt x="15694" y="6136"/>
                  <a:pt x="15721" y="6008"/>
                  <a:pt x="15751" y="5978"/>
                </a:cubicBezTo>
                <a:cubicBezTo>
                  <a:pt x="15786" y="5943"/>
                  <a:pt x="15844" y="5867"/>
                  <a:pt x="15900" y="5854"/>
                </a:cubicBezTo>
                <a:cubicBezTo>
                  <a:pt x="15941" y="5844"/>
                  <a:pt x="16057" y="5883"/>
                  <a:pt x="16073" y="5928"/>
                </a:cubicBezTo>
                <a:cubicBezTo>
                  <a:pt x="16100" y="6004"/>
                  <a:pt x="16098" y="6093"/>
                  <a:pt x="16098" y="6176"/>
                </a:cubicBezTo>
                <a:cubicBezTo>
                  <a:pt x="16098" y="6228"/>
                  <a:pt x="16048" y="6300"/>
                  <a:pt x="16073" y="6350"/>
                </a:cubicBezTo>
                <a:cubicBezTo>
                  <a:pt x="16081" y="6358"/>
                  <a:pt x="16090" y="6367"/>
                  <a:pt x="16098" y="6375"/>
                </a:cubicBezTo>
              </a:path>
              <a:path w="4367" h="944">
                <a:moveTo>
                  <a:pt x="16470" y="5804"/>
                </a:moveTo>
                <a:cubicBezTo>
                  <a:pt x="16344" y="5891"/>
                  <a:pt x="16310" y="5920"/>
                  <a:pt x="16247" y="6052"/>
                </a:cubicBezTo>
                <a:cubicBezTo>
                  <a:pt x="16213" y="6123"/>
                  <a:pt x="16214" y="6195"/>
                  <a:pt x="16222" y="6251"/>
                </a:cubicBezTo>
                <a:cubicBezTo>
                  <a:pt x="16232" y="6324"/>
                  <a:pt x="16244" y="6344"/>
                  <a:pt x="16321" y="6350"/>
                </a:cubicBezTo>
                <a:cubicBezTo>
                  <a:pt x="16405" y="6357"/>
                  <a:pt x="16445" y="6347"/>
                  <a:pt x="16495" y="6276"/>
                </a:cubicBezTo>
                <a:cubicBezTo>
                  <a:pt x="16519" y="6228"/>
                  <a:pt x="16527" y="6213"/>
                  <a:pt x="16520" y="6176"/>
                </a:cubicBezTo>
              </a:path>
              <a:path w="4367" h="944">
                <a:moveTo>
                  <a:pt x="16570" y="5482"/>
                </a:moveTo>
                <a:cubicBezTo>
                  <a:pt x="16578" y="5474"/>
                  <a:pt x="16586" y="5465"/>
                  <a:pt x="16594" y="5457"/>
                </a:cubicBezTo>
                <a:cubicBezTo>
                  <a:pt x="16581" y="5524"/>
                  <a:pt x="16563" y="5587"/>
                  <a:pt x="16545" y="5655"/>
                </a:cubicBezTo>
                <a:cubicBezTo>
                  <a:pt x="16516" y="5767"/>
                  <a:pt x="16500" y="5887"/>
                  <a:pt x="16495" y="6003"/>
                </a:cubicBezTo>
                <a:cubicBezTo>
                  <a:pt x="16491" y="6087"/>
                  <a:pt x="16507" y="6150"/>
                  <a:pt x="16520" y="6226"/>
                </a:cubicBezTo>
                <a:cubicBezTo>
                  <a:pt x="16530" y="6288"/>
                  <a:pt x="16508" y="6301"/>
                  <a:pt x="16545" y="6350"/>
                </a:cubicBezTo>
              </a:path>
              <a:path w="4367" h="944">
                <a:moveTo>
                  <a:pt x="16694" y="6201"/>
                </a:moveTo>
                <a:cubicBezTo>
                  <a:pt x="16763" y="6176"/>
                  <a:pt x="16820" y="6161"/>
                  <a:pt x="16867" y="6102"/>
                </a:cubicBezTo>
                <a:cubicBezTo>
                  <a:pt x="16937" y="6015"/>
                  <a:pt x="16966" y="6002"/>
                  <a:pt x="16966" y="5904"/>
                </a:cubicBezTo>
                <a:cubicBezTo>
                  <a:pt x="16966" y="5896"/>
                  <a:pt x="16966" y="5887"/>
                  <a:pt x="16966" y="5879"/>
                </a:cubicBezTo>
                <a:cubicBezTo>
                  <a:pt x="16890" y="5879"/>
                  <a:pt x="16879" y="5872"/>
                  <a:pt x="16818" y="5928"/>
                </a:cubicBezTo>
                <a:cubicBezTo>
                  <a:pt x="16776" y="5967"/>
                  <a:pt x="16713" y="6023"/>
                  <a:pt x="16694" y="6077"/>
                </a:cubicBezTo>
                <a:cubicBezTo>
                  <a:pt x="16670" y="6145"/>
                  <a:pt x="16649" y="6219"/>
                  <a:pt x="16694" y="6276"/>
                </a:cubicBezTo>
                <a:cubicBezTo>
                  <a:pt x="16735" y="6327"/>
                  <a:pt x="16806" y="6347"/>
                  <a:pt x="16867" y="6350"/>
                </a:cubicBezTo>
                <a:cubicBezTo>
                  <a:pt x="16947" y="6353"/>
                  <a:pt x="16995" y="6332"/>
                  <a:pt x="17066" y="6300"/>
                </a:cubicBezTo>
              </a:path>
              <a:path w="4367" h="944">
                <a:moveTo>
                  <a:pt x="17413" y="5457"/>
                </a:moveTo>
                <a:cubicBezTo>
                  <a:pt x="17322" y="5582"/>
                  <a:pt x="17269" y="5649"/>
                  <a:pt x="17264" y="5804"/>
                </a:cubicBezTo>
                <a:cubicBezTo>
                  <a:pt x="17259" y="5957"/>
                  <a:pt x="17265" y="6106"/>
                  <a:pt x="17289" y="6251"/>
                </a:cubicBezTo>
                <a:cubicBezTo>
                  <a:pt x="17294" y="6280"/>
                  <a:pt x="17289" y="6319"/>
                  <a:pt x="17289" y="6350"/>
                </a:cubicBezTo>
              </a:path>
              <a:path w="4367" h="944">
                <a:moveTo>
                  <a:pt x="17066" y="6003"/>
                </a:moveTo>
                <a:cubicBezTo>
                  <a:pt x="17133" y="6003"/>
                  <a:pt x="17201" y="5994"/>
                  <a:pt x="17264" y="5978"/>
                </a:cubicBezTo>
                <a:cubicBezTo>
                  <a:pt x="17353" y="5955"/>
                  <a:pt x="17449" y="5919"/>
                  <a:pt x="17537" y="5904"/>
                </a:cubicBezTo>
                <a:cubicBezTo>
                  <a:pt x="17574" y="5898"/>
                  <a:pt x="17655" y="5905"/>
                  <a:pt x="17661" y="5928"/>
                </a:cubicBezTo>
                <a:cubicBezTo>
                  <a:pt x="17681" y="5999"/>
                  <a:pt x="17644" y="6064"/>
                  <a:pt x="17636" y="6127"/>
                </a:cubicBezTo>
                <a:cubicBezTo>
                  <a:pt x="17629" y="6178"/>
                  <a:pt x="17636" y="6407"/>
                  <a:pt x="17636" y="6375"/>
                </a:cubicBezTo>
                <a:cubicBezTo>
                  <a:pt x="17636" y="6367"/>
                  <a:pt x="17636" y="6358"/>
                  <a:pt x="17636" y="6350"/>
                </a:cubicBezTo>
              </a:path>
              <a:path w="4367" h="944">
                <a:moveTo>
                  <a:pt x="17711" y="5779"/>
                </a:moveTo>
                <a:cubicBezTo>
                  <a:pt x="17727" y="5763"/>
                  <a:pt x="17744" y="5746"/>
                  <a:pt x="17760" y="5730"/>
                </a:cubicBezTo>
              </a:path>
              <a:path w="4367" h="944">
                <a:moveTo>
                  <a:pt x="17835" y="6201"/>
                </a:moveTo>
                <a:cubicBezTo>
                  <a:pt x="17851" y="6273"/>
                  <a:pt x="17859" y="6308"/>
                  <a:pt x="17859" y="6375"/>
                </a:cubicBezTo>
                <a:cubicBezTo>
                  <a:pt x="17859" y="6319"/>
                  <a:pt x="17843" y="6278"/>
                  <a:pt x="17835" y="6226"/>
                </a:cubicBezTo>
                <a:cubicBezTo>
                  <a:pt x="17827" y="6178"/>
                  <a:pt x="17857" y="6092"/>
                  <a:pt x="17884" y="6052"/>
                </a:cubicBezTo>
                <a:cubicBezTo>
                  <a:pt x="17905" y="6020"/>
                  <a:pt x="17975" y="5962"/>
                  <a:pt x="18008" y="5953"/>
                </a:cubicBezTo>
                <a:cubicBezTo>
                  <a:pt x="18081" y="5933"/>
                  <a:pt x="18105" y="6025"/>
                  <a:pt x="18107" y="6077"/>
                </a:cubicBezTo>
                <a:cubicBezTo>
                  <a:pt x="18110" y="6157"/>
                  <a:pt x="18083" y="6219"/>
                  <a:pt x="18083" y="6300"/>
                </a:cubicBezTo>
                <a:cubicBezTo>
                  <a:pt x="18083" y="6361"/>
                  <a:pt x="18133" y="6371"/>
                  <a:pt x="18182" y="6375"/>
                </a:cubicBezTo>
                <a:cubicBezTo>
                  <a:pt x="18230" y="6379"/>
                  <a:pt x="18276" y="6366"/>
                  <a:pt x="18306" y="6325"/>
                </a:cubicBezTo>
                <a:cubicBezTo>
                  <a:pt x="18356" y="6256"/>
                  <a:pt x="18373" y="6195"/>
                  <a:pt x="18405" y="6127"/>
                </a:cubicBezTo>
                <a:cubicBezTo>
                  <a:pt x="18427" y="6080"/>
                  <a:pt x="18430" y="6062"/>
                  <a:pt x="18430" y="6003"/>
                </a:cubicBezTo>
                <a:cubicBezTo>
                  <a:pt x="18375" y="6017"/>
                  <a:pt x="18358" y="6050"/>
                  <a:pt x="18331" y="6102"/>
                </a:cubicBezTo>
                <a:cubicBezTo>
                  <a:pt x="18292" y="6176"/>
                  <a:pt x="18281" y="6217"/>
                  <a:pt x="18281" y="6300"/>
                </a:cubicBezTo>
                <a:cubicBezTo>
                  <a:pt x="18281" y="6344"/>
                  <a:pt x="18338" y="6390"/>
                  <a:pt x="18380" y="6400"/>
                </a:cubicBezTo>
                <a:cubicBezTo>
                  <a:pt x="18462" y="6419"/>
                  <a:pt x="18607" y="6413"/>
                  <a:pt x="18678" y="6375"/>
                </a:cubicBezTo>
                <a:cubicBezTo>
                  <a:pt x="18719" y="6350"/>
                  <a:pt x="18761" y="6325"/>
                  <a:pt x="18802" y="6300"/>
                </a:cubicBezTo>
              </a:path>
              <a:path w="4367" h="944">
                <a:moveTo>
                  <a:pt x="18876" y="5928"/>
                </a:moveTo>
                <a:cubicBezTo>
                  <a:pt x="18787" y="5950"/>
                  <a:pt x="18636" y="5965"/>
                  <a:pt x="18604" y="6077"/>
                </a:cubicBezTo>
                <a:cubicBezTo>
                  <a:pt x="18594" y="6113"/>
                  <a:pt x="18601" y="6199"/>
                  <a:pt x="18628" y="6226"/>
                </a:cubicBezTo>
                <a:cubicBezTo>
                  <a:pt x="18667" y="6265"/>
                  <a:pt x="18751" y="6292"/>
                  <a:pt x="18802" y="6300"/>
                </a:cubicBezTo>
                <a:cubicBezTo>
                  <a:pt x="18889" y="6314"/>
                  <a:pt x="18910" y="6270"/>
                  <a:pt x="18976" y="6226"/>
                </a:cubicBezTo>
                <a:cubicBezTo>
                  <a:pt x="19062" y="6168"/>
                  <a:pt x="19070" y="6107"/>
                  <a:pt x="19075" y="6003"/>
                </a:cubicBezTo>
                <a:cubicBezTo>
                  <a:pt x="19081" y="5875"/>
                  <a:pt x="19081" y="5729"/>
                  <a:pt x="19050" y="5606"/>
                </a:cubicBezTo>
                <a:cubicBezTo>
                  <a:pt x="19041" y="5571"/>
                  <a:pt x="18995" y="5517"/>
                  <a:pt x="18976" y="5507"/>
                </a:cubicBezTo>
                <a:cubicBezTo>
                  <a:pt x="18968" y="5507"/>
                  <a:pt x="18959" y="5507"/>
                  <a:pt x="18951" y="5507"/>
                </a:cubicBezTo>
                <a:cubicBezTo>
                  <a:pt x="18922" y="5565"/>
                  <a:pt x="18917" y="5613"/>
                  <a:pt x="18901" y="5680"/>
                </a:cubicBezTo>
                <a:cubicBezTo>
                  <a:pt x="18873" y="5802"/>
                  <a:pt x="18868" y="5850"/>
                  <a:pt x="18951" y="5953"/>
                </a:cubicBezTo>
                <a:cubicBezTo>
                  <a:pt x="19019" y="6038"/>
                  <a:pt x="19089" y="6132"/>
                  <a:pt x="19174" y="6201"/>
                </a:cubicBezTo>
                <a:cubicBezTo>
                  <a:pt x="19247" y="6261"/>
                  <a:pt x="19324" y="6318"/>
                  <a:pt x="19397" y="6375"/>
                </a:cubicBezTo>
                <a:cubicBezTo>
                  <a:pt x="19405" y="6383"/>
                  <a:pt x="19414" y="6392"/>
                  <a:pt x="19422" y="64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Ink 4"/>
          <p:cNvSpPr/>
          <p:nvPr/>
        </p:nvSpPr>
        <p:spPr>
          <a:xfrm>
            <a:off x="544680" y="330120"/>
            <a:ext cx="268200" cy="384120"/>
          </a:xfrm>
          <a:custGeom>
            <a:avLst/>
            <a:gdLst/>
            <a:ahLst/>
            <a:rect l="l" t="t" r="r" b="b"/>
            <a:pathLst>
              <a:path w="745" h="1067">
                <a:moveTo>
                  <a:pt x="1885" y="992"/>
                </a:moveTo>
                <a:cubicBezTo>
                  <a:pt x="1876" y="965"/>
                  <a:pt x="1867" y="947"/>
                  <a:pt x="1836" y="943"/>
                </a:cubicBezTo>
                <a:cubicBezTo>
                  <a:pt x="1795" y="938"/>
                  <a:pt x="1817" y="918"/>
                  <a:pt x="1761" y="918"/>
                </a:cubicBezTo>
                <a:cubicBezTo>
                  <a:pt x="1711" y="918"/>
                  <a:pt x="1703" y="929"/>
                  <a:pt x="1662" y="943"/>
                </a:cubicBezTo>
                <a:cubicBezTo>
                  <a:pt x="1625" y="955"/>
                  <a:pt x="1588" y="979"/>
                  <a:pt x="1563" y="1017"/>
                </a:cubicBezTo>
                <a:cubicBezTo>
                  <a:pt x="1525" y="1076"/>
                  <a:pt x="1513" y="1122"/>
                  <a:pt x="1513" y="1191"/>
                </a:cubicBezTo>
                <a:cubicBezTo>
                  <a:pt x="1513" y="1288"/>
                  <a:pt x="1520" y="1316"/>
                  <a:pt x="1588" y="1389"/>
                </a:cubicBezTo>
                <a:cubicBezTo>
                  <a:pt x="1636" y="1440"/>
                  <a:pt x="1641" y="1430"/>
                  <a:pt x="1687" y="1463"/>
                </a:cubicBezTo>
                <a:cubicBezTo>
                  <a:pt x="1731" y="1452"/>
                  <a:pt x="1739" y="1428"/>
                  <a:pt x="1761" y="1389"/>
                </a:cubicBezTo>
                <a:cubicBezTo>
                  <a:pt x="1802" y="1317"/>
                  <a:pt x="1831" y="1239"/>
                  <a:pt x="1860" y="1166"/>
                </a:cubicBezTo>
                <a:cubicBezTo>
                  <a:pt x="1887" y="1097"/>
                  <a:pt x="1918" y="1030"/>
                  <a:pt x="1935" y="967"/>
                </a:cubicBezTo>
                <a:cubicBezTo>
                  <a:pt x="1935" y="959"/>
                  <a:pt x="1935" y="951"/>
                  <a:pt x="1935" y="943"/>
                </a:cubicBezTo>
                <a:cubicBezTo>
                  <a:pt x="1935" y="1104"/>
                  <a:pt x="1927" y="1257"/>
                  <a:pt x="1910" y="1414"/>
                </a:cubicBezTo>
                <a:cubicBezTo>
                  <a:pt x="1898" y="1524"/>
                  <a:pt x="1900" y="1628"/>
                  <a:pt x="1885" y="1736"/>
                </a:cubicBezTo>
                <a:cubicBezTo>
                  <a:pt x="1877" y="1794"/>
                  <a:pt x="1865" y="1951"/>
                  <a:pt x="1910" y="1984"/>
                </a:cubicBezTo>
                <a:cubicBezTo>
                  <a:pt x="1918" y="1984"/>
                  <a:pt x="1927" y="1984"/>
                  <a:pt x="1935" y="1984"/>
                </a:cubicBezTo>
              </a:path>
              <a:path w="745" h="1067">
                <a:moveTo>
                  <a:pt x="2232" y="1910"/>
                </a:moveTo>
                <a:cubicBezTo>
                  <a:pt x="2255" y="1933"/>
                  <a:pt x="2263" y="1944"/>
                  <a:pt x="2257" y="19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Ink 5"/>
          <p:cNvSpPr/>
          <p:nvPr/>
        </p:nvSpPr>
        <p:spPr>
          <a:xfrm>
            <a:off x="1357200" y="347760"/>
            <a:ext cx="473040" cy="250560"/>
          </a:xfrm>
          <a:custGeom>
            <a:avLst/>
            <a:gdLst/>
            <a:ahLst/>
            <a:rect l="l" t="t" r="r" b="b"/>
            <a:pathLst>
              <a:path w="1316" h="696">
                <a:moveTo>
                  <a:pt x="4192" y="1017"/>
                </a:moveTo>
                <a:cubicBezTo>
                  <a:pt x="4183" y="990"/>
                  <a:pt x="4174" y="971"/>
                  <a:pt x="4142" y="967"/>
                </a:cubicBezTo>
                <a:cubicBezTo>
                  <a:pt x="4082" y="959"/>
                  <a:pt x="4049" y="978"/>
                  <a:pt x="3994" y="992"/>
                </a:cubicBezTo>
                <a:cubicBezTo>
                  <a:pt x="3939" y="1006"/>
                  <a:pt x="3919" y="1059"/>
                  <a:pt x="3870" y="1091"/>
                </a:cubicBezTo>
                <a:cubicBezTo>
                  <a:pt x="3838" y="1112"/>
                  <a:pt x="3780" y="1122"/>
                  <a:pt x="3770" y="1141"/>
                </a:cubicBezTo>
                <a:cubicBezTo>
                  <a:pt x="3770" y="1149"/>
                  <a:pt x="3770" y="1158"/>
                  <a:pt x="3770" y="1166"/>
                </a:cubicBezTo>
                <a:cubicBezTo>
                  <a:pt x="3812" y="1183"/>
                  <a:pt x="3880" y="1214"/>
                  <a:pt x="3894" y="1240"/>
                </a:cubicBezTo>
                <a:cubicBezTo>
                  <a:pt x="3921" y="1291"/>
                  <a:pt x="3944" y="1308"/>
                  <a:pt x="3944" y="1364"/>
                </a:cubicBezTo>
                <a:cubicBezTo>
                  <a:pt x="3944" y="1445"/>
                  <a:pt x="3925" y="1469"/>
                  <a:pt x="3870" y="1538"/>
                </a:cubicBezTo>
                <a:cubicBezTo>
                  <a:pt x="3843" y="1572"/>
                  <a:pt x="3739" y="1582"/>
                  <a:pt x="3770" y="1612"/>
                </a:cubicBezTo>
                <a:cubicBezTo>
                  <a:pt x="3792" y="1633"/>
                  <a:pt x="3834" y="1573"/>
                  <a:pt x="3845" y="1563"/>
                </a:cubicBezTo>
              </a:path>
              <a:path w="1316" h="696">
                <a:moveTo>
                  <a:pt x="4539" y="1339"/>
                </a:moveTo>
                <a:cubicBezTo>
                  <a:pt x="4539" y="1444"/>
                  <a:pt x="4541" y="1546"/>
                  <a:pt x="4514" y="1637"/>
                </a:cubicBezTo>
                <a:cubicBezTo>
                  <a:pt x="4514" y="1662"/>
                  <a:pt x="4514" y="1670"/>
                  <a:pt x="4539" y="1662"/>
                </a:cubicBezTo>
              </a:path>
              <a:path w="1316" h="696">
                <a:moveTo>
                  <a:pt x="4638" y="1166"/>
                </a:moveTo>
                <a:cubicBezTo>
                  <a:pt x="4646" y="1158"/>
                  <a:pt x="4655" y="1149"/>
                  <a:pt x="4663" y="1141"/>
                </a:cubicBezTo>
              </a:path>
              <a:path w="1316" h="696">
                <a:moveTo>
                  <a:pt x="4837" y="1315"/>
                </a:moveTo>
                <a:cubicBezTo>
                  <a:pt x="4837" y="1381"/>
                  <a:pt x="4816" y="1401"/>
                  <a:pt x="4812" y="1463"/>
                </a:cubicBezTo>
                <a:cubicBezTo>
                  <a:pt x="4809" y="1508"/>
                  <a:pt x="4787" y="1633"/>
                  <a:pt x="4787" y="1588"/>
                </a:cubicBezTo>
                <a:cubicBezTo>
                  <a:pt x="4787" y="1538"/>
                  <a:pt x="4846" y="1490"/>
                  <a:pt x="4862" y="1439"/>
                </a:cubicBezTo>
                <a:cubicBezTo>
                  <a:pt x="4881" y="1376"/>
                  <a:pt x="4886" y="1347"/>
                  <a:pt x="4961" y="1339"/>
                </a:cubicBezTo>
                <a:cubicBezTo>
                  <a:pt x="4992" y="1336"/>
                  <a:pt x="5047" y="1385"/>
                  <a:pt x="5060" y="1414"/>
                </a:cubicBezTo>
                <a:cubicBezTo>
                  <a:pt x="5084" y="1469"/>
                  <a:pt x="5085" y="1526"/>
                  <a:pt x="5085" y="1588"/>
                </a:cubicBezTo>
                <a:cubicBezTo>
                  <a:pt x="5085" y="1616"/>
                  <a:pt x="5082" y="1626"/>
                  <a:pt x="5060" y="16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Ink 6"/>
          <p:cNvSpPr/>
          <p:nvPr/>
        </p:nvSpPr>
        <p:spPr>
          <a:xfrm>
            <a:off x="2017800" y="187200"/>
            <a:ext cx="1903320" cy="509760"/>
          </a:xfrm>
          <a:custGeom>
            <a:avLst/>
            <a:gdLst/>
            <a:ahLst/>
            <a:rect l="l" t="t" r="r" b="b"/>
            <a:pathLst>
              <a:path w="5284" h="1415">
                <a:moveTo>
                  <a:pt x="5978" y="794"/>
                </a:moveTo>
                <a:cubicBezTo>
                  <a:pt x="5922" y="794"/>
                  <a:pt x="5871" y="782"/>
                  <a:pt x="5829" y="819"/>
                </a:cubicBezTo>
                <a:cubicBezTo>
                  <a:pt x="5782" y="860"/>
                  <a:pt x="5766" y="873"/>
                  <a:pt x="5730" y="918"/>
                </a:cubicBezTo>
                <a:cubicBezTo>
                  <a:pt x="5684" y="974"/>
                  <a:pt x="5698" y="993"/>
                  <a:pt x="5680" y="1067"/>
                </a:cubicBezTo>
                <a:cubicBezTo>
                  <a:pt x="5659" y="1153"/>
                  <a:pt x="5616" y="1227"/>
                  <a:pt x="5606" y="1315"/>
                </a:cubicBezTo>
                <a:cubicBezTo>
                  <a:pt x="5596" y="1400"/>
                  <a:pt x="5627" y="1458"/>
                  <a:pt x="5631" y="1538"/>
                </a:cubicBezTo>
                <a:cubicBezTo>
                  <a:pt x="5633" y="1568"/>
                  <a:pt x="5657" y="1647"/>
                  <a:pt x="5680" y="1662"/>
                </a:cubicBezTo>
                <a:cubicBezTo>
                  <a:pt x="5706" y="1680"/>
                  <a:pt x="5743" y="1687"/>
                  <a:pt x="5779" y="1687"/>
                </a:cubicBezTo>
                <a:cubicBezTo>
                  <a:pt x="5821" y="1687"/>
                  <a:pt x="5829" y="1687"/>
                  <a:pt x="5854" y="1687"/>
                </a:cubicBezTo>
              </a:path>
              <a:path w="5284" h="1415">
                <a:moveTo>
                  <a:pt x="5904" y="1265"/>
                </a:moveTo>
                <a:cubicBezTo>
                  <a:pt x="5948" y="1276"/>
                  <a:pt x="5979" y="1303"/>
                  <a:pt x="6028" y="1315"/>
                </a:cubicBezTo>
                <a:cubicBezTo>
                  <a:pt x="6071" y="1326"/>
                  <a:pt x="6106" y="1339"/>
                  <a:pt x="6152" y="1339"/>
                </a:cubicBezTo>
                <a:cubicBezTo>
                  <a:pt x="6196" y="1339"/>
                  <a:pt x="6212" y="1324"/>
                  <a:pt x="6251" y="1315"/>
                </a:cubicBezTo>
              </a:path>
              <a:path w="5284" h="1415">
                <a:moveTo>
                  <a:pt x="6524" y="1067"/>
                </a:moveTo>
                <a:cubicBezTo>
                  <a:pt x="6546" y="1089"/>
                  <a:pt x="6551" y="1097"/>
                  <a:pt x="6573" y="1091"/>
                </a:cubicBezTo>
                <a:cubicBezTo>
                  <a:pt x="6582" y="1127"/>
                  <a:pt x="6616" y="1158"/>
                  <a:pt x="6623" y="1191"/>
                </a:cubicBezTo>
                <a:cubicBezTo>
                  <a:pt x="6638" y="1260"/>
                  <a:pt x="6654" y="1327"/>
                  <a:pt x="6697" y="1389"/>
                </a:cubicBezTo>
                <a:cubicBezTo>
                  <a:pt x="6732" y="1440"/>
                  <a:pt x="6801" y="1468"/>
                  <a:pt x="6846" y="1513"/>
                </a:cubicBezTo>
                <a:cubicBezTo>
                  <a:pt x="6879" y="1546"/>
                  <a:pt x="6891" y="1578"/>
                  <a:pt x="6921" y="1588"/>
                </a:cubicBezTo>
              </a:path>
              <a:path w="5284" h="1415">
                <a:moveTo>
                  <a:pt x="6945" y="992"/>
                </a:moveTo>
                <a:cubicBezTo>
                  <a:pt x="6915" y="1068"/>
                  <a:pt x="6867" y="1150"/>
                  <a:pt x="6821" y="1215"/>
                </a:cubicBezTo>
                <a:cubicBezTo>
                  <a:pt x="6765" y="1293"/>
                  <a:pt x="6729" y="1382"/>
                  <a:pt x="6672" y="1463"/>
                </a:cubicBezTo>
                <a:cubicBezTo>
                  <a:pt x="6642" y="1506"/>
                  <a:pt x="6627" y="1549"/>
                  <a:pt x="6598" y="1588"/>
                </a:cubicBezTo>
              </a:path>
              <a:path w="5284" h="1415">
                <a:moveTo>
                  <a:pt x="7293" y="670"/>
                </a:moveTo>
                <a:lnTo>
                  <a:pt x="7293" y="670"/>
                </a:lnTo>
              </a:path>
              <a:path w="5284" h="1415">
                <a:moveTo>
                  <a:pt x="7293" y="670"/>
                </a:moveTo>
                <a:cubicBezTo>
                  <a:pt x="7318" y="695"/>
                  <a:pt x="7342" y="719"/>
                  <a:pt x="7367" y="744"/>
                </a:cubicBezTo>
              </a:path>
              <a:path w="5284" h="1415">
                <a:moveTo>
                  <a:pt x="7367" y="744"/>
                </a:moveTo>
                <a:cubicBezTo>
                  <a:pt x="7402" y="798"/>
                  <a:pt x="7471" y="899"/>
                  <a:pt x="7466" y="967"/>
                </a:cubicBezTo>
                <a:cubicBezTo>
                  <a:pt x="7457" y="1096"/>
                  <a:pt x="7429" y="1240"/>
                  <a:pt x="7392" y="1364"/>
                </a:cubicBezTo>
                <a:cubicBezTo>
                  <a:pt x="7351" y="1501"/>
                  <a:pt x="7314" y="1613"/>
                  <a:pt x="7243" y="1736"/>
                </a:cubicBezTo>
                <a:cubicBezTo>
                  <a:pt x="7195" y="1820"/>
                  <a:pt x="7170" y="1852"/>
                  <a:pt x="7094" y="1910"/>
                </a:cubicBezTo>
                <a:cubicBezTo>
                  <a:pt x="7066" y="1938"/>
                  <a:pt x="7053" y="1947"/>
                  <a:pt x="7020" y="1935"/>
                </a:cubicBezTo>
              </a:path>
              <a:path w="5284" h="1415">
                <a:moveTo>
                  <a:pt x="7789" y="1166"/>
                </a:moveTo>
                <a:cubicBezTo>
                  <a:pt x="7827" y="1176"/>
                  <a:pt x="7865" y="1211"/>
                  <a:pt x="7913" y="1191"/>
                </a:cubicBezTo>
                <a:cubicBezTo>
                  <a:pt x="7973" y="1166"/>
                  <a:pt x="8062" y="1150"/>
                  <a:pt x="8136" y="1166"/>
                </a:cubicBezTo>
                <a:cubicBezTo>
                  <a:pt x="8161" y="1174"/>
                  <a:pt x="8185" y="1183"/>
                  <a:pt x="8210" y="1191"/>
                </a:cubicBezTo>
              </a:path>
              <a:path w="5284" h="1415">
                <a:moveTo>
                  <a:pt x="7813" y="1488"/>
                </a:moveTo>
                <a:cubicBezTo>
                  <a:pt x="7920" y="1470"/>
                  <a:pt x="8050" y="1442"/>
                  <a:pt x="8161" y="1463"/>
                </a:cubicBezTo>
                <a:cubicBezTo>
                  <a:pt x="8234" y="1477"/>
                  <a:pt x="8284" y="1488"/>
                  <a:pt x="8359" y="1488"/>
                </a:cubicBezTo>
                <a:cubicBezTo>
                  <a:pt x="8376" y="1488"/>
                  <a:pt x="8392" y="1488"/>
                  <a:pt x="8409" y="1488"/>
                </a:cubicBezTo>
              </a:path>
              <a:path w="5284" h="1415">
                <a:moveTo>
                  <a:pt x="8855" y="868"/>
                </a:moveTo>
                <a:cubicBezTo>
                  <a:pt x="8929" y="868"/>
                  <a:pt x="8985" y="855"/>
                  <a:pt x="9054" y="843"/>
                </a:cubicBezTo>
                <a:cubicBezTo>
                  <a:pt x="9124" y="831"/>
                  <a:pt x="9206" y="843"/>
                  <a:pt x="9277" y="843"/>
                </a:cubicBezTo>
              </a:path>
              <a:path w="5284" h="1415">
                <a:moveTo>
                  <a:pt x="9624" y="546"/>
                </a:moveTo>
                <a:cubicBezTo>
                  <a:pt x="9668" y="513"/>
                  <a:pt x="9690" y="521"/>
                  <a:pt x="9748" y="521"/>
                </a:cubicBezTo>
                <a:cubicBezTo>
                  <a:pt x="9804" y="521"/>
                  <a:pt x="9874" y="517"/>
                  <a:pt x="9922" y="546"/>
                </a:cubicBezTo>
                <a:cubicBezTo>
                  <a:pt x="9948" y="561"/>
                  <a:pt x="9993" y="580"/>
                  <a:pt x="9971" y="620"/>
                </a:cubicBezTo>
                <a:cubicBezTo>
                  <a:pt x="9945" y="669"/>
                  <a:pt x="9924" y="735"/>
                  <a:pt x="9872" y="769"/>
                </a:cubicBezTo>
                <a:cubicBezTo>
                  <a:pt x="9824" y="801"/>
                  <a:pt x="9789" y="827"/>
                  <a:pt x="9748" y="868"/>
                </a:cubicBezTo>
                <a:cubicBezTo>
                  <a:pt x="9732" y="884"/>
                  <a:pt x="9668" y="914"/>
                  <a:pt x="9674" y="943"/>
                </a:cubicBezTo>
                <a:cubicBezTo>
                  <a:pt x="9686" y="998"/>
                  <a:pt x="9759" y="992"/>
                  <a:pt x="9798" y="992"/>
                </a:cubicBezTo>
                <a:cubicBezTo>
                  <a:pt x="9848" y="992"/>
                  <a:pt x="9897" y="992"/>
                  <a:pt x="9947" y="992"/>
                </a:cubicBezTo>
              </a:path>
              <a:path w="5284" h="1415">
                <a:moveTo>
                  <a:pt x="10716" y="546"/>
                </a:moveTo>
                <a:cubicBezTo>
                  <a:pt x="10673" y="599"/>
                  <a:pt x="10651" y="660"/>
                  <a:pt x="10616" y="719"/>
                </a:cubicBezTo>
                <a:cubicBezTo>
                  <a:pt x="10557" y="816"/>
                  <a:pt x="10475" y="892"/>
                  <a:pt x="10418" y="992"/>
                </a:cubicBezTo>
                <a:cubicBezTo>
                  <a:pt x="10336" y="1136"/>
                  <a:pt x="10238" y="1236"/>
                  <a:pt x="10145" y="1364"/>
                </a:cubicBezTo>
                <a:cubicBezTo>
                  <a:pt x="10095" y="1432"/>
                  <a:pt x="10001" y="1491"/>
                  <a:pt x="9971" y="1563"/>
                </a:cubicBezTo>
                <a:cubicBezTo>
                  <a:pt x="9971" y="1571"/>
                  <a:pt x="9971" y="1580"/>
                  <a:pt x="9971" y="1588"/>
                </a:cubicBezTo>
              </a:path>
              <a:path w="5284" h="1415">
                <a:moveTo>
                  <a:pt x="10616" y="1166"/>
                </a:moveTo>
                <a:cubicBezTo>
                  <a:pt x="10681" y="1166"/>
                  <a:pt x="10737" y="1180"/>
                  <a:pt x="10790" y="1191"/>
                </a:cubicBezTo>
                <a:cubicBezTo>
                  <a:pt x="10814" y="1196"/>
                  <a:pt x="10915" y="1206"/>
                  <a:pt x="10889" y="1265"/>
                </a:cubicBezTo>
                <a:cubicBezTo>
                  <a:pt x="10872" y="1303"/>
                  <a:pt x="10801" y="1352"/>
                  <a:pt x="10765" y="1364"/>
                </a:cubicBezTo>
                <a:cubicBezTo>
                  <a:pt x="10732" y="1375"/>
                  <a:pt x="10676" y="1364"/>
                  <a:pt x="10641" y="1364"/>
                </a:cubicBezTo>
                <a:cubicBezTo>
                  <a:pt x="10653" y="1399"/>
                  <a:pt x="10695" y="1393"/>
                  <a:pt x="10716" y="1439"/>
                </a:cubicBezTo>
                <a:cubicBezTo>
                  <a:pt x="10730" y="1470"/>
                  <a:pt x="10756" y="1522"/>
                  <a:pt x="10740" y="1563"/>
                </a:cubicBezTo>
                <a:cubicBezTo>
                  <a:pt x="10724" y="1602"/>
                  <a:pt x="10671" y="1624"/>
                  <a:pt x="10641" y="1637"/>
                </a:cubicBezTo>
                <a:cubicBezTo>
                  <a:pt x="10589" y="1660"/>
                  <a:pt x="10571" y="1662"/>
                  <a:pt x="10517" y="16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Ink 7"/>
          <p:cNvSpPr/>
          <p:nvPr/>
        </p:nvSpPr>
        <p:spPr>
          <a:xfrm>
            <a:off x="4321080" y="615960"/>
            <a:ext cx="385920" cy="187200"/>
          </a:xfrm>
          <a:custGeom>
            <a:avLst/>
            <a:gdLst/>
            <a:ahLst/>
            <a:rect l="l" t="t" r="r" b="b"/>
            <a:pathLst>
              <a:path w="1068" h="521">
                <a:moveTo>
                  <a:pt x="13072" y="2232"/>
                </a:moveTo>
                <a:cubicBezTo>
                  <a:pt x="13051" y="2201"/>
                  <a:pt x="13010" y="2208"/>
                  <a:pt x="12973" y="2183"/>
                </a:cubicBezTo>
                <a:cubicBezTo>
                  <a:pt x="12929" y="2153"/>
                  <a:pt x="12893" y="2155"/>
                  <a:pt x="12849" y="2133"/>
                </a:cubicBezTo>
                <a:cubicBezTo>
                  <a:pt x="12797" y="2107"/>
                  <a:pt x="12728" y="2108"/>
                  <a:pt x="12675" y="2084"/>
                </a:cubicBezTo>
                <a:cubicBezTo>
                  <a:pt x="12617" y="2057"/>
                  <a:pt x="12568" y="2020"/>
                  <a:pt x="12502" y="2009"/>
                </a:cubicBezTo>
                <a:cubicBezTo>
                  <a:pt x="12430" y="1997"/>
                  <a:pt x="12346" y="1983"/>
                  <a:pt x="12278" y="1960"/>
                </a:cubicBezTo>
                <a:cubicBezTo>
                  <a:pt x="12207" y="1936"/>
                  <a:pt x="12181" y="1910"/>
                  <a:pt x="12105" y="1910"/>
                </a:cubicBezTo>
                <a:cubicBezTo>
                  <a:pt x="12080" y="1910"/>
                  <a:pt x="12072" y="1910"/>
                  <a:pt x="12055" y="1910"/>
                </a:cubicBezTo>
              </a:path>
              <a:path w="1068" h="521">
                <a:moveTo>
                  <a:pt x="12328" y="1712"/>
                </a:moveTo>
                <a:cubicBezTo>
                  <a:pt x="12245" y="1720"/>
                  <a:pt x="12241" y="1726"/>
                  <a:pt x="12179" y="1761"/>
                </a:cubicBezTo>
                <a:cubicBezTo>
                  <a:pt x="12110" y="1800"/>
                  <a:pt x="12070" y="1839"/>
                  <a:pt x="12030" y="1910"/>
                </a:cubicBezTo>
                <a:cubicBezTo>
                  <a:pt x="12006" y="1953"/>
                  <a:pt x="11990" y="2033"/>
                  <a:pt x="12005" y="2084"/>
                </a:cubicBezTo>
                <a:cubicBezTo>
                  <a:pt x="12025" y="2150"/>
                  <a:pt x="12136" y="2220"/>
                  <a:pt x="12204" y="2232"/>
                </a:cubicBezTo>
                <a:cubicBezTo>
                  <a:pt x="12229" y="2232"/>
                  <a:pt x="12253" y="2232"/>
                  <a:pt x="12278" y="22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Ink 8"/>
          <p:cNvSpPr/>
          <p:nvPr/>
        </p:nvSpPr>
        <p:spPr>
          <a:xfrm>
            <a:off x="4929120" y="785880"/>
            <a:ext cx="1401840" cy="366480"/>
          </a:xfrm>
          <a:custGeom>
            <a:avLst/>
            <a:gdLst/>
            <a:ahLst/>
            <a:rect l="l" t="t" r="r" b="b"/>
            <a:pathLst>
              <a:path w="3896" h="1018">
                <a:moveTo>
                  <a:pt x="14114" y="2208"/>
                </a:moveTo>
                <a:cubicBezTo>
                  <a:pt x="14030" y="2172"/>
                  <a:pt x="14062" y="2200"/>
                  <a:pt x="13990" y="2208"/>
                </a:cubicBezTo>
                <a:cubicBezTo>
                  <a:pt x="13946" y="2213"/>
                  <a:pt x="13901" y="2251"/>
                  <a:pt x="13866" y="2282"/>
                </a:cubicBezTo>
                <a:cubicBezTo>
                  <a:pt x="13847" y="2299"/>
                  <a:pt x="13793" y="2351"/>
                  <a:pt x="13791" y="2356"/>
                </a:cubicBezTo>
                <a:cubicBezTo>
                  <a:pt x="13791" y="2364"/>
                  <a:pt x="13791" y="2373"/>
                  <a:pt x="13791" y="2381"/>
                </a:cubicBezTo>
                <a:cubicBezTo>
                  <a:pt x="13819" y="2418"/>
                  <a:pt x="13830" y="2444"/>
                  <a:pt x="13866" y="2480"/>
                </a:cubicBezTo>
                <a:cubicBezTo>
                  <a:pt x="13910" y="2523"/>
                  <a:pt x="14011" y="2594"/>
                  <a:pt x="14015" y="2654"/>
                </a:cubicBezTo>
                <a:cubicBezTo>
                  <a:pt x="14019" y="2708"/>
                  <a:pt x="13986" y="2748"/>
                  <a:pt x="13940" y="2778"/>
                </a:cubicBezTo>
                <a:cubicBezTo>
                  <a:pt x="13879" y="2818"/>
                  <a:pt x="13813" y="2857"/>
                  <a:pt x="13742" y="2877"/>
                </a:cubicBezTo>
                <a:cubicBezTo>
                  <a:pt x="13700" y="2889"/>
                  <a:pt x="13682" y="2849"/>
                  <a:pt x="13717" y="2902"/>
                </a:cubicBezTo>
              </a:path>
              <a:path w="3896" h="1018">
                <a:moveTo>
                  <a:pt x="14312" y="2580"/>
                </a:moveTo>
                <a:cubicBezTo>
                  <a:pt x="14312" y="2670"/>
                  <a:pt x="14282" y="2742"/>
                  <a:pt x="14263" y="2828"/>
                </a:cubicBezTo>
                <a:cubicBezTo>
                  <a:pt x="14246" y="2907"/>
                  <a:pt x="14269" y="2848"/>
                  <a:pt x="14288" y="2803"/>
                </a:cubicBezTo>
              </a:path>
              <a:path w="3896" h="1018">
                <a:moveTo>
                  <a:pt x="14362" y="2431"/>
                </a:moveTo>
                <a:cubicBezTo>
                  <a:pt x="14387" y="2423"/>
                  <a:pt x="14411" y="2414"/>
                  <a:pt x="14436" y="2406"/>
                </a:cubicBezTo>
              </a:path>
              <a:path w="3896" h="1018">
                <a:moveTo>
                  <a:pt x="14560" y="2629"/>
                </a:moveTo>
                <a:cubicBezTo>
                  <a:pt x="14539" y="2702"/>
                  <a:pt x="14522" y="2782"/>
                  <a:pt x="14511" y="2853"/>
                </a:cubicBezTo>
                <a:cubicBezTo>
                  <a:pt x="14501" y="2917"/>
                  <a:pt x="14523" y="2903"/>
                  <a:pt x="14486" y="2952"/>
                </a:cubicBezTo>
                <a:cubicBezTo>
                  <a:pt x="14486" y="3018"/>
                  <a:pt x="14506" y="2869"/>
                  <a:pt x="14511" y="2853"/>
                </a:cubicBezTo>
                <a:cubicBezTo>
                  <a:pt x="14531" y="2793"/>
                  <a:pt x="14597" y="2730"/>
                  <a:pt x="14635" y="2679"/>
                </a:cubicBezTo>
                <a:cubicBezTo>
                  <a:pt x="14656" y="2651"/>
                  <a:pt x="14720" y="2607"/>
                  <a:pt x="14759" y="2629"/>
                </a:cubicBezTo>
                <a:cubicBezTo>
                  <a:pt x="14821" y="2663"/>
                  <a:pt x="14808" y="2746"/>
                  <a:pt x="14808" y="2803"/>
                </a:cubicBezTo>
                <a:cubicBezTo>
                  <a:pt x="14808" y="2862"/>
                  <a:pt x="14789" y="2877"/>
                  <a:pt x="14784" y="2927"/>
                </a:cubicBezTo>
                <a:cubicBezTo>
                  <a:pt x="14780" y="2966"/>
                  <a:pt x="14803" y="2952"/>
                  <a:pt x="14833" y="2952"/>
                </a:cubicBezTo>
              </a:path>
              <a:path w="3896" h="1018">
                <a:moveTo>
                  <a:pt x="15528" y="2208"/>
                </a:moveTo>
                <a:cubicBezTo>
                  <a:pt x="15473" y="2208"/>
                  <a:pt x="15493" y="2227"/>
                  <a:pt x="15453" y="2232"/>
                </a:cubicBezTo>
                <a:cubicBezTo>
                  <a:pt x="15426" y="2235"/>
                  <a:pt x="15347" y="2286"/>
                  <a:pt x="15329" y="2307"/>
                </a:cubicBezTo>
                <a:cubicBezTo>
                  <a:pt x="15256" y="2391"/>
                  <a:pt x="15236" y="2526"/>
                  <a:pt x="15205" y="2629"/>
                </a:cubicBezTo>
                <a:cubicBezTo>
                  <a:pt x="15170" y="2744"/>
                  <a:pt x="15170" y="2841"/>
                  <a:pt x="15180" y="2952"/>
                </a:cubicBezTo>
                <a:cubicBezTo>
                  <a:pt x="15183" y="2988"/>
                  <a:pt x="15202" y="3082"/>
                  <a:pt x="15230" y="3101"/>
                </a:cubicBezTo>
                <a:cubicBezTo>
                  <a:pt x="15241" y="3108"/>
                  <a:pt x="15290" y="3101"/>
                  <a:pt x="15304" y="3101"/>
                </a:cubicBezTo>
              </a:path>
              <a:path w="3896" h="1018">
                <a:moveTo>
                  <a:pt x="15453" y="2704"/>
                </a:moveTo>
                <a:cubicBezTo>
                  <a:pt x="15492" y="2714"/>
                  <a:pt x="15537" y="2716"/>
                  <a:pt x="15577" y="2729"/>
                </a:cubicBezTo>
                <a:cubicBezTo>
                  <a:pt x="15636" y="2748"/>
                  <a:pt x="15662" y="2753"/>
                  <a:pt x="15726" y="2753"/>
                </a:cubicBezTo>
                <a:cubicBezTo>
                  <a:pt x="15768" y="2753"/>
                  <a:pt x="15776" y="2753"/>
                  <a:pt x="15801" y="2753"/>
                </a:cubicBezTo>
              </a:path>
              <a:path w="3896" h="1018">
                <a:moveTo>
                  <a:pt x="16098" y="2530"/>
                </a:moveTo>
                <a:cubicBezTo>
                  <a:pt x="16126" y="2599"/>
                  <a:pt x="16151" y="2641"/>
                  <a:pt x="16173" y="2704"/>
                </a:cubicBezTo>
                <a:cubicBezTo>
                  <a:pt x="16194" y="2764"/>
                  <a:pt x="16230" y="2831"/>
                  <a:pt x="16272" y="2877"/>
                </a:cubicBezTo>
                <a:cubicBezTo>
                  <a:pt x="16305" y="2913"/>
                  <a:pt x="16348" y="2924"/>
                  <a:pt x="16396" y="2927"/>
                </a:cubicBezTo>
                <a:cubicBezTo>
                  <a:pt x="16413" y="2927"/>
                  <a:pt x="16429" y="2927"/>
                  <a:pt x="16446" y="2927"/>
                </a:cubicBezTo>
              </a:path>
              <a:path w="3896" h="1018">
                <a:moveTo>
                  <a:pt x="16495" y="2580"/>
                </a:moveTo>
                <a:cubicBezTo>
                  <a:pt x="16405" y="2615"/>
                  <a:pt x="16381" y="2636"/>
                  <a:pt x="16321" y="2704"/>
                </a:cubicBezTo>
                <a:cubicBezTo>
                  <a:pt x="16255" y="2779"/>
                  <a:pt x="16195" y="2855"/>
                  <a:pt x="16123" y="2927"/>
                </a:cubicBezTo>
                <a:cubicBezTo>
                  <a:pt x="16093" y="2957"/>
                  <a:pt x="16003" y="3049"/>
                  <a:pt x="16098" y="3001"/>
                </a:cubicBezTo>
              </a:path>
              <a:path w="3896" h="1018">
                <a:moveTo>
                  <a:pt x="16768" y="2257"/>
                </a:moveTo>
                <a:cubicBezTo>
                  <a:pt x="16793" y="2320"/>
                  <a:pt x="16852" y="2389"/>
                  <a:pt x="16867" y="2456"/>
                </a:cubicBezTo>
                <a:cubicBezTo>
                  <a:pt x="16882" y="2523"/>
                  <a:pt x="16892" y="2583"/>
                  <a:pt x="16892" y="2654"/>
                </a:cubicBezTo>
                <a:cubicBezTo>
                  <a:pt x="16892" y="2737"/>
                  <a:pt x="16865" y="2856"/>
                  <a:pt x="16818" y="2927"/>
                </a:cubicBezTo>
                <a:cubicBezTo>
                  <a:pt x="16763" y="3009"/>
                  <a:pt x="16691" y="3065"/>
                  <a:pt x="16619" y="3125"/>
                </a:cubicBezTo>
                <a:cubicBezTo>
                  <a:pt x="16602" y="3139"/>
                  <a:pt x="16457" y="3238"/>
                  <a:pt x="16520" y="3175"/>
                </a:cubicBezTo>
              </a:path>
              <a:path w="3896" h="1018">
                <a:moveTo>
                  <a:pt x="17165" y="2629"/>
                </a:moveTo>
                <a:cubicBezTo>
                  <a:pt x="17235" y="2638"/>
                  <a:pt x="17290" y="2654"/>
                  <a:pt x="17363" y="2654"/>
                </a:cubicBezTo>
                <a:cubicBezTo>
                  <a:pt x="17447" y="2654"/>
                  <a:pt x="17487" y="2660"/>
                  <a:pt x="17562" y="2679"/>
                </a:cubicBezTo>
                <a:cubicBezTo>
                  <a:pt x="17570" y="2679"/>
                  <a:pt x="17579" y="2679"/>
                  <a:pt x="17587" y="2679"/>
                </a:cubicBezTo>
              </a:path>
              <a:path w="3896" h="1018">
                <a:moveTo>
                  <a:pt x="17214" y="2853"/>
                </a:moveTo>
                <a:cubicBezTo>
                  <a:pt x="17206" y="2861"/>
                  <a:pt x="17198" y="2869"/>
                  <a:pt x="17190" y="2877"/>
                </a:cubicBezTo>
                <a:cubicBezTo>
                  <a:pt x="17264" y="2896"/>
                  <a:pt x="17232" y="2892"/>
                  <a:pt x="17314" y="2877"/>
                </a:cubicBezTo>
                <a:cubicBezTo>
                  <a:pt x="17383" y="2865"/>
                  <a:pt x="17463" y="2902"/>
                  <a:pt x="17537" y="2902"/>
                </a:cubicBezTo>
                <a:cubicBezTo>
                  <a:pt x="17554" y="2902"/>
                  <a:pt x="17570" y="2902"/>
                  <a:pt x="17587" y="29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Ink 9"/>
          <p:cNvSpPr/>
          <p:nvPr/>
        </p:nvSpPr>
        <p:spPr>
          <a:xfrm>
            <a:off x="6510240" y="830160"/>
            <a:ext cx="1089000" cy="420840"/>
          </a:xfrm>
          <a:custGeom>
            <a:avLst/>
            <a:gdLst/>
            <a:ahLst/>
            <a:rect l="l" t="t" r="r" b="b"/>
            <a:pathLst>
              <a:path w="3027" h="1167">
                <a:moveTo>
                  <a:pt x="18083" y="2753"/>
                </a:moveTo>
                <a:cubicBezTo>
                  <a:pt x="18096" y="2794"/>
                  <a:pt x="18131" y="2778"/>
                  <a:pt x="18182" y="2778"/>
                </a:cubicBezTo>
                <a:cubicBezTo>
                  <a:pt x="18246" y="2778"/>
                  <a:pt x="18290" y="2803"/>
                  <a:pt x="18355" y="2803"/>
                </a:cubicBezTo>
                <a:cubicBezTo>
                  <a:pt x="18403" y="2803"/>
                  <a:pt x="18417" y="2801"/>
                  <a:pt x="18455" y="2778"/>
                </a:cubicBezTo>
              </a:path>
              <a:path w="3027" h="1167">
                <a:moveTo>
                  <a:pt x="19174" y="2332"/>
                </a:moveTo>
                <a:cubicBezTo>
                  <a:pt x="19109" y="2304"/>
                  <a:pt x="19068" y="2310"/>
                  <a:pt x="19000" y="2332"/>
                </a:cubicBezTo>
                <a:cubicBezTo>
                  <a:pt x="18921" y="2358"/>
                  <a:pt x="18804" y="2424"/>
                  <a:pt x="18752" y="2480"/>
                </a:cubicBezTo>
                <a:cubicBezTo>
                  <a:pt x="18707" y="2528"/>
                  <a:pt x="18689" y="2579"/>
                  <a:pt x="18728" y="2629"/>
                </a:cubicBezTo>
                <a:cubicBezTo>
                  <a:pt x="18763" y="2674"/>
                  <a:pt x="18812" y="2691"/>
                  <a:pt x="18852" y="2729"/>
                </a:cubicBezTo>
                <a:cubicBezTo>
                  <a:pt x="18902" y="2775"/>
                  <a:pt x="18951" y="2809"/>
                  <a:pt x="19000" y="2853"/>
                </a:cubicBezTo>
                <a:cubicBezTo>
                  <a:pt x="19034" y="2883"/>
                  <a:pt x="19025" y="2909"/>
                  <a:pt x="19025" y="2952"/>
                </a:cubicBezTo>
                <a:cubicBezTo>
                  <a:pt x="19025" y="3022"/>
                  <a:pt x="18980" y="3047"/>
                  <a:pt x="18926" y="3076"/>
                </a:cubicBezTo>
                <a:cubicBezTo>
                  <a:pt x="18858" y="3112"/>
                  <a:pt x="18786" y="3139"/>
                  <a:pt x="18728" y="3175"/>
                </a:cubicBezTo>
              </a:path>
              <a:path w="3027" h="1167">
                <a:moveTo>
                  <a:pt x="19348" y="2803"/>
                </a:moveTo>
                <a:cubicBezTo>
                  <a:pt x="19326" y="2863"/>
                  <a:pt x="19284" y="2947"/>
                  <a:pt x="19273" y="3001"/>
                </a:cubicBezTo>
                <a:cubicBezTo>
                  <a:pt x="19265" y="3042"/>
                  <a:pt x="19215" y="3076"/>
                  <a:pt x="19248" y="3101"/>
                </a:cubicBezTo>
                <a:cubicBezTo>
                  <a:pt x="19256" y="3101"/>
                  <a:pt x="19265" y="3101"/>
                  <a:pt x="19273" y="3101"/>
                </a:cubicBezTo>
              </a:path>
              <a:path w="3027" h="1167">
                <a:moveTo>
                  <a:pt x="19397" y="2679"/>
                </a:moveTo>
                <a:cubicBezTo>
                  <a:pt x="19414" y="2662"/>
                  <a:pt x="19430" y="2646"/>
                  <a:pt x="19447" y="2629"/>
                </a:cubicBezTo>
              </a:path>
              <a:path w="3027" h="1167">
                <a:moveTo>
                  <a:pt x="19447" y="2828"/>
                </a:moveTo>
                <a:cubicBezTo>
                  <a:pt x="19447" y="2888"/>
                  <a:pt x="19432" y="2921"/>
                  <a:pt x="19422" y="2977"/>
                </a:cubicBezTo>
                <a:cubicBezTo>
                  <a:pt x="19410" y="3043"/>
                  <a:pt x="19396" y="3065"/>
                  <a:pt x="19372" y="3125"/>
                </a:cubicBezTo>
                <a:cubicBezTo>
                  <a:pt x="19372" y="3133"/>
                  <a:pt x="19372" y="3142"/>
                  <a:pt x="19372" y="3150"/>
                </a:cubicBezTo>
                <a:cubicBezTo>
                  <a:pt x="19372" y="3085"/>
                  <a:pt x="19408" y="3071"/>
                  <a:pt x="19422" y="3001"/>
                </a:cubicBezTo>
                <a:cubicBezTo>
                  <a:pt x="19441" y="2907"/>
                  <a:pt x="19447" y="2908"/>
                  <a:pt x="19521" y="2853"/>
                </a:cubicBezTo>
                <a:cubicBezTo>
                  <a:pt x="19563" y="2822"/>
                  <a:pt x="19579" y="2816"/>
                  <a:pt x="19621" y="2853"/>
                </a:cubicBezTo>
                <a:cubicBezTo>
                  <a:pt x="19669" y="2895"/>
                  <a:pt x="19670" y="2914"/>
                  <a:pt x="19670" y="2977"/>
                </a:cubicBezTo>
                <a:cubicBezTo>
                  <a:pt x="19670" y="3014"/>
                  <a:pt x="19663" y="3105"/>
                  <a:pt x="19695" y="3125"/>
                </a:cubicBezTo>
                <a:cubicBezTo>
                  <a:pt x="19723" y="3143"/>
                  <a:pt x="19723" y="3150"/>
                  <a:pt x="19769" y="3150"/>
                </a:cubicBezTo>
                <a:cubicBezTo>
                  <a:pt x="19812" y="3150"/>
                  <a:pt x="19807" y="3160"/>
                  <a:pt x="19819" y="3125"/>
                </a:cubicBezTo>
              </a:path>
              <a:path w="3027" h="1167">
                <a:moveTo>
                  <a:pt x="20513" y="2356"/>
                </a:moveTo>
                <a:cubicBezTo>
                  <a:pt x="20463" y="2356"/>
                  <a:pt x="20455" y="2367"/>
                  <a:pt x="20414" y="2381"/>
                </a:cubicBezTo>
                <a:cubicBezTo>
                  <a:pt x="20372" y="2395"/>
                  <a:pt x="20327" y="2381"/>
                  <a:pt x="20290" y="2406"/>
                </a:cubicBezTo>
                <a:cubicBezTo>
                  <a:pt x="20253" y="2431"/>
                  <a:pt x="20203" y="2488"/>
                  <a:pt x="20191" y="2530"/>
                </a:cubicBezTo>
                <a:cubicBezTo>
                  <a:pt x="20168" y="2612"/>
                  <a:pt x="20147" y="2720"/>
                  <a:pt x="20141" y="2803"/>
                </a:cubicBezTo>
                <a:cubicBezTo>
                  <a:pt x="20136" y="2874"/>
                  <a:pt x="20129" y="2941"/>
                  <a:pt x="20117" y="3001"/>
                </a:cubicBezTo>
                <a:cubicBezTo>
                  <a:pt x="20105" y="3063"/>
                  <a:pt x="20127" y="3094"/>
                  <a:pt x="20141" y="3150"/>
                </a:cubicBezTo>
                <a:cubicBezTo>
                  <a:pt x="20153" y="3202"/>
                  <a:pt x="20198" y="3198"/>
                  <a:pt x="20216" y="3225"/>
                </a:cubicBezTo>
                <a:cubicBezTo>
                  <a:pt x="20216" y="3253"/>
                  <a:pt x="20219" y="3263"/>
                  <a:pt x="20241" y="3274"/>
                </a:cubicBezTo>
              </a:path>
              <a:path w="3027" h="1167">
                <a:moveTo>
                  <a:pt x="20439" y="2753"/>
                </a:moveTo>
                <a:cubicBezTo>
                  <a:pt x="20519" y="2753"/>
                  <a:pt x="20504" y="2777"/>
                  <a:pt x="20538" y="2853"/>
                </a:cubicBezTo>
                <a:cubicBezTo>
                  <a:pt x="20572" y="2927"/>
                  <a:pt x="20608" y="3015"/>
                  <a:pt x="20662" y="3076"/>
                </a:cubicBezTo>
                <a:cubicBezTo>
                  <a:pt x="20690" y="3107"/>
                  <a:pt x="20702" y="3112"/>
                  <a:pt x="20712" y="3150"/>
                </a:cubicBezTo>
                <a:cubicBezTo>
                  <a:pt x="20755" y="3150"/>
                  <a:pt x="20750" y="3160"/>
                  <a:pt x="20762" y="3125"/>
                </a:cubicBezTo>
              </a:path>
              <a:path w="3027" h="1167">
                <a:moveTo>
                  <a:pt x="20712" y="2753"/>
                </a:moveTo>
                <a:cubicBezTo>
                  <a:pt x="20633" y="2844"/>
                  <a:pt x="20517" y="3021"/>
                  <a:pt x="20414" y="3101"/>
                </a:cubicBezTo>
                <a:cubicBezTo>
                  <a:pt x="20357" y="3145"/>
                  <a:pt x="20280" y="3129"/>
                  <a:pt x="20315" y="3200"/>
                </a:cubicBezTo>
              </a:path>
              <a:path w="3027" h="1167">
                <a:moveTo>
                  <a:pt x="21010" y="2381"/>
                </a:moveTo>
                <a:cubicBezTo>
                  <a:pt x="21037" y="2430"/>
                  <a:pt x="21072" y="2475"/>
                  <a:pt x="21084" y="2530"/>
                </a:cubicBezTo>
                <a:cubicBezTo>
                  <a:pt x="21099" y="2597"/>
                  <a:pt x="21109" y="2657"/>
                  <a:pt x="21109" y="2729"/>
                </a:cubicBezTo>
                <a:cubicBezTo>
                  <a:pt x="21109" y="2816"/>
                  <a:pt x="21071" y="2893"/>
                  <a:pt x="21059" y="2977"/>
                </a:cubicBezTo>
                <a:cubicBezTo>
                  <a:pt x="21045" y="3072"/>
                  <a:pt x="21010" y="3121"/>
                  <a:pt x="20960" y="3200"/>
                </a:cubicBezTo>
                <a:cubicBezTo>
                  <a:pt x="20918" y="3265"/>
                  <a:pt x="20856" y="3310"/>
                  <a:pt x="20786" y="3349"/>
                </a:cubicBezTo>
                <a:cubicBezTo>
                  <a:pt x="20710" y="3391"/>
                  <a:pt x="20630" y="3419"/>
                  <a:pt x="20563" y="34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Ink 10"/>
          <p:cNvSpPr/>
          <p:nvPr/>
        </p:nvSpPr>
        <p:spPr>
          <a:xfrm>
            <a:off x="347760" y="973080"/>
            <a:ext cx="420480" cy="295200"/>
          </a:xfrm>
          <a:custGeom>
            <a:avLst/>
            <a:gdLst/>
            <a:ahLst/>
            <a:rect l="l" t="t" r="r" b="b"/>
            <a:pathLst>
              <a:path w="1167" h="819">
                <a:moveTo>
                  <a:pt x="967" y="3101"/>
                </a:moveTo>
                <a:cubicBezTo>
                  <a:pt x="1064" y="3141"/>
                  <a:pt x="1071" y="3118"/>
                  <a:pt x="1191" y="3101"/>
                </a:cubicBezTo>
                <a:cubicBezTo>
                  <a:pt x="1214" y="3098"/>
                  <a:pt x="1241" y="3101"/>
                  <a:pt x="1265" y="3101"/>
                </a:cubicBezTo>
              </a:path>
              <a:path w="1167" h="819">
                <a:moveTo>
                  <a:pt x="2133" y="2704"/>
                </a:moveTo>
                <a:cubicBezTo>
                  <a:pt x="2034" y="2803"/>
                  <a:pt x="1935" y="2902"/>
                  <a:pt x="1836" y="3001"/>
                </a:cubicBezTo>
              </a:path>
              <a:path w="1167" h="819">
                <a:moveTo>
                  <a:pt x="2084" y="2803"/>
                </a:moveTo>
                <a:cubicBezTo>
                  <a:pt x="2057" y="2898"/>
                  <a:pt x="2039" y="2986"/>
                  <a:pt x="2009" y="3076"/>
                </a:cubicBezTo>
                <a:cubicBezTo>
                  <a:pt x="1985" y="3148"/>
                  <a:pt x="1947" y="3235"/>
                  <a:pt x="1935" y="3299"/>
                </a:cubicBezTo>
                <a:cubicBezTo>
                  <a:pt x="1935" y="3340"/>
                  <a:pt x="1935" y="3348"/>
                  <a:pt x="1935" y="3373"/>
                </a:cubicBezTo>
              </a:path>
              <a:path w="1167" h="819">
                <a:moveTo>
                  <a:pt x="1612" y="3522"/>
                </a:moveTo>
                <a:cubicBezTo>
                  <a:pt x="1694" y="3504"/>
                  <a:pt x="1781" y="3486"/>
                  <a:pt x="1860" y="3473"/>
                </a:cubicBezTo>
                <a:cubicBezTo>
                  <a:pt x="1938" y="3460"/>
                  <a:pt x="2029" y="3473"/>
                  <a:pt x="2108" y="34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Ink 11"/>
          <p:cNvSpPr/>
          <p:nvPr/>
        </p:nvSpPr>
        <p:spPr>
          <a:xfrm>
            <a:off x="938160" y="1116000"/>
            <a:ext cx="1800" cy="27000"/>
          </a:xfrm>
          <a:custGeom>
            <a:avLst/>
            <a:gdLst/>
            <a:ahLst/>
            <a:rect l="l" t="t" r="r" b="b"/>
            <a:pathLst>
              <a:path w="1" h="75">
                <a:moveTo>
                  <a:pt x="2604" y="3101"/>
                </a:moveTo>
                <a:cubicBezTo>
                  <a:pt x="2604" y="3113"/>
                  <a:pt x="2604" y="3217"/>
                  <a:pt x="2604" y="31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Ink 12"/>
          <p:cNvSpPr/>
          <p:nvPr/>
        </p:nvSpPr>
        <p:spPr>
          <a:xfrm>
            <a:off x="1204920" y="990720"/>
            <a:ext cx="581040" cy="233280"/>
          </a:xfrm>
          <a:custGeom>
            <a:avLst/>
            <a:gdLst/>
            <a:ahLst/>
            <a:rect l="l" t="t" r="r" b="b"/>
            <a:pathLst>
              <a:path w="1613" h="646">
                <a:moveTo>
                  <a:pt x="3349" y="3051"/>
                </a:moveTo>
                <a:cubicBezTo>
                  <a:pt x="3415" y="3051"/>
                  <a:pt x="3469" y="3065"/>
                  <a:pt x="3522" y="3076"/>
                </a:cubicBezTo>
                <a:cubicBezTo>
                  <a:pt x="3566" y="3085"/>
                  <a:pt x="3582" y="3091"/>
                  <a:pt x="3621" y="3101"/>
                </a:cubicBezTo>
              </a:path>
              <a:path w="1613" h="646">
                <a:moveTo>
                  <a:pt x="4217" y="2753"/>
                </a:moveTo>
                <a:cubicBezTo>
                  <a:pt x="4177" y="2763"/>
                  <a:pt x="4154" y="2791"/>
                  <a:pt x="4118" y="2803"/>
                </a:cubicBezTo>
                <a:cubicBezTo>
                  <a:pt x="4064" y="2821"/>
                  <a:pt x="4036" y="2835"/>
                  <a:pt x="3994" y="2877"/>
                </a:cubicBezTo>
                <a:cubicBezTo>
                  <a:pt x="3971" y="2900"/>
                  <a:pt x="3921" y="2936"/>
                  <a:pt x="3944" y="2977"/>
                </a:cubicBezTo>
                <a:cubicBezTo>
                  <a:pt x="3970" y="3023"/>
                  <a:pt x="4031" y="3042"/>
                  <a:pt x="4068" y="3076"/>
                </a:cubicBezTo>
                <a:cubicBezTo>
                  <a:pt x="4094" y="3100"/>
                  <a:pt x="4153" y="3143"/>
                  <a:pt x="4167" y="3175"/>
                </a:cubicBezTo>
                <a:cubicBezTo>
                  <a:pt x="4200" y="3251"/>
                  <a:pt x="4091" y="3319"/>
                  <a:pt x="4043" y="3349"/>
                </a:cubicBezTo>
                <a:cubicBezTo>
                  <a:pt x="3995" y="3379"/>
                  <a:pt x="3958" y="3357"/>
                  <a:pt x="3944" y="3398"/>
                </a:cubicBezTo>
              </a:path>
              <a:path w="1613" h="646">
                <a:moveTo>
                  <a:pt x="4465" y="3101"/>
                </a:moveTo>
                <a:cubicBezTo>
                  <a:pt x="4457" y="3166"/>
                  <a:pt x="4432" y="3219"/>
                  <a:pt x="4415" y="3274"/>
                </a:cubicBezTo>
                <a:cubicBezTo>
                  <a:pt x="4415" y="3299"/>
                  <a:pt x="4415" y="3307"/>
                  <a:pt x="4440" y="3299"/>
                </a:cubicBezTo>
              </a:path>
              <a:path w="1613" h="646">
                <a:moveTo>
                  <a:pt x="4614" y="2977"/>
                </a:moveTo>
                <a:cubicBezTo>
                  <a:pt x="4663" y="2944"/>
                  <a:pt x="4652" y="2939"/>
                  <a:pt x="4688" y="2927"/>
                </a:cubicBezTo>
              </a:path>
              <a:path w="1613" h="646">
                <a:moveTo>
                  <a:pt x="4713" y="3101"/>
                </a:moveTo>
                <a:cubicBezTo>
                  <a:pt x="4713" y="3179"/>
                  <a:pt x="4694" y="3226"/>
                  <a:pt x="4688" y="3299"/>
                </a:cubicBezTo>
                <a:cubicBezTo>
                  <a:pt x="4688" y="3324"/>
                  <a:pt x="4688" y="3332"/>
                  <a:pt x="4688" y="3349"/>
                </a:cubicBezTo>
                <a:cubicBezTo>
                  <a:pt x="4688" y="3293"/>
                  <a:pt x="4678" y="3244"/>
                  <a:pt x="4713" y="3200"/>
                </a:cubicBezTo>
                <a:cubicBezTo>
                  <a:pt x="4753" y="3150"/>
                  <a:pt x="4776" y="3130"/>
                  <a:pt x="4837" y="3125"/>
                </a:cubicBezTo>
                <a:cubicBezTo>
                  <a:pt x="4883" y="3121"/>
                  <a:pt x="4904" y="3186"/>
                  <a:pt x="4911" y="3225"/>
                </a:cubicBezTo>
                <a:cubicBezTo>
                  <a:pt x="4914" y="3244"/>
                  <a:pt x="4925" y="3358"/>
                  <a:pt x="4936" y="3373"/>
                </a:cubicBezTo>
                <a:cubicBezTo>
                  <a:pt x="4944" y="3373"/>
                  <a:pt x="4953" y="3373"/>
                  <a:pt x="4961" y="33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Ink 13"/>
          <p:cNvSpPr/>
          <p:nvPr/>
        </p:nvSpPr>
        <p:spPr>
          <a:xfrm>
            <a:off x="1963800" y="946080"/>
            <a:ext cx="635040" cy="312840"/>
          </a:xfrm>
          <a:custGeom>
            <a:avLst/>
            <a:gdLst/>
            <a:ahLst/>
            <a:rect l="l" t="t" r="r" b="b"/>
            <a:pathLst>
              <a:path w="1762" h="869">
                <a:moveTo>
                  <a:pt x="5829" y="2654"/>
                </a:moveTo>
                <a:cubicBezTo>
                  <a:pt x="5776" y="2631"/>
                  <a:pt x="5759" y="2629"/>
                  <a:pt x="5705" y="2629"/>
                </a:cubicBezTo>
                <a:cubicBezTo>
                  <a:pt x="5644" y="2629"/>
                  <a:pt x="5615" y="2691"/>
                  <a:pt x="5581" y="2729"/>
                </a:cubicBezTo>
                <a:cubicBezTo>
                  <a:pt x="5518" y="2799"/>
                  <a:pt x="5472" y="2880"/>
                  <a:pt x="5457" y="2977"/>
                </a:cubicBezTo>
                <a:cubicBezTo>
                  <a:pt x="5437" y="3112"/>
                  <a:pt x="5462" y="3248"/>
                  <a:pt x="5482" y="3373"/>
                </a:cubicBezTo>
                <a:cubicBezTo>
                  <a:pt x="5490" y="3424"/>
                  <a:pt x="5493" y="3469"/>
                  <a:pt x="5556" y="3473"/>
                </a:cubicBezTo>
                <a:cubicBezTo>
                  <a:pt x="5624" y="3478"/>
                  <a:pt x="5634" y="3469"/>
                  <a:pt x="5680" y="3423"/>
                </a:cubicBezTo>
              </a:path>
              <a:path w="1762" h="869">
                <a:moveTo>
                  <a:pt x="5879" y="2977"/>
                </a:moveTo>
                <a:cubicBezTo>
                  <a:pt x="5891" y="3036"/>
                  <a:pt x="5925" y="3072"/>
                  <a:pt x="5953" y="3125"/>
                </a:cubicBezTo>
                <a:cubicBezTo>
                  <a:pt x="5989" y="3192"/>
                  <a:pt x="6022" y="3248"/>
                  <a:pt x="6052" y="3299"/>
                </a:cubicBezTo>
                <a:cubicBezTo>
                  <a:pt x="6068" y="3327"/>
                  <a:pt x="6109" y="3343"/>
                  <a:pt x="6127" y="3349"/>
                </a:cubicBezTo>
              </a:path>
              <a:path w="1762" h="869">
                <a:moveTo>
                  <a:pt x="6176" y="3026"/>
                </a:moveTo>
                <a:cubicBezTo>
                  <a:pt x="6125" y="3056"/>
                  <a:pt x="6071" y="3085"/>
                  <a:pt x="6028" y="3125"/>
                </a:cubicBezTo>
                <a:cubicBezTo>
                  <a:pt x="5968" y="3181"/>
                  <a:pt x="5884" y="3246"/>
                  <a:pt x="5854" y="3324"/>
                </a:cubicBezTo>
                <a:cubicBezTo>
                  <a:pt x="5839" y="3364"/>
                  <a:pt x="5883" y="3349"/>
                  <a:pt x="5904" y="3349"/>
                </a:cubicBezTo>
              </a:path>
              <a:path w="1762" h="869">
                <a:moveTo>
                  <a:pt x="6449" y="2778"/>
                </a:moveTo>
                <a:cubicBezTo>
                  <a:pt x="6521" y="2778"/>
                  <a:pt x="6506" y="2797"/>
                  <a:pt x="6548" y="2853"/>
                </a:cubicBezTo>
                <a:cubicBezTo>
                  <a:pt x="6577" y="2892"/>
                  <a:pt x="6629" y="2976"/>
                  <a:pt x="6623" y="3026"/>
                </a:cubicBezTo>
                <a:cubicBezTo>
                  <a:pt x="6613" y="3114"/>
                  <a:pt x="6584" y="3215"/>
                  <a:pt x="6548" y="3299"/>
                </a:cubicBezTo>
                <a:cubicBezTo>
                  <a:pt x="6526" y="3352"/>
                  <a:pt x="6487" y="3406"/>
                  <a:pt x="6449" y="3448"/>
                </a:cubicBezTo>
                <a:cubicBezTo>
                  <a:pt x="6417" y="3484"/>
                  <a:pt x="6436" y="3485"/>
                  <a:pt x="6400" y="3497"/>
                </a:cubicBezTo>
              </a:path>
              <a:path w="1762" h="869">
                <a:moveTo>
                  <a:pt x="6945" y="3026"/>
                </a:moveTo>
                <a:cubicBezTo>
                  <a:pt x="6985" y="3086"/>
                  <a:pt x="6977" y="3076"/>
                  <a:pt x="7045" y="3076"/>
                </a:cubicBezTo>
                <a:cubicBezTo>
                  <a:pt x="7103" y="3076"/>
                  <a:pt x="7160" y="3076"/>
                  <a:pt x="7218" y="3076"/>
                </a:cubicBezTo>
              </a:path>
              <a:path w="1762" h="869">
                <a:moveTo>
                  <a:pt x="6995" y="3299"/>
                </a:moveTo>
                <a:cubicBezTo>
                  <a:pt x="7015" y="3360"/>
                  <a:pt x="7141" y="3306"/>
                  <a:pt x="7193" y="3299"/>
                </a:cubicBezTo>
                <a:cubicBezTo>
                  <a:pt x="7201" y="3299"/>
                  <a:pt x="7210" y="3299"/>
                  <a:pt x="7218" y="32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Ink 14"/>
          <p:cNvSpPr/>
          <p:nvPr/>
        </p:nvSpPr>
        <p:spPr>
          <a:xfrm>
            <a:off x="2759040" y="955800"/>
            <a:ext cx="563760" cy="347400"/>
          </a:xfrm>
          <a:custGeom>
            <a:avLst/>
            <a:gdLst/>
            <a:ahLst/>
            <a:rect l="l" t="t" r="r" b="b"/>
            <a:pathLst>
              <a:path w="1563" h="968">
                <a:moveTo>
                  <a:pt x="7665" y="2877"/>
                </a:moveTo>
                <a:cubicBezTo>
                  <a:pt x="7722" y="2877"/>
                  <a:pt x="7768" y="2893"/>
                  <a:pt x="7813" y="2902"/>
                </a:cubicBezTo>
                <a:cubicBezTo>
                  <a:pt x="7841" y="2908"/>
                  <a:pt x="7883" y="2902"/>
                  <a:pt x="7913" y="2902"/>
                </a:cubicBezTo>
              </a:path>
              <a:path w="1563" h="968">
                <a:moveTo>
                  <a:pt x="8210" y="2654"/>
                </a:moveTo>
                <a:cubicBezTo>
                  <a:pt x="8297" y="2654"/>
                  <a:pt x="8408" y="2632"/>
                  <a:pt x="8483" y="2679"/>
                </a:cubicBezTo>
                <a:cubicBezTo>
                  <a:pt x="8510" y="2696"/>
                  <a:pt x="8553" y="2742"/>
                  <a:pt x="8533" y="2778"/>
                </a:cubicBezTo>
                <a:cubicBezTo>
                  <a:pt x="8505" y="2828"/>
                  <a:pt x="8429" y="2874"/>
                  <a:pt x="8384" y="2902"/>
                </a:cubicBezTo>
                <a:cubicBezTo>
                  <a:pt x="8326" y="2938"/>
                  <a:pt x="8261" y="2955"/>
                  <a:pt x="8210" y="3001"/>
                </a:cubicBezTo>
                <a:cubicBezTo>
                  <a:pt x="8202" y="3009"/>
                  <a:pt x="8194" y="3018"/>
                  <a:pt x="8186" y="3026"/>
                </a:cubicBezTo>
                <a:cubicBezTo>
                  <a:pt x="8195" y="3054"/>
                  <a:pt x="8219" y="3073"/>
                  <a:pt x="8260" y="3076"/>
                </a:cubicBezTo>
                <a:cubicBezTo>
                  <a:pt x="8351" y="3082"/>
                  <a:pt x="8425" y="3066"/>
                  <a:pt x="8508" y="3051"/>
                </a:cubicBezTo>
                <a:cubicBezTo>
                  <a:pt x="8553" y="3051"/>
                  <a:pt x="8566" y="3055"/>
                  <a:pt x="8582" y="3026"/>
                </a:cubicBezTo>
              </a:path>
              <a:path w="1563" h="968">
                <a:moveTo>
                  <a:pt x="9029" y="2679"/>
                </a:moveTo>
                <a:cubicBezTo>
                  <a:pt x="8948" y="2777"/>
                  <a:pt x="8885" y="2880"/>
                  <a:pt x="8806" y="2977"/>
                </a:cubicBezTo>
                <a:cubicBezTo>
                  <a:pt x="8747" y="3050"/>
                  <a:pt x="8689" y="3125"/>
                  <a:pt x="8632" y="3200"/>
                </a:cubicBezTo>
                <a:cubicBezTo>
                  <a:pt x="8565" y="3288"/>
                  <a:pt x="8492" y="3380"/>
                  <a:pt x="8434" y="3473"/>
                </a:cubicBezTo>
                <a:cubicBezTo>
                  <a:pt x="8407" y="3517"/>
                  <a:pt x="8369" y="3567"/>
                  <a:pt x="8359" y="3597"/>
                </a:cubicBezTo>
              </a:path>
              <a:path w="1563" h="968">
                <a:moveTo>
                  <a:pt x="8930" y="3125"/>
                </a:moveTo>
                <a:cubicBezTo>
                  <a:pt x="8967" y="3097"/>
                  <a:pt x="8982" y="3101"/>
                  <a:pt x="9029" y="3101"/>
                </a:cubicBezTo>
                <a:cubicBezTo>
                  <a:pt x="9075" y="3101"/>
                  <a:pt x="9139" y="3106"/>
                  <a:pt x="9178" y="3125"/>
                </a:cubicBezTo>
                <a:cubicBezTo>
                  <a:pt x="9210" y="3141"/>
                  <a:pt x="9220" y="3171"/>
                  <a:pt x="9227" y="3200"/>
                </a:cubicBezTo>
                <a:cubicBezTo>
                  <a:pt x="9193" y="3226"/>
                  <a:pt x="9148" y="3259"/>
                  <a:pt x="9103" y="3274"/>
                </a:cubicBezTo>
                <a:cubicBezTo>
                  <a:pt x="9066" y="3287"/>
                  <a:pt x="8994" y="3274"/>
                  <a:pt x="8954" y="3274"/>
                </a:cubicBezTo>
                <a:cubicBezTo>
                  <a:pt x="8967" y="3313"/>
                  <a:pt x="8994" y="3300"/>
                  <a:pt x="9029" y="3324"/>
                </a:cubicBezTo>
                <a:cubicBezTo>
                  <a:pt x="9059" y="3344"/>
                  <a:pt x="9100" y="3374"/>
                  <a:pt x="9103" y="3398"/>
                </a:cubicBezTo>
                <a:cubicBezTo>
                  <a:pt x="9109" y="3451"/>
                  <a:pt x="9084" y="3504"/>
                  <a:pt x="9054" y="3547"/>
                </a:cubicBezTo>
                <a:cubicBezTo>
                  <a:pt x="9030" y="3581"/>
                  <a:pt x="8983" y="3578"/>
                  <a:pt x="8954" y="3597"/>
                </a:cubicBezTo>
                <a:cubicBezTo>
                  <a:pt x="8946" y="3605"/>
                  <a:pt x="8938" y="3613"/>
                  <a:pt x="8930" y="36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Ink 15"/>
          <p:cNvSpPr/>
          <p:nvPr/>
        </p:nvSpPr>
        <p:spPr>
          <a:xfrm>
            <a:off x="3554280" y="1125360"/>
            <a:ext cx="972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9872" y="3125"/>
                </a:moveTo>
                <a:cubicBezTo>
                  <a:pt x="9905" y="3136"/>
                  <a:pt x="9897" y="3161"/>
                  <a:pt x="9897" y="31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Ink 16"/>
          <p:cNvSpPr/>
          <p:nvPr/>
        </p:nvSpPr>
        <p:spPr>
          <a:xfrm>
            <a:off x="3751200" y="1009800"/>
            <a:ext cx="534960" cy="312480"/>
          </a:xfrm>
          <a:custGeom>
            <a:avLst/>
            <a:gdLst/>
            <a:ahLst/>
            <a:rect l="l" t="t" r="r" b="b"/>
            <a:pathLst>
              <a:path w="1489" h="869">
                <a:moveTo>
                  <a:pt x="10418" y="3101"/>
                </a:moveTo>
                <a:cubicBezTo>
                  <a:pt x="10426" y="3101"/>
                  <a:pt x="10435" y="3101"/>
                  <a:pt x="10443" y="3101"/>
                </a:cubicBezTo>
                <a:cubicBezTo>
                  <a:pt x="10452" y="3128"/>
                  <a:pt x="10478" y="3147"/>
                  <a:pt x="10517" y="3150"/>
                </a:cubicBezTo>
                <a:cubicBezTo>
                  <a:pt x="10579" y="3154"/>
                  <a:pt x="10633" y="3171"/>
                  <a:pt x="10691" y="3175"/>
                </a:cubicBezTo>
                <a:cubicBezTo>
                  <a:pt x="10748" y="3179"/>
                  <a:pt x="10750" y="3180"/>
                  <a:pt x="10790" y="3150"/>
                </a:cubicBezTo>
              </a:path>
              <a:path w="1489" h="869">
                <a:moveTo>
                  <a:pt x="11658" y="2803"/>
                </a:moveTo>
                <a:cubicBezTo>
                  <a:pt x="11574" y="2803"/>
                  <a:pt x="11599" y="2824"/>
                  <a:pt x="11534" y="2853"/>
                </a:cubicBezTo>
                <a:cubicBezTo>
                  <a:pt x="11526" y="2853"/>
                  <a:pt x="11517" y="2853"/>
                  <a:pt x="11509" y="2853"/>
                </a:cubicBezTo>
                <a:cubicBezTo>
                  <a:pt x="11499" y="2884"/>
                  <a:pt x="11491" y="2892"/>
                  <a:pt x="11460" y="2902"/>
                </a:cubicBezTo>
              </a:path>
              <a:path w="1489" h="869">
                <a:moveTo>
                  <a:pt x="11658" y="2877"/>
                </a:moveTo>
                <a:cubicBezTo>
                  <a:pt x="11627" y="2985"/>
                  <a:pt x="11591" y="3054"/>
                  <a:pt x="11534" y="3150"/>
                </a:cubicBezTo>
                <a:cubicBezTo>
                  <a:pt x="11497" y="3213"/>
                  <a:pt x="11507" y="3284"/>
                  <a:pt x="11485" y="3349"/>
                </a:cubicBezTo>
                <a:cubicBezTo>
                  <a:pt x="11468" y="3400"/>
                  <a:pt x="11460" y="3399"/>
                  <a:pt x="11460" y="3448"/>
                </a:cubicBezTo>
              </a:path>
              <a:path w="1489" h="869">
                <a:moveTo>
                  <a:pt x="11038" y="3621"/>
                </a:moveTo>
                <a:cubicBezTo>
                  <a:pt x="11138" y="3639"/>
                  <a:pt x="11238" y="3629"/>
                  <a:pt x="11336" y="3646"/>
                </a:cubicBezTo>
                <a:cubicBezTo>
                  <a:pt x="11455" y="3667"/>
                  <a:pt x="11561" y="3671"/>
                  <a:pt x="11683" y="3671"/>
                </a:cubicBezTo>
                <a:cubicBezTo>
                  <a:pt x="11757" y="3671"/>
                  <a:pt x="11808" y="3646"/>
                  <a:pt x="11881" y="3646"/>
                </a:cubicBezTo>
                <a:cubicBezTo>
                  <a:pt x="11889" y="3646"/>
                  <a:pt x="11898" y="3646"/>
                  <a:pt x="11906" y="36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Ink 17"/>
          <p:cNvSpPr/>
          <p:nvPr/>
        </p:nvSpPr>
        <p:spPr>
          <a:xfrm>
            <a:off x="1482840" y="1625760"/>
            <a:ext cx="1009440" cy="285480"/>
          </a:xfrm>
          <a:custGeom>
            <a:avLst/>
            <a:gdLst/>
            <a:ahLst/>
            <a:rect l="l" t="t" r="r" b="b"/>
            <a:pathLst>
              <a:path w="2804" h="795">
                <a:moveTo>
                  <a:pt x="6449" y="4787"/>
                </a:moveTo>
                <a:cubicBezTo>
                  <a:pt x="6600" y="4787"/>
                  <a:pt x="6753" y="4776"/>
                  <a:pt x="6896" y="4812"/>
                </a:cubicBezTo>
                <a:cubicBezTo>
                  <a:pt x="6904" y="4812"/>
                  <a:pt x="6913" y="4812"/>
                  <a:pt x="6921" y="4812"/>
                </a:cubicBezTo>
              </a:path>
              <a:path w="2804" h="795">
                <a:moveTo>
                  <a:pt x="6201" y="5159"/>
                </a:moveTo>
                <a:cubicBezTo>
                  <a:pt x="6313" y="5159"/>
                  <a:pt x="6419" y="5148"/>
                  <a:pt x="6524" y="5135"/>
                </a:cubicBezTo>
                <a:cubicBezTo>
                  <a:pt x="6607" y="5125"/>
                  <a:pt x="6692" y="5115"/>
                  <a:pt x="6772" y="5110"/>
                </a:cubicBezTo>
                <a:cubicBezTo>
                  <a:pt x="6816" y="5110"/>
                  <a:pt x="6830" y="5113"/>
                  <a:pt x="6846" y="5085"/>
                </a:cubicBezTo>
              </a:path>
              <a:path w="2804" h="795">
                <a:moveTo>
                  <a:pt x="4688" y="4514"/>
                </a:moveTo>
                <a:cubicBezTo>
                  <a:pt x="4615" y="4514"/>
                  <a:pt x="4557" y="4528"/>
                  <a:pt x="4490" y="4539"/>
                </a:cubicBezTo>
                <a:cubicBezTo>
                  <a:pt x="4430" y="4549"/>
                  <a:pt x="4315" y="4573"/>
                  <a:pt x="4266" y="4614"/>
                </a:cubicBezTo>
                <a:cubicBezTo>
                  <a:pt x="4193" y="4674"/>
                  <a:pt x="4048" y="4773"/>
                  <a:pt x="4118" y="4837"/>
                </a:cubicBezTo>
                <a:cubicBezTo>
                  <a:pt x="4154" y="4870"/>
                  <a:pt x="4243" y="4925"/>
                  <a:pt x="4291" y="4936"/>
                </a:cubicBezTo>
                <a:cubicBezTo>
                  <a:pt x="4362" y="4952"/>
                  <a:pt x="4387" y="4959"/>
                  <a:pt x="4440" y="5011"/>
                </a:cubicBezTo>
                <a:cubicBezTo>
                  <a:pt x="4477" y="5048"/>
                  <a:pt x="4473" y="5073"/>
                  <a:pt x="4440" y="5110"/>
                </a:cubicBezTo>
                <a:cubicBezTo>
                  <a:pt x="4401" y="5154"/>
                  <a:pt x="4348" y="5191"/>
                  <a:pt x="4291" y="5209"/>
                </a:cubicBezTo>
                <a:cubicBezTo>
                  <a:pt x="4283" y="5209"/>
                  <a:pt x="4274" y="5209"/>
                  <a:pt x="4266" y="5209"/>
                </a:cubicBezTo>
              </a:path>
              <a:path w="2804" h="795">
                <a:moveTo>
                  <a:pt x="4936" y="4862"/>
                </a:moveTo>
                <a:cubicBezTo>
                  <a:pt x="4936" y="4946"/>
                  <a:pt x="4932" y="4948"/>
                  <a:pt x="4911" y="5011"/>
                </a:cubicBezTo>
                <a:cubicBezTo>
                  <a:pt x="4905" y="5030"/>
                  <a:pt x="4911" y="5065"/>
                  <a:pt x="4911" y="5085"/>
                </a:cubicBezTo>
              </a:path>
              <a:path w="2804" h="795">
                <a:moveTo>
                  <a:pt x="5060" y="4688"/>
                </a:moveTo>
                <a:cubicBezTo>
                  <a:pt x="5114" y="4665"/>
                  <a:pt x="5120" y="4642"/>
                  <a:pt x="5135" y="4688"/>
                </a:cubicBezTo>
              </a:path>
              <a:path w="2804" h="795">
                <a:moveTo>
                  <a:pt x="5209" y="4887"/>
                </a:moveTo>
                <a:cubicBezTo>
                  <a:pt x="5243" y="4965"/>
                  <a:pt x="5217" y="4956"/>
                  <a:pt x="5209" y="5035"/>
                </a:cubicBezTo>
                <a:cubicBezTo>
                  <a:pt x="5204" y="5081"/>
                  <a:pt x="5163" y="5134"/>
                  <a:pt x="5184" y="5184"/>
                </a:cubicBezTo>
                <a:cubicBezTo>
                  <a:pt x="5205" y="5235"/>
                  <a:pt x="5200" y="5247"/>
                  <a:pt x="5209" y="5234"/>
                </a:cubicBezTo>
                <a:cubicBezTo>
                  <a:pt x="5235" y="5198"/>
                  <a:pt x="5247" y="5149"/>
                  <a:pt x="5259" y="5110"/>
                </a:cubicBezTo>
                <a:cubicBezTo>
                  <a:pt x="5285" y="5024"/>
                  <a:pt x="5258" y="5036"/>
                  <a:pt x="5333" y="4961"/>
                </a:cubicBezTo>
                <a:cubicBezTo>
                  <a:pt x="5354" y="4940"/>
                  <a:pt x="5425" y="4898"/>
                  <a:pt x="5457" y="4911"/>
                </a:cubicBezTo>
                <a:cubicBezTo>
                  <a:pt x="5491" y="4924"/>
                  <a:pt x="5528" y="4980"/>
                  <a:pt x="5531" y="5011"/>
                </a:cubicBezTo>
                <a:cubicBezTo>
                  <a:pt x="5538" y="5076"/>
                  <a:pt x="5535" y="5095"/>
                  <a:pt x="5531" y="5159"/>
                </a:cubicBezTo>
                <a:cubicBezTo>
                  <a:pt x="5528" y="5199"/>
                  <a:pt x="5533" y="5247"/>
                  <a:pt x="5556" y="5259"/>
                </a:cubicBezTo>
                <a:cubicBezTo>
                  <a:pt x="5564" y="5259"/>
                  <a:pt x="5573" y="5259"/>
                  <a:pt x="5581" y="5259"/>
                </a:cubicBezTo>
              </a:path>
              <a:path w="2804" h="795">
                <a:moveTo>
                  <a:pt x="6077" y="4738"/>
                </a:moveTo>
                <a:cubicBezTo>
                  <a:pt x="6031" y="4738"/>
                  <a:pt x="5988" y="4739"/>
                  <a:pt x="5953" y="4762"/>
                </a:cubicBezTo>
                <a:cubicBezTo>
                  <a:pt x="5898" y="4799"/>
                  <a:pt x="5845" y="4840"/>
                  <a:pt x="5829" y="4911"/>
                </a:cubicBezTo>
                <a:cubicBezTo>
                  <a:pt x="5811" y="4993"/>
                  <a:pt x="5804" y="5074"/>
                  <a:pt x="5804" y="5159"/>
                </a:cubicBezTo>
                <a:cubicBezTo>
                  <a:pt x="5804" y="5194"/>
                  <a:pt x="5826" y="5232"/>
                  <a:pt x="5854" y="5234"/>
                </a:cubicBezTo>
                <a:cubicBezTo>
                  <a:pt x="5871" y="5234"/>
                  <a:pt x="5887" y="5234"/>
                  <a:pt x="5904" y="5234"/>
                </a:cubicBezTo>
              </a:path>
              <a:path w="2804" h="795">
                <a:moveTo>
                  <a:pt x="6350" y="4713"/>
                </a:moveTo>
                <a:cubicBezTo>
                  <a:pt x="6411" y="4773"/>
                  <a:pt x="6420" y="4798"/>
                  <a:pt x="6424" y="4887"/>
                </a:cubicBezTo>
                <a:cubicBezTo>
                  <a:pt x="6427" y="4961"/>
                  <a:pt x="6404" y="5014"/>
                  <a:pt x="6400" y="5085"/>
                </a:cubicBezTo>
                <a:cubicBezTo>
                  <a:pt x="6397" y="5148"/>
                  <a:pt x="6375" y="5194"/>
                  <a:pt x="6375" y="5259"/>
                </a:cubicBezTo>
                <a:cubicBezTo>
                  <a:pt x="6375" y="5283"/>
                  <a:pt x="6375" y="5292"/>
                  <a:pt x="6375" y="5308"/>
                </a:cubicBezTo>
              </a:path>
              <a:path w="2804" h="795">
                <a:moveTo>
                  <a:pt x="6077" y="4961"/>
                </a:moveTo>
                <a:cubicBezTo>
                  <a:pt x="6117" y="5017"/>
                  <a:pt x="6143" y="5055"/>
                  <a:pt x="6176" y="5110"/>
                </a:cubicBezTo>
                <a:cubicBezTo>
                  <a:pt x="6193" y="5138"/>
                  <a:pt x="6232" y="5153"/>
                  <a:pt x="6251" y="5159"/>
                </a:cubicBezTo>
              </a:path>
              <a:path w="2804" h="795">
                <a:moveTo>
                  <a:pt x="6226" y="4986"/>
                </a:moveTo>
                <a:cubicBezTo>
                  <a:pt x="6179" y="5066"/>
                  <a:pt x="6133" y="5160"/>
                  <a:pt x="6077" y="5234"/>
                </a:cubicBezTo>
                <a:cubicBezTo>
                  <a:pt x="6055" y="5256"/>
                  <a:pt x="6046" y="5261"/>
                  <a:pt x="6052" y="52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Ink 18"/>
          <p:cNvSpPr/>
          <p:nvPr/>
        </p:nvSpPr>
        <p:spPr>
          <a:xfrm>
            <a:off x="2687760" y="1616040"/>
            <a:ext cx="411120" cy="376200"/>
          </a:xfrm>
          <a:custGeom>
            <a:avLst/>
            <a:gdLst/>
            <a:ahLst/>
            <a:rect l="l" t="t" r="r" b="b"/>
            <a:pathLst>
              <a:path w="1142" h="1042">
                <a:moveTo>
                  <a:pt x="7541" y="4514"/>
                </a:moveTo>
                <a:cubicBezTo>
                  <a:pt x="7597" y="4472"/>
                  <a:pt x="7599" y="4498"/>
                  <a:pt x="7665" y="4514"/>
                </a:cubicBezTo>
                <a:cubicBezTo>
                  <a:pt x="7691" y="4520"/>
                  <a:pt x="7750" y="4536"/>
                  <a:pt x="7764" y="4564"/>
                </a:cubicBezTo>
                <a:cubicBezTo>
                  <a:pt x="7781" y="4598"/>
                  <a:pt x="7759" y="4641"/>
                  <a:pt x="7739" y="4663"/>
                </a:cubicBezTo>
                <a:cubicBezTo>
                  <a:pt x="7711" y="4694"/>
                  <a:pt x="7675" y="4740"/>
                  <a:pt x="7640" y="4762"/>
                </a:cubicBezTo>
                <a:cubicBezTo>
                  <a:pt x="7591" y="4793"/>
                  <a:pt x="7528" y="4785"/>
                  <a:pt x="7491" y="4837"/>
                </a:cubicBezTo>
                <a:cubicBezTo>
                  <a:pt x="7463" y="4877"/>
                  <a:pt x="7466" y="4894"/>
                  <a:pt x="7466" y="4936"/>
                </a:cubicBezTo>
                <a:cubicBezTo>
                  <a:pt x="7554" y="4965"/>
                  <a:pt x="7662" y="4961"/>
                  <a:pt x="7764" y="4961"/>
                </a:cubicBezTo>
              </a:path>
              <a:path w="1142" h="1042">
                <a:moveTo>
                  <a:pt x="8334" y="4539"/>
                </a:moveTo>
                <a:cubicBezTo>
                  <a:pt x="8278" y="4604"/>
                  <a:pt x="8254" y="4666"/>
                  <a:pt x="8210" y="4738"/>
                </a:cubicBezTo>
                <a:cubicBezTo>
                  <a:pt x="8152" y="4834"/>
                  <a:pt x="8098" y="4922"/>
                  <a:pt x="8037" y="5011"/>
                </a:cubicBezTo>
                <a:cubicBezTo>
                  <a:pt x="7980" y="5095"/>
                  <a:pt x="7918" y="5177"/>
                  <a:pt x="7863" y="5259"/>
                </a:cubicBezTo>
                <a:cubicBezTo>
                  <a:pt x="7850" y="5278"/>
                  <a:pt x="7805" y="5389"/>
                  <a:pt x="7813" y="5407"/>
                </a:cubicBezTo>
                <a:cubicBezTo>
                  <a:pt x="7821" y="5415"/>
                  <a:pt x="7830" y="5424"/>
                  <a:pt x="7838" y="5432"/>
                </a:cubicBezTo>
              </a:path>
              <a:path w="1142" h="1042">
                <a:moveTo>
                  <a:pt x="8310" y="4961"/>
                </a:moveTo>
                <a:cubicBezTo>
                  <a:pt x="8383" y="4961"/>
                  <a:pt x="8449" y="4974"/>
                  <a:pt x="8508" y="4986"/>
                </a:cubicBezTo>
                <a:cubicBezTo>
                  <a:pt x="8531" y="4991"/>
                  <a:pt x="8633" y="5002"/>
                  <a:pt x="8607" y="5060"/>
                </a:cubicBezTo>
                <a:cubicBezTo>
                  <a:pt x="8582" y="5115"/>
                  <a:pt x="8483" y="5128"/>
                  <a:pt x="8434" y="5135"/>
                </a:cubicBezTo>
                <a:cubicBezTo>
                  <a:pt x="8398" y="5140"/>
                  <a:pt x="8347" y="5135"/>
                  <a:pt x="8310" y="5135"/>
                </a:cubicBezTo>
                <a:cubicBezTo>
                  <a:pt x="8360" y="5142"/>
                  <a:pt x="8438" y="5163"/>
                  <a:pt x="8483" y="5184"/>
                </a:cubicBezTo>
                <a:cubicBezTo>
                  <a:pt x="8516" y="5199"/>
                  <a:pt x="8554" y="5251"/>
                  <a:pt x="8558" y="5283"/>
                </a:cubicBezTo>
                <a:cubicBezTo>
                  <a:pt x="8565" y="5341"/>
                  <a:pt x="8493" y="5378"/>
                  <a:pt x="8458" y="5407"/>
                </a:cubicBezTo>
                <a:cubicBezTo>
                  <a:pt x="8411" y="5446"/>
                  <a:pt x="8345" y="5488"/>
                  <a:pt x="8285" y="5507"/>
                </a:cubicBezTo>
                <a:cubicBezTo>
                  <a:pt x="8257" y="5507"/>
                  <a:pt x="8246" y="5509"/>
                  <a:pt x="8235" y="55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Ink 19"/>
          <p:cNvSpPr/>
          <p:nvPr/>
        </p:nvSpPr>
        <p:spPr>
          <a:xfrm>
            <a:off x="4133880" y="1625760"/>
            <a:ext cx="947880" cy="241200"/>
          </a:xfrm>
          <a:custGeom>
            <a:avLst/>
            <a:gdLst/>
            <a:ahLst/>
            <a:rect l="l" t="t" r="r" b="b"/>
            <a:pathLst>
              <a:path w="2630" h="671">
                <a:moveTo>
                  <a:pt x="11881" y="4514"/>
                </a:moveTo>
                <a:cubicBezTo>
                  <a:pt x="11824" y="4514"/>
                  <a:pt x="11803" y="4523"/>
                  <a:pt x="11757" y="4539"/>
                </a:cubicBezTo>
                <a:cubicBezTo>
                  <a:pt x="11724" y="4550"/>
                  <a:pt x="11727" y="4574"/>
                  <a:pt x="11683" y="4589"/>
                </a:cubicBezTo>
                <a:cubicBezTo>
                  <a:pt x="11650" y="4600"/>
                  <a:pt x="11653" y="4628"/>
                  <a:pt x="11633" y="4638"/>
                </a:cubicBezTo>
                <a:cubicBezTo>
                  <a:pt x="11597" y="4656"/>
                  <a:pt x="11593" y="4693"/>
                  <a:pt x="11559" y="4738"/>
                </a:cubicBezTo>
                <a:cubicBezTo>
                  <a:pt x="11536" y="4769"/>
                  <a:pt x="11513" y="4798"/>
                  <a:pt x="11509" y="4837"/>
                </a:cubicBezTo>
                <a:cubicBezTo>
                  <a:pt x="11505" y="4877"/>
                  <a:pt x="11485" y="4891"/>
                  <a:pt x="11485" y="4936"/>
                </a:cubicBezTo>
                <a:cubicBezTo>
                  <a:pt x="11485" y="4984"/>
                  <a:pt x="11485" y="5045"/>
                  <a:pt x="11509" y="5085"/>
                </a:cubicBezTo>
                <a:cubicBezTo>
                  <a:pt x="11531" y="5122"/>
                  <a:pt x="11593" y="5180"/>
                  <a:pt x="11633" y="5184"/>
                </a:cubicBezTo>
                <a:cubicBezTo>
                  <a:pt x="11742" y="5196"/>
                  <a:pt x="11832" y="5177"/>
                  <a:pt x="11931" y="5159"/>
                </a:cubicBezTo>
                <a:cubicBezTo>
                  <a:pt x="11988" y="5149"/>
                  <a:pt x="12006" y="5163"/>
                  <a:pt x="12055" y="5135"/>
                </a:cubicBezTo>
              </a:path>
              <a:path w="2630" h="671">
                <a:moveTo>
                  <a:pt x="12477" y="4713"/>
                </a:moveTo>
                <a:cubicBezTo>
                  <a:pt x="12445" y="4713"/>
                  <a:pt x="12370" y="4718"/>
                  <a:pt x="12353" y="4738"/>
                </a:cubicBezTo>
                <a:cubicBezTo>
                  <a:pt x="12340" y="4753"/>
                  <a:pt x="12287" y="4793"/>
                  <a:pt x="12278" y="4812"/>
                </a:cubicBezTo>
                <a:cubicBezTo>
                  <a:pt x="12264" y="4839"/>
                  <a:pt x="12232" y="4888"/>
                  <a:pt x="12278" y="4911"/>
                </a:cubicBezTo>
                <a:cubicBezTo>
                  <a:pt x="12319" y="4931"/>
                  <a:pt x="12367" y="4954"/>
                  <a:pt x="12402" y="4986"/>
                </a:cubicBezTo>
                <a:cubicBezTo>
                  <a:pt x="12439" y="5019"/>
                  <a:pt x="12424" y="5050"/>
                  <a:pt x="12402" y="5085"/>
                </a:cubicBezTo>
                <a:cubicBezTo>
                  <a:pt x="12391" y="5103"/>
                  <a:pt x="12294" y="5175"/>
                  <a:pt x="12278" y="5184"/>
                </a:cubicBezTo>
                <a:cubicBezTo>
                  <a:pt x="12254" y="5184"/>
                  <a:pt x="12246" y="5184"/>
                  <a:pt x="12278" y="5184"/>
                </a:cubicBezTo>
              </a:path>
              <a:path w="2630" h="671">
                <a:moveTo>
                  <a:pt x="12948" y="4738"/>
                </a:moveTo>
                <a:cubicBezTo>
                  <a:pt x="12910" y="4747"/>
                  <a:pt x="12879" y="4760"/>
                  <a:pt x="12849" y="4787"/>
                </a:cubicBezTo>
                <a:cubicBezTo>
                  <a:pt x="12810" y="4822"/>
                  <a:pt x="12767" y="4860"/>
                  <a:pt x="12750" y="4911"/>
                </a:cubicBezTo>
                <a:cubicBezTo>
                  <a:pt x="12737" y="4952"/>
                  <a:pt x="12725" y="4990"/>
                  <a:pt x="12725" y="5035"/>
                </a:cubicBezTo>
                <a:cubicBezTo>
                  <a:pt x="12725" y="5079"/>
                  <a:pt x="12722" y="5106"/>
                  <a:pt x="12774" y="5110"/>
                </a:cubicBezTo>
                <a:cubicBezTo>
                  <a:pt x="12850" y="5116"/>
                  <a:pt x="12904" y="5097"/>
                  <a:pt x="12973" y="5085"/>
                </a:cubicBezTo>
                <a:cubicBezTo>
                  <a:pt x="13037" y="5074"/>
                  <a:pt x="13023" y="5097"/>
                  <a:pt x="13072" y="5060"/>
                </a:cubicBezTo>
              </a:path>
              <a:path w="2630" h="671">
                <a:moveTo>
                  <a:pt x="13370" y="4738"/>
                </a:moveTo>
                <a:cubicBezTo>
                  <a:pt x="13399" y="4773"/>
                  <a:pt x="13458" y="4845"/>
                  <a:pt x="13469" y="4887"/>
                </a:cubicBezTo>
                <a:cubicBezTo>
                  <a:pt x="13484" y="4942"/>
                  <a:pt x="13494" y="5018"/>
                  <a:pt x="13543" y="5060"/>
                </a:cubicBezTo>
                <a:cubicBezTo>
                  <a:pt x="13590" y="5100"/>
                  <a:pt x="13627" y="5097"/>
                  <a:pt x="13643" y="5159"/>
                </a:cubicBezTo>
                <a:cubicBezTo>
                  <a:pt x="13682" y="5172"/>
                  <a:pt x="13653" y="5171"/>
                  <a:pt x="13692" y="5184"/>
                </a:cubicBezTo>
              </a:path>
              <a:path w="2630" h="671">
                <a:moveTo>
                  <a:pt x="13742" y="4762"/>
                </a:moveTo>
                <a:cubicBezTo>
                  <a:pt x="13675" y="4772"/>
                  <a:pt x="13666" y="4788"/>
                  <a:pt x="13618" y="4837"/>
                </a:cubicBezTo>
                <a:cubicBezTo>
                  <a:pt x="13563" y="4892"/>
                  <a:pt x="13542" y="4975"/>
                  <a:pt x="13494" y="5035"/>
                </a:cubicBezTo>
                <a:cubicBezTo>
                  <a:pt x="13454" y="5085"/>
                  <a:pt x="13409" y="5125"/>
                  <a:pt x="13395" y="5184"/>
                </a:cubicBezTo>
              </a:path>
              <a:path w="2630" h="671">
                <a:moveTo>
                  <a:pt x="13891" y="4911"/>
                </a:moveTo>
                <a:cubicBezTo>
                  <a:pt x="13955" y="4911"/>
                  <a:pt x="14097" y="4885"/>
                  <a:pt x="14114" y="4936"/>
                </a:cubicBezTo>
              </a:path>
              <a:path w="2630" h="671">
                <a:moveTo>
                  <a:pt x="13866" y="5110"/>
                </a:moveTo>
                <a:cubicBezTo>
                  <a:pt x="13923" y="5110"/>
                  <a:pt x="13962" y="5090"/>
                  <a:pt x="14015" y="5085"/>
                </a:cubicBezTo>
                <a:cubicBezTo>
                  <a:pt x="14039" y="5085"/>
                  <a:pt x="14048" y="5085"/>
                  <a:pt x="14064" y="50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Ink 20"/>
          <p:cNvSpPr/>
          <p:nvPr/>
        </p:nvSpPr>
        <p:spPr>
          <a:xfrm>
            <a:off x="5303880" y="1571760"/>
            <a:ext cx="376200" cy="366480"/>
          </a:xfrm>
          <a:custGeom>
            <a:avLst/>
            <a:gdLst/>
            <a:ahLst/>
            <a:rect l="l" t="t" r="r" b="b"/>
            <a:pathLst>
              <a:path w="1043" h="1018">
                <a:moveTo>
                  <a:pt x="14734" y="4440"/>
                </a:moveTo>
                <a:cubicBezTo>
                  <a:pt x="14786" y="4418"/>
                  <a:pt x="14853" y="4378"/>
                  <a:pt x="14908" y="4366"/>
                </a:cubicBezTo>
                <a:cubicBezTo>
                  <a:pt x="14957" y="4355"/>
                  <a:pt x="15016" y="4396"/>
                  <a:pt x="15032" y="4415"/>
                </a:cubicBezTo>
                <a:cubicBezTo>
                  <a:pt x="15062" y="4450"/>
                  <a:pt x="15038" y="4480"/>
                  <a:pt x="15007" y="4514"/>
                </a:cubicBezTo>
                <a:cubicBezTo>
                  <a:pt x="14972" y="4552"/>
                  <a:pt x="14921" y="4539"/>
                  <a:pt x="14883" y="4564"/>
                </a:cubicBezTo>
                <a:cubicBezTo>
                  <a:pt x="14843" y="4590"/>
                  <a:pt x="14833" y="4589"/>
                  <a:pt x="14784" y="4589"/>
                </a:cubicBezTo>
                <a:cubicBezTo>
                  <a:pt x="14811" y="4568"/>
                  <a:pt x="14844" y="4550"/>
                  <a:pt x="14883" y="4564"/>
                </a:cubicBezTo>
                <a:cubicBezTo>
                  <a:pt x="14920" y="4578"/>
                  <a:pt x="14988" y="4596"/>
                  <a:pt x="15007" y="4638"/>
                </a:cubicBezTo>
                <a:cubicBezTo>
                  <a:pt x="15027" y="4682"/>
                  <a:pt x="14983" y="4712"/>
                  <a:pt x="14957" y="4738"/>
                </a:cubicBezTo>
                <a:cubicBezTo>
                  <a:pt x="14917" y="4777"/>
                  <a:pt x="14874" y="4800"/>
                  <a:pt x="14833" y="4837"/>
                </a:cubicBezTo>
                <a:cubicBezTo>
                  <a:pt x="14803" y="4867"/>
                  <a:pt x="14789" y="4878"/>
                  <a:pt x="14759" y="4887"/>
                </a:cubicBezTo>
              </a:path>
              <a:path w="1043" h="1018">
                <a:moveTo>
                  <a:pt x="15404" y="4415"/>
                </a:moveTo>
                <a:cubicBezTo>
                  <a:pt x="15326" y="4500"/>
                  <a:pt x="15286" y="4567"/>
                  <a:pt x="15230" y="4663"/>
                </a:cubicBezTo>
                <a:cubicBezTo>
                  <a:pt x="15153" y="4796"/>
                  <a:pt x="15072" y="4920"/>
                  <a:pt x="15007" y="5060"/>
                </a:cubicBezTo>
                <a:cubicBezTo>
                  <a:pt x="14976" y="5126"/>
                  <a:pt x="14957" y="5161"/>
                  <a:pt x="14957" y="5234"/>
                </a:cubicBezTo>
                <a:cubicBezTo>
                  <a:pt x="14957" y="5242"/>
                  <a:pt x="14957" y="5251"/>
                  <a:pt x="14957" y="5259"/>
                </a:cubicBezTo>
              </a:path>
              <a:path w="1043" h="1018">
                <a:moveTo>
                  <a:pt x="15255" y="4911"/>
                </a:moveTo>
                <a:cubicBezTo>
                  <a:pt x="15321" y="4855"/>
                  <a:pt x="15319" y="4862"/>
                  <a:pt x="15404" y="4862"/>
                </a:cubicBezTo>
                <a:cubicBezTo>
                  <a:pt x="15448" y="4862"/>
                  <a:pt x="15546" y="4861"/>
                  <a:pt x="15577" y="4887"/>
                </a:cubicBezTo>
                <a:cubicBezTo>
                  <a:pt x="15587" y="4896"/>
                  <a:pt x="15614" y="4964"/>
                  <a:pt x="15602" y="4986"/>
                </a:cubicBezTo>
                <a:cubicBezTo>
                  <a:pt x="15575" y="5034"/>
                  <a:pt x="15518" y="5103"/>
                  <a:pt x="15478" y="5135"/>
                </a:cubicBezTo>
                <a:cubicBezTo>
                  <a:pt x="15437" y="5168"/>
                  <a:pt x="15393" y="5180"/>
                  <a:pt x="15354" y="5209"/>
                </a:cubicBezTo>
                <a:cubicBezTo>
                  <a:pt x="15369" y="5268"/>
                  <a:pt x="15400" y="5262"/>
                  <a:pt x="15453" y="5283"/>
                </a:cubicBezTo>
                <a:cubicBezTo>
                  <a:pt x="15516" y="5308"/>
                  <a:pt x="15585" y="5353"/>
                  <a:pt x="15652" y="5358"/>
                </a:cubicBezTo>
                <a:cubicBezTo>
                  <a:pt x="15699" y="5361"/>
                  <a:pt x="15731" y="5374"/>
                  <a:pt x="15776" y="53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Ink 21"/>
          <p:cNvSpPr/>
          <p:nvPr/>
        </p:nvSpPr>
        <p:spPr>
          <a:xfrm>
            <a:off x="1465200" y="2286000"/>
            <a:ext cx="2079720" cy="662040"/>
          </a:xfrm>
          <a:custGeom>
            <a:avLst/>
            <a:gdLst/>
            <a:ahLst/>
            <a:rect l="l" t="t" r="r" b="b"/>
            <a:pathLst>
              <a:path w="5780" h="1837">
                <a:moveTo>
                  <a:pt x="4564" y="6970"/>
                </a:moveTo>
                <a:cubicBezTo>
                  <a:pt x="4526" y="6957"/>
                  <a:pt x="4543" y="6945"/>
                  <a:pt x="4490" y="6945"/>
                </a:cubicBezTo>
                <a:cubicBezTo>
                  <a:pt x="4427" y="6945"/>
                  <a:pt x="4393" y="6953"/>
                  <a:pt x="4341" y="6970"/>
                </a:cubicBezTo>
                <a:cubicBezTo>
                  <a:pt x="4310" y="6981"/>
                  <a:pt x="4263" y="6989"/>
                  <a:pt x="4242" y="7020"/>
                </a:cubicBezTo>
                <a:cubicBezTo>
                  <a:pt x="4198" y="7084"/>
                  <a:pt x="4147" y="7144"/>
                  <a:pt x="4118" y="7218"/>
                </a:cubicBezTo>
                <a:cubicBezTo>
                  <a:pt x="4087" y="7297"/>
                  <a:pt x="4072" y="7384"/>
                  <a:pt x="4068" y="7466"/>
                </a:cubicBezTo>
                <a:cubicBezTo>
                  <a:pt x="4064" y="7540"/>
                  <a:pt x="4079" y="7650"/>
                  <a:pt x="4118" y="7714"/>
                </a:cubicBezTo>
                <a:cubicBezTo>
                  <a:pt x="4152" y="7770"/>
                  <a:pt x="4231" y="7802"/>
                  <a:pt x="4291" y="7813"/>
                </a:cubicBezTo>
                <a:cubicBezTo>
                  <a:pt x="4363" y="7826"/>
                  <a:pt x="4428" y="7823"/>
                  <a:pt x="4490" y="7813"/>
                </a:cubicBezTo>
                <a:cubicBezTo>
                  <a:pt x="4544" y="7805"/>
                  <a:pt x="4596" y="7790"/>
                  <a:pt x="4638" y="7764"/>
                </a:cubicBezTo>
              </a:path>
              <a:path w="5780" h="1837">
                <a:moveTo>
                  <a:pt x="5060" y="7268"/>
                </a:moveTo>
                <a:cubicBezTo>
                  <a:pt x="5037" y="7257"/>
                  <a:pt x="4996" y="7249"/>
                  <a:pt x="4961" y="7268"/>
                </a:cubicBezTo>
                <a:cubicBezTo>
                  <a:pt x="4899" y="7303"/>
                  <a:pt x="4902" y="7360"/>
                  <a:pt x="4887" y="7417"/>
                </a:cubicBezTo>
                <a:cubicBezTo>
                  <a:pt x="4867" y="7495"/>
                  <a:pt x="4867" y="7589"/>
                  <a:pt x="4911" y="7665"/>
                </a:cubicBezTo>
                <a:cubicBezTo>
                  <a:pt x="4927" y="7693"/>
                  <a:pt x="4982" y="7699"/>
                  <a:pt x="5011" y="7689"/>
                </a:cubicBezTo>
                <a:cubicBezTo>
                  <a:pt x="5054" y="7674"/>
                  <a:pt x="5110" y="7630"/>
                  <a:pt x="5135" y="7590"/>
                </a:cubicBezTo>
                <a:cubicBezTo>
                  <a:pt x="5175" y="7528"/>
                  <a:pt x="5187" y="7483"/>
                  <a:pt x="5209" y="7417"/>
                </a:cubicBezTo>
                <a:cubicBezTo>
                  <a:pt x="5226" y="7366"/>
                  <a:pt x="5234" y="7347"/>
                  <a:pt x="5234" y="7293"/>
                </a:cubicBezTo>
                <a:cubicBezTo>
                  <a:pt x="5175" y="7293"/>
                  <a:pt x="5140" y="7291"/>
                  <a:pt x="5085" y="7317"/>
                </a:cubicBezTo>
                <a:cubicBezTo>
                  <a:pt x="5044" y="7337"/>
                  <a:pt x="5028" y="7335"/>
                  <a:pt x="5035" y="7367"/>
                </a:cubicBezTo>
              </a:path>
              <a:path w="5780" h="1837">
                <a:moveTo>
                  <a:pt x="5655" y="7243"/>
                </a:moveTo>
                <a:cubicBezTo>
                  <a:pt x="5592" y="7243"/>
                  <a:pt x="5580" y="7240"/>
                  <a:pt x="5531" y="7268"/>
                </a:cubicBezTo>
                <a:cubicBezTo>
                  <a:pt x="5467" y="7305"/>
                  <a:pt x="5446" y="7340"/>
                  <a:pt x="5407" y="7392"/>
                </a:cubicBezTo>
                <a:cubicBezTo>
                  <a:pt x="5457" y="7441"/>
                  <a:pt x="5478" y="7439"/>
                  <a:pt x="5531" y="7466"/>
                </a:cubicBezTo>
                <a:cubicBezTo>
                  <a:pt x="5564" y="7483"/>
                  <a:pt x="5594" y="7505"/>
                  <a:pt x="5606" y="7541"/>
                </a:cubicBezTo>
                <a:cubicBezTo>
                  <a:pt x="5616" y="7571"/>
                  <a:pt x="5594" y="7621"/>
                  <a:pt x="5581" y="7640"/>
                </a:cubicBezTo>
                <a:cubicBezTo>
                  <a:pt x="5565" y="7664"/>
                  <a:pt x="5508" y="7727"/>
                  <a:pt x="5482" y="7739"/>
                </a:cubicBezTo>
                <a:cubicBezTo>
                  <a:pt x="5457" y="7739"/>
                  <a:pt x="5449" y="7739"/>
                  <a:pt x="5432" y="7739"/>
                </a:cubicBezTo>
              </a:path>
              <a:path w="5780" h="1837">
                <a:moveTo>
                  <a:pt x="6176" y="7169"/>
                </a:moveTo>
                <a:cubicBezTo>
                  <a:pt x="6184" y="7228"/>
                  <a:pt x="6189" y="7316"/>
                  <a:pt x="6226" y="7367"/>
                </a:cubicBezTo>
                <a:cubicBezTo>
                  <a:pt x="6273" y="7432"/>
                  <a:pt x="6301" y="7501"/>
                  <a:pt x="6350" y="7565"/>
                </a:cubicBezTo>
                <a:cubicBezTo>
                  <a:pt x="6383" y="7608"/>
                  <a:pt x="6423" y="7650"/>
                  <a:pt x="6449" y="7689"/>
                </a:cubicBezTo>
                <a:cubicBezTo>
                  <a:pt x="6472" y="7712"/>
                  <a:pt x="6476" y="7720"/>
                  <a:pt x="6499" y="7714"/>
                </a:cubicBezTo>
              </a:path>
              <a:path w="5780" h="1837">
                <a:moveTo>
                  <a:pt x="6573" y="7144"/>
                </a:moveTo>
                <a:cubicBezTo>
                  <a:pt x="6538" y="7214"/>
                  <a:pt x="6483" y="7277"/>
                  <a:pt x="6449" y="7342"/>
                </a:cubicBezTo>
                <a:cubicBezTo>
                  <a:pt x="6401" y="7433"/>
                  <a:pt x="6367" y="7532"/>
                  <a:pt x="6300" y="7615"/>
                </a:cubicBezTo>
                <a:cubicBezTo>
                  <a:pt x="6284" y="7635"/>
                  <a:pt x="6152" y="7751"/>
                  <a:pt x="6152" y="7764"/>
                </a:cubicBezTo>
                <a:cubicBezTo>
                  <a:pt x="6160" y="7764"/>
                  <a:pt x="6168" y="7764"/>
                  <a:pt x="6176" y="7764"/>
                </a:cubicBezTo>
              </a:path>
              <a:path w="5780" h="1837">
                <a:moveTo>
                  <a:pt x="6796" y="7342"/>
                </a:moveTo>
                <a:cubicBezTo>
                  <a:pt x="6879" y="7342"/>
                  <a:pt x="6962" y="7342"/>
                  <a:pt x="7045" y="7342"/>
                </a:cubicBezTo>
              </a:path>
              <a:path w="5780" h="1837">
                <a:moveTo>
                  <a:pt x="6772" y="7565"/>
                </a:moveTo>
                <a:cubicBezTo>
                  <a:pt x="6863" y="7565"/>
                  <a:pt x="6954" y="7565"/>
                  <a:pt x="7045" y="7565"/>
                </a:cubicBezTo>
              </a:path>
              <a:path w="5780" h="1837">
                <a:moveTo>
                  <a:pt x="7516" y="6772"/>
                </a:moveTo>
                <a:cubicBezTo>
                  <a:pt x="7570" y="6811"/>
                  <a:pt x="7615" y="6796"/>
                  <a:pt x="7689" y="6796"/>
                </a:cubicBezTo>
                <a:cubicBezTo>
                  <a:pt x="7772" y="6796"/>
                  <a:pt x="7855" y="6796"/>
                  <a:pt x="7938" y="6796"/>
                </a:cubicBezTo>
              </a:path>
              <a:path w="5780" h="1837">
                <a:moveTo>
                  <a:pt x="8409" y="6697"/>
                </a:moveTo>
                <a:lnTo>
                  <a:pt x="8409" y="6697"/>
                </a:lnTo>
              </a:path>
              <a:path w="5780" h="1837">
                <a:moveTo>
                  <a:pt x="8285" y="6747"/>
                </a:moveTo>
                <a:cubicBezTo>
                  <a:pt x="8285" y="6825"/>
                  <a:pt x="8298" y="6874"/>
                  <a:pt x="8310" y="6945"/>
                </a:cubicBezTo>
                <a:cubicBezTo>
                  <a:pt x="8320" y="7003"/>
                  <a:pt x="8326" y="7063"/>
                  <a:pt x="8334" y="7119"/>
                </a:cubicBezTo>
                <a:cubicBezTo>
                  <a:pt x="8334" y="7144"/>
                  <a:pt x="8334" y="7152"/>
                  <a:pt x="8334" y="7169"/>
                </a:cubicBezTo>
                <a:cubicBezTo>
                  <a:pt x="8380" y="7129"/>
                  <a:pt x="8370" y="7134"/>
                  <a:pt x="8409" y="7069"/>
                </a:cubicBezTo>
                <a:cubicBezTo>
                  <a:pt x="8449" y="7003"/>
                  <a:pt x="8497" y="6940"/>
                  <a:pt x="8533" y="6871"/>
                </a:cubicBezTo>
                <a:cubicBezTo>
                  <a:pt x="8585" y="6772"/>
                  <a:pt x="8623" y="6673"/>
                  <a:pt x="8657" y="6573"/>
                </a:cubicBezTo>
                <a:cubicBezTo>
                  <a:pt x="8673" y="6526"/>
                  <a:pt x="8688" y="6468"/>
                  <a:pt x="8706" y="6424"/>
                </a:cubicBezTo>
                <a:cubicBezTo>
                  <a:pt x="8728" y="6369"/>
                  <a:pt x="8746" y="6357"/>
                  <a:pt x="8806" y="6350"/>
                </a:cubicBezTo>
                <a:cubicBezTo>
                  <a:pt x="8917" y="6337"/>
                  <a:pt x="9022" y="6363"/>
                  <a:pt x="9128" y="6375"/>
                </a:cubicBezTo>
                <a:cubicBezTo>
                  <a:pt x="9219" y="6386"/>
                  <a:pt x="9311" y="6396"/>
                  <a:pt x="9401" y="6400"/>
                </a:cubicBezTo>
                <a:cubicBezTo>
                  <a:pt x="9549" y="6407"/>
                  <a:pt x="9699" y="6400"/>
                  <a:pt x="9847" y="6400"/>
                </a:cubicBezTo>
              </a:path>
              <a:path w="5780" h="1837">
                <a:moveTo>
                  <a:pt x="9128" y="6697"/>
                </a:moveTo>
                <a:cubicBezTo>
                  <a:pt x="9141" y="6657"/>
                  <a:pt x="9176" y="6672"/>
                  <a:pt x="9227" y="6672"/>
                </a:cubicBezTo>
                <a:cubicBezTo>
                  <a:pt x="9310" y="6672"/>
                  <a:pt x="9392" y="6672"/>
                  <a:pt x="9475" y="6672"/>
                </a:cubicBezTo>
              </a:path>
              <a:path w="5780" h="1837">
                <a:moveTo>
                  <a:pt x="9227" y="6672"/>
                </a:moveTo>
                <a:cubicBezTo>
                  <a:pt x="9135" y="6706"/>
                  <a:pt x="9081" y="6755"/>
                  <a:pt x="9029" y="6772"/>
                </a:cubicBezTo>
                <a:cubicBezTo>
                  <a:pt x="9080" y="6821"/>
                  <a:pt x="9099" y="6819"/>
                  <a:pt x="9153" y="6846"/>
                </a:cubicBezTo>
                <a:cubicBezTo>
                  <a:pt x="9175" y="6857"/>
                  <a:pt x="9242" y="6922"/>
                  <a:pt x="9252" y="6945"/>
                </a:cubicBezTo>
                <a:cubicBezTo>
                  <a:pt x="9271" y="6988"/>
                  <a:pt x="9229" y="7019"/>
                  <a:pt x="9203" y="7045"/>
                </a:cubicBezTo>
                <a:cubicBezTo>
                  <a:pt x="9148" y="7099"/>
                  <a:pt x="9088" y="7092"/>
                  <a:pt x="9029" y="7119"/>
                </a:cubicBezTo>
                <a:cubicBezTo>
                  <a:pt x="8994" y="7135"/>
                  <a:pt x="8937" y="7126"/>
                  <a:pt x="8905" y="7144"/>
                </a:cubicBezTo>
                <a:cubicBezTo>
                  <a:pt x="8897" y="7152"/>
                  <a:pt x="8888" y="7161"/>
                  <a:pt x="8880" y="7169"/>
                </a:cubicBezTo>
              </a:path>
              <a:path w="5780" h="1837">
                <a:moveTo>
                  <a:pt x="7665" y="7392"/>
                </a:moveTo>
                <a:cubicBezTo>
                  <a:pt x="7747" y="7392"/>
                  <a:pt x="7810" y="7408"/>
                  <a:pt x="7888" y="7417"/>
                </a:cubicBezTo>
                <a:cubicBezTo>
                  <a:pt x="8054" y="7436"/>
                  <a:pt x="8221" y="7403"/>
                  <a:pt x="8384" y="7392"/>
                </a:cubicBezTo>
                <a:cubicBezTo>
                  <a:pt x="8739" y="7368"/>
                  <a:pt x="9155" y="7359"/>
                  <a:pt x="9500" y="7417"/>
                </a:cubicBezTo>
                <a:cubicBezTo>
                  <a:pt x="9517" y="7417"/>
                  <a:pt x="9533" y="7417"/>
                  <a:pt x="9550" y="7417"/>
                </a:cubicBezTo>
              </a:path>
              <a:path w="5780" h="1837">
                <a:moveTo>
                  <a:pt x="8533" y="7665"/>
                </a:moveTo>
                <a:cubicBezTo>
                  <a:pt x="8691" y="7609"/>
                  <a:pt x="8650" y="7627"/>
                  <a:pt x="8781" y="7640"/>
                </a:cubicBezTo>
                <a:cubicBezTo>
                  <a:pt x="8848" y="7647"/>
                  <a:pt x="8838" y="7677"/>
                  <a:pt x="8830" y="7714"/>
                </a:cubicBezTo>
                <a:cubicBezTo>
                  <a:pt x="8819" y="7762"/>
                  <a:pt x="8771" y="7772"/>
                  <a:pt x="8731" y="7789"/>
                </a:cubicBezTo>
                <a:cubicBezTo>
                  <a:pt x="8684" y="7809"/>
                  <a:pt x="8668" y="7811"/>
                  <a:pt x="8632" y="7838"/>
                </a:cubicBezTo>
                <a:cubicBezTo>
                  <a:pt x="8700" y="7809"/>
                  <a:pt x="8718" y="7804"/>
                  <a:pt x="8781" y="7838"/>
                </a:cubicBezTo>
                <a:cubicBezTo>
                  <a:pt x="8839" y="7870"/>
                  <a:pt x="8849" y="7896"/>
                  <a:pt x="8855" y="7962"/>
                </a:cubicBezTo>
                <a:cubicBezTo>
                  <a:pt x="8859" y="8013"/>
                  <a:pt x="8788" y="8077"/>
                  <a:pt x="8756" y="8111"/>
                </a:cubicBezTo>
                <a:cubicBezTo>
                  <a:pt x="8718" y="8152"/>
                  <a:pt x="8652" y="8172"/>
                  <a:pt x="8607" y="8186"/>
                </a:cubicBezTo>
                <a:cubicBezTo>
                  <a:pt x="8587" y="8192"/>
                  <a:pt x="8554" y="8186"/>
                  <a:pt x="8533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Ink 22"/>
          <p:cNvSpPr/>
          <p:nvPr/>
        </p:nvSpPr>
        <p:spPr>
          <a:xfrm>
            <a:off x="4249800" y="2268360"/>
            <a:ext cx="2009880" cy="581040"/>
          </a:xfrm>
          <a:custGeom>
            <a:avLst/>
            <a:gdLst/>
            <a:ahLst/>
            <a:rect l="l" t="t" r="r" b="b"/>
            <a:pathLst>
              <a:path w="5582" h="1614">
                <a:moveTo>
                  <a:pt x="12105" y="6970"/>
                </a:moveTo>
                <a:cubicBezTo>
                  <a:pt x="12064" y="6939"/>
                  <a:pt x="12046" y="6932"/>
                  <a:pt x="12005" y="6970"/>
                </a:cubicBezTo>
                <a:cubicBezTo>
                  <a:pt x="11968" y="7003"/>
                  <a:pt x="11922" y="7008"/>
                  <a:pt x="11881" y="7045"/>
                </a:cubicBezTo>
                <a:cubicBezTo>
                  <a:pt x="11841" y="7081"/>
                  <a:pt x="11813" y="7114"/>
                  <a:pt x="11807" y="7169"/>
                </a:cubicBezTo>
                <a:cubicBezTo>
                  <a:pt x="11804" y="7197"/>
                  <a:pt x="11851" y="7216"/>
                  <a:pt x="11881" y="7218"/>
                </a:cubicBezTo>
                <a:cubicBezTo>
                  <a:pt x="11962" y="7224"/>
                  <a:pt x="12030" y="7230"/>
                  <a:pt x="12105" y="7243"/>
                </a:cubicBezTo>
                <a:cubicBezTo>
                  <a:pt x="12157" y="7252"/>
                  <a:pt x="12197" y="7255"/>
                  <a:pt x="12204" y="7317"/>
                </a:cubicBezTo>
                <a:cubicBezTo>
                  <a:pt x="12211" y="7382"/>
                  <a:pt x="12207" y="7439"/>
                  <a:pt x="12179" y="7491"/>
                </a:cubicBezTo>
                <a:cubicBezTo>
                  <a:pt x="12144" y="7556"/>
                  <a:pt x="12106" y="7611"/>
                  <a:pt x="12055" y="7665"/>
                </a:cubicBezTo>
                <a:cubicBezTo>
                  <a:pt x="12004" y="7718"/>
                  <a:pt x="11953" y="7766"/>
                  <a:pt x="11881" y="7789"/>
                </a:cubicBezTo>
                <a:cubicBezTo>
                  <a:pt x="11857" y="7789"/>
                  <a:pt x="11848" y="7789"/>
                  <a:pt x="11832" y="7789"/>
                </a:cubicBezTo>
              </a:path>
              <a:path w="5582" h="1614">
                <a:moveTo>
                  <a:pt x="12477" y="7466"/>
                </a:moveTo>
                <a:cubicBezTo>
                  <a:pt x="12516" y="7476"/>
                  <a:pt x="12531" y="7491"/>
                  <a:pt x="12576" y="7491"/>
                </a:cubicBezTo>
                <a:cubicBezTo>
                  <a:pt x="12612" y="7491"/>
                  <a:pt x="12648" y="7484"/>
                  <a:pt x="12675" y="7466"/>
                </a:cubicBezTo>
                <a:cubicBezTo>
                  <a:pt x="12711" y="7442"/>
                  <a:pt x="12745" y="7439"/>
                  <a:pt x="12750" y="7392"/>
                </a:cubicBezTo>
                <a:cubicBezTo>
                  <a:pt x="12750" y="7367"/>
                  <a:pt x="12750" y="7359"/>
                  <a:pt x="12750" y="7342"/>
                </a:cubicBezTo>
                <a:cubicBezTo>
                  <a:pt x="12709" y="7342"/>
                  <a:pt x="12658" y="7332"/>
                  <a:pt x="12626" y="7367"/>
                </a:cubicBezTo>
                <a:cubicBezTo>
                  <a:pt x="12601" y="7394"/>
                  <a:pt x="12511" y="7487"/>
                  <a:pt x="12502" y="7516"/>
                </a:cubicBezTo>
                <a:cubicBezTo>
                  <a:pt x="12491" y="7551"/>
                  <a:pt x="12485" y="7581"/>
                  <a:pt x="12477" y="7615"/>
                </a:cubicBezTo>
                <a:cubicBezTo>
                  <a:pt x="12534" y="7658"/>
                  <a:pt x="12565" y="7647"/>
                  <a:pt x="12626" y="7640"/>
                </a:cubicBezTo>
                <a:cubicBezTo>
                  <a:pt x="12695" y="7632"/>
                  <a:pt x="12757" y="7620"/>
                  <a:pt x="12824" y="7615"/>
                </a:cubicBezTo>
                <a:cubicBezTo>
                  <a:pt x="12852" y="7615"/>
                  <a:pt x="12863" y="7613"/>
                  <a:pt x="12874" y="7590"/>
                </a:cubicBezTo>
              </a:path>
              <a:path w="5582" h="1614">
                <a:moveTo>
                  <a:pt x="13320" y="7293"/>
                </a:moveTo>
                <a:cubicBezTo>
                  <a:pt x="13275" y="7293"/>
                  <a:pt x="13256" y="7287"/>
                  <a:pt x="13221" y="7317"/>
                </a:cubicBezTo>
                <a:cubicBezTo>
                  <a:pt x="13186" y="7348"/>
                  <a:pt x="13167" y="7380"/>
                  <a:pt x="13146" y="7417"/>
                </a:cubicBezTo>
                <a:cubicBezTo>
                  <a:pt x="13119" y="7464"/>
                  <a:pt x="13122" y="7490"/>
                  <a:pt x="13122" y="7541"/>
                </a:cubicBezTo>
                <a:cubicBezTo>
                  <a:pt x="13122" y="7583"/>
                  <a:pt x="13127" y="7600"/>
                  <a:pt x="13171" y="7615"/>
                </a:cubicBezTo>
                <a:cubicBezTo>
                  <a:pt x="13243" y="7639"/>
                  <a:pt x="13378" y="7619"/>
                  <a:pt x="13444" y="7590"/>
                </a:cubicBezTo>
              </a:path>
              <a:path w="5582" h="1614">
                <a:moveTo>
                  <a:pt x="13866" y="7218"/>
                </a:moveTo>
                <a:cubicBezTo>
                  <a:pt x="13874" y="7218"/>
                  <a:pt x="13883" y="7218"/>
                  <a:pt x="13891" y="7218"/>
                </a:cubicBezTo>
                <a:cubicBezTo>
                  <a:pt x="13898" y="7248"/>
                  <a:pt x="13903" y="7313"/>
                  <a:pt x="13915" y="7342"/>
                </a:cubicBezTo>
                <a:cubicBezTo>
                  <a:pt x="13935" y="7389"/>
                  <a:pt x="13970" y="7442"/>
                  <a:pt x="13990" y="7491"/>
                </a:cubicBezTo>
                <a:cubicBezTo>
                  <a:pt x="14007" y="7532"/>
                  <a:pt x="14029" y="7555"/>
                  <a:pt x="14064" y="7590"/>
                </a:cubicBezTo>
                <a:cubicBezTo>
                  <a:pt x="14093" y="7619"/>
                  <a:pt x="14102" y="7631"/>
                  <a:pt x="14139" y="7640"/>
                </a:cubicBezTo>
              </a:path>
              <a:path w="5582" h="1614">
                <a:moveTo>
                  <a:pt x="14213" y="7218"/>
                </a:moveTo>
                <a:cubicBezTo>
                  <a:pt x="14179" y="7274"/>
                  <a:pt x="14153" y="7287"/>
                  <a:pt x="14114" y="7342"/>
                </a:cubicBezTo>
                <a:cubicBezTo>
                  <a:pt x="14050" y="7432"/>
                  <a:pt x="13975" y="7523"/>
                  <a:pt x="13915" y="7615"/>
                </a:cubicBezTo>
                <a:cubicBezTo>
                  <a:pt x="13893" y="7649"/>
                  <a:pt x="13875" y="7680"/>
                  <a:pt x="13866" y="7714"/>
                </a:cubicBezTo>
              </a:path>
              <a:path w="5582" h="1614">
                <a:moveTo>
                  <a:pt x="14536" y="7342"/>
                </a:moveTo>
                <a:cubicBezTo>
                  <a:pt x="14536" y="7350"/>
                  <a:pt x="14536" y="7359"/>
                  <a:pt x="14536" y="7367"/>
                </a:cubicBezTo>
                <a:cubicBezTo>
                  <a:pt x="14633" y="7367"/>
                  <a:pt x="14725" y="7367"/>
                  <a:pt x="14808" y="7392"/>
                </a:cubicBezTo>
                <a:cubicBezTo>
                  <a:pt x="14816" y="7392"/>
                  <a:pt x="14825" y="7392"/>
                  <a:pt x="14833" y="7392"/>
                </a:cubicBezTo>
              </a:path>
              <a:path w="5582" h="1614">
                <a:moveTo>
                  <a:pt x="14536" y="7541"/>
                </a:moveTo>
                <a:cubicBezTo>
                  <a:pt x="14619" y="7541"/>
                  <a:pt x="14701" y="7541"/>
                  <a:pt x="14784" y="7541"/>
                </a:cubicBezTo>
              </a:path>
              <a:path w="5582" h="1614">
                <a:moveTo>
                  <a:pt x="15429" y="7119"/>
                </a:moveTo>
                <a:cubicBezTo>
                  <a:pt x="15622" y="7119"/>
                  <a:pt x="15811" y="7111"/>
                  <a:pt x="15999" y="7094"/>
                </a:cubicBezTo>
                <a:cubicBezTo>
                  <a:pt x="16203" y="7075"/>
                  <a:pt x="16416" y="7084"/>
                  <a:pt x="16619" y="7069"/>
                </a:cubicBezTo>
                <a:cubicBezTo>
                  <a:pt x="16753" y="7059"/>
                  <a:pt x="16883" y="7064"/>
                  <a:pt x="17016" y="7045"/>
                </a:cubicBezTo>
                <a:cubicBezTo>
                  <a:pt x="17066" y="7037"/>
                  <a:pt x="17115" y="7028"/>
                  <a:pt x="17165" y="7020"/>
                </a:cubicBezTo>
              </a:path>
              <a:path w="5582" h="1614">
                <a:moveTo>
                  <a:pt x="15156" y="6598"/>
                </a:moveTo>
                <a:cubicBezTo>
                  <a:pt x="15201" y="6598"/>
                  <a:pt x="15215" y="6619"/>
                  <a:pt x="15255" y="6623"/>
                </a:cubicBezTo>
                <a:cubicBezTo>
                  <a:pt x="15287" y="6627"/>
                  <a:pt x="15322" y="6623"/>
                  <a:pt x="15354" y="6623"/>
                </a:cubicBezTo>
              </a:path>
              <a:path w="5582" h="1614">
                <a:moveTo>
                  <a:pt x="15478" y="6375"/>
                </a:moveTo>
                <a:cubicBezTo>
                  <a:pt x="15517" y="6365"/>
                  <a:pt x="15533" y="6350"/>
                  <a:pt x="15577" y="6350"/>
                </a:cubicBezTo>
                <a:cubicBezTo>
                  <a:pt x="15644" y="6350"/>
                  <a:pt x="15675" y="6355"/>
                  <a:pt x="15726" y="6400"/>
                </a:cubicBezTo>
                <a:cubicBezTo>
                  <a:pt x="15779" y="6447"/>
                  <a:pt x="15736" y="6468"/>
                  <a:pt x="15726" y="6524"/>
                </a:cubicBezTo>
                <a:cubicBezTo>
                  <a:pt x="15714" y="6591"/>
                  <a:pt x="15678" y="6598"/>
                  <a:pt x="15627" y="6648"/>
                </a:cubicBezTo>
                <a:cubicBezTo>
                  <a:pt x="15589" y="6685"/>
                  <a:pt x="15560" y="6672"/>
                  <a:pt x="15627" y="6672"/>
                </a:cubicBezTo>
                <a:cubicBezTo>
                  <a:pt x="15670" y="6672"/>
                  <a:pt x="15697" y="6708"/>
                  <a:pt x="15701" y="6747"/>
                </a:cubicBezTo>
                <a:cubicBezTo>
                  <a:pt x="15707" y="6803"/>
                  <a:pt x="15636" y="6820"/>
                  <a:pt x="15602" y="6846"/>
                </a:cubicBezTo>
                <a:cubicBezTo>
                  <a:pt x="15562" y="6876"/>
                  <a:pt x="15528" y="6888"/>
                  <a:pt x="15478" y="6896"/>
                </a:cubicBezTo>
              </a:path>
              <a:path w="5582" h="1614">
                <a:moveTo>
                  <a:pt x="15999" y="6672"/>
                </a:moveTo>
                <a:cubicBezTo>
                  <a:pt x="16004" y="6712"/>
                  <a:pt x="16018" y="6741"/>
                  <a:pt x="16024" y="6772"/>
                </a:cubicBezTo>
                <a:cubicBezTo>
                  <a:pt x="16041" y="6857"/>
                  <a:pt x="16023" y="6821"/>
                  <a:pt x="16073" y="6871"/>
                </a:cubicBezTo>
                <a:cubicBezTo>
                  <a:pt x="16073" y="6896"/>
                  <a:pt x="16073" y="6904"/>
                  <a:pt x="16098" y="6896"/>
                </a:cubicBezTo>
                <a:cubicBezTo>
                  <a:pt x="16153" y="6841"/>
                  <a:pt x="16164" y="6821"/>
                  <a:pt x="16197" y="6747"/>
                </a:cubicBezTo>
                <a:cubicBezTo>
                  <a:pt x="16229" y="6676"/>
                  <a:pt x="16244" y="6599"/>
                  <a:pt x="16272" y="6524"/>
                </a:cubicBezTo>
                <a:cubicBezTo>
                  <a:pt x="16285" y="6489"/>
                  <a:pt x="16282" y="6433"/>
                  <a:pt x="16297" y="6400"/>
                </a:cubicBezTo>
                <a:cubicBezTo>
                  <a:pt x="16313" y="6363"/>
                  <a:pt x="16322" y="6374"/>
                  <a:pt x="16346" y="6350"/>
                </a:cubicBezTo>
                <a:cubicBezTo>
                  <a:pt x="16382" y="6313"/>
                  <a:pt x="16419" y="6325"/>
                  <a:pt x="16470" y="6325"/>
                </a:cubicBezTo>
                <a:cubicBezTo>
                  <a:pt x="16639" y="6325"/>
                  <a:pt x="16800" y="6317"/>
                  <a:pt x="16966" y="6300"/>
                </a:cubicBezTo>
                <a:cubicBezTo>
                  <a:pt x="17104" y="6286"/>
                  <a:pt x="17249" y="6300"/>
                  <a:pt x="17388" y="6300"/>
                </a:cubicBezTo>
              </a:path>
              <a:path w="5582" h="1614">
                <a:moveTo>
                  <a:pt x="16470" y="6524"/>
                </a:moveTo>
                <a:cubicBezTo>
                  <a:pt x="16569" y="6524"/>
                  <a:pt x="16669" y="6524"/>
                  <a:pt x="16768" y="6524"/>
                </a:cubicBezTo>
              </a:path>
              <a:path w="5582" h="1614">
                <a:moveTo>
                  <a:pt x="16495" y="6524"/>
                </a:moveTo>
                <a:cubicBezTo>
                  <a:pt x="16473" y="6540"/>
                  <a:pt x="16426" y="6564"/>
                  <a:pt x="16421" y="6573"/>
                </a:cubicBezTo>
                <a:cubicBezTo>
                  <a:pt x="16421" y="6581"/>
                  <a:pt x="16421" y="6590"/>
                  <a:pt x="16421" y="6598"/>
                </a:cubicBezTo>
                <a:cubicBezTo>
                  <a:pt x="16472" y="6649"/>
                  <a:pt x="16490" y="6645"/>
                  <a:pt x="16545" y="6672"/>
                </a:cubicBezTo>
                <a:cubicBezTo>
                  <a:pt x="16589" y="6694"/>
                  <a:pt x="16626" y="6718"/>
                  <a:pt x="16644" y="6772"/>
                </a:cubicBezTo>
                <a:cubicBezTo>
                  <a:pt x="16652" y="6795"/>
                  <a:pt x="16593" y="6888"/>
                  <a:pt x="16570" y="6896"/>
                </a:cubicBezTo>
                <a:cubicBezTo>
                  <a:pt x="16518" y="6915"/>
                  <a:pt x="16444" y="6921"/>
                  <a:pt x="16396" y="6945"/>
                </a:cubicBezTo>
                <a:cubicBezTo>
                  <a:pt x="16371" y="6970"/>
                  <a:pt x="16363" y="6978"/>
                  <a:pt x="16346" y="6995"/>
                </a:cubicBezTo>
              </a:path>
              <a:path w="5582" h="1614">
                <a:moveTo>
                  <a:pt x="15900" y="7417"/>
                </a:moveTo>
                <a:cubicBezTo>
                  <a:pt x="15957" y="7409"/>
                  <a:pt x="15987" y="7392"/>
                  <a:pt x="16049" y="7392"/>
                </a:cubicBezTo>
                <a:cubicBezTo>
                  <a:pt x="16132" y="7392"/>
                  <a:pt x="16214" y="7392"/>
                  <a:pt x="16297" y="7392"/>
                </a:cubicBezTo>
              </a:path>
              <a:path w="5582" h="1614">
                <a:moveTo>
                  <a:pt x="15999" y="7342"/>
                </a:moveTo>
                <a:cubicBezTo>
                  <a:pt x="15941" y="7376"/>
                  <a:pt x="15907" y="7393"/>
                  <a:pt x="15900" y="7466"/>
                </a:cubicBezTo>
                <a:cubicBezTo>
                  <a:pt x="15894" y="7524"/>
                  <a:pt x="15912" y="7517"/>
                  <a:pt x="15949" y="7541"/>
                </a:cubicBezTo>
                <a:cubicBezTo>
                  <a:pt x="15976" y="7559"/>
                  <a:pt x="16042" y="7606"/>
                  <a:pt x="16073" y="7615"/>
                </a:cubicBezTo>
                <a:cubicBezTo>
                  <a:pt x="16127" y="7631"/>
                  <a:pt x="16153" y="7629"/>
                  <a:pt x="16173" y="7689"/>
                </a:cubicBezTo>
                <a:cubicBezTo>
                  <a:pt x="16186" y="7727"/>
                  <a:pt x="16171" y="7764"/>
                  <a:pt x="16148" y="7789"/>
                </a:cubicBezTo>
                <a:cubicBezTo>
                  <a:pt x="16093" y="7850"/>
                  <a:pt x="16056" y="7883"/>
                  <a:pt x="15974" y="7888"/>
                </a:cubicBezTo>
                <a:cubicBezTo>
                  <a:pt x="15905" y="7892"/>
                  <a:pt x="15858" y="7896"/>
                  <a:pt x="15801" y="7913"/>
                </a:cubicBezTo>
                <a:cubicBezTo>
                  <a:pt x="15776" y="7913"/>
                  <a:pt x="15768" y="7913"/>
                  <a:pt x="15776" y="78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Ink 23"/>
          <p:cNvSpPr/>
          <p:nvPr/>
        </p:nvSpPr>
        <p:spPr>
          <a:xfrm>
            <a:off x="6643800" y="2625840"/>
            <a:ext cx="1857240" cy="588960"/>
          </a:xfrm>
          <a:custGeom>
            <a:avLst/>
            <a:gdLst/>
            <a:ahLst/>
            <a:rect l="l" t="t" r="r" b="b"/>
            <a:pathLst>
              <a:path w="5160" h="1638">
                <a:moveTo>
                  <a:pt x="18628" y="7367"/>
                </a:moveTo>
                <a:cubicBezTo>
                  <a:pt x="18611" y="7350"/>
                  <a:pt x="18596" y="7334"/>
                  <a:pt x="18579" y="7317"/>
                </a:cubicBezTo>
                <a:cubicBezTo>
                  <a:pt x="18571" y="7309"/>
                  <a:pt x="18562" y="7301"/>
                  <a:pt x="18554" y="7293"/>
                </a:cubicBezTo>
                <a:cubicBezTo>
                  <a:pt x="18543" y="7428"/>
                  <a:pt x="18506" y="7533"/>
                  <a:pt x="18479" y="7665"/>
                </a:cubicBezTo>
                <a:cubicBezTo>
                  <a:pt x="18462" y="7747"/>
                  <a:pt x="18433" y="7885"/>
                  <a:pt x="18479" y="7962"/>
                </a:cubicBezTo>
                <a:cubicBezTo>
                  <a:pt x="18503" y="8003"/>
                  <a:pt x="18583" y="8056"/>
                  <a:pt x="18628" y="8062"/>
                </a:cubicBezTo>
                <a:cubicBezTo>
                  <a:pt x="18675" y="8068"/>
                  <a:pt x="18740" y="8032"/>
                  <a:pt x="18777" y="8012"/>
                </a:cubicBezTo>
                <a:cubicBezTo>
                  <a:pt x="18852" y="7972"/>
                  <a:pt x="18871" y="7921"/>
                  <a:pt x="18926" y="7863"/>
                </a:cubicBezTo>
                <a:cubicBezTo>
                  <a:pt x="19011" y="7773"/>
                  <a:pt x="19036" y="7725"/>
                  <a:pt x="19075" y="7615"/>
                </a:cubicBezTo>
                <a:cubicBezTo>
                  <a:pt x="19095" y="7575"/>
                  <a:pt x="19104" y="7568"/>
                  <a:pt x="19100" y="7541"/>
                </a:cubicBezTo>
                <a:cubicBezTo>
                  <a:pt x="19091" y="7562"/>
                  <a:pt x="19062" y="7591"/>
                  <a:pt x="19050" y="7640"/>
                </a:cubicBezTo>
                <a:cubicBezTo>
                  <a:pt x="19025" y="7740"/>
                  <a:pt x="19013" y="7833"/>
                  <a:pt x="19000" y="7938"/>
                </a:cubicBezTo>
                <a:cubicBezTo>
                  <a:pt x="18983" y="8078"/>
                  <a:pt x="18965" y="8216"/>
                  <a:pt x="18976" y="8359"/>
                </a:cubicBezTo>
                <a:cubicBezTo>
                  <a:pt x="18984" y="8465"/>
                  <a:pt x="18986" y="8577"/>
                  <a:pt x="19000" y="8682"/>
                </a:cubicBezTo>
                <a:cubicBezTo>
                  <a:pt x="19007" y="8733"/>
                  <a:pt x="19017" y="8731"/>
                  <a:pt x="19025" y="8781"/>
                </a:cubicBezTo>
                <a:cubicBezTo>
                  <a:pt x="19016" y="8682"/>
                  <a:pt x="19005" y="8583"/>
                  <a:pt x="19000" y="8483"/>
                </a:cubicBezTo>
                <a:cubicBezTo>
                  <a:pt x="18994" y="8368"/>
                  <a:pt x="18982" y="8244"/>
                  <a:pt x="18976" y="8136"/>
                </a:cubicBezTo>
                <a:cubicBezTo>
                  <a:pt x="18970" y="8033"/>
                  <a:pt x="18974" y="7937"/>
                  <a:pt x="19000" y="7838"/>
                </a:cubicBezTo>
                <a:cubicBezTo>
                  <a:pt x="19024" y="7749"/>
                  <a:pt x="19072" y="7669"/>
                  <a:pt x="19149" y="7615"/>
                </a:cubicBezTo>
                <a:cubicBezTo>
                  <a:pt x="19228" y="7560"/>
                  <a:pt x="19378" y="7522"/>
                  <a:pt x="19472" y="7541"/>
                </a:cubicBezTo>
                <a:cubicBezTo>
                  <a:pt x="19551" y="7557"/>
                  <a:pt x="19601" y="7596"/>
                  <a:pt x="19645" y="7665"/>
                </a:cubicBezTo>
                <a:cubicBezTo>
                  <a:pt x="19690" y="7735"/>
                  <a:pt x="19725" y="7858"/>
                  <a:pt x="19745" y="7938"/>
                </a:cubicBezTo>
                <a:cubicBezTo>
                  <a:pt x="19765" y="8021"/>
                  <a:pt x="19786" y="8122"/>
                  <a:pt x="19769" y="8210"/>
                </a:cubicBezTo>
                <a:cubicBezTo>
                  <a:pt x="19747" y="8326"/>
                  <a:pt x="19660" y="8441"/>
                  <a:pt x="19596" y="8533"/>
                </a:cubicBezTo>
                <a:cubicBezTo>
                  <a:pt x="19538" y="8617"/>
                  <a:pt x="19476" y="8695"/>
                  <a:pt x="19397" y="8756"/>
                </a:cubicBezTo>
                <a:cubicBezTo>
                  <a:pt x="19331" y="8808"/>
                  <a:pt x="19254" y="8873"/>
                  <a:pt x="19174" y="8905"/>
                </a:cubicBezTo>
                <a:cubicBezTo>
                  <a:pt x="19075" y="8945"/>
                  <a:pt x="19009" y="8912"/>
                  <a:pt x="18951" y="8905"/>
                </a:cubicBezTo>
                <a:cubicBezTo>
                  <a:pt x="18984" y="8905"/>
                  <a:pt x="18967" y="8905"/>
                  <a:pt x="19000" y="8905"/>
                </a:cubicBezTo>
                <a:cubicBezTo>
                  <a:pt x="19178" y="8905"/>
                  <a:pt x="19375" y="8929"/>
                  <a:pt x="19546" y="8880"/>
                </a:cubicBezTo>
                <a:cubicBezTo>
                  <a:pt x="19670" y="8845"/>
                  <a:pt x="19798" y="8802"/>
                  <a:pt x="19918" y="8756"/>
                </a:cubicBezTo>
                <a:cubicBezTo>
                  <a:pt x="20036" y="8711"/>
                  <a:pt x="20118" y="8655"/>
                  <a:pt x="20216" y="8582"/>
                </a:cubicBezTo>
                <a:cubicBezTo>
                  <a:pt x="20311" y="8511"/>
                  <a:pt x="20396" y="8431"/>
                  <a:pt x="20489" y="8359"/>
                </a:cubicBezTo>
                <a:cubicBezTo>
                  <a:pt x="20547" y="8314"/>
                  <a:pt x="20602" y="8273"/>
                  <a:pt x="20638" y="8210"/>
                </a:cubicBezTo>
                <a:cubicBezTo>
                  <a:pt x="20669" y="8157"/>
                  <a:pt x="20644" y="8134"/>
                  <a:pt x="20662" y="8086"/>
                </a:cubicBezTo>
                <a:cubicBezTo>
                  <a:pt x="20610" y="8073"/>
                  <a:pt x="20604" y="8035"/>
                  <a:pt x="20538" y="8037"/>
                </a:cubicBezTo>
                <a:cubicBezTo>
                  <a:pt x="20448" y="8040"/>
                  <a:pt x="20320" y="8111"/>
                  <a:pt x="20265" y="8186"/>
                </a:cubicBezTo>
                <a:cubicBezTo>
                  <a:pt x="20199" y="8277"/>
                  <a:pt x="20217" y="8311"/>
                  <a:pt x="20265" y="8409"/>
                </a:cubicBezTo>
                <a:cubicBezTo>
                  <a:pt x="20301" y="8482"/>
                  <a:pt x="20362" y="8571"/>
                  <a:pt x="20414" y="8632"/>
                </a:cubicBezTo>
                <a:cubicBezTo>
                  <a:pt x="20450" y="8675"/>
                  <a:pt x="20526" y="8730"/>
                  <a:pt x="20588" y="8731"/>
                </a:cubicBezTo>
                <a:cubicBezTo>
                  <a:pt x="20669" y="8733"/>
                  <a:pt x="20695" y="8721"/>
                  <a:pt x="20762" y="8682"/>
                </a:cubicBezTo>
                <a:cubicBezTo>
                  <a:pt x="20830" y="8642"/>
                  <a:pt x="20840" y="8593"/>
                  <a:pt x="20886" y="8533"/>
                </a:cubicBezTo>
                <a:cubicBezTo>
                  <a:pt x="20942" y="8459"/>
                  <a:pt x="20987" y="8387"/>
                  <a:pt x="21034" y="8310"/>
                </a:cubicBezTo>
                <a:cubicBezTo>
                  <a:pt x="21066" y="8258"/>
                  <a:pt x="21095" y="8208"/>
                  <a:pt x="21134" y="8161"/>
                </a:cubicBezTo>
                <a:cubicBezTo>
                  <a:pt x="21177" y="8110"/>
                  <a:pt x="21250" y="8022"/>
                  <a:pt x="21307" y="8012"/>
                </a:cubicBezTo>
                <a:cubicBezTo>
                  <a:pt x="21387" y="7998"/>
                  <a:pt x="21400" y="8023"/>
                  <a:pt x="21456" y="8062"/>
                </a:cubicBezTo>
                <a:cubicBezTo>
                  <a:pt x="21502" y="8094"/>
                  <a:pt x="21523" y="8165"/>
                  <a:pt x="21555" y="8210"/>
                </a:cubicBezTo>
                <a:cubicBezTo>
                  <a:pt x="21585" y="8252"/>
                  <a:pt x="21612" y="8291"/>
                  <a:pt x="21630" y="8334"/>
                </a:cubicBezTo>
                <a:cubicBezTo>
                  <a:pt x="21640" y="8356"/>
                  <a:pt x="21620" y="8337"/>
                  <a:pt x="21630" y="8359"/>
                </a:cubicBezTo>
                <a:cubicBezTo>
                  <a:pt x="21610" y="8316"/>
                  <a:pt x="21627" y="8277"/>
                  <a:pt x="21580" y="8235"/>
                </a:cubicBezTo>
                <a:cubicBezTo>
                  <a:pt x="21547" y="8206"/>
                  <a:pt x="21518" y="8202"/>
                  <a:pt x="21481" y="8186"/>
                </a:cubicBezTo>
                <a:cubicBezTo>
                  <a:pt x="21430" y="8164"/>
                  <a:pt x="21395" y="8157"/>
                  <a:pt x="21332" y="8161"/>
                </a:cubicBezTo>
                <a:cubicBezTo>
                  <a:pt x="21253" y="8166"/>
                  <a:pt x="21204" y="8162"/>
                  <a:pt x="21134" y="8210"/>
                </a:cubicBezTo>
                <a:cubicBezTo>
                  <a:pt x="21046" y="8270"/>
                  <a:pt x="21015" y="8335"/>
                  <a:pt x="21010" y="8434"/>
                </a:cubicBezTo>
                <a:cubicBezTo>
                  <a:pt x="21007" y="8496"/>
                  <a:pt x="21037" y="8565"/>
                  <a:pt x="21084" y="8607"/>
                </a:cubicBezTo>
                <a:cubicBezTo>
                  <a:pt x="21112" y="8632"/>
                  <a:pt x="21199" y="8656"/>
                  <a:pt x="21233" y="8657"/>
                </a:cubicBezTo>
                <a:cubicBezTo>
                  <a:pt x="21316" y="8661"/>
                  <a:pt x="21339" y="8644"/>
                  <a:pt x="21406" y="8607"/>
                </a:cubicBezTo>
                <a:cubicBezTo>
                  <a:pt x="21483" y="8564"/>
                  <a:pt x="21538" y="8511"/>
                  <a:pt x="21580" y="8434"/>
                </a:cubicBezTo>
                <a:cubicBezTo>
                  <a:pt x="21596" y="8404"/>
                  <a:pt x="21601" y="8348"/>
                  <a:pt x="21605" y="8310"/>
                </a:cubicBezTo>
                <a:cubicBezTo>
                  <a:pt x="21597" y="8310"/>
                  <a:pt x="21588" y="8310"/>
                  <a:pt x="21580" y="8310"/>
                </a:cubicBezTo>
                <a:cubicBezTo>
                  <a:pt x="21574" y="8421"/>
                  <a:pt x="21540" y="8553"/>
                  <a:pt x="21555" y="8657"/>
                </a:cubicBezTo>
                <a:cubicBezTo>
                  <a:pt x="21561" y="8699"/>
                  <a:pt x="21596" y="8780"/>
                  <a:pt x="21630" y="8806"/>
                </a:cubicBezTo>
                <a:cubicBezTo>
                  <a:pt x="21657" y="8827"/>
                  <a:pt x="21741" y="8829"/>
                  <a:pt x="21779" y="8830"/>
                </a:cubicBezTo>
                <a:cubicBezTo>
                  <a:pt x="21835" y="8832"/>
                  <a:pt x="21940" y="8773"/>
                  <a:pt x="21977" y="8731"/>
                </a:cubicBezTo>
                <a:cubicBezTo>
                  <a:pt x="22011" y="8693"/>
                  <a:pt x="22052" y="8626"/>
                  <a:pt x="22076" y="8582"/>
                </a:cubicBezTo>
                <a:cubicBezTo>
                  <a:pt x="22101" y="8537"/>
                  <a:pt x="22131" y="8478"/>
                  <a:pt x="22151" y="8434"/>
                </a:cubicBezTo>
                <a:cubicBezTo>
                  <a:pt x="22169" y="8394"/>
                  <a:pt x="22178" y="8354"/>
                  <a:pt x="22200" y="8310"/>
                </a:cubicBezTo>
                <a:cubicBezTo>
                  <a:pt x="22220" y="8270"/>
                  <a:pt x="22243" y="8220"/>
                  <a:pt x="22275" y="8186"/>
                </a:cubicBezTo>
                <a:cubicBezTo>
                  <a:pt x="22297" y="8163"/>
                  <a:pt x="22302" y="8155"/>
                  <a:pt x="22324" y="8161"/>
                </a:cubicBezTo>
                <a:cubicBezTo>
                  <a:pt x="22338" y="8206"/>
                  <a:pt x="22364" y="8188"/>
                  <a:pt x="22374" y="8285"/>
                </a:cubicBezTo>
                <a:cubicBezTo>
                  <a:pt x="22383" y="8375"/>
                  <a:pt x="22366" y="8451"/>
                  <a:pt x="22349" y="8533"/>
                </a:cubicBezTo>
                <a:cubicBezTo>
                  <a:pt x="22341" y="8573"/>
                  <a:pt x="22336" y="8596"/>
                  <a:pt x="22324" y="8632"/>
                </a:cubicBezTo>
                <a:cubicBezTo>
                  <a:pt x="22324" y="8660"/>
                  <a:pt x="22322" y="8671"/>
                  <a:pt x="22299" y="8682"/>
                </a:cubicBezTo>
                <a:cubicBezTo>
                  <a:pt x="22299" y="8540"/>
                  <a:pt x="22290" y="8394"/>
                  <a:pt x="22324" y="8260"/>
                </a:cubicBezTo>
                <a:cubicBezTo>
                  <a:pt x="22344" y="8182"/>
                  <a:pt x="22373" y="8179"/>
                  <a:pt x="22423" y="8136"/>
                </a:cubicBezTo>
                <a:cubicBezTo>
                  <a:pt x="22458" y="8106"/>
                  <a:pt x="22441" y="8101"/>
                  <a:pt x="22498" y="8086"/>
                </a:cubicBezTo>
                <a:cubicBezTo>
                  <a:pt x="22555" y="8070"/>
                  <a:pt x="22534" y="8071"/>
                  <a:pt x="22597" y="8086"/>
                </a:cubicBezTo>
                <a:cubicBezTo>
                  <a:pt x="22639" y="8096"/>
                  <a:pt x="22659" y="8115"/>
                  <a:pt x="22696" y="8136"/>
                </a:cubicBezTo>
                <a:cubicBezTo>
                  <a:pt x="22739" y="8161"/>
                  <a:pt x="22787" y="8195"/>
                  <a:pt x="22820" y="8235"/>
                </a:cubicBezTo>
                <a:cubicBezTo>
                  <a:pt x="22852" y="8274"/>
                  <a:pt x="22873" y="8318"/>
                  <a:pt x="22895" y="8359"/>
                </a:cubicBezTo>
                <a:cubicBezTo>
                  <a:pt x="22924" y="8413"/>
                  <a:pt x="22929" y="8432"/>
                  <a:pt x="22944" y="8483"/>
                </a:cubicBezTo>
                <a:cubicBezTo>
                  <a:pt x="22960" y="8536"/>
                  <a:pt x="22948" y="8559"/>
                  <a:pt x="22969" y="8607"/>
                </a:cubicBezTo>
                <a:cubicBezTo>
                  <a:pt x="22991" y="8659"/>
                  <a:pt x="22979" y="8647"/>
                  <a:pt x="23019" y="8682"/>
                </a:cubicBezTo>
                <a:cubicBezTo>
                  <a:pt x="23050" y="8710"/>
                  <a:pt x="23099" y="8730"/>
                  <a:pt x="23143" y="8731"/>
                </a:cubicBezTo>
                <a:cubicBezTo>
                  <a:pt x="23221" y="8733"/>
                  <a:pt x="23367" y="8690"/>
                  <a:pt x="23440" y="8657"/>
                </a:cubicBezTo>
                <a:cubicBezTo>
                  <a:pt x="23507" y="8626"/>
                  <a:pt x="23566" y="8553"/>
                  <a:pt x="23614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Ink 24"/>
          <p:cNvSpPr/>
          <p:nvPr/>
        </p:nvSpPr>
        <p:spPr>
          <a:xfrm>
            <a:off x="1490760" y="3062160"/>
            <a:ext cx="2206440" cy="920880"/>
          </a:xfrm>
          <a:custGeom>
            <a:avLst/>
            <a:gdLst/>
            <a:ahLst/>
            <a:rect l="l" t="t" r="r" b="b"/>
            <a:pathLst>
              <a:path w="6128" h="2556">
                <a:moveTo>
                  <a:pt x="4390" y="8706"/>
                </a:moveTo>
                <a:cubicBezTo>
                  <a:pt x="4378" y="8768"/>
                  <a:pt x="4366" y="8814"/>
                  <a:pt x="4366" y="8880"/>
                </a:cubicBezTo>
                <a:cubicBezTo>
                  <a:pt x="4366" y="8985"/>
                  <a:pt x="4345" y="9076"/>
                  <a:pt x="4341" y="9178"/>
                </a:cubicBezTo>
                <a:cubicBezTo>
                  <a:pt x="4338" y="9268"/>
                  <a:pt x="4330" y="9342"/>
                  <a:pt x="4316" y="9426"/>
                </a:cubicBezTo>
                <a:cubicBezTo>
                  <a:pt x="4307" y="9479"/>
                  <a:pt x="4341" y="9497"/>
                  <a:pt x="4341" y="9550"/>
                </a:cubicBezTo>
                <a:cubicBezTo>
                  <a:pt x="4341" y="9578"/>
                  <a:pt x="4343" y="9589"/>
                  <a:pt x="4366" y="9599"/>
                </a:cubicBezTo>
              </a:path>
              <a:path w="6128" h="2556">
                <a:moveTo>
                  <a:pt x="4142" y="9103"/>
                </a:moveTo>
                <a:cubicBezTo>
                  <a:pt x="4161" y="9047"/>
                  <a:pt x="4216" y="9092"/>
                  <a:pt x="4266" y="9103"/>
                </a:cubicBezTo>
                <a:cubicBezTo>
                  <a:pt x="4333" y="9118"/>
                  <a:pt x="4399" y="9082"/>
                  <a:pt x="4465" y="9079"/>
                </a:cubicBezTo>
                <a:cubicBezTo>
                  <a:pt x="4563" y="9074"/>
                  <a:pt x="4663" y="9079"/>
                  <a:pt x="4762" y="9079"/>
                </a:cubicBezTo>
              </a:path>
              <a:path w="6128" h="2556">
                <a:moveTo>
                  <a:pt x="5060" y="9203"/>
                </a:moveTo>
                <a:cubicBezTo>
                  <a:pt x="5020" y="9143"/>
                  <a:pt x="5029" y="9153"/>
                  <a:pt x="4961" y="9153"/>
                </a:cubicBezTo>
                <a:cubicBezTo>
                  <a:pt x="4908" y="9153"/>
                  <a:pt x="4884" y="9211"/>
                  <a:pt x="4862" y="9252"/>
                </a:cubicBezTo>
                <a:cubicBezTo>
                  <a:pt x="4825" y="9322"/>
                  <a:pt x="4778" y="9399"/>
                  <a:pt x="4762" y="9475"/>
                </a:cubicBezTo>
                <a:cubicBezTo>
                  <a:pt x="4815" y="9475"/>
                  <a:pt x="4824" y="9464"/>
                  <a:pt x="4862" y="9426"/>
                </a:cubicBezTo>
                <a:cubicBezTo>
                  <a:pt x="4906" y="9382"/>
                  <a:pt x="4919" y="9322"/>
                  <a:pt x="4961" y="9277"/>
                </a:cubicBezTo>
                <a:cubicBezTo>
                  <a:pt x="5013" y="9222"/>
                  <a:pt x="5002" y="9227"/>
                  <a:pt x="5060" y="9227"/>
                </a:cubicBezTo>
                <a:cubicBezTo>
                  <a:pt x="5080" y="9281"/>
                  <a:pt x="5100" y="9353"/>
                  <a:pt x="5110" y="9401"/>
                </a:cubicBezTo>
                <a:cubicBezTo>
                  <a:pt x="5122" y="9459"/>
                  <a:pt x="5092" y="9501"/>
                  <a:pt x="5159" y="9451"/>
                </a:cubicBezTo>
              </a:path>
              <a:path w="6128" h="2556">
                <a:moveTo>
                  <a:pt x="5457" y="9153"/>
                </a:moveTo>
                <a:cubicBezTo>
                  <a:pt x="5457" y="9196"/>
                  <a:pt x="5446" y="9238"/>
                  <a:pt x="5432" y="9277"/>
                </a:cubicBezTo>
                <a:cubicBezTo>
                  <a:pt x="5410" y="9340"/>
                  <a:pt x="5388" y="9387"/>
                  <a:pt x="5383" y="9451"/>
                </a:cubicBezTo>
                <a:cubicBezTo>
                  <a:pt x="5381" y="9470"/>
                  <a:pt x="5358" y="9519"/>
                  <a:pt x="5358" y="9475"/>
                </a:cubicBezTo>
                <a:cubicBezTo>
                  <a:pt x="5358" y="9432"/>
                  <a:pt x="5411" y="9369"/>
                  <a:pt x="5432" y="9327"/>
                </a:cubicBezTo>
                <a:cubicBezTo>
                  <a:pt x="5456" y="9280"/>
                  <a:pt x="5502" y="9217"/>
                  <a:pt x="5556" y="9203"/>
                </a:cubicBezTo>
                <a:cubicBezTo>
                  <a:pt x="5625" y="9185"/>
                  <a:pt x="5651" y="9230"/>
                  <a:pt x="5655" y="9277"/>
                </a:cubicBezTo>
                <a:cubicBezTo>
                  <a:pt x="5662" y="9359"/>
                  <a:pt x="5648" y="9425"/>
                  <a:pt x="5631" y="9500"/>
                </a:cubicBezTo>
                <a:cubicBezTo>
                  <a:pt x="5622" y="9541"/>
                  <a:pt x="5626" y="9565"/>
                  <a:pt x="5655" y="9575"/>
                </a:cubicBezTo>
              </a:path>
              <a:path w="6128" h="2556">
                <a:moveTo>
                  <a:pt x="6226" y="9128"/>
                </a:moveTo>
                <a:cubicBezTo>
                  <a:pt x="6226" y="9153"/>
                  <a:pt x="6226" y="9161"/>
                  <a:pt x="6226" y="9178"/>
                </a:cubicBezTo>
                <a:cubicBezTo>
                  <a:pt x="6266" y="9191"/>
                  <a:pt x="6236" y="9190"/>
                  <a:pt x="6276" y="9203"/>
                </a:cubicBezTo>
                <a:cubicBezTo>
                  <a:pt x="6282" y="9226"/>
                  <a:pt x="6288" y="9281"/>
                  <a:pt x="6300" y="9302"/>
                </a:cubicBezTo>
                <a:cubicBezTo>
                  <a:pt x="6318" y="9334"/>
                  <a:pt x="6352" y="9375"/>
                  <a:pt x="6375" y="9401"/>
                </a:cubicBezTo>
                <a:cubicBezTo>
                  <a:pt x="6395" y="9423"/>
                  <a:pt x="6437" y="9472"/>
                  <a:pt x="6449" y="9500"/>
                </a:cubicBezTo>
                <a:cubicBezTo>
                  <a:pt x="6449" y="9508"/>
                  <a:pt x="6449" y="9517"/>
                  <a:pt x="6449" y="9525"/>
                </a:cubicBezTo>
                <a:cubicBezTo>
                  <a:pt x="6489" y="9538"/>
                  <a:pt x="6459" y="9537"/>
                  <a:pt x="6499" y="9550"/>
                </a:cubicBezTo>
                <a:cubicBezTo>
                  <a:pt x="6499" y="9583"/>
                  <a:pt x="6499" y="9616"/>
                  <a:pt x="6499" y="9649"/>
                </a:cubicBezTo>
                <a:cubicBezTo>
                  <a:pt x="6524" y="9649"/>
                  <a:pt x="6532" y="9649"/>
                  <a:pt x="6524" y="9624"/>
                </a:cubicBezTo>
              </a:path>
              <a:path w="6128" h="2556">
                <a:moveTo>
                  <a:pt x="6623" y="9178"/>
                </a:moveTo>
                <a:cubicBezTo>
                  <a:pt x="6616" y="9199"/>
                  <a:pt x="6602" y="9232"/>
                  <a:pt x="6573" y="9252"/>
                </a:cubicBezTo>
                <a:cubicBezTo>
                  <a:pt x="6511" y="9296"/>
                  <a:pt x="6471" y="9362"/>
                  <a:pt x="6424" y="9426"/>
                </a:cubicBezTo>
                <a:cubicBezTo>
                  <a:pt x="6373" y="9495"/>
                  <a:pt x="6324" y="9563"/>
                  <a:pt x="6276" y="9624"/>
                </a:cubicBezTo>
                <a:cubicBezTo>
                  <a:pt x="6191" y="9731"/>
                  <a:pt x="6309" y="9621"/>
                  <a:pt x="6325" y="9599"/>
                </a:cubicBezTo>
              </a:path>
              <a:path w="6128" h="2556">
                <a:moveTo>
                  <a:pt x="6772" y="9351"/>
                </a:moveTo>
                <a:cubicBezTo>
                  <a:pt x="6788" y="9351"/>
                  <a:pt x="6805" y="9351"/>
                  <a:pt x="6821" y="9351"/>
                </a:cubicBezTo>
                <a:cubicBezTo>
                  <a:pt x="6834" y="9315"/>
                  <a:pt x="6852" y="9327"/>
                  <a:pt x="6896" y="9327"/>
                </a:cubicBezTo>
                <a:cubicBezTo>
                  <a:pt x="6946" y="9327"/>
                  <a:pt x="6995" y="9327"/>
                  <a:pt x="7045" y="9327"/>
                </a:cubicBezTo>
              </a:path>
              <a:path w="6128" h="2556">
                <a:moveTo>
                  <a:pt x="6772" y="9500"/>
                </a:moveTo>
                <a:cubicBezTo>
                  <a:pt x="6853" y="9500"/>
                  <a:pt x="6918" y="9508"/>
                  <a:pt x="6995" y="9525"/>
                </a:cubicBezTo>
                <a:cubicBezTo>
                  <a:pt x="7017" y="9530"/>
                  <a:pt x="7046" y="9525"/>
                  <a:pt x="7069" y="9525"/>
                </a:cubicBezTo>
              </a:path>
              <a:path w="6128" h="2556">
                <a:moveTo>
                  <a:pt x="7541" y="9103"/>
                </a:moveTo>
                <a:cubicBezTo>
                  <a:pt x="7583" y="9072"/>
                  <a:pt x="7610" y="9079"/>
                  <a:pt x="7665" y="9079"/>
                </a:cubicBezTo>
                <a:cubicBezTo>
                  <a:pt x="7743" y="9079"/>
                  <a:pt x="7798" y="9082"/>
                  <a:pt x="7863" y="9103"/>
                </a:cubicBezTo>
                <a:cubicBezTo>
                  <a:pt x="7888" y="9103"/>
                  <a:pt x="7896" y="9103"/>
                  <a:pt x="7913" y="9103"/>
                </a:cubicBezTo>
              </a:path>
              <a:path w="6128" h="2556">
                <a:moveTo>
                  <a:pt x="8062" y="8756"/>
                </a:moveTo>
                <a:cubicBezTo>
                  <a:pt x="8092" y="8733"/>
                  <a:pt x="8148" y="8709"/>
                  <a:pt x="8186" y="8706"/>
                </a:cubicBezTo>
                <a:cubicBezTo>
                  <a:pt x="8254" y="8701"/>
                  <a:pt x="8296" y="8716"/>
                  <a:pt x="8359" y="8731"/>
                </a:cubicBezTo>
                <a:cubicBezTo>
                  <a:pt x="8426" y="8747"/>
                  <a:pt x="8428" y="8761"/>
                  <a:pt x="8458" y="8806"/>
                </a:cubicBezTo>
                <a:cubicBezTo>
                  <a:pt x="8501" y="8870"/>
                  <a:pt x="8470" y="8894"/>
                  <a:pt x="8458" y="8954"/>
                </a:cubicBezTo>
                <a:cubicBezTo>
                  <a:pt x="8445" y="9020"/>
                  <a:pt x="8403" y="9071"/>
                  <a:pt x="8359" y="9128"/>
                </a:cubicBezTo>
                <a:cubicBezTo>
                  <a:pt x="8320" y="9179"/>
                  <a:pt x="8274" y="9227"/>
                  <a:pt x="8235" y="9277"/>
                </a:cubicBezTo>
                <a:cubicBezTo>
                  <a:pt x="8192" y="9332"/>
                  <a:pt x="8144" y="9326"/>
                  <a:pt x="8186" y="9401"/>
                </a:cubicBezTo>
                <a:cubicBezTo>
                  <a:pt x="8210" y="9443"/>
                  <a:pt x="8269" y="9426"/>
                  <a:pt x="8310" y="9426"/>
                </a:cubicBezTo>
                <a:cubicBezTo>
                  <a:pt x="8410" y="9426"/>
                  <a:pt x="8467" y="9397"/>
                  <a:pt x="8558" y="9376"/>
                </a:cubicBezTo>
                <a:cubicBezTo>
                  <a:pt x="8609" y="9364"/>
                  <a:pt x="8635" y="9379"/>
                  <a:pt x="8682" y="9351"/>
                </a:cubicBezTo>
              </a:path>
              <a:path w="6128" h="2556">
                <a:moveTo>
                  <a:pt x="8905" y="9054"/>
                </a:moveTo>
                <a:cubicBezTo>
                  <a:pt x="8919" y="9090"/>
                  <a:pt x="8928" y="9110"/>
                  <a:pt x="8930" y="9153"/>
                </a:cubicBezTo>
                <a:cubicBezTo>
                  <a:pt x="8933" y="9211"/>
                  <a:pt x="8918" y="9256"/>
                  <a:pt x="8954" y="9302"/>
                </a:cubicBezTo>
                <a:cubicBezTo>
                  <a:pt x="8975" y="9329"/>
                  <a:pt x="8965" y="9340"/>
                  <a:pt x="9004" y="9351"/>
                </a:cubicBezTo>
                <a:cubicBezTo>
                  <a:pt x="9025" y="9357"/>
                  <a:pt x="9058" y="9351"/>
                  <a:pt x="9079" y="9351"/>
                </a:cubicBezTo>
                <a:cubicBezTo>
                  <a:pt x="9084" y="9314"/>
                  <a:pt x="9085" y="9282"/>
                  <a:pt x="9103" y="9252"/>
                </a:cubicBezTo>
                <a:cubicBezTo>
                  <a:pt x="9129" y="9209"/>
                  <a:pt x="9113" y="9198"/>
                  <a:pt x="9128" y="9153"/>
                </a:cubicBezTo>
                <a:cubicBezTo>
                  <a:pt x="9149" y="9089"/>
                  <a:pt x="9153" y="9073"/>
                  <a:pt x="9153" y="9004"/>
                </a:cubicBezTo>
                <a:cubicBezTo>
                  <a:pt x="9153" y="8953"/>
                  <a:pt x="9165" y="8903"/>
                  <a:pt x="9178" y="8855"/>
                </a:cubicBezTo>
                <a:cubicBezTo>
                  <a:pt x="9201" y="8774"/>
                  <a:pt x="9221" y="8747"/>
                  <a:pt x="9252" y="8682"/>
                </a:cubicBezTo>
                <a:cubicBezTo>
                  <a:pt x="9272" y="8639"/>
                  <a:pt x="9271" y="8595"/>
                  <a:pt x="9302" y="8558"/>
                </a:cubicBezTo>
                <a:cubicBezTo>
                  <a:pt x="9340" y="8512"/>
                  <a:pt x="9317" y="8515"/>
                  <a:pt x="9376" y="8508"/>
                </a:cubicBezTo>
                <a:cubicBezTo>
                  <a:pt x="9631" y="8478"/>
                  <a:pt x="9924" y="8501"/>
                  <a:pt x="10170" y="8533"/>
                </a:cubicBezTo>
                <a:cubicBezTo>
                  <a:pt x="10195" y="8533"/>
                  <a:pt x="10219" y="8533"/>
                  <a:pt x="10244" y="8533"/>
                </a:cubicBezTo>
              </a:path>
              <a:path w="6128" h="2556">
                <a:moveTo>
                  <a:pt x="9624" y="8731"/>
                </a:moveTo>
                <a:cubicBezTo>
                  <a:pt x="9687" y="8744"/>
                  <a:pt x="9694" y="8735"/>
                  <a:pt x="9748" y="8731"/>
                </a:cubicBezTo>
                <a:cubicBezTo>
                  <a:pt x="9846" y="8724"/>
                  <a:pt x="9928" y="8729"/>
                  <a:pt x="10021" y="8706"/>
                </a:cubicBezTo>
                <a:cubicBezTo>
                  <a:pt x="10058" y="8697"/>
                  <a:pt x="10107" y="8706"/>
                  <a:pt x="10145" y="8706"/>
                </a:cubicBezTo>
              </a:path>
              <a:path w="6128" h="2556">
                <a:moveTo>
                  <a:pt x="9674" y="8781"/>
                </a:moveTo>
                <a:cubicBezTo>
                  <a:pt x="9656" y="8822"/>
                  <a:pt x="9629" y="8864"/>
                  <a:pt x="9624" y="8905"/>
                </a:cubicBezTo>
                <a:cubicBezTo>
                  <a:pt x="9624" y="8933"/>
                  <a:pt x="9622" y="8944"/>
                  <a:pt x="9599" y="8954"/>
                </a:cubicBezTo>
                <a:cubicBezTo>
                  <a:pt x="9628" y="8983"/>
                  <a:pt x="9663" y="9017"/>
                  <a:pt x="9699" y="9029"/>
                </a:cubicBezTo>
                <a:cubicBezTo>
                  <a:pt x="9737" y="9042"/>
                  <a:pt x="9788" y="9043"/>
                  <a:pt x="9823" y="9054"/>
                </a:cubicBezTo>
                <a:cubicBezTo>
                  <a:pt x="9857" y="9065"/>
                  <a:pt x="9892" y="9060"/>
                  <a:pt x="9922" y="9079"/>
                </a:cubicBezTo>
                <a:cubicBezTo>
                  <a:pt x="9939" y="9090"/>
                  <a:pt x="9995" y="9126"/>
                  <a:pt x="9996" y="9128"/>
                </a:cubicBezTo>
                <a:cubicBezTo>
                  <a:pt x="10010" y="9181"/>
                  <a:pt x="9988" y="9204"/>
                  <a:pt x="9971" y="9227"/>
                </a:cubicBezTo>
                <a:cubicBezTo>
                  <a:pt x="9940" y="9269"/>
                  <a:pt x="9921" y="9277"/>
                  <a:pt x="9872" y="9277"/>
                </a:cubicBezTo>
                <a:cubicBezTo>
                  <a:pt x="9830" y="9277"/>
                  <a:pt x="9800" y="9302"/>
                  <a:pt x="9748" y="9302"/>
                </a:cubicBezTo>
                <a:cubicBezTo>
                  <a:pt x="9715" y="9302"/>
                  <a:pt x="9666" y="9302"/>
                  <a:pt x="9699" y="9302"/>
                </a:cubicBezTo>
              </a:path>
              <a:path w="6128" h="2556">
                <a:moveTo>
                  <a:pt x="7590" y="9649"/>
                </a:moveTo>
                <a:cubicBezTo>
                  <a:pt x="7653" y="9673"/>
                  <a:pt x="7672" y="9674"/>
                  <a:pt x="7739" y="9674"/>
                </a:cubicBezTo>
                <a:cubicBezTo>
                  <a:pt x="7809" y="9674"/>
                  <a:pt x="7869" y="9695"/>
                  <a:pt x="7938" y="9699"/>
                </a:cubicBezTo>
                <a:cubicBezTo>
                  <a:pt x="8032" y="9704"/>
                  <a:pt x="8119" y="9713"/>
                  <a:pt x="8210" y="9723"/>
                </a:cubicBezTo>
                <a:cubicBezTo>
                  <a:pt x="8340" y="9737"/>
                  <a:pt x="8479" y="9736"/>
                  <a:pt x="8607" y="9748"/>
                </a:cubicBezTo>
                <a:cubicBezTo>
                  <a:pt x="8860" y="9771"/>
                  <a:pt x="9129" y="9745"/>
                  <a:pt x="9376" y="9723"/>
                </a:cubicBezTo>
                <a:cubicBezTo>
                  <a:pt x="9540" y="9708"/>
                  <a:pt x="9711" y="9713"/>
                  <a:pt x="9872" y="9699"/>
                </a:cubicBezTo>
                <a:cubicBezTo>
                  <a:pt x="10003" y="9688"/>
                  <a:pt x="10138" y="9699"/>
                  <a:pt x="10269" y="9699"/>
                </a:cubicBezTo>
              </a:path>
              <a:path w="6128" h="2556">
                <a:moveTo>
                  <a:pt x="8607" y="10071"/>
                </a:moveTo>
                <a:cubicBezTo>
                  <a:pt x="8691" y="10035"/>
                  <a:pt x="8659" y="10063"/>
                  <a:pt x="8731" y="10071"/>
                </a:cubicBezTo>
                <a:cubicBezTo>
                  <a:pt x="8817" y="10081"/>
                  <a:pt x="8903" y="10081"/>
                  <a:pt x="8979" y="10096"/>
                </a:cubicBezTo>
                <a:cubicBezTo>
                  <a:pt x="9080" y="10116"/>
                  <a:pt x="9184" y="10093"/>
                  <a:pt x="9277" y="10120"/>
                </a:cubicBezTo>
                <a:cubicBezTo>
                  <a:pt x="9297" y="10126"/>
                  <a:pt x="9330" y="10120"/>
                  <a:pt x="9351" y="10120"/>
                </a:cubicBezTo>
              </a:path>
              <a:path w="6128" h="2556">
                <a:moveTo>
                  <a:pt x="8607" y="10120"/>
                </a:moveTo>
                <a:cubicBezTo>
                  <a:pt x="8615" y="10128"/>
                  <a:pt x="8624" y="10137"/>
                  <a:pt x="8632" y="10145"/>
                </a:cubicBezTo>
                <a:cubicBezTo>
                  <a:pt x="8604" y="10183"/>
                  <a:pt x="8607" y="10196"/>
                  <a:pt x="8607" y="10244"/>
                </a:cubicBezTo>
                <a:cubicBezTo>
                  <a:pt x="8607" y="10368"/>
                  <a:pt x="8607" y="10492"/>
                  <a:pt x="8607" y="10616"/>
                </a:cubicBezTo>
                <a:cubicBezTo>
                  <a:pt x="8641" y="10605"/>
                  <a:pt x="8637" y="10577"/>
                  <a:pt x="8657" y="10567"/>
                </a:cubicBezTo>
                <a:cubicBezTo>
                  <a:pt x="8689" y="10551"/>
                  <a:pt x="8716" y="10542"/>
                  <a:pt x="8756" y="10542"/>
                </a:cubicBezTo>
                <a:cubicBezTo>
                  <a:pt x="8813" y="10542"/>
                  <a:pt x="8834" y="10552"/>
                  <a:pt x="8880" y="10567"/>
                </a:cubicBezTo>
                <a:cubicBezTo>
                  <a:pt x="8916" y="10579"/>
                  <a:pt x="8939" y="10584"/>
                  <a:pt x="8954" y="10592"/>
                </a:cubicBezTo>
                <a:cubicBezTo>
                  <a:pt x="8982" y="10606"/>
                  <a:pt x="9027" y="10598"/>
                  <a:pt x="9054" y="10616"/>
                </a:cubicBezTo>
                <a:cubicBezTo>
                  <a:pt x="9087" y="10638"/>
                  <a:pt x="9124" y="10679"/>
                  <a:pt x="9128" y="10716"/>
                </a:cubicBezTo>
                <a:cubicBezTo>
                  <a:pt x="9133" y="10764"/>
                  <a:pt x="9134" y="10805"/>
                  <a:pt x="9103" y="10840"/>
                </a:cubicBezTo>
                <a:cubicBezTo>
                  <a:pt x="9076" y="10870"/>
                  <a:pt x="9019" y="10884"/>
                  <a:pt x="9004" y="10914"/>
                </a:cubicBezTo>
                <a:cubicBezTo>
                  <a:pt x="8986" y="10950"/>
                  <a:pt x="8984" y="10942"/>
                  <a:pt x="8954" y="10964"/>
                </a:cubicBezTo>
                <a:cubicBezTo>
                  <a:pt x="8918" y="10991"/>
                  <a:pt x="8905" y="10994"/>
                  <a:pt x="8880" y="11013"/>
                </a:cubicBezTo>
                <a:cubicBezTo>
                  <a:pt x="8849" y="11036"/>
                  <a:pt x="8820" y="11059"/>
                  <a:pt x="8781" y="11063"/>
                </a:cubicBezTo>
                <a:cubicBezTo>
                  <a:pt x="8733" y="11068"/>
                  <a:pt x="8692" y="11069"/>
                  <a:pt x="8657" y="11038"/>
                </a:cubicBezTo>
                <a:cubicBezTo>
                  <a:pt x="8634" y="11015"/>
                  <a:pt x="8630" y="11007"/>
                  <a:pt x="8607" y="110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Ink 25"/>
          <p:cNvSpPr/>
          <p:nvPr/>
        </p:nvSpPr>
        <p:spPr>
          <a:xfrm>
            <a:off x="4249800" y="2990880"/>
            <a:ext cx="1778040" cy="893880"/>
          </a:xfrm>
          <a:custGeom>
            <a:avLst/>
            <a:gdLst/>
            <a:ahLst/>
            <a:rect l="l" t="t" r="r" b="b"/>
            <a:pathLst>
              <a:path w="4937" h="2481">
                <a:moveTo>
                  <a:pt x="12378" y="8806"/>
                </a:moveTo>
                <a:cubicBezTo>
                  <a:pt x="12298" y="8772"/>
                  <a:pt x="12319" y="8784"/>
                  <a:pt x="12254" y="8806"/>
                </a:cubicBezTo>
                <a:cubicBezTo>
                  <a:pt x="12201" y="8824"/>
                  <a:pt x="12173" y="8861"/>
                  <a:pt x="12129" y="8905"/>
                </a:cubicBezTo>
                <a:cubicBezTo>
                  <a:pt x="12063" y="8971"/>
                  <a:pt x="12032" y="9029"/>
                  <a:pt x="11981" y="9103"/>
                </a:cubicBezTo>
                <a:cubicBezTo>
                  <a:pt x="11944" y="9156"/>
                  <a:pt x="11874" y="9192"/>
                  <a:pt x="11857" y="9252"/>
                </a:cubicBezTo>
                <a:cubicBezTo>
                  <a:pt x="11840" y="9312"/>
                  <a:pt x="11817" y="9390"/>
                  <a:pt x="11807" y="9451"/>
                </a:cubicBezTo>
                <a:cubicBezTo>
                  <a:pt x="11798" y="9507"/>
                  <a:pt x="11803" y="9577"/>
                  <a:pt x="11832" y="9624"/>
                </a:cubicBezTo>
                <a:cubicBezTo>
                  <a:pt x="11868" y="9681"/>
                  <a:pt x="11944" y="9720"/>
                  <a:pt x="12005" y="9723"/>
                </a:cubicBezTo>
                <a:cubicBezTo>
                  <a:pt x="12125" y="9730"/>
                  <a:pt x="12267" y="9739"/>
                  <a:pt x="12378" y="9699"/>
                </a:cubicBezTo>
              </a:path>
              <a:path w="4937" h="2481">
                <a:moveTo>
                  <a:pt x="12998" y="9203"/>
                </a:moveTo>
                <a:cubicBezTo>
                  <a:pt x="12940" y="9203"/>
                  <a:pt x="12943" y="9181"/>
                  <a:pt x="12898" y="9203"/>
                </a:cubicBezTo>
                <a:cubicBezTo>
                  <a:pt x="12823" y="9240"/>
                  <a:pt x="12824" y="9248"/>
                  <a:pt x="12824" y="9327"/>
                </a:cubicBezTo>
                <a:cubicBezTo>
                  <a:pt x="12824" y="9380"/>
                  <a:pt x="12793" y="9547"/>
                  <a:pt x="12849" y="9575"/>
                </a:cubicBezTo>
                <a:cubicBezTo>
                  <a:pt x="12892" y="9597"/>
                  <a:pt x="12945" y="9550"/>
                  <a:pt x="12973" y="9525"/>
                </a:cubicBezTo>
                <a:cubicBezTo>
                  <a:pt x="13021" y="9481"/>
                  <a:pt x="13053" y="9449"/>
                  <a:pt x="13097" y="9401"/>
                </a:cubicBezTo>
                <a:cubicBezTo>
                  <a:pt x="13117" y="9379"/>
                  <a:pt x="13183" y="9311"/>
                  <a:pt x="13196" y="9302"/>
                </a:cubicBezTo>
                <a:cubicBezTo>
                  <a:pt x="13214" y="9290"/>
                  <a:pt x="13251" y="9255"/>
                  <a:pt x="13196" y="9227"/>
                </a:cubicBezTo>
                <a:cubicBezTo>
                  <a:pt x="13157" y="9208"/>
                  <a:pt x="13120" y="9203"/>
                  <a:pt x="13072" y="9203"/>
                </a:cubicBezTo>
                <a:cubicBezTo>
                  <a:pt x="13031" y="9203"/>
                  <a:pt x="13060" y="9215"/>
                  <a:pt x="13022" y="9227"/>
                </a:cubicBezTo>
              </a:path>
              <a:path w="4937" h="2481">
                <a:moveTo>
                  <a:pt x="13568" y="8756"/>
                </a:moveTo>
                <a:cubicBezTo>
                  <a:pt x="13568" y="8809"/>
                  <a:pt x="13552" y="8829"/>
                  <a:pt x="13543" y="8880"/>
                </a:cubicBezTo>
                <a:cubicBezTo>
                  <a:pt x="13506" y="9092"/>
                  <a:pt x="13543" y="9690"/>
                  <a:pt x="13543" y="9475"/>
                </a:cubicBezTo>
              </a:path>
              <a:path w="4937" h="2481">
                <a:moveTo>
                  <a:pt x="13444" y="9128"/>
                </a:moveTo>
                <a:cubicBezTo>
                  <a:pt x="13483" y="9118"/>
                  <a:pt x="13499" y="9103"/>
                  <a:pt x="13543" y="9103"/>
                </a:cubicBezTo>
                <a:cubicBezTo>
                  <a:pt x="13598" y="9103"/>
                  <a:pt x="13614" y="9079"/>
                  <a:pt x="13667" y="9079"/>
                </a:cubicBezTo>
                <a:cubicBezTo>
                  <a:pt x="13708" y="9079"/>
                  <a:pt x="13750" y="9079"/>
                  <a:pt x="13791" y="9079"/>
                </a:cubicBezTo>
              </a:path>
              <a:path w="4937" h="2481">
                <a:moveTo>
                  <a:pt x="14163" y="9178"/>
                </a:moveTo>
                <a:cubicBezTo>
                  <a:pt x="14163" y="9170"/>
                  <a:pt x="14163" y="9161"/>
                  <a:pt x="14163" y="9153"/>
                </a:cubicBezTo>
                <a:cubicBezTo>
                  <a:pt x="14176" y="9191"/>
                  <a:pt x="14193" y="9178"/>
                  <a:pt x="14238" y="9178"/>
                </a:cubicBezTo>
                <a:cubicBezTo>
                  <a:pt x="14304" y="9178"/>
                  <a:pt x="14370" y="9178"/>
                  <a:pt x="14436" y="9178"/>
                </a:cubicBezTo>
              </a:path>
              <a:path w="4937" h="2481">
                <a:moveTo>
                  <a:pt x="14139" y="9426"/>
                </a:moveTo>
                <a:cubicBezTo>
                  <a:pt x="14178" y="9416"/>
                  <a:pt x="14193" y="9401"/>
                  <a:pt x="14238" y="9401"/>
                </a:cubicBezTo>
                <a:cubicBezTo>
                  <a:pt x="14271" y="9401"/>
                  <a:pt x="14304" y="9401"/>
                  <a:pt x="14337" y="9401"/>
                </a:cubicBezTo>
              </a:path>
              <a:path w="4937" h="2481">
                <a:moveTo>
                  <a:pt x="13767" y="9178"/>
                </a:moveTo>
                <a:cubicBezTo>
                  <a:pt x="13806" y="9188"/>
                  <a:pt x="13806" y="9188"/>
                  <a:pt x="13816" y="9227"/>
                </a:cubicBezTo>
                <a:cubicBezTo>
                  <a:pt x="13846" y="9237"/>
                  <a:pt x="13859" y="9269"/>
                  <a:pt x="13891" y="9302"/>
                </a:cubicBezTo>
                <a:cubicBezTo>
                  <a:pt x="13920" y="9331"/>
                  <a:pt x="13928" y="9342"/>
                  <a:pt x="13965" y="9351"/>
                </a:cubicBezTo>
                <a:cubicBezTo>
                  <a:pt x="13976" y="9383"/>
                  <a:pt x="13999" y="9391"/>
                  <a:pt x="14039" y="9401"/>
                </a:cubicBezTo>
                <a:cubicBezTo>
                  <a:pt x="14051" y="9436"/>
                  <a:pt x="14046" y="9426"/>
                  <a:pt x="14089" y="9426"/>
                </a:cubicBezTo>
              </a:path>
              <a:path w="4937" h="2481">
                <a:moveTo>
                  <a:pt x="14039" y="9178"/>
                </a:moveTo>
                <a:cubicBezTo>
                  <a:pt x="14012" y="9216"/>
                  <a:pt x="13991" y="9260"/>
                  <a:pt x="13965" y="9302"/>
                </a:cubicBezTo>
                <a:cubicBezTo>
                  <a:pt x="13929" y="9362"/>
                  <a:pt x="13883" y="9419"/>
                  <a:pt x="13841" y="9475"/>
                </a:cubicBezTo>
                <a:cubicBezTo>
                  <a:pt x="13818" y="9498"/>
                  <a:pt x="13810" y="9502"/>
                  <a:pt x="13816" y="9525"/>
                </a:cubicBezTo>
              </a:path>
              <a:path w="4937" h="2481">
                <a:moveTo>
                  <a:pt x="15131" y="8657"/>
                </a:moveTo>
                <a:cubicBezTo>
                  <a:pt x="15191" y="8657"/>
                  <a:pt x="15230" y="8647"/>
                  <a:pt x="15280" y="8632"/>
                </a:cubicBezTo>
                <a:cubicBezTo>
                  <a:pt x="15357" y="8608"/>
                  <a:pt x="15498" y="8617"/>
                  <a:pt x="15577" y="8607"/>
                </a:cubicBezTo>
                <a:cubicBezTo>
                  <a:pt x="15654" y="8597"/>
                  <a:pt x="15728" y="8594"/>
                  <a:pt x="15801" y="8582"/>
                </a:cubicBezTo>
                <a:cubicBezTo>
                  <a:pt x="15852" y="8573"/>
                  <a:pt x="15904" y="8563"/>
                  <a:pt x="15949" y="8558"/>
                </a:cubicBezTo>
                <a:cubicBezTo>
                  <a:pt x="15974" y="8558"/>
                  <a:pt x="15982" y="8558"/>
                  <a:pt x="15999" y="8558"/>
                </a:cubicBezTo>
              </a:path>
              <a:path w="4937" h="2481">
                <a:moveTo>
                  <a:pt x="15131" y="8657"/>
                </a:moveTo>
                <a:cubicBezTo>
                  <a:pt x="15121" y="8698"/>
                  <a:pt x="15089" y="8743"/>
                  <a:pt x="15081" y="8781"/>
                </a:cubicBezTo>
                <a:cubicBezTo>
                  <a:pt x="15071" y="8832"/>
                  <a:pt x="15047" y="8879"/>
                  <a:pt x="15056" y="8930"/>
                </a:cubicBezTo>
                <a:cubicBezTo>
                  <a:pt x="15063" y="8973"/>
                  <a:pt x="15094" y="8979"/>
                  <a:pt x="15131" y="8979"/>
                </a:cubicBezTo>
                <a:cubicBezTo>
                  <a:pt x="15194" y="8979"/>
                  <a:pt x="15232" y="8993"/>
                  <a:pt x="15280" y="9004"/>
                </a:cubicBezTo>
                <a:cubicBezTo>
                  <a:pt x="15311" y="9011"/>
                  <a:pt x="15385" y="9000"/>
                  <a:pt x="15404" y="9029"/>
                </a:cubicBezTo>
                <a:cubicBezTo>
                  <a:pt x="15419" y="9052"/>
                  <a:pt x="15451" y="9083"/>
                  <a:pt x="15453" y="9103"/>
                </a:cubicBezTo>
                <a:cubicBezTo>
                  <a:pt x="15458" y="9141"/>
                  <a:pt x="15501" y="9181"/>
                  <a:pt x="15478" y="9227"/>
                </a:cubicBezTo>
                <a:cubicBezTo>
                  <a:pt x="15459" y="9265"/>
                  <a:pt x="15452" y="9317"/>
                  <a:pt x="15429" y="9351"/>
                </a:cubicBezTo>
                <a:cubicBezTo>
                  <a:pt x="15398" y="9397"/>
                  <a:pt x="15344" y="9381"/>
                  <a:pt x="15304" y="9401"/>
                </a:cubicBezTo>
                <a:cubicBezTo>
                  <a:pt x="15260" y="9423"/>
                  <a:pt x="15233" y="9426"/>
                  <a:pt x="15180" y="9426"/>
                </a:cubicBezTo>
              </a:path>
              <a:path w="4937" h="2481">
                <a:moveTo>
                  <a:pt x="14684" y="9103"/>
                </a:moveTo>
                <a:cubicBezTo>
                  <a:pt x="14676" y="9095"/>
                  <a:pt x="14668" y="9087"/>
                  <a:pt x="14660" y="9079"/>
                </a:cubicBezTo>
                <a:cubicBezTo>
                  <a:pt x="14677" y="9113"/>
                  <a:pt x="14671" y="9107"/>
                  <a:pt x="14684" y="9153"/>
                </a:cubicBezTo>
                <a:cubicBezTo>
                  <a:pt x="14696" y="9196"/>
                  <a:pt x="14696" y="9254"/>
                  <a:pt x="14709" y="9302"/>
                </a:cubicBezTo>
                <a:cubicBezTo>
                  <a:pt x="14720" y="9342"/>
                  <a:pt x="14735" y="9366"/>
                  <a:pt x="14759" y="9401"/>
                </a:cubicBezTo>
                <a:cubicBezTo>
                  <a:pt x="14773" y="9421"/>
                  <a:pt x="14774" y="9453"/>
                  <a:pt x="14808" y="9451"/>
                </a:cubicBezTo>
                <a:cubicBezTo>
                  <a:pt x="14855" y="9448"/>
                  <a:pt x="14895" y="9397"/>
                  <a:pt x="14908" y="9351"/>
                </a:cubicBezTo>
                <a:cubicBezTo>
                  <a:pt x="14962" y="9158"/>
                  <a:pt x="14908" y="8873"/>
                  <a:pt x="14932" y="8682"/>
                </a:cubicBezTo>
                <a:cubicBezTo>
                  <a:pt x="14938" y="8632"/>
                  <a:pt x="14950" y="8600"/>
                  <a:pt x="14957" y="8582"/>
                </a:cubicBezTo>
                <a:cubicBezTo>
                  <a:pt x="14972" y="8546"/>
                  <a:pt x="14986" y="8488"/>
                  <a:pt x="15007" y="8458"/>
                </a:cubicBezTo>
                <a:cubicBezTo>
                  <a:pt x="15013" y="8449"/>
                  <a:pt x="15059" y="8421"/>
                  <a:pt x="15081" y="8409"/>
                </a:cubicBezTo>
                <a:cubicBezTo>
                  <a:pt x="15113" y="8392"/>
                  <a:pt x="15143" y="8394"/>
                  <a:pt x="15180" y="8384"/>
                </a:cubicBezTo>
                <a:cubicBezTo>
                  <a:pt x="15222" y="8373"/>
                  <a:pt x="15282" y="8372"/>
                  <a:pt x="15329" y="8359"/>
                </a:cubicBezTo>
                <a:cubicBezTo>
                  <a:pt x="15413" y="8337"/>
                  <a:pt x="15486" y="8312"/>
                  <a:pt x="15577" y="8310"/>
                </a:cubicBezTo>
                <a:cubicBezTo>
                  <a:pt x="15803" y="8304"/>
                  <a:pt x="16023" y="8316"/>
                  <a:pt x="16247" y="8334"/>
                </a:cubicBezTo>
                <a:cubicBezTo>
                  <a:pt x="16342" y="8342"/>
                  <a:pt x="16428" y="8355"/>
                  <a:pt x="16520" y="8359"/>
                </a:cubicBezTo>
                <a:cubicBezTo>
                  <a:pt x="16603" y="8362"/>
                  <a:pt x="16665" y="8374"/>
                  <a:pt x="16743" y="8384"/>
                </a:cubicBezTo>
              </a:path>
              <a:path w="4937" h="2481">
                <a:moveTo>
                  <a:pt x="14635" y="9674"/>
                </a:moveTo>
                <a:cubicBezTo>
                  <a:pt x="14690" y="9688"/>
                  <a:pt x="14747" y="9710"/>
                  <a:pt x="14808" y="9723"/>
                </a:cubicBezTo>
                <a:cubicBezTo>
                  <a:pt x="14892" y="9741"/>
                  <a:pt x="14979" y="9708"/>
                  <a:pt x="15056" y="9699"/>
                </a:cubicBezTo>
                <a:cubicBezTo>
                  <a:pt x="15268" y="9673"/>
                  <a:pt x="15491" y="9698"/>
                  <a:pt x="15701" y="9674"/>
                </a:cubicBezTo>
                <a:cubicBezTo>
                  <a:pt x="15787" y="9664"/>
                  <a:pt x="15845" y="9695"/>
                  <a:pt x="15925" y="9699"/>
                </a:cubicBezTo>
                <a:cubicBezTo>
                  <a:pt x="15941" y="9699"/>
                  <a:pt x="15958" y="9699"/>
                  <a:pt x="15974" y="9699"/>
                </a:cubicBezTo>
              </a:path>
              <a:path w="4937" h="2481">
                <a:moveTo>
                  <a:pt x="14982" y="10071"/>
                </a:moveTo>
                <a:cubicBezTo>
                  <a:pt x="15020" y="10055"/>
                  <a:pt x="15076" y="10041"/>
                  <a:pt x="15106" y="10021"/>
                </a:cubicBezTo>
                <a:cubicBezTo>
                  <a:pt x="15152" y="9990"/>
                  <a:pt x="15199" y="9976"/>
                  <a:pt x="15255" y="9971"/>
                </a:cubicBezTo>
                <a:cubicBezTo>
                  <a:pt x="15328" y="9965"/>
                  <a:pt x="15371" y="9976"/>
                  <a:pt x="15429" y="9996"/>
                </a:cubicBezTo>
                <a:cubicBezTo>
                  <a:pt x="15462" y="10007"/>
                  <a:pt x="15473" y="10049"/>
                  <a:pt x="15478" y="10096"/>
                </a:cubicBezTo>
                <a:cubicBezTo>
                  <a:pt x="15482" y="10131"/>
                  <a:pt x="15469" y="10170"/>
                  <a:pt x="15453" y="10195"/>
                </a:cubicBezTo>
                <a:cubicBezTo>
                  <a:pt x="15429" y="10233"/>
                  <a:pt x="15414" y="10259"/>
                  <a:pt x="15379" y="10294"/>
                </a:cubicBezTo>
                <a:cubicBezTo>
                  <a:pt x="15331" y="10342"/>
                  <a:pt x="15282" y="10378"/>
                  <a:pt x="15230" y="10418"/>
                </a:cubicBezTo>
                <a:cubicBezTo>
                  <a:pt x="15178" y="10458"/>
                  <a:pt x="15133" y="10503"/>
                  <a:pt x="15081" y="10542"/>
                </a:cubicBezTo>
                <a:cubicBezTo>
                  <a:pt x="15042" y="10571"/>
                  <a:pt x="14997" y="10620"/>
                  <a:pt x="14982" y="10666"/>
                </a:cubicBezTo>
                <a:cubicBezTo>
                  <a:pt x="14969" y="10706"/>
                  <a:pt x="14970" y="10676"/>
                  <a:pt x="14957" y="10716"/>
                </a:cubicBezTo>
                <a:cubicBezTo>
                  <a:pt x="15015" y="10772"/>
                  <a:pt x="15019" y="10765"/>
                  <a:pt x="15106" y="10765"/>
                </a:cubicBezTo>
                <a:cubicBezTo>
                  <a:pt x="15232" y="10765"/>
                  <a:pt x="15368" y="10753"/>
                  <a:pt x="15478" y="10790"/>
                </a:cubicBezTo>
                <a:cubicBezTo>
                  <a:pt x="15503" y="10790"/>
                  <a:pt x="15511" y="10790"/>
                  <a:pt x="15528" y="10790"/>
                </a:cubicBezTo>
              </a:path>
              <a:path w="4937" h="2481">
                <a:moveTo>
                  <a:pt x="14263" y="8706"/>
                </a:moveTo>
                <a:cubicBezTo>
                  <a:pt x="14271" y="8706"/>
                  <a:pt x="14280" y="8706"/>
                  <a:pt x="14288" y="8706"/>
                </a:cubicBezTo>
                <a:cubicBezTo>
                  <a:pt x="14300" y="8744"/>
                  <a:pt x="14317" y="8731"/>
                  <a:pt x="14362" y="8731"/>
                </a:cubicBezTo>
                <a:cubicBezTo>
                  <a:pt x="14424" y="8731"/>
                  <a:pt x="14452" y="8741"/>
                  <a:pt x="14511" y="8756"/>
                </a:cubicBezTo>
                <a:cubicBezTo>
                  <a:pt x="14540" y="8763"/>
                  <a:pt x="14580" y="8756"/>
                  <a:pt x="14610" y="87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Ink 26"/>
          <p:cNvSpPr/>
          <p:nvPr/>
        </p:nvSpPr>
        <p:spPr>
          <a:xfrm>
            <a:off x="7161120" y="3429000"/>
            <a:ext cx="1785960" cy="588960"/>
          </a:xfrm>
          <a:custGeom>
            <a:avLst/>
            <a:gdLst/>
            <a:ahLst/>
            <a:rect l="l" t="t" r="r" b="b"/>
            <a:pathLst>
              <a:path w="4962" h="1638">
                <a:moveTo>
                  <a:pt x="20290" y="10368"/>
                </a:moveTo>
                <a:cubicBezTo>
                  <a:pt x="20259" y="10370"/>
                  <a:pt x="20237" y="10405"/>
                  <a:pt x="20191" y="10393"/>
                </a:cubicBezTo>
                <a:cubicBezTo>
                  <a:pt x="20159" y="10385"/>
                  <a:pt x="20153" y="10370"/>
                  <a:pt x="20117" y="10344"/>
                </a:cubicBezTo>
                <a:cubicBezTo>
                  <a:pt x="20043" y="10291"/>
                  <a:pt x="20079" y="10294"/>
                  <a:pt x="20042" y="10220"/>
                </a:cubicBezTo>
                <a:cubicBezTo>
                  <a:pt x="20021" y="10178"/>
                  <a:pt x="20005" y="10141"/>
                  <a:pt x="19993" y="10096"/>
                </a:cubicBezTo>
                <a:cubicBezTo>
                  <a:pt x="19984" y="10062"/>
                  <a:pt x="19967" y="10001"/>
                  <a:pt x="19968" y="9971"/>
                </a:cubicBezTo>
                <a:cubicBezTo>
                  <a:pt x="19970" y="9904"/>
                  <a:pt x="20017" y="9830"/>
                  <a:pt x="20042" y="9773"/>
                </a:cubicBezTo>
                <a:cubicBezTo>
                  <a:pt x="20064" y="9723"/>
                  <a:pt x="20081" y="9695"/>
                  <a:pt x="20117" y="9649"/>
                </a:cubicBezTo>
                <a:cubicBezTo>
                  <a:pt x="20159" y="9595"/>
                  <a:pt x="20203" y="9572"/>
                  <a:pt x="20265" y="9550"/>
                </a:cubicBezTo>
                <a:cubicBezTo>
                  <a:pt x="20343" y="9522"/>
                  <a:pt x="20385" y="9527"/>
                  <a:pt x="20464" y="9550"/>
                </a:cubicBezTo>
                <a:cubicBezTo>
                  <a:pt x="20531" y="9569"/>
                  <a:pt x="20608" y="9585"/>
                  <a:pt x="20662" y="9649"/>
                </a:cubicBezTo>
                <a:cubicBezTo>
                  <a:pt x="20704" y="9699"/>
                  <a:pt x="20721" y="9763"/>
                  <a:pt x="20737" y="9823"/>
                </a:cubicBezTo>
                <a:cubicBezTo>
                  <a:pt x="20753" y="9882"/>
                  <a:pt x="20767" y="9931"/>
                  <a:pt x="20762" y="9996"/>
                </a:cubicBezTo>
                <a:cubicBezTo>
                  <a:pt x="20758" y="10052"/>
                  <a:pt x="20746" y="10093"/>
                  <a:pt x="20737" y="10145"/>
                </a:cubicBezTo>
                <a:cubicBezTo>
                  <a:pt x="20725" y="10213"/>
                  <a:pt x="20708" y="10251"/>
                  <a:pt x="20687" y="10319"/>
                </a:cubicBezTo>
                <a:cubicBezTo>
                  <a:pt x="20666" y="10386"/>
                  <a:pt x="20657" y="10454"/>
                  <a:pt x="20613" y="10517"/>
                </a:cubicBezTo>
                <a:cubicBezTo>
                  <a:pt x="20571" y="10576"/>
                  <a:pt x="20510" y="10620"/>
                  <a:pt x="20464" y="10666"/>
                </a:cubicBezTo>
                <a:cubicBezTo>
                  <a:pt x="20356" y="10774"/>
                  <a:pt x="20341" y="10772"/>
                  <a:pt x="20216" y="10815"/>
                </a:cubicBezTo>
                <a:cubicBezTo>
                  <a:pt x="20160" y="10834"/>
                  <a:pt x="20053" y="10865"/>
                  <a:pt x="19993" y="10864"/>
                </a:cubicBezTo>
                <a:cubicBezTo>
                  <a:pt x="19954" y="10863"/>
                  <a:pt x="19919" y="10843"/>
                  <a:pt x="19893" y="10840"/>
                </a:cubicBezTo>
                <a:cubicBezTo>
                  <a:pt x="19909" y="10798"/>
                  <a:pt x="19895" y="10781"/>
                  <a:pt x="19918" y="10740"/>
                </a:cubicBezTo>
                <a:cubicBezTo>
                  <a:pt x="19950" y="10684"/>
                  <a:pt x="19975" y="10646"/>
                  <a:pt x="20017" y="10592"/>
                </a:cubicBezTo>
                <a:cubicBezTo>
                  <a:pt x="20056" y="10543"/>
                  <a:pt x="20102" y="10509"/>
                  <a:pt x="20141" y="10468"/>
                </a:cubicBezTo>
                <a:cubicBezTo>
                  <a:pt x="20199" y="10408"/>
                  <a:pt x="20242" y="10384"/>
                  <a:pt x="20315" y="10344"/>
                </a:cubicBezTo>
                <a:cubicBezTo>
                  <a:pt x="20423" y="10285"/>
                  <a:pt x="20466" y="10291"/>
                  <a:pt x="20588" y="10269"/>
                </a:cubicBezTo>
                <a:cubicBezTo>
                  <a:pt x="20661" y="10256"/>
                  <a:pt x="20734" y="10254"/>
                  <a:pt x="20811" y="10244"/>
                </a:cubicBezTo>
                <a:cubicBezTo>
                  <a:pt x="20905" y="10231"/>
                  <a:pt x="20986" y="10220"/>
                  <a:pt x="21084" y="10220"/>
                </a:cubicBezTo>
                <a:cubicBezTo>
                  <a:pt x="21168" y="10220"/>
                  <a:pt x="21230" y="10211"/>
                  <a:pt x="21307" y="10195"/>
                </a:cubicBezTo>
                <a:cubicBezTo>
                  <a:pt x="21349" y="10186"/>
                  <a:pt x="21390" y="10184"/>
                  <a:pt x="21431" y="10170"/>
                </a:cubicBezTo>
                <a:cubicBezTo>
                  <a:pt x="21459" y="10170"/>
                  <a:pt x="21470" y="10168"/>
                  <a:pt x="21481" y="10145"/>
                </a:cubicBezTo>
                <a:cubicBezTo>
                  <a:pt x="21448" y="10145"/>
                  <a:pt x="21464" y="10145"/>
                  <a:pt x="21431" y="10145"/>
                </a:cubicBezTo>
                <a:cubicBezTo>
                  <a:pt x="21363" y="10145"/>
                  <a:pt x="21313" y="10158"/>
                  <a:pt x="21258" y="10170"/>
                </a:cubicBezTo>
                <a:cubicBezTo>
                  <a:pt x="21177" y="10188"/>
                  <a:pt x="21119" y="10200"/>
                  <a:pt x="21059" y="10269"/>
                </a:cubicBezTo>
                <a:cubicBezTo>
                  <a:pt x="21034" y="10298"/>
                  <a:pt x="21005" y="10351"/>
                  <a:pt x="21010" y="10393"/>
                </a:cubicBezTo>
                <a:cubicBezTo>
                  <a:pt x="21015" y="10438"/>
                  <a:pt x="21047" y="10490"/>
                  <a:pt x="21084" y="10517"/>
                </a:cubicBezTo>
                <a:cubicBezTo>
                  <a:pt x="21118" y="10542"/>
                  <a:pt x="21212" y="10545"/>
                  <a:pt x="21258" y="10542"/>
                </a:cubicBezTo>
                <a:cubicBezTo>
                  <a:pt x="21310" y="10538"/>
                  <a:pt x="21365" y="10516"/>
                  <a:pt x="21406" y="10492"/>
                </a:cubicBezTo>
                <a:cubicBezTo>
                  <a:pt x="21482" y="10447"/>
                  <a:pt x="21475" y="10402"/>
                  <a:pt x="21506" y="10344"/>
                </a:cubicBezTo>
                <a:cubicBezTo>
                  <a:pt x="21534" y="10293"/>
                  <a:pt x="21568" y="10292"/>
                  <a:pt x="21555" y="10220"/>
                </a:cubicBezTo>
                <a:cubicBezTo>
                  <a:pt x="21548" y="10183"/>
                  <a:pt x="21531" y="10189"/>
                  <a:pt x="21506" y="10170"/>
                </a:cubicBezTo>
                <a:cubicBezTo>
                  <a:pt x="21467" y="10140"/>
                  <a:pt x="21468" y="10162"/>
                  <a:pt x="21431" y="10145"/>
                </a:cubicBezTo>
                <a:cubicBezTo>
                  <a:pt x="21436" y="10147"/>
                  <a:pt x="21480" y="10190"/>
                  <a:pt x="21506" y="10195"/>
                </a:cubicBezTo>
                <a:cubicBezTo>
                  <a:pt x="21587" y="10212"/>
                  <a:pt x="21657" y="10176"/>
                  <a:pt x="21729" y="10170"/>
                </a:cubicBezTo>
                <a:cubicBezTo>
                  <a:pt x="21776" y="10166"/>
                  <a:pt x="21872" y="10144"/>
                  <a:pt x="21903" y="10145"/>
                </a:cubicBezTo>
                <a:cubicBezTo>
                  <a:pt x="21937" y="10146"/>
                  <a:pt x="21978" y="10151"/>
                  <a:pt x="22002" y="10170"/>
                </a:cubicBezTo>
                <a:cubicBezTo>
                  <a:pt x="22037" y="10197"/>
                  <a:pt x="22015" y="10191"/>
                  <a:pt x="22027" y="10244"/>
                </a:cubicBezTo>
                <a:cubicBezTo>
                  <a:pt x="22047" y="10328"/>
                  <a:pt x="22018" y="10439"/>
                  <a:pt x="22002" y="10517"/>
                </a:cubicBezTo>
                <a:cubicBezTo>
                  <a:pt x="21991" y="10573"/>
                  <a:pt x="21966" y="10619"/>
                  <a:pt x="21952" y="10666"/>
                </a:cubicBezTo>
                <a:cubicBezTo>
                  <a:pt x="21952" y="10674"/>
                  <a:pt x="21952" y="10683"/>
                  <a:pt x="21952" y="10691"/>
                </a:cubicBezTo>
                <a:cubicBezTo>
                  <a:pt x="21964" y="10652"/>
                  <a:pt x="21962" y="10606"/>
                  <a:pt x="21977" y="10567"/>
                </a:cubicBezTo>
                <a:cubicBezTo>
                  <a:pt x="21995" y="10521"/>
                  <a:pt x="22027" y="10467"/>
                  <a:pt x="22051" y="10418"/>
                </a:cubicBezTo>
                <a:cubicBezTo>
                  <a:pt x="22071" y="10377"/>
                  <a:pt x="22096" y="10334"/>
                  <a:pt x="22126" y="10294"/>
                </a:cubicBezTo>
                <a:cubicBezTo>
                  <a:pt x="22164" y="10243"/>
                  <a:pt x="22236" y="10184"/>
                  <a:pt x="22299" y="10170"/>
                </a:cubicBezTo>
                <a:cubicBezTo>
                  <a:pt x="22355" y="10157"/>
                  <a:pt x="22406" y="10170"/>
                  <a:pt x="22448" y="10195"/>
                </a:cubicBezTo>
                <a:cubicBezTo>
                  <a:pt x="22499" y="10225"/>
                  <a:pt x="22528" y="10320"/>
                  <a:pt x="22547" y="10368"/>
                </a:cubicBezTo>
                <a:cubicBezTo>
                  <a:pt x="22574" y="10438"/>
                  <a:pt x="22553" y="10476"/>
                  <a:pt x="22547" y="10542"/>
                </a:cubicBezTo>
                <a:cubicBezTo>
                  <a:pt x="22543" y="10586"/>
                  <a:pt x="22522" y="10630"/>
                  <a:pt x="22523" y="10666"/>
                </a:cubicBezTo>
                <a:cubicBezTo>
                  <a:pt x="22523" y="10675"/>
                  <a:pt x="22541" y="10758"/>
                  <a:pt x="22547" y="10765"/>
                </a:cubicBezTo>
                <a:cubicBezTo>
                  <a:pt x="22569" y="10792"/>
                  <a:pt x="22615" y="10811"/>
                  <a:pt x="22647" y="10815"/>
                </a:cubicBezTo>
                <a:cubicBezTo>
                  <a:pt x="22718" y="10824"/>
                  <a:pt x="22757" y="10790"/>
                  <a:pt x="22820" y="10765"/>
                </a:cubicBezTo>
                <a:cubicBezTo>
                  <a:pt x="22905" y="10732"/>
                  <a:pt x="22964" y="10690"/>
                  <a:pt x="23044" y="10641"/>
                </a:cubicBezTo>
                <a:cubicBezTo>
                  <a:pt x="23094" y="10610"/>
                  <a:pt x="23151" y="10584"/>
                  <a:pt x="23192" y="10542"/>
                </a:cubicBezTo>
                <a:cubicBezTo>
                  <a:pt x="23238" y="10494"/>
                  <a:pt x="23248" y="10472"/>
                  <a:pt x="23267" y="10418"/>
                </a:cubicBezTo>
                <a:cubicBezTo>
                  <a:pt x="23278" y="10387"/>
                  <a:pt x="23307" y="10350"/>
                  <a:pt x="23267" y="10319"/>
                </a:cubicBezTo>
                <a:cubicBezTo>
                  <a:pt x="23235" y="10294"/>
                  <a:pt x="23172" y="10310"/>
                  <a:pt x="23143" y="10319"/>
                </a:cubicBezTo>
                <a:cubicBezTo>
                  <a:pt x="23065" y="10343"/>
                  <a:pt x="23008" y="10403"/>
                  <a:pt x="22969" y="10468"/>
                </a:cubicBezTo>
                <a:cubicBezTo>
                  <a:pt x="22907" y="10572"/>
                  <a:pt x="22927" y="10647"/>
                  <a:pt x="22944" y="10740"/>
                </a:cubicBezTo>
                <a:cubicBezTo>
                  <a:pt x="22950" y="10775"/>
                  <a:pt x="22961" y="10862"/>
                  <a:pt x="22994" y="10889"/>
                </a:cubicBezTo>
                <a:cubicBezTo>
                  <a:pt x="23019" y="10909"/>
                  <a:pt x="23106" y="10914"/>
                  <a:pt x="23143" y="10914"/>
                </a:cubicBezTo>
                <a:cubicBezTo>
                  <a:pt x="23194" y="10914"/>
                  <a:pt x="23247" y="10911"/>
                  <a:pt x="23292" y="10889"/>
                </a:cubicBezTo>
                <a:cubicBezTo>
                  <a:pt x="23338" y="10866"/>
                  <a:pt x="23401" y="10820"/>
                  <a:pt x="23440" y="10790"/>
                </a:cubicBezTo>
                <a:cubicBezTo>
                  <a:pt x="23505" y="10739"/>
                  <a:pt x="23552" y="10692"/>
                  <a:pt x="23614" y="10641"/>
                </a:cubicBezTo>
                <a:cubicBezTo>
                  <a:pt x="23666" y="10598"/>
                  <a:pt x="23708" y="10587"/>
                  <a:pt x="23763" y="10567"/>
                </a:cubicBezTo>
                <a:cubicBezTo>
                  <a:pt x="23798" y="10554"/>
                  <a:pt x="23815" y="10529"/>
                  <a:pt x="23862" y="10542"/>
                </a:cubicBezTo>
                <a:cubicBezTo>
                  <a:pt x="23932" y="10561"/>
                  <a:pt x="23950" y="10614"/>
                  <a:pt x="23986" y="10666"/>
                </a:cubicBezTo>
                <a:cubicBezTo>
                  <a:pt x="24013" y="10705"/>
                  <a:pt x="24021" y="10742"/>
                  <a:pt x="24036" y="10790"/>
                </a:cubicBezTo>
                <a:cubicBezTo>
                  <a:pt x="24060" y="10867"/>
                  <a:pt x="24052" y="10892"/>
                  <a:pt x="24036" y="10964"/>
                </a:cubicBezTo>
                <a:cubicBezTo>
                  <a:pt x="24029" y="10994"/>
                  <a:pt x="24014" y="11043"/>
                  <a:pt x="23986" y="11063"/>
                </a:cubicBezTo>
                <a:cubicBezTo>
                  <a:pt x="23947" y="11091"/>
                  <a:pt x="23910" y="11077"/>
                  <a:pt x="23862" y="11088"/>
                </a:cubicBezTo>
                <a:cubicBezTo>
                  <a:pt x="23779" y="11108"/>
                  <a:pt x="23702" y="11112"/>
                  <a:pt x="23614" y="11112"/>
                </a:cubicBezTo>
                <a:cubicBezTo>
                  <a:pt x="23544" y="11112"/>
                  <a:pt x="23479" y="11092"/>
                  <a:pt x="23416" y="11088"/>
                </a:cubicBezTo>
                <a:cubicBezTo>
                  <a:pt x="23364" y="11084"/>
                  <a:pt x="23305" y="11067"/>
                  <a:pt x="23267" y="11063"/>
                </a:cubicBezTo>
                <a:cubicBezTo>
                  <a:pt x="23243" y="11060"/>
                  <a:pt x="23216" y="11068"/>
                  <a:pt x="23192" y="11063"/>
                </a:cubicBezTo>
                <a:cubicBezTo>
                  <a:pt x="23223" y="11075"/>
                  <a:pt x="23261" y="11104"/>
                  <a:pt x="23292" y="11112"/>
                </a:cubicBezTo>
                <a:cubicBezTo>
                  <a:pt x="23353" y="11128"/>
                  <a:pt x="23426" y="11132"/>
                  <a:pt x="23490" y="11137"/>
                </a:cubicBezTo>
                <a:cubicBezTo>
                  <a:pt x="23572" y="11143"/>
                  <a:pt x="23661" y="11165"/>
                  <a:pt x="23738" y="11162"/>
                </a:cubicBezTo>
                <a:cubicBezTo>
                  <a:pt x="23841" y="11158"/>
                  <a:pt x="23935" y="11132"/>
                  <a:pt x="24036" y="11112"/>
                </a:cubicBezTo>
                <a:cubicBezTo>
                  <a:pt x="24253" y="11068"/>
                  <a:pt x="24439" y="10942"/>
                  <a:pt x="24631" y="10840"/>
                </a:cubicBezTo>
                <a:cubicBezTo>
                  <a:pt x="24741" y="10781"/>
                  <a:pt x="24765" y="10725"/>
                  <a:pt x="24854" y="106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Ink 27"/>
          <p:cNvSpPr/>
          <p:nvPr/>
        </p:nvSpPr>
        <p:spPr>
          <a:xfrm>
            <a:off x="892080" y="4429080"/>
            <a:ext cx="2224080" cy="384120"/>
          </a:xfrm>
          <a:custGeom>
            <a:avLst/>
            <a:gdLst/>
            <a:ahLst/>
            <a:rect l="l" t="t" r="r" b="b"/>
            <a:pathLst>
              <a:path w="6178" h="1068">
                <a:moveTo>
                  <a:pt x="3001" y="12303"/>
                </a:moveTo>
                <a:cubicBezTo>
                  <a:pt x="2946" y="12303"/>
                  <a:pt x="2894" y="12291"/>
                  <a:pt x="2853" y="12328"/>
                </a:cubicBezTo>
                <a:cubicBezTo>
                  <a:pt x="2828" y="12351"/>
                  <a:pt x="2805" y="12389"/>
                  <a:pt x="2778" y="12402"/>
                </a:cubicBezTo>
                <a:cubicBezTo>
                  <a:pt x="2753" y="12402"/>
                  <a:pt x="2745" y="12402"/>
                  <a:pt x="2753" y="12427"/>
                </a:cubicBezTo>
                <a:cubicBezTo>
                  <a:pt x="2766" y="12465"/>
                  <a:pt x="2783" y="12452"/>
                  <a:pt x="2828" y="12452"/>
                </a:cubicBezTo>
                <a:cubicBezTo>
                  <a:pt x="2883" y="12452"/>
                  <a:pt x="2903" y="12445"/>
                  <a:pt x="2927" y="12477"/>
                </a:cubicBezTo>
                <a:cubicBezTo>
                  <a:pt x="2956" y="12515"/>
                  <a:pt x="2952" y="12528"/>
                  <a:pt x="2952" y="12576"/>
                </a:cubicBezTo>
                <a:cubicBezTo>
                  <a:pt x="2952" y="12651"/>
                  <a:pt x="2947" y="12713"/>
                  <a:pt x="2927" y="12774"/>
                </a:cubicBezTo>
                <a:cubicBezTo>
                  <a:pt x="2911" y="12821"/>
                  <a:pt x="2897" y="12830"/>
                  <a:pt x="2853" y="12849"/>
                </a:cubicBezTo>
                <a:cubicBezTo>
                  <a:pt x="2801" y="12872"/>
                  <a:pt x="2783" y="12874"/>
                  <a:pt x="2729" y="12874"/>
                </a:cubicBezTo>
                <a:cubicBezTo>
                  <a:pt x="2721" y="12874"/>
                  <a:pt x="2712" y="12874"/>
                  <a:pt x="2704" y="12874"/>
                </a:cubicBezTo>
              </a:path>
              <a:path w="6178" h="1068">
                <a:moveTo>
                  <a:pt x="3299" y="12601"/>
                </a:moveTo>
                <a:cubicBezTo>
                  <a:pt x="3292" y="12682"/>
                  <a:pt x="3268" y="12725"/>
                  <a:pt x="3249" y="12799"/>
                </a:cubicBezTo>
                <a:cubicBezTo>
                  <a:pt x="3237" y="12846"/>
                  <a:pt x="3239" y="12847"/>
                  <a:pt x="3274" y="12824"/>
                </a:cubicBezTo>
              </a:path>
              <a:path w="6178" h="1068">
                <a:moveTo>
                  <a:pt x="3373" y="12427"/>
                </a:moveTo>
                <a:cubicBezTo>
                  <a:pt x="3381" y="12411"/>
                  <a:pt x="3390" y="12394"/>
                  <a:pt x="3398" y="12378"/>
                </a:cubicBezTo>
              </a:path>
              <a:path w="6178" h="1068">
                <a:moveTo>
                  <a:pt x="3522" y="12502"/>
                </a:moveTo>
                <a:cubicBezTo>
                  <a:pt x="3522" y="12614"/>
                  <a:pt x="3529" y="12727"/>
                  <a:pt x="3497" y="12824"/>
                </a:cubicBezTo>
                <a:cubicBezTo>
                  <a:pt x="3480" y="12876"/>
                  <a:pt x="3497" y="12779"/>
                  <a:pt x="3497" y="12750"/>
                </a:cubicBezTo>
                <a:cubicBezTo>
                  <a:pt x="3497" y="12659"/>
                  <a:pt x="3535" y="12628"/>
                  <a:pt x="3597" y="12576"/>
                </a:cubicBezTo>
                <a:cubicBezTo>
                  <a:pt x="3654" y="12528"/>
                  <a:pt x="3686" y="12544"/>
                  <a:pt x="3746" y="12551"/>
                </a:cubicBezTo>
                <a:cubicBezTo>
                  <a:pt x="3818" y="12560"/>
                  <a:pt x="3837" y="12567"/>
                  <a:pt x="3870" y="12626"/>
                </a:cubicBezTo>
                <a:cubicBezTo>
                  <a:pt x="3896" y="12671"/>
                  <a:pt x="3920" y="12734"/>
                  <a:pt x="3944" y="12774"/>
                </a:cubicBezTo>
                <a:cubicBezTo>
                  <a:pt x="3961" y="12802"/>
                  <a:pt x="4000" y="12818"/>
                  <a:pt x="4018" y="12824"/>
                </a:cubicBezTo>
              </a:path>
              <a:path w="6178" h="1068">
                <a:moveTo>
                  <a:pt x="4316" y="12378"/>
                </a:moveTo>
                <a:cubicBezTo>
                  <a:pt x="4324" y="12378"/>
                  <a:pt x="4333" y="12378"/>
                  <a:pt x="4341" y="12378"/>
                </a:cubicBezTo>
                <a:cubicBezTo>
                  <a:pt x="4341" y="12435"/>
                  <a:pt x="4361" y="12432"/>
                  <a:pt x="4390" y="12477"/>
                </a:cubicBezTo>
                <a:cubicBezTo>
                  <a:pt x="4426" y="12532"/>
                  <a:pt x="4443" y="12579"/>
                  <a:pt x="4490" y="12626"/>
                </a:cubicBezTo>
                <a:cubicBezTo>
                  <a:pt x="4524" y="12660"/>
                  <a:pt x="4571" y="12706"/>
                  <a:pt x="4589" y="12750"/>
                </a:cubicBezTo>
                <a:cubicBezTo>
                  <a:pt x="4603" y="12785"/>
                  <a:pt x="4629" y="12811"/>
                  <a:pt x="4638" y="12849"/>
                </a:cubicBezTo>
                <a:cubicBezTo>
                  <a:pt x="4663" y="12849"/>
                  <a:pt x="4671" y="12849"/>
                  <a:pt x="4663" y="12874"/>
                </a:cubicBezTo>
              </a:path>
              <a:path w="6178" h="1068">
                <a:moveTo>
                  <a:pt x="4688" y="12427"/>
                </a:moveTo>
                <a:cubicBezTo>
                  <a:pt x="4680" y="12427"/>
                  <a:pt x="4671" y="12427"/>
                  <a:pt x="4663" y="12427"/>
                </a:cubicBezTo>
                <a:cubicBezTo>
                  <a:pt x="4663" y="12480"/>
                  <a:pt x="4652" y="12488"/>
                  <a:pt x="4614" y="12526"/>
                </a:cubicBezTo>
                <a:cubicBezTo>
                  <a:pt x="4553" y="12587"/>
                  <a:pt x="4522" y="12647"/>
                  <a:pt x="4465" y="12700"/>
                </a:cubicBezTo>
                <a:cubicBezTo>
                  <a:pt x="4436" y="12727"/>
                  <a:pt x="4424" y="12739"/>
                  <a:pt x="4415" y="12774"/>
                </a:cubicBezTo>
              </a:path>
              <a:path w="6178" h="1068">
                <a:moveTo>
                  <a:pt x="4961" y="13072"/>
                </a:moveTo>
                <a:cubicBezTo>
                  <a:pt x="4702" y="13072"/>
                  <a:pt x="4450" y="13078"/>
                  <a:pt x="4192" y="13097"/>
                </a:cubicBezTo>
                <a:cubicBezTo>
                  <a:pt x="4090" y="13105"/>
                  <a:pt x="3993" y="13111"/>
                  <a:pt x="3894" y="13122"/>
                </a:cubicBezTo>
                <a:cubicBezTo>
                  <a:pt x="3657" y="13149"/>
                  <a:pt x="3410" y="13122"/>
                  <a:pt x="3175" y="13146"/>
                </a:cubicBezTo>
                <a:cubicBezTo>
                  <a:pt x="3065" y="13157"/>
                  <a:pt x="2966" y="13171"/>
                  <a:pt x="2853" y="13171"/>
                </a:cubicBezTo>
                <a:cubicBezTo>
                  <a:pt x="2768" y="13171"/>
                  <a:pt x="2692" y="13196"/>
                  <a:pt x="2604" y="13196"/>
                </a:cubicBezTo>
                <a:cubicBezTo>
                  <a:pt x="2550" y="13196"/>
                  <a:pt x="2531" y="13202"/>
                  <a:pt x="2480" y="13221"/>
                </a:cubicBezTo>
              </a:path>
              <a:path w="6178" h="1068">
                <a:moveTo>
                  <a:pt x="5283" y="12874"/>
                </a:moveTo>
                <a:cubicBezTo>
                  <a:pt x="5327" y="12905"/>
                  <a:pt x="5350" y="12898"/>
                  <a:pt x="5407" y="12898"/>
                </a:cubicBezTo>
                <a:cubicBezTo>
                  <a:pt x="5477" y="12898"/>
                  <a:pt x="5526" y="12923"/>
                  <a:pt x="5606" y="12923"/>
                </a:cubicBezTo>
                <a:cubicBezTo>
                  <a:pt x="5662" y="12923"/>
                  <a:pt x="5688" y="12916"/>
                  <a:pt x="5730" y="12948"/>
                </a:cubicBezTo>
              </a:path>
              <a:path w="6178" h="1068">
                <a:moveTo>
                  <a:pt x="5308" y="13221"/>
                </a:moveTo>
                <a:cubicBezTo>
                  <a:pt x="5418" y="13251"/>
                  <a:pt x="5448" y="13237"/>
                  <a:pt x="5556" y="13221"/>
                </a:cubicBezTo>
                <a:cubicBezTo>
                  <a:pt x="5627" y="13211"/>
                  <a:pt x="5667" y="13230"/>
                  <a:pt x="5730" y="13246"/>
                </a:cubicBezTo>
                <a:cubicBezTo>
                  <a:pt x="5738" y="13246"/>
                  <a:pt x="5747" y="13246"/>
                  <a:pt x="5755" y="13246"/>
                </a:cubicBezTo>
              </a:path>
              <a:path w="6178" h="1068">
                <a:moveTo>
                  <a:pt x="6648" y="12502"/>
                </a:moveTo>
                <a:cubicBezTo>
                  <a:pt x="6648" y="12568"/>
                  <a:pt x="6626" y="12611"/>
                  <a:pt x="6623" y="12675"/>
                </a:cubicBezTo>
                <a:cubicBezTo>
                  <a:pt x="6619" y="12776"/>
                  <a:pt x="6602" y="12876"/>
                  <a:pt x="6573" y="12973"/>
                </a:cubicBezTo>
                <a:cubicBezTo>
                  <a:pt x="6542" y="13078"/>
                  <a:pt x="6525" y="13190"/>
                  <a:pt x="6499" y="13295"/>
                </a:cubicBezTo>
                <a:cubicBezTo>
                  <a:pt x="6489" y="13336"/>
                  <a:pt x="6494" y="13360"/>
                  <a:pt x="6524" y="13370"/>
                </a:cubicBezTo>
              </a:path>
              <a:path w="6178" h="1068">
                <a:moveTo>
                  <a:pt x="6300" y="12923"/>
                </a:moveTo>
                <a:cubicBezTo>
                  <a:pt x="6368" y="12866"/>
                  <a:pt x="6365" y="12874"/>
                  <a:pt x="6449" y="12874"/>
                </a:cubicBezTo>
                <a:cubicBezTo>
                  <a:pt x="6533" y="12874"/>
                  <a:pt x="6613" y="12911"/>
                  <a:pt x="6697" y="12923"/>
                </a:cubicBezTo>
                <a:cubicBezTo>
                  <a:pt x="6806" y="12938"/>
                  <a:pt x="6889" y="12938"/>
                  <a:pt x="6995" y="12923"/>
                </a:cubicBezTo>
                <a:cubicBezTo>
                  <a:pt x="7045" y="12923"/>
                  <a:pt x="7061" y="12923"/>
                  <a:pt x="7094" y="12923"/>
                </a:cubicBezTo>
              </a:path>
              <a:path w="6178" h="1068">
                <a:moveTo>
                  <a:pt x="7441" y="13022"/>
                </a:moveTo>
                <a:cubicBezTo>
                  <a:pt x="7380" y="12970"/>
                  <a:pt x="7388" y="12973"/>
                  <a:pt x="7317" y="12973"/>
                </a:cubicBezTo>
                <a:cubicBezTo>
                  <a:pt x="7272" y="12973"/>
                  <a:pt x="7245" y="12980"/>
                  <a:pt x="7218" y="13022"/>
                </a:cubicBezTo>
                <a:cubicBezTo>
                  <a:pt x="7175" y="13088"/>
                  <a:pt x="7183" y="13135"/>
                  <a:pt x="7193" y="13196"/>
                </a:cubicBezTo>
                <a:cubicBezTo>
                  <a:pt x="7198" y="13229"/>
                  <a:pt x="7256" y="13240"/>
                  <a:pt x="7293" y="13221"/>
                </a:cubicBezTo>
                <a:cubicBezTo>
                  <a:pt x="7328" y="13203"/>
                  <a:pt x="7386" y="13146"/>
                  <a:pt x="7417" y="13122"/>
                </a:cubicBezTo>
                <a:cubicBezTo>
                  <a:pt x="7441" y="13097"/>
                  <a:pt x="7449" y="13088"/>
                  <a:pt x="7466" y="13072"/>
                </a:cubicBezTo>
                <a:cubicBezTo>
                  <a:pt x="7493" y="13081"/>
                  <a:pt x="7513" y="13106"/>
                  <a:pt x="7516" y="13146"/>
                </a:cubicBezTo>
                <a:cubicBezTo>
                  <a:pt x="7522" y="13223"/>
                  <a:pt x="7504" y="13239"/>
                  <a:pt x="7590" y="13246"/>
                </a:cubicBezTo>
                <a:cubicBezTo>
                  <a:pt x="7598" y="13246"/>
                  <a:pt x="7607" y="13246"/>
                  <a:pt x="7615" y="13246"/>
                </a:cubicBezTo>
              </a:path>
              <a:path w="6178" h="1068">
                <a:moveTo>
                  <a:pt x="7813" y="12948"/>
                </a:moveTo>
                <a:cubicBezTo>
                  <a:pt x="7794" y="13000"/>
                  <a:pt x="7779" y="13051"/>
                  <a:pt x="7764" y="13097"/>
                </a:cubicBezTo>
                <a:cubicBezTo>
                  <a:pt x="7751" y="13137"/>
                  <a:pt x="7762" y="13162"/>
                  <a:pt x="7789" y="13171"/>
                </a:cubicBezTo>
                <a:cubicBezTo>
                  <a:pt x="7837" y="13154"/>
                  <a:pt x="7821" y="13098"/>
                  <a:pt x="7838" y="13047"/>
                </a:cubicBezTo>
                <a:cubicBezTo>
                  <a:pt x="7856" y="12993"/>
                  <a:pt x="7906" y="12948"/>
                  <a:pt x="7938" y="12923"/>
                </a:cubicBezTo>
                <a:cubicBezTo>
                  <a:pt x="7965" y="12901"/>
                  <a:pt x="8014" y="12889"/>
                  <a:pt x="8037" y="12923"/>
                </a:cubicBezTo>
                <a:cubicBezTo>
                  <a:pt x="8061" y="12958"/>
                  <a:pt x="8081" y="12958"/>
                  <a:pt x="8086" y="13022"/>
                </a:cubicBezTo>
                <a:cubicBezTo>
                  <a:pt x="8090" y="13075"/>
                  <a:pt x="8062" y="13136"/>
                  <a:pt x="8062" y="13196"/>
                </a:cubicBezTo>
                <a:cubicBezTo>
                  <a:pt x="8062" y="13221"/>
                  <a:pt x="8062" y="13229"/>
                  <a:pt x="8062" y="13246"/>
                </a:cubicBezTo>
              </a:path>
              <a:path w="6178" h="1068">
                <a:moveTo>
                  <a:pt x="8359" y="12874"/>
                </a:moveTo>
                <a:cubicBezTo>
                  <a:pt x="8359" y="12882"/>
                  <a:pt x="8359" y="12890"/>
                  <a:pt x="8359" y="12898"/>
                </a:cubicBezTo>
                <a:cubicBezTo>
                  <a:pt x="8388" y="12908"/>
                  <a:pt x="8402" y="12919"/>
                  <a:pt x="8434" y="12948"/>
                </a:cubicBezTo>
                <a:cubicBezTo>
                  <a:pt x="8482" y="12992"/>
                  <a:pt x="8472" y="13027"/>
                  <a:pt x="8508" y="13072"/>
                </a:cubicBezTo>
                <a:cubicBezTo>
                  <a:pt x="8545" y="13119"/>
                  <a:pt x="8518" y="13155"/>
                  <a:pt x="8582" y="13171"/>
                </a:cubicBezTo>
                <a:cubicBezTo>
                  <a:pt x="8592" y="13212"/>
                  <a:pt x="8591" y="13211"/>
                  <a:pt x="8632" y="13221"/>
                </a:cubicBezTo>
              </a:path>
              <a:path w="6178" h="1068">
                <a:moveTo>
                  <a:pt x="8657" y="12849"/>
                </a:moveTo>
                <a:cubicBezTo>
                  <a:pt x="8657" y="12857"/>
                  <a:pt x="8657" y="12866"/>
                  <a:pt x="8657" y="12874"/>
                </a:cubicBezTo>
                <a:cubicBezTo>
                  <a:pt x="8604" y="12874"/>
                  <a:pt x="8596" y="12885"/>
                  <a:pt x="8558" y="12923"/>
                </a:cubicBezTo>
                <a:cubicBezTo>
                  <a:pt x="8499" y="12983"/>
                  <a:pt x="8476" y="13071"/>
                  <a:pt x="8409" y="13122"/>
                </a:cubicBezTo>
                <a:cubicBezTo>
                  <a:pt x="8361" y="13145"/>
                  <a:pt x="8344" y="13151"/>
                  <a:pt x="8359" y="13196"/>
                </a:cubicBezTo>
                <a:cubicBezTo>
                  <a:pt x="8327" y="13207"/>
                  <a:pt x="8320" y="13230"/>
                  <a:pt x="8310" y="132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Ink 28"/>
          <p:cNvSpPr/>
          <p:nvPr/>
        </p:nvSpPr>
        <p:spPr>
          <a:xfrm>
            <a:off x="5214960" y="4098960"/>
            <a:ext cx="2795400" cy="588960"/>
          </a:xfrm>
          <a:custGeom>
            <a:avLst/>
            <a:gdLst/>
            <a:ahLst/>
            <a:rect l="l" t="t" r="r" b="b"/>
            <a:pathLst>
              <a:path w="7765" h="1638">
                <a:moveTo>
                  <a:pt x="14486" y="11733"/>
                </a:moveTo>
                <a:cubicBezTo>
                  <a:pt x="14586" y="11686"/>
                  <a:pt x="14587" y="11683"/>
                  <a:pt x="14684" y="11683"/>
                </a:cubicBezTo>
                <a:cubicBezTo>
                  <a:pt x="14711" y="11683"/>
                  <a:pt x="14776" y="11720"/>
                  <a:pt x="14759" y="11757"/>
                </a:cubicBezTo>
                <a:cubicBezTo>
                  <a:pt x="14735" y="11811"/>
                  <a:pt x="14719" y="11867"/>
                  <a:pt x="14660" y="11906"/>
                </a:cubicBezTo>
                <a:cubicBezTo>
                  <a:pt x="14609" y="11940"/>
                  <a:pt x="14522" y="11985"/>
                  <a:pt x="14486" y="12030"/>
                </a:cubicBezTo>
                <a:cubicBezTo>
                  <a:pt x="14436" y="12092"/>
                  <a:pt x="14604" y="12152"/>
                  <a:pt x="14610" y="12154"/>
                </a:cubicBezTo>
                <a:cubicBezTo>
                  <a:pt x="14674" y="12179"/>
                  <a:pt x="14750" y="12144"/>
                  <a:pt x="14808" y="12129"/>
                </a:cubicBezTo>
                <a:cubicBezTo>
                  <a:pt x="14816" y="12129"/>
                  <a:pt x="14825" y="12129"/>
                  <a:pt x="14833" y="12129"/>
                </a:cubicBezTo>
              </a:path>
              <a:path w="7765" h="1638">
                <a:moveTo>
                  <a:pt x="15280" y="11683"/>
                </a:moveTo>
                <a:cubicBezTo>
                  <a:pt x="15238" y="11756"/>
                  <a:pt x="15219" y="11831"/>
                  <a:pt x="15180" y="11906"/>
                </a:cubicBezTo>
                <a:cubicBezTo>
                  <a:pt x="15120" y="12023"/>
                  <a:pt x="15058" y="12135"/>
                  <a:pt x="15007" y="12254"/>
                </a:cubicBezTo>
                <a:cubicBezTo>
                  <a:pt x="14987" y="12302"/>
                  <a:pt x="14930" y="12385"/>
                  <a:pt x="14982" y="12402"/>
                </a:cubicBezTo>
              </a:path>
              <a:path w="7765" h="1638">
                <a:moveTo>
                  <a:pt x="15354" y="12030"/>
                </a:moveTo>
                <a:cubicBezTo>
                  <a:pt x="15361" y="12010"/>
                  <a:pt x="15398" y="11987"/>
                  <a:pt x="15429" y="11981"/>
                </a:cubicBezTo>
                <a:cubicBezTo>
                  <a:pt x="15485" y="11969"/>
                  <a:pt x="15555" y="11976"/>
                  <a:pt x="15577" y="12005"/>
                </a:cubicBezTo>
                <a:cubicBezTo>
                  <a:pt x="15609" y="12047"/>
                  <a:pt x="15614" y="12063"/>
                  <a:pt x="15577" y="12105"/>
                </a:cubicBezTo>
                <a:cubicBezTo>
                  <a:pt x="15534" y="12153"/>
                  <a:pt x="15516" y="12174"/>
                  <a:pt x="15453" y="12179"/>
                </a:cubicBezTo>
                <a:cubicBezTo>
                  <a:pt x="15429" y="12179"/>
                  <a:pt x="15420" y="12179"/>
                  <a:pt x="15404" y="12179"/>
                </a:cubicBezTo>
                <a:cubicBezTo>
                  <a:pt x="15454" y="12179"/>
                  <a:pt x="15462" y="12190"/>
                  <a:pt x="15503" y="12204"/>
                </a:cubicBezTo>
                <a:cubicBezTo>
                  <a:pt x="15530" y="12213"/>
                  <a:pt x="15550" y="12238"/>
                  <a:pt x="15553" y="12278"/>
                </a:cubicBezTo>
                <a:cubicBezTo>
                  <a:pt x="15556" y="12327"/>
                  <a:pt x="15500" y="12426"/>
                  <a:pt x="15453" y="12452"/>
                </a:cubicBezTo>
                <a:cubicBezTo>
                  <a:pt x="15424" y="12468"/>
                  <a:pt x="15419" y="12496"/>
                  <a:pt x="15404" y="12452"/>
                </a:cubicBezTo>
              </a:path>
              <a:path w="7765" h="1638">
                <a:moveTo>
                  <a:pt x="15999" y="11881"/>
                </a:moveTo>
                <a:cubicBezTo>
                  <a:pt x="16096" y="11881"/>
                  <a:pt x="16175" y="11895"/>
                  <a:pt x="16272" y="11906"/>
                </a:cubicBezTo>
                <a:cubicBezTo>
                  <a:pt x="16333" y="11913"/>
                  <a:pt x="16348" y="11895"/>
                  <a:pt x="16396" y="11931"/>
                </a:cubicBezTo>
              </a:path>
              <a:path w="7765" h="1638">
                <a:moveTo>
                  <a:pt x="15949" y="12154"/>
                </a:moveTo>
                <a:cubicBezTo>
                  <a:pt x="16041" y="12154"/>
                  <a:pt x="16119" y="12153"/>
                  <a:pt x="16197" y="12129"/>
                </a:cubicBezTo>
                <a:cubicBezTo>
                  <a:pt x="16205" y="12129"/>
                  <a:pt x="16214" y="12129"/>
                  <a:pt x="16222" y="12129"/>
                </a:cubicBezTo>
              </a:path>
              <a:path w="7765" h="1638">
                <a:moveTo>
                  <a:pt x="16892" y="11782"/>
                </a:moveTo>
                <a:cubicBezTo>
                  <a:pt x="16892" y="11790"/>
                  <a:pt x="16892" y="11799"/>
                  <a:pt x="16892" y="11807"/>
                </a:cubicBezTo>
                <a:cubicBezTo>
                  <a:pt x="16976" y="11807"/>
                  <a:pt x="17044" y="11806"/>
                  <a:pt x="17115" y="11782"/>
                </a:cubicBezTo>
                <a:cubicBezTo>
                  <a:pt x="17123" y="11782"/>
                  <a:pt x="17132" y="11782"/>
                  <a:pt x="17140" y="11782"/>
                </a:cubicBezTo>
              </a:path>
              <a:path w="7765" h="1638">
                <a:moveTo>
                  <a:pt x="17338" y="11509"/>
                </a:moveTo>
                <a:cubicBezTo>
                  <a:pt x="17380" y="11479"/>
                  <a:pt x="17407" y="11485"/>
                  <a:pt x="17462" y="11485"/>
                </a:cubicBezTo>
                <a:cubicBezTo>
                  <a:pt x="17528" y="11485"/>
                  <a:pt x="17588" y="11491"/>
                  <a:pt x="17636" y="11534"/>
                </a:cubicBezTo>
                <a:cubicBezTo>
                  <a:pt x="17663" y="11558"/>
                  <a:pt x="17676" y="11622"/>
                  <a:pt x="17661" y="11658"/>
                </a:cubicBezTo>
                <a:cubicBezTo>
                  <a:pt x="17637" y="11714"/>
                  <a:pt x="17601" y="11714"/>
                  <a:pt x="17562" y="11757"/>
                </a:cubicBezTo>
                <a:cubicBezTo>
                  <a:pt x="17523" y="11801"/>
                  <a:pt x="17490" y="11863"/>
                  <a:pt x="17462" y="11906"/>
                </a:cubicBezTo>
                <a:cubicBezTo>
                  <a:pt x="17454" y="11914"/>
                  <a:pt x="17446" y="11923"/>
                  <a:pt x="17438" y="11931"/>
                </a:cubicBezTo>
                <a:cubicBezTo>
                  <a:pt x="17490" y="11954"/>
                  <a:pt x="17508" y="11956"/>
                  <a:pt x="17562" y="11956"/>
                </a:cubicBezTo>
                <a:cubicBezTo>
                  <a:pt x="17603" y="11956"/>
                  <a:pt x="17645" y="11956"/>
                  <a:pt x="17686" y="11956"/>
                </a:cubicBezTo>
              </a:path>
              <a:path w="7765" h="1638">
                <a:moveTo>
                  <a:pt x="18033" y="11658"/>
                </a:moveTo>
                <a:cubicBezTo>
                  <a:pt x="18033" y="11749"/>
                  <a:pt x="18034" y="11851"/>
                  <a:pt x="18058" y="11906"/>
                </a:cubicBezTo>
                <a:cubicBezTo>
                  <a:pt x="18058" y="11931"/>
                  <a:pt x="18058" y="11939"/>
                  <a:pt x="18083" y="11931"/>
                </a:cubicBezTo>
                <a:cubicBezTo>
                  <a:pt x="18083" y="11871"/>
                  <a:pt x="18110" y="11881"/>
                  <a:pt x="18132" y="11832"/>
                </a:cubicBezTo>
                <a:cubicBezTo>
                  <a:pt x="18149" y="11794"/>
                  <a:pt x="18166" y="11745"/>
                  <a:pt x="18182" y="11708"/>
                </a:cubicBezTo>
                <a:cubicBezTo>
                  <a:pt x="18204" y="11657"/>
                  <a:pt x="18229" y="11600"/>
                  <a:pt x="18256" y="11559"/>
                </a:cubicBezTo>
                <a:cubicBezTo>
                  <a:pt x="18280" y="11523"/>
                  <a:pt x="18344" y="11455"/>
                  <a:pt x="18355" y="11435"/>
                </a:cubicBezTo>
                <a:cubicBezTo>
                  <a:pt x="18378" y="11391"/>
                  <a:pt x="18372" y="11385"/>
                  <a:pt x="18430" y="11385"/>
                </a:cubicBezTo>
                <a:cubicBezTo>
                  <a:pt x="18477" y="11385"/>
                  <a:pt x="18493" y="11402"/>
                  <a:pt x="18529" y="11410"/>
                </a:cubicBezTo>
                <a:cubicBezTo>
                  <a:pt x="18710" y="11449"/>
                  <a:pt x="18938" y="11410"/>
                  <a:pt x="19124" y="11410"/>
                </a:cubicBezTo>
              </a:path>
              <a:path w="7765" h="1638">
                <a:moveTo>
                  <a:pt x="18504" y="11584"/>
                </a:moveTo>
                <a:cubicBezTo>
                  <a:pt x="18563" y="11540"/>
                  <a:pt x="18548" y="11572"/>
                  <a:pt x="18604" y="11584"/>
                </a:cubicBezTo>
                <a:cubicBezTo>
                  <a:pt x="18679" y="11600"/>
                  <a:pt x="18775" y="11584"/>
                  <a:pt x="18852" y="11584"/>
                </a:cubicBezTo>
              </a:path>
              <a:path w="7765" h="1638">
                <a:moveTo>
                  <a:pt x="18529" y="11584"/>
                </a:moveTo>
                <a:cubicBezTo>
                  <a:pt x="18413" y="11646"/>
                  <a:pt x="18401" y="11621"/>
                  <a:pt x="18430" y="11708"/>
                </a:cubicBezTo>
                <a:cubicBezTo>
                  <a:pt x="18444" y="11749"/>
                  <a:pt x="18483" y="11739"/>
                  <a:pt x="18529" y="11757"/>
                </a:cubicBezTo>
                <a:cubicBezTo>
                  <a:pt x="18579" y="11777"/>
                  <a:pt x="18612" y="11782"/>
                  <a:pt x="18628" y="11832"/>
                </a:cubicBezTo>
                <a:cubicBezTo>
                  <a:pt x="18643" y="11877"/>
                  <a:pt x="18592" y="11940"/>
                  <a:pt x="18554" y="11956"/>
                </a:cubicBezTo>
                <a:cubicBezTo>
                  <a:pt x="18519" y="11970"/>
                  <a:pt x="18470" y="11981"/>
                  <a:pt x="18430" y="11981"/>
                </a:cubicBezTo>
                <a:cubicBezTo>
                  <a:pt x="18405" y="11981"/>
                  <a:pt x="18397" y="11981"/>
                  <a:pt x="18380" y="11981"/>
                </a:cubicBezTo>
              </a:path>
              <a:path w="7765" h="1638">
                <a:moveTo>
                  <a:pt x="17115" y="12179"/>
                </a:moveTo>
                <a:cubicBezTo>
                  <a:pt x="17212" y="12200"/>
                  <a:pt x="17316" y="12218"/>
                  <a:pt x="17413" y="12229"/>
                </a:cubicBezTo>
                <a:cubicBezTo>
                  <a:pt x="17540" y="12243"/>
                  <a:pt x="17660" y="12208"/>
                  <a:pt x="17785" y="12204"/>
                </a:cubicBezTo>
                <a:cubicBezTo>
                  <a:pt x="17944" y="12200"/>
                  <a:pt x="18098" y="12183"/>
                  <a:pt x="18256" y="12179"/>
                </a:cubicBezTo>
                <a:cubicBezTo>
                  <a:pt x="18416" y="12175"/>
                  <a:pt x="18569" y="12158"/>
                  <a:pt x="18728" y="12154"/>
                </a:cubicBezTo>
                <a:cubicBezTo>
                  <a:pt x="18878" y="12151"/>
                  <a:pt x="19030" y="12143"/>
                  <a:pt x="19174" y="12179"/>
                </a:cubicBezTo>
              </a:path>
              <a:path w="7765" h="1638">
                <a:moveTo>
                  <a:pt x="17810" y="12477"/>
                </a:moveTo>
                <a:cubicBezTo>
                  <a:pt x="17881" y="12477"/>
                  <a:pt x="17919" y="12456"/>
                  <a:pt x="17983" y="12452"/>
                </a:cubicBezTo>
                <a:cubicBezTo>
                  <a:pt x="18081" y="12446"/>
                  <a:pt x="18182" y="12452"/>
                  <a:pt x="18281" y="12452"/>
                </a:cubicBezTo>
              </a:path>
              <a:path w="7765" h="1638">
                <a:moveTo>
                  <a:pt x="17959" y="12427"/>
                </a:moveTo>
                <a:cubicBezTo>
                  <a:pt x="17880" y="12458"/>
                  <a:pt x="17874" y="12485"/>
                  <a:pt x="17810" y="12526"/>
                </a:cubicBezTo>
                <a:cubicBezTo>
                  <a:pt x="17766" y="12554"/>
                  <a:pt x="17715" y="12569"/>
                  <a:pt x="17711" y="12626"/>
                </a:cubicBezTo>
                <a:cubicBezTo>
                  <a:pt x="17706" y="12698"/>
                  <a:pt x="17712" y="12707"/>
                  <a:pt x="17785" y="12725"/>
                </a:cubicBezTo>
                <a:cubicBezTo>
                  <a:pt x="17821" y="12734"/>
                  <a:pt x="17854" y="12730"/>
                  <a:pt x="17884" y="12750"/>
                </a:cubicBezTo>
                <a:cubicBezTo>
                  <a:pt x="17917" y="12772"/>
                  <a:pt x="17956" y="12811"/>
                  <a:pt x="17959" y="12849"/>
                </a:cubicBezTo>
                <a:cubicBezTo>
                  <a:pt x="17965" y="12930"/>
                  <a:pt x="17914" y="12931"/>
                  <a:pt x="17859" y="12973"/>
                </a:cubicBezTo>
                <a:cubicBezTo>
                  <a:pt x="17794" y="13022"/>
                  <a:pt x="17740" y="13022"/>
                  <a:pt x="17661" y="13022"/>
                </a:cubicBezTo>
                <a:cubicBezTo>
                  <a:pt x="17628" y="13022"/>
                  <a:pt x="17595" y="13022"/>
                  <a:pt x="17562" y="13022"/>
                </a:cubicBezTo>
              </a:path>
              <a:path w="7765" h="1638">
                <a:moveTo>
                  <a:pt x="19670" y="12129"/>
                </a:moveTo>
                <a:cubicBezTo>
                  <a:pt x="19670" y="12174"/>
                  <a:pt x="19657" y="12191"/>
                  <a:pt x="19695" y="12204"/>
                </a:cubicBezTo>
              </a:path>
              <a:path w="7765" h="1638">
                <a:moveTo>
                  <a:pt x="20315" y="11906"/>
                </a:moveTo>
                <a:cubicBezTo>
                  <a:pt x="20231" y="11892"/>
                  <a:pt x="20295" y="11900"/>
                  <a:pt x="20241" y="11881"/>
                </a:cubicBezTo>
                <a:cubicBezTo>
                  <a:pt x="20231" y="11911"/>
                  <a:pt x="20199" y="11923"/>
                  <a:pt x="20166" y="11956"/>
                </a:cubicBezTo>
                <a:cubicBezTo>
                  <a:pt x="20123" y="11999"/>
                  <a:pt x="20102" y="12072"/>
                  <a:pt x="20092" y="12129"/>
                </a:cubicBezTo>
                <a:cubicBezTo>
                  <a:pt x="20082" y="12187"/>
                  <a:pt x="20134" y="12262"/>
                  <a:pt x="20191" y="12278"/>
                </a:cubicBezTo>
                <a:cubicBezTo>
                  <a:pt x="20244" y="12293"/>
                  <a:pt x="20327" y="12322"/>
                  <a:pt x="20389" y="12303"/>
                </a:cubicBezTo>
                <a:cubicBezTo>
                  <a:pt x="20424" y="12292"/>
                  <a:pt x="20475" y="12291"/>
                  <a:pt x="20513" y="12278"/>
                </a:cubicBezTo>
                <a:cubicBezTo>
                  <a:pt x="20557" y="12257"/>
                  <a:pt x="20569" y="12254"/>
                  <a:pt x="20588" y="12229"/>
                </a:cubicBezTo>
              </a:path>
              <a:path w="7765" h="1638">
                <a:moveTo>
                  <a:pt x="20886" y="12055"/>
                </a:moveTo>
                <a:cubicBezTo>
                  <a:pt x="20873" y="12017"/>
                  <a:pt x="20856" y="12030"/>
                  <a:pt x="20811" y="12030"/>
                </a:cubicBezTo>
                <a:cubicBezTo>
                  <a:pt x="20796" y="12030"/>
                  <a:pt x="20744" y="12080"/>
                  <a:pt x="20737" y="12105"/>
                </a:cubicBezTo>
                <a:cubicBezTo>
                  <a:pt x="20721" y="12161"/>
                  <a:pt x="20738" y="12192"/>
                  <a:pt x="20786" y="12204"/>
                </a:cubicBezTo>
                <a:cubicBezTo>
                  <a:pt x="20887" y="12229"/>
                  <a:pt x="20906" y="12222"/>
                  <a:pt x="20985" y="12179"/>
                </a:cubicBezTo>
                <a:cubicBezTo>
                  <a:pt x="21029" y="12155"/>
                  <a:pt x="21053" y="12131"/>
                  <a:pt x="21059" y="12080"/>
                </a:cubicBezTo>
                <a:cubicBezTo>
                  <a:pt x="21065" y="12027"/>
                  <a:pt x="21023" y="12030"/>
                  <a:pt x="20985" y="12030"/>
                </a:cubicBezTo>
                <a:cubicBezTo>
                  <a:pt x="20957" y="12030"/>
                  <a:pt x="20946" y="12032"/>
                  <a:pt x="20935" y="12055"/>
                </a:cubicBezTo>
              </a:path>
              <a:path w="7765" h="1638">
                <a:moveTo>
                  <a:pt x="21555" y="11981"/>
                </a:moveTo>
                <a:cubicBezTo>
                  <a:pt x="21491" y="11981"/>
                  <a:pt x="21481" y="11989"/>
                  <a:pt x="21431" y="12005"/>
                </a:cubicBezTo>
                <a:cubicBezTo>
                  <a:pt x="21373" y="12023"/>
                  <a:pt x="21357" y="12016"/>
                  <a:pt x="21357" y="12080"/>
                </a:cubicBezTo>
                <a:cubicBezTo>
                  <a:pt x="21357" y="12158"/>
                  <a:pt x="21433" y="12132"/>
                  <a:pt x="21456" y="12179"/>
                </a:cubicBezTo>
                <a:cubicBezTo>
                  <a:pt x="21474" y="12214"/>
                  <a:pt x="21436" y="12265"/>
                  <a:pt x="21406" y="12278"/>
                </a:cubicBezTo>
                <a:cubicBezTo>
                  <a:pt x="21390" y="12285"/>
                  <a:pt x="21350" y="12278"/>
                  <a:pt x="21332" y="12278"/>
                </a:cubicBezTo>
              </a:path>
              <a:path w="7765" h="1638">
                <a:moveTo>
                  <a:pt x="21903" y="11981"/>
                </a:moveTo>
                <a:cubicBezTo>
                  <a:pt x="21911" y="12045"/>
                  <a:pt x="21924" y="12095"/>
                  <a:pt x="21952" y="12154"/>
                </a:cubicBezTo>
                <a:cubicBezTo>
                  <a:pt x="21980" y="12213"/>
                  <a:pt x="22005" y="12257"/>
                  <a:pt x="22051" y="12303"/>
                </a:cubicBezTo>
                <a:cubicBezTo>
                  <a:pt x="22089" y="12341"/>
                  <a:pt x="22098" y="12353"/>
                  <a:pt x="22151" y="12353"/>
                </a:cubicBezTo>
              </a:path>
              <a:path w="7765" h="1638">
                <a:moveTo>
                  <a:pt x="22250" y="12055"/>
                </a:moveTo>
                <a:cubicBezTo>
                  <a:pt x="22153" y="12078"/>
                  <a:pt x="22103" y="12091"/>
                  <a:pt x="22027" y="12154"/>
                </a:cubicBezTo>
                <a:cubicBezTo>
                  <a:pt x="21967" y="12204"/>
                  <a:pt x="21917" y="12272"/>
                  <a:pt x="21878" y="12328"/>
                </a:cubicBezTo>
                <a:cubicBezTo>
                  <a:pt x="21855" y="12351"/>
                  <a:pt x="21847" y="12355"/>
                  <a:pt x="21853" y="123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Ink 29"/>
          <p:cNvSpPr/>
          <p:nvPr/>
        </p:nvSpPr>
        <p:spPr>
          <a:xfrm>
            <a:off x="6411960" y="4803840"/>
            <a:ext cx="839880" cy="474480"/>
          </a:xfrm>
          <a:custGeom>
            <a:avLst/>
            <a:gdLst/>
            <a:ahLst/>
            <a:rect l="l" t="t" r="r" b="b"/>
            <a:pathLst>
              <a:path w="2332" h="1316">
                <a:moveTo>
                  <a:pt x="17810" y="13667"/>
                </a:moveTo>
                <a:cubicBezTo>
                  <a:pt x="17848" y="13640"/>
                  <a:pt x="17861" y="13643"/>
                  <a:pt x="17909" y="13643"/>
                </a:cubicBezTo>
                <a:cubicBezTo>
                  <a:pt x="17949" y="13643"/>
                  <a:pt x="17976" y="13674"/>
                  <a:pt x="18008" y="13667"/>
                </a:cubicBezTo>
                <a:cubicBezTo>
                  <a:pt x="18033" y="13659"/>
                  <a:pt x="18058" y="13651"/>
                  <a:pt x="18083" y="13643"/>
                </a:cubicBezTo>
              </a:path>
              <a:path w="2332" h="1316">
                <a:moveTo>
                  <a:pt x="18430" y="13395"/>
                </a:moveTo>
                <a:cubicBezTo>
                  <a:pt x="18497" y="13395"/>
                  <a:pt x="18547" y="13402"/>
                  <a:pt x="18604" y="13419"/>
                </a:cubicBezTo>
                <a:cubicBezTo>
                  <a:pt x="18659" y="13435"/>
                  <a:pt x="18637" y="13468"/>
                  <a:pt x="18628" y="13519"/>
                </a:cubicBezTo>
                <a:cubicBezTo>
                  <a:pt x="18620" y="13568"/>
                  <a:pt x="18571" y="13593"/>
                  <a:pt x="18529" y="13618"/>
                </a:cubicBezTo>
                <a:cubicBezTo>
                  <a:pt x="18510" y="13629"/>
                  <a:pt x="18413" y="13679"/>
                  <a:pt x="18405" y="13692"/>
                </a:cubicBezTo>
                <a:cubicBezTo>
                  <a:pt x="18379" y="13732"/>
                  <a:pt x="18424" y="13764"/>
                  <a:pt x="18455" y="13767"/>
                </a:cubicBezTo>
                <a:cubicBezTo>
                  <a:pt x="18505" y="13773"/>
                  <a:pt x="18554" y="13799"/>
                  <a:pt x="18604" y="13791"/>
                </a:cubicBezTo>
                <a:cubicBezTo>
                  <a:pt x="18678" y="13779"/>
                  <a:pt x="18682" y="13767"/>
                  <a:pt x="18752" y="13767"/>
                </a:cubicBezTo>
              </a:path>
              <a:path w="2332" h="1316">
                <a:moveTo>
                  <a:pt x="19075" y="13618"/>
                </a:moveTo>
                <a:cubicBezTo>
                  <a:pt x="19075" y="13682"/>
                  <a:pt x="19085" y="13738"/>
                  <a:pt x="19100" y="13791"/>
                </a:cubicBezTo>
                <a:cubicBezTo>
                  <a:pt x="19112" y="13835"/>
                  <a:pt x="19141" y="13820"/>
                  <a:pt x="19174" y="13791"/>
                </a:cubicBezTo>
                <a:cubicBezTo>
                  <a:pt x="19223" y="13749"/>
                  <a:pt x="19217" y="13715"/>
                  <a:pt x="19248" y="13667"/>
                </a:cubicBezTo>
                <a:cubicBezTo>
                  <a:pt x="19276" y="13624"/>
                  <a:pt x="19318" y="13567"/>
                  <a:pt x="19323" y="13519"/>
                </a:cubicBezTo>
                <a:cubicBezTo>
                  <a:pt x="19330" y="13459"/>
                  <a:pt x="19333" y="13425"/>
                  <a:pt x="19348" y="13395"/>
                </a:cubicBezTo>
                <a:cubicBezTo>
                  <a:pt x="19365" y="13360"/>
                  <a:pt x="19373" y="13370"/>
                  <a:pt x="19422" y="13370"/>
                </a:cubicBezTo>
                <a:cubicBezTo>
                  <a:pt x="19599" y="13370"/>
                  <a:pt x="19767" y="13360"/>
                  <a:pt x="19943" y="13345"/>
                </a:cubicBezTo>
                <a:cubicBezTo>
                  <a:pt x="20008" y="13340"/>
                  <a:pt x="20076" y="13345"/>
                  <a:pt x="20141" y="13345"/>
                </a:cubicBezTo>
              </a:path>
              <a:path w="2332" h="1316">
                <a:moveTo>
                  <a:pt x="19472" y="13494"/>
                </a:moveTo>
                <a:cubicBezTo>
                  <a:pt x="19542" y="13494"/>
                  <a:pt x="19601" y="13514"/>
                  <a:pt x="19670" y="13519"/>
                </a:cubicBezTo>
                <a:cubicBezTo>
                  <a:pt x="19733" y="13524"/>
                  <a:pt x="19782" y="13538"/>
                  <a:pt x="19844" y="13543"/>
                </a:cubicBezTo>
                <a:cubicBezTo>
                  <a:pt x="19852" y="13543"/>
                  <a:pt x="19861" y="13543"/>
                  <a:pt x="19869" y="13543"/>
                </a:cubicBezTo>
              </a:path>
              <a:path w="2332" h="1316">
                <a:moveTo>
                  <a:pt x="19621" y="13494"/>
                </a:moveTo>
                <a:cubicBezTo>
                  <a:pt x="19594" y="13494"/>
                  <a:pt x="19533" y="13501"/>
                  <a:pt x="19521" y="13519"/>
                </a:cubicBezTo>
                <a:cubicBezTo>
                  <a:pt x="19501" y="13548"/>
                  <a:pt x="19530" y="13600"/>
                  <a:pt x="19546" y="13618"/>
                </a:cubicBezTo>
                <a:cubicBezTo>
                  <a:pt x="19562" y="13636"/>
                  <a:pt x="19613" y="13711"/>
                  <a:pt x="19621" y="13717"/>
                </a:cubicBezTo>
                <a:cubicBezTo>
                  <a:pt x="19629" y="13717"/>
                  <a:pt x="19637" y="13717"/>
                  <a:pt x="19645" y="13717"/>
                </a:cubicBezTo>
                <a:cubicBezTo>
                  <a:pt x="19633" y="13755"/>
                  <a:pt x="19624" y="13747"/>
                  <a:pt x="19596" y="13767"/>
                </a:cubicBezTo>
                <a:cubicBezTo>
                  <a:pt x="19565" y="13790"/>
                  <a:pt x="19534" y="13812"/>
                  <a:pt x="19496" y="13816"/>
                </a:cubicBezTo>
                <a:cubicBezTo>
                  <a:pt x="19464" y="13820"/>
                  <a:pt x="19430" y="13816"/>
                  <a:pt x="19397" y="13816"/>
                </a:cubicBezTo>
              </a:path>
              <a:path w="2332" h="1316">
                <a:moveTo>
                  <a:pt x="17810" y="14064"/>
                </a:moveTo>
                <a:cubicBezTo>
                  <a:pt x="17938" y="14064"/>
                  <a:pt x="18058" y="14051"/>
                  <a:pt x="18182" y="14039"/>
                </a:cubicBezTo>
                <a:cubicBezTo>
                  <a:pt x="18400" y="14018"/>
                  <a:pt x="18633" y="14027"/>
                  <a:pt x="18852" y="14015"/>
                </a:cubicBezTo>
                <a:cubicBezTo>
                  <a:pt x="19236" y="13995"/>
                  <a:pt x="19637" y="14004"/>
                  <a:pt x="20017" y="14039"/>
                </a:cubicBezTo>
                <a:cubicBezTo>
                  <a:pt x="20083" y="14039"/>
                  <a:pt x="20100" y="14039"/>
                  <a:pt x="20141" y="14039"/>
                </a:cubicBezTo>
              </a:path>
              <a:path w="2332" h="1316">
                <a:moveTo>
                  <a:pt x="18827" y="14263"/>
                </a:moveTo>
                <a:cubicBezTo>
                  <a:pt x="18930" y="14263"/>
                  <a:pt x="19118" y="14299"/>
                  <a:pt x="19199" y="14238"/>
                </a:cubicBezTo>
              </a:path>
              <a:path w="2332" h="1316">
                <a:moveTo>
                  <a:pt x="18951" y="14263"/>
                </a:moveTo>
                <a:cubicBezTo>
                  <a:pt x="18947" y="14265"/>
                  <a:pt x="18738" y="14317"/>
                  <a:pt x="18777" y="14387"/>
                </a:cubicBezTo>
                <a:cubicBezTo>
                  <a:pt x="18799" y="14427"/>
                  <a:pt x="18847" y="14442"/>
                  <a:pt x="18876" y="14461"/>
                </a:cubicBezTo>
                <a:cubicBezTo>
                  <a:pt x="18897" y="14475"/>
                  <a:pt x="18964" y="14531"/>
                  <a:pt x="18951" y="14560"/>
                </a:cubicBezTo>
                <a:cubicBezTo>
                  <a:pt x="18933" y="14599"/>
                  <a:pt x="18864" y="14626"/>
                  <a:pt x="18827" y="14635"/>
                </a:cubicBezTo>
                <a:cubicBezTo>
                  <a:pt x="18756" y="14653"/>
                  <a:pt x="18706" y="14660"/>
                  <a:pt x="18628" y="14660"/>
                </a:cubicBezTo>
                <a:cubicBezTo>
                  <a:pt x="18620" y="14660"/>
                  <a:pt x="18612" y="14660"/>
                  <a:pt x="18604" y="146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Ink 30"/>
          <p:cNvSpPr/>
          <p:nvPr/>
        </p:nvSpPr>
        <p:spPr>
          <a:xfrm>
            <a:off x="1000080" y="4813200"/>
            <a:ext cx="687600" cy="187560"/>
          </a:xfrm>
          <a:custGeom>
            <a:avLst/>
            <a:gdLst/>
            <a:ahLst/>
            <a:rect l="l" t="t" r="r" b="b"/>
            <a:pathLst>
              <a:path w="1911" h="522">
                <a:moveTo>
                  <a:pt x="3125" y="13370"/>
                </a:moveTo>
                <a:cubicBezTo>
                  <a:pt x="3069" y="13370"/>
                  <a:pt x="3092" y="13390"/>
                  <a:pt x="3051" y="13395"/>
                </a:cubicBezTo>
                <a:cubicBezTo>
                  <a:pt x="3004" y="13401"/>
                  <a:pt x="2990" y="13386"/>
                  <a:pt x="2952" y="13419"/>
                </a:cubicBezTo>
                <a:cubicBezTo>
                  <a:pt x="2912" y="13454"/>
                  <a:pt x="2858" y="13473"/>
                  <a:pt x="2828" y="13519"/>
                </a:cubicBezTo>
                <a:cubicBezTo>
                  <a:pt x="2789" y="13579"/>
                  <a:pt x="2778" y="13623"/>
                  <a:pt x="2778" y="13692"/>
                </a:cubicBezTo>
                <a:cubicBezTo>
                  <a:pt x="2778" y="13768"/>
                  <a:pt x="2782" y="13804"/>
                  <a:pt x="2828" y="13866"/>
                </a:cubicBezTo>
                <a:cubicBezTo>
                  <a:pt x="2856" y="13903"/>
                  <a:pt x="2936" y="13903"/>
                  <a:pt x="2977" y="13891"/>
                </a:cubicBezTo>
                <a:cubicBezTo>
                  <a:pt x="3041" y="13873"/>
                  <a:pt x="3114" y="13862"/>
                  <a:pt x="3175" y="13841"/>
                </a:cubicBezTo>
                <a:cubicBezTo>
                  <a:pt x="3192" y="13833"/>
                  <a:pt x="3208" y="13824"/>
                  <a:pt x="3225" y="13816"/>
                </a:cubicBezTo>
              </a:path>
              <a:path w="1911" h="522">
                <a:moveTo>
                  <a:pt x="3621" y="13568"/>
                </a:moveTo>
                <a:cubicBezTo>
                  <a:pt x="3569" y="13545"/>
                  <a:pt x="3551" y="13543"/>
                  <a:pt x="3497" y="13543"/>
                </a:cubicBezTo>
                <a:cubicBezTo>
                  <a:pt x="3466" y="13543"/>
                  <a:pt x="3411" y="13588"/>
                  <a:pt x="3398" y="13618"/>
                </a:cubicBezTo>
                <a:cubicBezTo>
                  <a:pt x="3374" y="13672"/>
                  <a:pt x="3359" y="13719"/>
                  <a:pt x="3398" y="13767"/>
                </a:cubicBezTo>
                <a:cubicBezTo>
                  <a:pt x="3438" y="13816"/>
                  <a:pt x="3511" y="13751"/>
                  <a:pt x="3547" y="13717"/>
                </a:cubicBezTo>
                <a:cubicBezTo>
                  <a:pt x="3554" y="13711"/>
                  <a:pt x="3660" y="13626"/>
                  <a:pt x="3621" y="13593"/>
                </a:cubicBezTo>
                <a:cubicBezTo>
                  <a:pt x="3591" y="13568"/>
                  <a:pt x="3577" y="13604"/>
                  <a:pt x="3572" y="13618"/>
                </a:cubicBezTo>
              </a:path>
              <a:path w="1911" h="522">
                <a:moveTo>
                  <a:pt x="3894" y="13543"/>
                </a:moveTo>
                <a:cubicBezTo>
                  <a:pt x="3841" y="13543"/>
                  <a:pt x="3833" y="13555"/>
                  <a:pt x="3795" y="13593"/>
                </a:cubicBezTo>
                <a:cubicBezTo>
                  <a:pt x="3817" y="13609"/>
                  <a:pt x="3863" y="13639"/>
                  <a:pt x="3870" y="13643"/>
                </a:cubicBezTo>
                <a:cubicBezTo>
                  <a:pt x="3888" y="13652"/>
                  <a:pt x="3914" y="13679"/>
                  <a:pt x="3894" y="13717"/>
                </a:cubicBezTo>
                <a:cubicBezTo>
                  <a:pt x="3881" y="13741"/>
                  <a:pt x="3820" y="13805"/>
                  <a:pt x="3795" y="13816"/>
                </a:cubicBezTo>
                <a:cubicBezTo>
                  <a:pt x="3770" y="13816"/>
                  <a:pt x="3762" y="13816"/>
                  <a:pt x="3746" y="13816"/>
                </a:cubicBezTo>
              </a:path>
              <a:path w="1911" h="522">
                <a:moveTo>
                  <a:pt x="4291" y="13469"/>
                </a:moveTo>
                <a:cubicBezTo>
                  <a:pt x="4323" y="13493"/>
                  <a:pt x="4360" y="13499"/>
                  <a:pt x="4390" y="13519"/>
                </a:cubicBezTo>
                <a:cubicBezTo>
                  <a:pt x="4438" y="13551"/>
                  <a:pt x="4458" y="13600"/>
                  <a:pt x="4490" y="13643"/>
                </a:cubicBezTo>
                <a:cubicBezTo>
                  <a:pt x="4519" y="13682"/>
                  <a:pt x="4568" y="13726"/>
                  <a:pt x="4614" y="13742"/>
                </a:cubicBezTo>
                <a:cubicBezTo>
                  <a:pt x="4651" y="13755"/>
                  <a:pt x="4634" y="13767"/>
                  <a:pt x="4688" y="13767"/>
                </a:cubicBezTo>
              </a:path>
              <a:path w="1911" h="522">
                <a:moveTo>
                  <a:pt x="4638" y="13395"/>
                </a:moveTo>
                <a:cubicBezTo>
                  <a:pt x="4592" y="13489"/>
                  <a:pt x="4541" y="13575"/>
                  <a:pt x="4490" y="13667"/>
                </a:cubicBezTo>
                <a:cubicBezTo>
                  <a:pt x="4472" y="13700"/>
                  <a:pt x="4421" y="13755"/>
                  <a:pt x="4415" y="13767"/>
                </a:cubicBezTo>
                <a:cubicBezTo>
                  <a:pt x="4415" y="13775"/>
                  <a:pt x="4415" y="13783"/>
                  <a:pt x="4415" y="13791"/>
                </a:cubicBezTo>
              </a:path>
              <a:path w="1911" h="522">
                <a:moveTo>
                  <a:pt x="3845" y="13519"/>
                </a:moveTo>
                <a:cubicBezTo>
                  <a:pt x="3851" y="13494"/>
                  <a:pt x="3866" y="13433"/>
                  <a:pt x="3894" y="13419"/>
                </a:cubicBezTo>
                <a:cubicBezTo>
                  <a:pt x="3925" y="13403"/>
                  <a:pt x="3955" y="13395"/>
                  <a:pt x="3994" y="13395"/>
                </a:cubicBezTo>
                <a:cubicBezTo>
                  <a:pt x="4018" y="13395"/>
                  <a:pt x="4026" y="13395"/>
                  <a:pt x="4018" y="134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Ink 31"/>
          <p:cNvSpPr/>
          <p:nvPr/>
        </p:nvSpPr>
        <p:spPr>
          <a:xfrm>
            <a:off x="938160" y="5180040"/>
            <a:ext cx="3313080" cy="812880"/>
          </a:xfrm>
          <a:custGeom>
            <a:avLst/>
            <a:gdLst/>
            <a:ahLst/>
            <a:rect l="l" t="t" r="r" b="b"/>
            <a:pathLst>
              <a:path w="9204" h="2258">
                <a:moveTo>
                  <a:pt x="2604" y="15850"/>
                </a:moveTo>
                <a:cubicBezTo>
                  <a:pt x="2673" y="15862"/>
                  <a:pt x="2750" y="15869"/>
                  <a:pt x="2828" y="15850"/>
                </a:cubicBezTo>
                <a:cubicBezTo>
                  <a:pt x="2924" y="15827"/>
                  <a:pt x="3026" y="15819"/>
                  <a:pt x="3125" y="15801"/>
                </a:cubicBezTo>
                <a:cubicBezTo>
                  <a:pt x="3262" y="15776"/>
                  <a:pt x="3385" y="15768"/>
                  <a:pt x="3522" y="15751"/>
                </a:cubicBezTo>
                <a:cubicBezTo>
                  <a:pt x="3715" y="15727"/>
                  <a:pt x="3896" y="15726"/>
                  <a:pt x="4093" y="15726"/>
                </a:cubicBezTo>
                <a:cubicBezTo>
                  <a:pt x="4250" y="15726"/>
                  <a:pt x="4382" y="15714"/>
                  <a:pt x="4539" y="15726"/>
                </a:cubicBezTo>
                <a:cubicBezTo>
                  <a:pt x="4775" y="15744"/>
                  <a:pt x="5022" y="15726"/>
                  <a:pt x="5259" y="15726"/>
                </a:cubicBezTo>
              </a:path>
              <a:path w="9204" h="2258">
                <a:moveTo>
                  <a:pt x="3101" y="16049"/>
                </a:moveTo>
                <a:cubicBezTo>
                  <a:pt x="3056" y="16049"/>
                  <a:pt x="3035" y="16042"/>
                  <a:pt x="3001" y="16073"/>
                </a:cubicBezTo>
                <a:cubicBezTo>
                  <a:pt x="2960" y="16110"/>
                  <a:pt x="2917" y="16133"/>
                  <a:pt x="2877" y="16173"/>
                </a:cubicBezTo>
                <a:cubicBezTo>
                  <a:pt x="2829" y="16221"/>
                  <a:pt x="2769" y="16275"/>
                  <a:pt x="2753" y="16346"/>
                </a:cubicBezTo>
                <a:cubicBezTo>
                  <a:pt x="2736" y="16421"/>
                  <a:pt x="2757" y="16466"/>
                  <a:pt x="2803" y="16520"/>
                </a:cubicBezTo>
                <a:cubicBezTo>
                  <a:pt x="2845" y="16569"/>
                  <a:pt x="2961" y="16588"/>
                  <a:pt x="3026" y="16570"/>
                </a:cubicBezTo>
                <a:cubicBezTo>
                  <a:pt x="3074" y="16546"/>
                  <a:pt x="3088" y="16538"/>
                  <a:pt x="3125" y="16545"/>
                </a:cubicBezTo>
              </a:path>
              <a:path w="9204" h="2258">
                <a:moveTo>
                  <a:pt x="3597" y="16222"/>
                </a:moveTo>
                <a:cubicBezTo>
                  <a:pt x="3493" y="16191"/>
                  <a:pt x="3508" y="16196"/>
                  <a:pt x="3423" y="16247"/>
                </a:cubicBezTo>
                <a:cubicBezTo>
                  <a:pt x="3355" y="16288"/>
                  <a:pt x="3329" y="16336"/>
                  <a:pt x="3324" y="16421"/>
                </a:cubicBezTo>
                <a:cubicBezTo>
                  <a:pt x="3324" y="16465"/>
                  <a:pt x="3321" y="16479"/>
                  <a:pt x="3349" y="16495"/>
                </a:cubicBezTo>
                <a:cubicBezTo>
                  <a:pt x="3410" y="16479"/>
                  <a:pt x="3444" y="16465"/>
                  <a:pt x="3497" y="16421"/>
                </a:cubicBezTo>
                <a:cubicBezTo>
                  <a:pt x="3547" y="16379"/>
                  <a:pt x="3581" y="16335"/>
                  <a:pt x="3597" y="16272"/>
                </a:cubicBezTo>
                <a:cubicBezTo>
                  <a:pt x="3608" y="16229"/>
                  <a:pt x="3575" y="16190"/>
                  <a:pt x="3547" y="16247"/>
                </a:cubicBezTo>
                <a:cubicBezTo>
                  <a:pt x="3547" y="16255"/>
                  <a:pt x="3547" y="16264"/>
                  <a:pt x="3547" y="16272"/>
                </a:cubicBezTo>
              </a:path>
              <a:path w="9204" h="2258">
                <a:moveTo>
                  <a:pt x="3994" y="16148"/>
                </a:moveTo>
                <a:cubicBezTo>
                  <a:pt x="3963" y="16171"/>
                  <a:pt x="3933" y="16193"/>
                  <a:pt x="3894" y="16197"/>
                </a:cubicBezTo>
                <a:cubicBezTo>
                  <a:pt x="3866" y="16200"/>
                  <a:pt x="3852" y="16223"/>
                  <a:pt x="3820" y="16247"/>
                </a:cubicBezTo>
                <a:cubicBezTo>
                  <a:pt x="3860" y="16257"/>
                  <a:pt x="3882" y="16285"/>
                  <a:pt x="3919" y="16297"/>
                </a:cubicBezTo>
                <a:cubicBezTo>
                  <a:pt x="3962" y="16311"/>
                  <a:pt x="3983" y="16335"/>
                  <a:pt x="4018" y="16371"/>
                </a:cubicBezTo>
                <a:cubicBezTo>
                  <a:pt x="3991" y="16408"/>
                  <a:pt x="3980" y="16434"/>
                  <a:pt x="3944" y="16470"/>
                </a:cubicBezTo>
                <a:cubicBezTo>
                  <a:pt x="3933" y="16481"/>
                  <a:pt x="3859" y="16534"/>
                  <a:pt x="3845" y="16520"/>
                </a:cubicBezTo>
                <a:cubicBezTo>
                  <a:pt x="3845" y="16512"/>
                  <a:pt x="3845" y="16503"/>
                  <a:pt x="3845" y="16495"/>
                </a:cubicBezTo>
              </a:path>
              <a:path w="9204" h="2258">
                <a:moveTo>
                  <a:pt x="4390" y="16098"/>
                </a:moveTo>
                <a:cubicBezTo>
                  <a:pt x="4390" y="16137"/>
                  <a:pt x="4378" y="16172"/>
                  <a:pt x="4415" y="16197"/>
                </a:cubicBezTo>
                <a:cubicBezTo>
                  <a:pt x="4467" y="16233"/>
                  <a:pt x="4527" y="16275"/>
                  <a:pt x="4564" y="16321"/>
                </a:cubicBezTo>
                <a:cubicBezTo>
                  <a:pt x="4592" y="16356"/>
                  <a:pt x="4616" y="16425"/>
                  <a:pt x="4663" y="16446"/>
                </a:cubicBezTo>
                <a:cubicBezTo>
                  <a:pt x="4671" y="16446"/>
                  <a:pt x="4680" y="16446"/>
                  <a:pt x="4688" y="16446"/>
                </a:cubicBezTo>
              </a:path>
              <a:path w="9204" h="2258">
                <a:moveTo>
                  <a:pt x="4713" y="16073"/>
                </a:moveTo>
                <a:cubicBezTo>
                  <a:pt x="4627" y="16151"/>
                  <a:pt x="4575" y="16199"/>
                  <a:pt x="4514" y="16297"/>
                </a:cubicBezTo>
                <a:cubicBezTo>
                  <a:pt x="4477" y="16357"/>
                  <a:pt x="4433" y="16429"/>
                  <a:pt x="4366" y="16446"/>
                </a:cubicBezTo>
              </a:path>
              <a:path w="9204" h="2258">
                <a:moveTo>
                  <a:pt x="3349" y="14635"/>
                </a:moveTo>
                <a:cubicBezTo>
                  <a:pt x="3401" y="14581"/>
                  <a:pt x="3437" y="14587"/>
                  <a:pt x="3497" y="14560"/>
                </a:cubicBezTo>
                <a:cubicBezTo>
                  <a:pt x="3548" y="14537"/>
                  <a:pt x="3584" y="14536"/>
                  <a:pt x="3646" y="14536"/>
                </a:cubicBezTo>
                <a:cubicBezTo>
                  <a:pt x="3669" y="14536"/>
                  <a:pt x="3722" y="14553"/>
                  <a:pt x="3721" y="14560"/>
                </a:cubicBezTo>
                <a:cubicBezTo>
                  <a:pt x="3708" y="14632"/>
                  <a:pt x="3638" y="14685"/>
                  <a:pt x="3597" y="14734"/>
                </a:cubicBezTo>
                <a:cubicBezTo>
                  <a:pt x="3541" y="14801"/>
                  <a:pt x="3456" y="14848"/>
                  <a:pt x="3423" y="14932"/>
                </a:cubicBezTo>
                <a:cubicBezTo>
                  <a:pt x="3423" y="14960"/>
                  <a:pt x="3421" y="14971"/>
                  <a:pt x="3398" y="14982"/>
                </a:cubicBezTo>
                <a:cubicBezTo>
                  <a:pt x="3458" y="15027"/>
                  <a:pt x="3452" y="14994"/>
                  <a:pt x="3522" y="14982"/>
                </a:cubicBezTo>
                <a:cubicBezTo>
                  <a:pt x="3564" y="14982"/>
                  <a:pt x="3572" y="14982"/>
                  <a:pt x="3597" y="14982"/>
                </a:cubicBezTo>
              </a:path>
              <a:path w="9204" h="2258">
                <a:moveTo>
                  <a:pt x="4192" y="14585"/>
                </a:moveTo>
                <a:cubicBezTo>
                  <a:pt x="4154" y="14652"/>
                  <a:pt x="4100" y="14714"/>
                  <a:pt x="4068" y="14784"/>
                </a:cubicBezTo>
                <a:cubicBezTo>
                  <a:pt x="4014" y="14900"/>
                  <a:pt x="3978" y="15019"/>
                  <a:pt x="3919" y="15131"/>
                </a:cubicBezTo>
                <a:cubicBezTo>
                  <a:pt x="3887" y="15191"/>
                  <a:pt x="3877" y="15275"/>
                  <a:pt x="3845" y="15329"/>
                </a:cubicBezTo>
                <a:cubicBezTo>
                  <a:pt x="3822" y="15352"/>
                  <a:pt x="3811" y="15360"/>
                  <a:pt x="3845" y="15354"/>
                </a:cubicBezTo>
              </a:path>
              <a:path w="9204" h="2258">
                <a:moveTo>
                  <a:pt x="4192" y="15032"/>
                </a:moveTo>
                <a:cubicBezTo>
                  <a:pt x="4222" y="15009"/>
                  <a:pt x="4253" y="14985"/>
                  <a:pt x="4291" y="14982"/>
                </a:cubicBezTo>
                <a:cubicBezTo>
                  <a:pt x="4340" y="14978"/>
                  <a:pt x="4391" y="14982"/>
                  <a:pt x="4440" y="14982"/>
                </a:cubicBezTo>
                <a:cubicBezTo>
                  <a:pt x="4440" y="15034"/>
                  <a:pt x="4445" y="15034"/>
                  <a:pt x="4415" y="15056"/>
                </a:cubicBezTo>
                <a:cubicBezTo>
                  <a:pt x="4377" y="15085"/>
                  <a:pt x="4365" y="15126"/>
                  <a:pt x="4316" y="15131"/>
                </a:cubicBezTo>
                <a:cubicBezTo>
                  <a:pt x="4279" y="15135"/>
                  <a:pt x="4330" y="15101"/>
                  <a:pt x="4366" y="15106"/>
                </a:cubicBezTo>
                <a:cubicBezTo>
                  <a:pt x="4411" y="15113"/>
                  <a:pt x="4420" y="15131"/>
                  <a:pt x="4465" y="15131"/>
                </a:cubicBezTo>
                <a:cubicBezTo>
                  <a:pt x="4455" y="15170"/>
                  <a:pt x="4427" y="15228"/>
                  <a:pt x="4390" y="15255"/>
                </a:cubicBezTo>
                <a:cubicBezTo>
                  <a:pt x="4344" y="15289"/>
                  <a:pt x="4307" y="15313"/>
                  <a:pt x="4266" y="15354"/>
                </a:cubicBezTo>
              </a:path>
              <a:path w="9204" h="2258">
                <a:moveTo>
                  <a:pt x="5581" y="15553"/>
                </a:moveTo>
                <a:cubicBezTo>
                  <a:pt x="5664" y="15553"/>
                  <a:pt x="5734" y="15554"/>
                  <a:pt x="5804" y="15577"/>
                </a:cubicBezTo>
                <a:cubicBezTo>
                  <a:pt x="5833" y="15586"/>
                  <a:pt x="5873" y="15577"/>
                  <a:pt x="5904" y="15577"/>
                </a:cubicBezTo>
              </a:path>
              <a:path w="9204" h="2258">
                <a:moveTo>
                  <a:pt x="5556" y="15850"/>
                </a:moveTo>
                <a:cubicBezTo>
                  <a:pt x="5619" y="15850"/>
                  <a:pt x="5653" y="15841"/>
                  <a:pt x="5705" y="15825"/>
                </a:cubicBezTo>
                <a:cubicBezTo>
                  <a:pt x="5761" y="15808"/>
                  <a:pt x="5820" y="15818"/>
                  <a:pt x="5854" y="15825"/>
                </a:cubicBezTo>
                <a:cubicBezTo>
                  <a:pt x="5862" y="15825"/>
                  <a:pt x="5871" y="15825"/>
                  <a:pt x="5879" y="15825"/>
                </a:cubicBezTo>
              </a:path>
              <a:path w="9204" h="2258">
                <a:moveTo>
                  <a:pt x="3547" y="14610"/>
                </a:moveTo>
                <a:cubicBezTo>
                  <a:pt x="3511" y="14658"/>
                  <a:pt x="3515" y="14703"/>
                  <a:pt x="3497" y="14759"/>
                </a:cubicBezTo>
                <a:cubicBezTo>
                  <a:pt x="3483" y="14800"/>
                  <a:pt x="3440" y="14916"/>
                  <a:pt x="3473" y="14957"/>
                </a:cubicBezTo>
                <a:cubicBezTo>
                  <a:pt x="3481" y="14957"/>
                  <a:pt x="3489" y="14957"/>
                  <a:pt x="3497" y="14957"/>
                </a:cubicBezTo>
                <a:cubicBezTo>
                  <a:pt x="3510" y="14907"/>
                  <a:pt x="3554" y="14887"/>
                  <a:pt x="3572" y="14833"/>
                </a:cubicBezTo>
                <a:cubicBezTo>
                  <a:pt x="3587" y="14787"/>
                  <a:pt x="3609" y="14732"/>
                  <a:pt x="3621" y="14684"/>
                </a:cubicBezTo>
                <a:cubicBezTo>
                  <a:pt x="3626" y="14663"/>
                  <a:pt x="3621" y="14632"/>
                  <a:pt x="3621" y="14610"/>
                </a:cubicBezTo>
                <a:cubicBezTo>
                  <a:pt x="3599" y="14640"/>
                  <a:pt x="3575" y="14671"/>
                  <a:pt x="3572" y="14709"/>
                </a:cubicBezTo>
                <a:cubicBezTo>
                  <a:pt x="3568" y="14770"/>
                  <a:pt x="3584" y="14783"/>
                  <a:pt x="3597" y="14833"/>
                </a:cubicBezTo>
                <a:cubicBezTo>
                  <a:pt x="3673" y="14822"/>
                  <a:pt x="3661" y="14812"/>
                  <a:pt x="3696" y="14759"/>
                </a:cubicBezTo>
                <a:cubicBezTo>
                  <a:pt x="3720" y="14723"/>
                  <a:pt x="3757" y="14699"/>
                  <a:pt x="3770" y="14660"/>
                </a:cubicBezTo>
                <a:cubicBezTo>
                  <a:pt x="3770" y="14652"/>
                  <a:pt x="3770" y="14643"/>
                  <a:pt x="3770" y="14635"/>
                </a:cubicBezTo>
                <a:cubicBezTo>
                  <a:pt x="3770" y="14660"/>
                  <a:pt x="3745" y="14754"/>
                  <a:pt x="3746" y="14759"/>
                </a:cubicBezTo>
                <a:cubicBezTo>
                  <a:pt x="3754" y="14767"/>
                  <a:pt x="3762" y="14776"/>
                  <a:pt x="3770" y="14784"/>
                </a:cubicBezTo>
                <a:cubicBezTo>
                  <a:pt x="3801" y="14784"/>
                  <a:pt x="3837" y="14776"/>
                  <a:pt x="3845" y="14759"/>
                </a:cubicBezTo>
                <a:cubicBezTo>
                  <a:pt x="3845" y="14734"/>
                  <a:pt x="3845" y="14726"/>
                  <a:pt x="3845" y="14759"/>
                </a:cubicBezTo>
              </a:path>
              <a:path w="9204" h="2258">
                <a:moveTo>
                  <a:pt x="3249" y="14684"/>
                </a:moveTo>
                <a:cubicBezTo>
                  <a:pt x="3258" y="14651"/>
                  <a:pt x="3282" y="14588"/>
                  <a:pt x="3299" y="14560"/>
                </a:cubicBezTo>
                <a:cubicBezTo>
                  <a:pt x="3325" y="14517"/>
                  <a:pt x="3381" y="14483"/>
                  <a:pt x="3423" y="14461"/>
                </a:cubicBezTo>
                <a:cubicBezTo>
                  <a:pt x="3475" y="14433"/>
                  <a:pt x="3538" y="14391"/>
                  <a:pt x="3597" y="14387"/>
                </a:cubicBezTo>
                <a:cubicBezTo>
                  <a:pt x="3634" y="14385"/>
                  <a:pt x="3725" y="14382"/>
                  <a:pt x="3746" y="14412"/>
                </a:cubicBezTo>
                <a:cubicBezTo>
                  <a:pt x="3764" y="14438"/>
                  <a:pt x="3770" y="14476"/>
                  <a:pt x="3770" y="14511"/>
                </a:cubicBezTo>
                <a:cubicBezTo>
                  <a:pt x="3770" y="14560"/>
                  <a:pt x="3759" y="14570"/>
                  <a:pt x="3746" y="14610"/>
                </a:cubicBezTo>
                <a:cubicBezTo>
                  <a:pt x="3726" y="14673"/>
                  <a:pt x="3658" y="14724"/>
                  <a:pt x="3621" y="14784"/>
                </a:cubicBezTo>
                <a:cubicBezTo>
                  <a:pt x="3587" y="14838"/>
                  <a:pt x="3574" y="14882"/>
                  <a:pt x="3547" y="14932"/>
                </a:cubicBezTo>
                <a:cubicBezTo>
                  <a:pt x="3513" y="14996"/>
                  <a:pt x="3476" y="15063"/>
                  <a:pt x="3423" y="15106"/>
                </a:cubicBezTo>
                <a:cubicBezTo>
                  <a:pt x="3360" y="15157"/>
                  <a:pt x="3369" y="15122"/>
                  <a:pt x="3324" y="15180"/>
                </a:cubicBezTo>
                <a:cubicBezTo>
                  <a:pt x="3368" y="15171"/>
                  <a:pt x="3402" y="15156"/>
                  <a:pt x="3448" y="15156"/>
                </a:cubicBezTo>
                <a:cubicBezTo>
                  <a:pt x="3475" y="15156"/>
                  <a:pt x="3570" y="15143"/>
                  <a:pt x="3597" y="15131"/>
                </a:cubicBezTo>
                <a:cubicBezTo>
                  <a:pt x="3659" y="15105"/>
                  <a:pt x="3676" y="15062"/>
                  <a:pt x="3746" y="15056"/>
                </a:cubicBezTo>
                <a:cubicBezTo>
                  <a:pt x="3754" y="15056"/>
                  <a:pt x="3762" y="15056"/>
                  <a:pt x="3770" y="15056"/>
                </a:cubicBezTo>
              </a:path>
              <a:path w="9204" h="2258">
                <a:moveTo>
                  <a:pt x="6524" y="15379"/>
                </a:moveTo>
                <a:cubicBezTo>
                  <a:pt x="6598" y="15379"/>
                  <a:pt x="6673" y="15379"/>
                  <a:pt x="6747" y="15379"/>
                </a:cubicBezTo>
              </a:path>
              <a:path w="9204" h="2258">
                <a:moveTo>
                  <a:pt x="6921" y="15131"/>
                </a:moveTo>
                <a:cubicBezTo>
                  <a:pt x="6979" y="15080"/>
                  <a:pt x="7013" y="15060"/>
                  <a:pt x="7094" y="15056"/>
                </a:cubicBezTo>
                <a:cubicBezTo>
                  <a:pt x="7185" y="15052"/>
                  <a:pt x="7230" y="15051"/>
                  <a:pt x="7317" y="15056"/>
                </a:cubicBezTo>
                <a:cubicBezTo>
                  <a:pt x="7385" y="15060"/>
                  <a:pt x="7392" y="15067"/>
                  <a:pt x="7392" y="15131"/>
                </a:cubicBezTo>
                <a:cubicBezTo>
                  <a:pt x="7392" y="15197"/>
                  <a:pt x="7293" y="15277"/>
                  <a:pt x="7243" y="15329"/>
                </a:cubicBezTo>
                <a:cubicBezTo>
                  <a:pt x="7186" y="15388"/>
                  <a:pt x="7127" y="15445"/>
                  <a:pt x="7069" y="15503"/>
                </a:cubicBezTo>
                <a:cubicBezTo>
                  <a:pt x="7047" y="15526"/>
                  <a:pt x="7039" y="15531"/>
                  <a:pt x="7045" y="15553"/>
                </a:cubicBezTo>
                <a:cubicBezTo>
                  <a:pt x="7117" y="15571"/>
                  <a:pt x="7089" y="15567"/>
                  <a:pt x="7169" y="15553"/>
                </a:cubicBezTo>
                <a:cubicBezTo>
                  <a:pt x="7228" y="15543"/>
                  <a:pt x="7283" y="15535"/>
                  <a:pt x="7342" y="15528"/>
                </a:cubicBezTo>
              </a:path>
              <a:path w="9204" h="2258">
                <a:moveTo>
                  <a:pt x="7565" y="15304"/>
                </a:moveTo>
                <a:cubicBezTo>
                  <a:pt x="7598" y="15348"/>
                  <a:pt x="7573" y="15358"/>
                  <a:pt x="7590" y="15404"/>
                </a:cubicBezTo>
                <a:cubicBezTo>
                  <a:pt x="7605" y="15445"/>
                  <a:pt x="7581" y="15501"/>
                  <a:pt x="7615" y="15528"/>
                </a:cubicBezTo>
                <a:cubicBezTo>
                  <a:pt x="7635" y="15544"/>
                  <a:pt x="7639" y="15544"/>
                  <a:pt x="7665" y="15553"/>
                </a:cubicBezTo>
                <a:cubicBezTo>
                  <a:pt x="7665" y="15499"/>
                  <a:pt x="7657" y="15452"/>
                  <a:pt x="7689" y="15404"/>
                </a:cubicBezTo>
                <a:cubicBezTo>
                  <a:pt x="7713" y="15368"/>
                  <a:pt x="7746" y="15320"/>
                  <a:pt x="7764" y="15280"/>
                </a:cubicBezTo>
                <a:cubicBezTo>
                  <a:pt x="7788" y="15228"/>
                  <a:pt x="7818" y="15157"/>
                  <a:pt x="7838" y="15106"/>
                </a:cubicBezTo>
                <a:cubicBezTo>
                  <a:pt x="7850" y="15076"/>
                  <a:pt x="7838" y="15015"/>
                  <a:pt x="7838" y="14982"/>
                </a:cubicBezTo>
                <a:cubicBezTo>
                  <a:pt x="8094" y="14982"/>
                  <a:pt x="8351" y="14982"/>
                  <a:pt x="8607" y="14982"/>
                </a:cubicBezTo>
              </a:path>
              <a:path w="9204" h="2258">
                <a:moveTo>
                  <a:pt x="8012" y="15180"/>
                </a:moveTo>
                <a:cubicBezTo>
                  <a:pt x="8012" y="15172"/>
                  <a:pt x="8012" y="15164"/>
                  <a:pt x="8012" y="15156"/>
                </a:cubicBezTo>
                <a:cubicBezTo>
                  <a:pt x="8103" y="15156"/>
                  <a:pt x="8194" y="15156"/>
                  <a:pt x="8285" y="15156"/>
                </a:cubicBezTo>
              </a:path>
              <a:path w="9204" h="2258">
                <a:moveTo>
                  <a:pt x="8012" y="15180"/>
                </a:moveTo>
                <a:cubicBezTo>
                  <a:pt x="7968" y="15213"/>
                  <a:pt x="7970" y="15210"/>
                  <a:pt x="7938" y="15255"/>
                </a:cubicBezTo>
                <a:cubicBezTo>
                  <a:pt x="7948" y="15286"/>
                  <a:pt x="7964" y="15312"/>
                  <a:pt x="8012" y="15329"/>
                </a:cubicBezTo>
                <a:cubicBezTo>
                  <a:pt x="8046" y="15341"/>
                  <a:pt x="8078" y="15368"/>
                  <a:pt x="8111" y="15379"/>
                </a:cubicBezTo>
                <a:cubicBezTo>
                  <a:pt x="8146" y="15391"/>
                  <a:pt x="8156" y="15399"/>
                  <a:pt x="8186" y="15429"/>
                </a:cubicBezTo>
                <a:cubicBezTo>
                  <a:pt x="8175" y="15462"/>
                  <a:pt x="8143" y="15507"/>
                  <a:pt x="8086" y="15528"/>
                </a:cubicBezTo>
                <a:cubicBezTo>
                  <a:pt x="8041" y="15545"/>
                  <a:pt x="7983" y="15535"/>
                  <a:pt x="7938" y="15553"/>
                </a:cubicBezTo>
                <a:cubicBezTo>
                  <a:pt x="7930" y="15561"/>
                  <a:pt x="7921" y="15569"/>
                  <a:pt x="7913" y="15577"/>
                </a:cubicBezTo>
              </a:path>
              <a:path w="9204" h="2258">
                <a:moveTo>
                  <a:pt x="6573" y="15776"/>
                </a:moveTo>
                <a:cubicBezTo>
                  <a:pt x="6615" y="15751"/>
                  <a:pt x="6621" y="15753"/>
                  <a:pt x="6672" y="15751"/>
                </a:cubicBezTo>
                <a:cubicBezTo>
                  <a:pt x="6736" y="15748"/>
                  <a:pt x="6764" y="15767"/>
                  <a:pt x="6821" y="15776"/>
                </a:cubicBezTo>
                <a:cubicBezTo>
                  <a:pt x="6917" y="15791"/>
                  <a:pt x="7004" y="15761"/>
                  <a:pt x="7094" y="15751"/>
                </a:cubicBezTo>
                <a:cubicBezTo>
                  <a:pt x="7208" y="15738"/>
                  <a:pt x="7330" y="15736"/>
                  <a:pt x="7441" y="15726"/>
                </a:cubicBezTo>
                <a:cubicBezTo>
                  <a:pt x="7564" y="15715"/>
                  <a:pt x="7691" y="15712"/>
                  <a:pt x="7813" y="15701"/>
                </a:cubicBezTo>
                <a:cubicBezTo>
                  <a:pt x="8017" y="15683"/>
                  <a:pt x="8229" y="15701"/>
                  <a:pt x="8434" y="15701"/>
                </a:cubicBezTo>
              </a:path>
              <a:path w="9204" h="2258">
                <a:moveTo>
                  <a:pt x="7243" y="15949"/>
                </a:moveTo>
                <a:cubicBezTo>
                  <a:pt x="7310" y="15949"/>
                  <a:pt x="7355" y="15935"/>
                  <a:pt x="7417" y="15925"/>
                </a:cubicBezTo>
                <a:cubicBezTo>
                  <a:pt x="7490" y="15913"/>
                  <a:pt x="7570" y="15911"/>
                  <a:pt x="7640" y="15900"/>
                </a:cubicBezTo>
                <a:cubicBezTo>
                  <a:pt x="7694" y="15891"/>
                  <a:pt x="7757" y="15900"/>
                  <a:pt x="7813" y="15900"/>
                </a:cubicBezTo>
              </a:path>
              <a:path w="9204" h="2258">
                <a:moveTo>
                  <a:pt x="7392" y="15925"/>
                </a:moveTo>
                <a:cubicBezTo>
                  <a:pt x="7302" y="15970"/>
                  <a:pt x="7264" y="15982"/>
                  <a:pt x="7218" y="16049"/>
                </a:cubicBezTo>
                <a:cubicBezTo>
                  <a:pt x="7199" y="16077"/>
                  <a:pt x="7166" y="16122"/>
                  <a:pt x="7218" y="16148"/>
                </a:cubicBezTo>
                <a:cubicBezTo>
                  <a:pt x="7264" y="16171"/>
                  <a:pt x="7317" y="16167"/>
                  <a:pt x="7367" y="16197"/>
                </a:cubicBezTo>
                <a:cubicBezTo>
                  <a:pt x="7398" y="16216"/>
                  <a:pt x="7475" y="16268"/>
                  <a:pt x="7491" y="16297"/>
                </a:cubicBezTo>
                <a:cubicBezTo>
                  <a:pt x="7501" y="16315"/>
                  <a:pt x="7531" y="16369"/>
                  <a:pt x="7516" y="16396"/>
                </a:cubicBezTo>
                <a:cubicBezTo>
                  <a:pt x="7489" y="16445"/>
                  <a:pt x="7461" y="16475"/>
                  <a:pt x="7417" y="16520"/>
                </a:cubicBezTo>
                <a:cubicBezTo>
                  <a:pt x="7342" y="16596"/>
                  <a:pt x="7237" y="16596"/>
                  <a:pt x="7144" y="16619"/>
                </a:cubicBezTo>
                <a:cubicBezTo>
                  <a:pt x="7086" y="16638"/>
                  <a:pt x="7080" y="16647"/>
                  <a:pt x="7045" y="16644"/>
                </a:cubicBezTo>
              </a:path>
              <a:path w="9204" h="2258">
                <a:moveTo>
                  <a:pt x="9004" y="15602"/>
                </a:moveTo>
                <a:cubicBezTo>
                  <a:pt x="9048" y="15602"/>
                  <a:pt x="9044" y="15603"/>
                  <a:pt x="9079" y="15577"/>
                </a:cubicBezTo>
              </a:path>
              <a:path w="9204" h="2258">
                <a:moveTo>
                  <a:pt x="9971" y="15230"/>
                </a:moveTo>
                <a:cubicBezTo>
                  <a:pt x="9921" y="15230"/>
                  <a:pt x="9913" y="15241"/>
                  <a:pt x="9872" y="15255"/>
                </a:cubicBezTo>
                <a:cubicBezTo>
                  <a:pt x="9824" y="15271"/>
                  <a:pt x="9816" y="15262"/>
                  <a:pt x="9773" y="15304"/>
                </a:cubicBezTo>
                <a:cubicBezTo>
                  <a:pt x="9724" y="15352"/>
                  <a:pt x="9702" y="15411"/>
                  <a:pt x="9699" y="15478"/>
                </a:cubicBezTo>
                <a:cubicBezTo>
                  <a:pt x="9696" y="15547"/>
                  <a:pt x="9684" y="15610"/>
                  <a:pt x="9748" y="15652"/>
                </a:cubicBezTo>
                <a:cubicBezTo>
                  <a:pt x="9808" y="15691"/>
                  <a:pt x="9879" y="15677"/>
                  <a:pt x="9947" y="15677"/>
                </a:cubicBezTo>
                <a:cubicBezTo>
                  <a:pt x="9988" y="15677"/>
                  <a:pt x="10030" y="15677"/>
                  <a:pt x="10071" y="15677"/>
                </a:cubicBezTo>
              </a:path>
              <a:path w="9204" h="2258">
                <a:moveTo>
                  <a:pt x="10492" y="15429"/>
                </a:moveTo>
                <a:cubicBezTo>
                  <a:pt x="10435" y="15379"/>
                  <a:pt x="10416" y="15355"/>
                  <a:pt x="10344" y="15404"/>
                </a:cubicBezTo>
                <a:cubicBezTo>
                  <a:pt x="10295" y="15437"/>
                  <a:pt x="10273" y="15502"/>
                  <a:pt x="10269" y="15553"/>
                </a:cubicBezTo>
                <a:cubicBezTo>
                  <a:pt x="10264" y="15612"/>
                  <a:pt x="10325" y="15624"/>
                  <a:pt x="10368" y="15627"/>
                </a:cubicBezTo>
                <a:cubicBezTo>
                  <a:pt x="10417" y="15630"/>
                  <a:pt x="10480" y="15606"/>
                  <a:pt x="10517" y="15577"/>
                </a:cubicBezTo>
                <a:cubicBezTo>
                  <a:pt x="10551" y="15551"/>
                  <a:pt x="10587" y="15519"/>
                  <a:pt x="10592" y="15478"/>
                </a:cubicBezTo>
                <a:cubicBezTo>
                  <a:pt x="10592" y="15470"/>
                  <a:pt x="10592" y="15461"/>
                  <a:pt x="10592" y="15453"/>
                </a:cubicBezTo>
                <a:cubicBezTo>
                  <a:pt x="10547" y="15453"/>
                  <a:pt x="10530" y="15440"/>
                  <a:pt x="10517" y="15478"/>
                </a:cubicBezTo>
              </a:path>
              <a:path w="9204" h="2258">
                <a:moveTo>
                  <a:pt x="11063" y="15379"/>
                </a:moveTo>
                <a:cubicBezTo>
                  <a:pt x="11050" y="15341"/>
                  <a:pt x="11033" y="15354"/>
                  <a:pt x="10988" y="15354"/>
                </a:cubicBezTo>
                <a:cubicBezTo>
                  <a:pt x="10945" y="15354"/>
                  <a:pt x="10926" y="15392"/>
                  <a:pt x="10889" y="15404"/>
                </a:cubicBezTo>
                <a:cubicBezTo>
                  <a:pt x="10881" y="15404"/>
                  <a:pt x="10872" y="15404"/>
                  <a:pt x="10864" y="15404"/>
                </a:cubicBezTo>
                <a:cubicBezTo>
                  <a:pt x="10899" y="15464"/>
                  <a:pt x="10917" y="15471"/>
                  <a:pt x="10964" y="15503"/>
                </a:cubicBezTo>
                <a:cubicBezTo>
                  <a:pt x="10988" y="15528"/>
                  <a:pt x="10996" y="15537"/>
                  <a:pt x="11013" y="15553"/>
                </a:cubicBezTo>
                <a:cubicBezTo>
                  <a:pt x="10981" y="15585"/>
                  <a:pt x="10961" y="15610"/>
                  <a:pt x="10939" y="15627"/>
                </a:cubicBezTo>
                <a:cubicBezTo>
                  <a:pt x="10925" y="15637"/>
                  <a:pt x="10827" y="15714"/>
                  <a:pt x="10889" y="15652"/>
                </a:cubicBezTo>
              </a:path>
              <a:path w="9204" h="2258">
                <a:moveTo>
                  <a:pt x="11385" y="15354"/>
                </a:moveTo>
                <a:cubicBezTo>
                  <a:pt x="11429" y="15441"/>
                  <a:pt x="11484" y="15484"/>
                  <a:pt x="11534" y="15553"/>
                </a:cubicBezTo>
                <a:cubicBezTo>
                  <a:pt x="11573" y="15607"/>
                  <a:pt x="11585" y="15620"/>
                  <a:pt x="11633" y="15652"/>
                </a:cubicBezTo>
                <a:cubicBezTo>
                  <a:pt x="11667" y="15675"/>
                  <a:pt x="11668" y="15691"/>
                  <a:pt x="11708" y="15701"/>
                </a:cubicBezTo>
              </a:path>
              <a:path w="9204" h="2258">
                <a:moveTo>
                  <a:pt x="11807" y="15354"/>
                </a:moveTo>
                <a:cubicBezTo>
                  <a:pt x="11726" y="15419"/>
                  <a:pt x="11668" y="15469"/>
                  <a:pt x="11584" y="15528"/>
                </a:cubicBezTo>
                <a:cubicBezTo>
                  <a:pt x="11512" y="15579"/>
                  <a:pt x="11409" y="15648"/>
                  <a:pt x="11361" y="15726"/>
                </a:cubicBezTo>
                <a:cubicBezTo>
                  <a:pt x="11361" y="15734"/>
                  <a:pt x="11361" y="15743"/>
                  <a:pt x="11361" y="157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Ink 32"/>
          <p:cNvSpPr/>
          <p:nvPr/>
        </p:nvSpPr>
        <p:spPr>
          <a:xfrm>
            <a:off x="4929120" y="5429160"/>
            <a:ext cx="2768760" cy="741600"/>
          </a:xfrm>
          <a:custGeom>
            <a:avLst/>
            <a:gdLst/>
            <a:ahLst/>
            <a:rect l="l" t="t" r="r" b="b"/>
            <a:pathLst>
              <a:path w="7691" h="2060">
                <a:moveTo>
                  <a:pt x="13692" y="16222"/>
                </a:moveTo>
                <a:cubicBezTo>
                  <a:pt x="13787" y="16203"/>
                  <a:pt x="13891" y="16181"/>
                  <a:pt x="13990" y="16173"/>
                </a:cubicBezTo>
                <a:cubicBezTo>
                  <a:pt x="14105" y="16163"/>
                  <a:pt x="14222" y="16152"/>
                  <a:pt x="14337" y="16148"/>
                </a:cubicBezTo>
                <a:cubicBezTo>
                  <a:pt x="14421" y="16145"/>
                  <a:pt x="14552" y="16155"/>
                  <a:pt x="14635" y="16173"/>
                </a:cubicBezTo>
                <a:cubicBezTo>
                  <a:pt x="14683" y="16196"/>
                  <a:pt x="14697" y="16204"/>
                  <a:pt x="14734" y="16197"/>
                </a:cubicBezTo>
              </a:path>
              <a:path w="7691" h="2060">
                <a:moveTo>
                  <a:pt x="14089" y="16396"/>
                </a:moveTo>
                <a:cubicBezTo>
                  <a:pt x="14171" y="16373"/>
                  <a:pt x="14210" y="16364"/>
                  <a:pt x="14288" y="16396"/>
                </a:cubicBezTo>
                <a:cubicBezTo>
                  <a:pt x="14331" y="16418"/>
                  <a:pt x="14343" y="16422"/>
                  <a:pt x="14362" y="16446"/>
                </a:cubicBezTo>
                <a:cubicBezTo>
                  <a:pt x="14331" y="16453"/>
                  <a:pt x="14288" y="16479"/>
                  <a:pt x="14263" y="16495"/>
                </a:cubicBezTo>
                <a:cubicBezTo>
                  <a:pt x="14234" y="16515"/>
                  <a:pt x="14138" y="16520"/>
                  <a:pt x="14188" y="16520"/>
                </a:cubicBezTo>
                <a:cubicBezTo>
                  <a:pt x="14238" y="16520"/>
                  <a:pt x="14287" y="16514"/>
                  <a:pt x="14312" y="16570"/>
                </a:cubicBezTo>
                <a:cubicBezTo>
                  <a:pt x="14321" y="16590"/>
                  <a:pt x="14280" y="16657"/>
                  <a:pt x="14263" y="16669"/>
                </a:cubicBezTo>
                <a:cubicBezTo>
                  <a:pt x="14221" y="16698"/>
                  <a:pt x="14163" y="16752"/>
                  <a:pt x="14114" y="16768"/>
                </a:cubicBezTo>
                <a:cubicBezTo>
                  <a:pt x="14091" y="16776"/>
                  <a:pt x="13982" y="16793"/>
                  <a:pt x="14039" y="16793"/>
                </a:cubicBezTo>
              </a:path>
              <a:path w="7691" h="2060">
                <a:moveTo>
                  <a:pt x="15156" y="16148"/>
                </a:moveTo>
                <a:cubicBezTo>
                  <a:pt x="15156" y="16184"/>
                  <a:pt x="15162" y="16226"/>
                  <a:pt x="15180" y="16173"/>
                </a:cubicBezTo>
                <a:cubicBezTo>
                  <a:pt x="15133" y="16236"/>
                  <a:pt x="15163" y="16205"/>
                  <a:pt x="15180" y="16197"/>
                </a:cubicBezTo>
                <a:cubicBezTo>
                  <a:pt x="15188" y="16197"/>
                  <a:pt x="15197" y="16197"/>
                  <a:pt x="15205" y="16197"/>
                </a:cubicBezTo>
              </a:path>
              <a:path w="7691" h="2060">
                <a:moveTo>
                  <a:pt x="15627" y="16148"/>
                </a:moveTo>
                <a:cubicBezTo>
                  <a:pt x="15640" y="16186"/>
                  <a:pt x="15656" y="16173"/>
                  <a:pt x="15701" y="16173"/>
                </a:cubicBezTo>
                <a:cubicBezTo>
                  <a:pt x="15829" y="16173"/>
                  <a:pt x="15952" y="16176"/>
                  <a:pt x="16073" y="16148"/>
                </a:cubicBezTo>
                <a:cubicBezTo>
                  <a:pt x="16219" y="16114"/>
                  <a:pt x="16403" y="16151"/>
                  <a:pt x="16545" y="16173"/>
                </a:cubicBezTo>
                <a:cubicBezTo>
                  <a:pt x="16708" y="16198"/>
                  <a:pt x="16887" y="16167"/>
                  <a:pt x="17041" y="16197"/>
                </a:cubicBezTo>
                <a:cubicBezTo>
                  <a:pt x="17074" y="16197"/>
                  <a:pt x="17090" y="16197"/>
                  <a:pt x="17115" y="16197"/>
                </a:cubicBezTo>
              </a:path>
              <a:path w="7691" h="2060">
                <a:moveTo>
                  <a:pt x="15949" y="15354"/>
                </a:moveTo>
                <a:cubicBezTo>
                  <a:pt x="16013" y="15330"/>
                  <a:pt x="16054" y="15329"/>
                  <a:pt x="16123" y="15329"/>
                </a:cubicBezTo>
                <a:cubicBezTo>
                  <a:pt x="16206" y="15329"/>
                  <a:pt x="16290" y="15292"/>
                  <a:pt x="16371" y="15280"/>
                </a:cubicBezTo>
                <a:cubicBezTo>
                  <a:pt x="16422" y="15273"/>
                  <a:pt x="16444" y="15255"/>
                  <a:pt x="16495" y="15255"/>
                </a:cubicBezTo>
              </a:path>
              <a:path w="7691" h="2060">
                <a:moveTo>
                  <a:pt x="16073" y="15329"/>
                </a:moveTo>
                <a:cubicBezTo>
                  <a:pt x="16027" y="15343"/>
                  <a:pt x="15948" y="15351"/>
                  <a:pt x="15925" y="15404"/>
                </a:cubicBezTo>
                <a:cubicBezTo>
                  <a:pt x="15897" y="15468"/>
                  <a:pt x="16019" y="15483"/>
                  <a:pt x="16049" y="15503"/>
                </a:cubicBezTo>
                <a:cubicBezTo>
                  <a:pt x="16095" y="15534"/>
                  <a:pt x="16150" y="15579"/>
                  <a:pt x="16197" y="15602"/>
                </a:cubicBezTo>
                <a:cubicBezTo>
                  <a:pt x="16247" y="15627"/>
                  <a:pt x="16212" y="15632"/>
                  <a:pt x="16197" y="15677"/>
                </a:cubicBezTo>
                <a:cubicBezTo>
                  <a:pt x="16185" y="15713"/>
                  <a:pt x="16161" y="15752"/>
                  <a:pt x="16123" y="15776"/>
                </a:cubicBezTo>
                <a:cubicBezTo>
                  <a:pt x="16077" y="15805"/>
                  <a:pt x="16049" y="15801"/>
                  <a:pt x="15999" y="15801"/>
                </a:cubicBezTo>
                <a:cubicBezTo>
                  <a:pt x="15991" y="15801"/>
                  <a:pt x="15982" y="15801"/>
                  <a:pt x="15974" y="15801"/>
                </a:cubicBezTo>
              </a:path>
              <a:path w="7691" h="2060">
                <a:moveTo>
                  <a:pt x="15677" y="15106"/>
                </a:moveTo>
                <a:cubicBezTo>
                  <a:pt x="15656" y="15090"/>
                  <a:pt x="15648" y="15097"/>
                  <a:pt x="15627" y="15081"/>
                </a:cubicBezTo>
                <a:cubicBezTo>
                  <a:pt x="15574" y="15134"/>
                  <a:pt x="15533" y="15117"/>
                  <a:pt x="15478" y="15156"/>
                </a:cubicBezTo>
                <a:cubicBezTo>
                  <a:pt x="15431" y="15190"/>
                  <a:pt x="15421" y="15256"/>
                  <a:pt x="15404" y="15304"/>
                </a:cubicBezTo>
                <a:cubicBezTo>
                  <a:pt x="15373" y="15392"/>
                  <a:pt x="15397" y="15466"/>
                  <a:pt x="15379" y="15553"/>
                </a:cubicBezTo>
                <a:cubicBezTo>
                  <a:pt x="15360" y="15642"/>
                  <a:pt x="15338" y="15734"/>
                  <a:pt x="15329" y="15825"/>
                </a:cubicBezTo>
                <a:cubicBezTo>
                  <a:pt x="15323" y="15880"/>
                  <a:pt x="15293" y="15999"/>
                  <a:pt x="15304" y="16049"/>
                </a:cubicBezTo>
                <a:cubicBezTo>
                  <a:pt x="15320" y="16119"/>
                  <a:pt x="15311" y="16203"/>
                  <a:pt x="15329" y="16272"/>
                </a:cubicBezTo>
                <a:cubicBezTo>
                  <a:pt x="15355" y="16370"/>
                  <a:pt x="15372" y="16476"/>
                  <a:pt x="15404" y="16570"/>
                </a:cubicBezTo>
                <a:cubicBezTo>
                  <a:pt x="15436" y="16666"/>
                  <a:pt x="15483" y="16752"/>
                  <a:pt x="15528" y="16842"/>
                </a:cubicBezTo>
                <a:cubicBezTo>
                  <a:pt x="15551" y="16887"/>
                  <a:pt x="15561" y="16884"/>
                  <a:pt x="15602" y="16917"/>
                </a:cubicBezTo>
              </a:path>
              <a:path w="7691" h="2060">
                <a:moveTo>
                  <a:pt x="15701" y="16446"/>
                </a:moveTo>
                <a:cubicBezTo>
                  <a:pt x="15752" y="16446"/>
                  <a:pt x="15760" y="16435"/>
                  <a:pt x="15801" y="16421"/>
                </a:cubicBezTo>
                <a:cubicBezTo>
                  <a:pt x="15832" y="16410"/>
                  <a:pt x="15867" y="16403"/>
                  <a:pt x="15900" y="16396"/>
                </a:cubicBezTo>
              </a:path>
              <a:path w="7691" h="2060">
                <a:moveTo>
                  <a:pt x="15999" y="16297"/>
                </a:moveTo>
                <a:cubicBezTo>
                  <a:pt x="16043" y="16264"/>
                  <a:pt x="16065" y="16272"/>
                  <a:pt x="16123" y="16272"/>
                </a:cubicBezTo>
                <a:cubicBezTo>
                  <a:pt x="16166" y="16272"/>
                  <a:pt x="16193" y="16307"/>
                  <a:pt x="16197" y="16346"/>
                </a:cubicBezTo>
                <a:cubicBezTo>
                  <a:pt x="16201" y="16380"/>
                  <a:pt x="16189" y="16422"/>
                  <a:pt x="16173" y="16446"/>
                </a:cubicBezTo>
                <a:cubicBezTo>
                  <a:pt x="16148" y="16483"/>
                  <a:pt x="16128" y="16566"/>
                  <a:pt x="16098" y="16594"/>
                </a:cubicBezTo>
                <a:cubicBezTo>
                  <a:pt x="16048" y="16640"/>
                  <a:pt x="16061" y="16620"/>
                  <a:pt x="16024" y="16669"/>
                </a:cubicBezTo>
                <a:cubicBezTo>
                  <a:pt x="16040" y="16690"/>
                  <a:pt x="16064" y="16739"/>
                  <a:pt x="16073" y="16743"/>
                </a:cubicBezTo>
                <a:cubicBezTo>
                  <a:pt x="16094" y="16754"/>
                  <a:pt x="16127" y="16723"/>
                  <a:pt x="16148" y="16718"/>
                </a:cubicBezTo>
              </a:path>
              <a:path w="7691" h="2060">
                <a:moveTo>
                  <a:pt x="16321" y="16495"/>
                </a:moveTo>
                <a:cubicBezTo>
                  <a:pt x="16327" y="16519"/>
                  <a:pt x="16334" y="16573"/>
                  <a:pt x="16346" y="16594"/>
                </a:cubicBezTo>
                <a:cubicBezTo>
                  <a:pt x="16363" y="16624"/>
                  <a:pt x="16375" y="16641"/>
                  <a:pt x="16396" y="16669"/>
                </a:cubicBezTo>
                <a:cubicBezTo>
                  <a:pt x="16426" y="16629"/>
                  <a:pt x="16401" y="16606"/>
                  <a:pt x="16421" y="16570"/>
                </a:cubicBezTo>
                <a:cubicBezTo>
                  <a:pt x="16443" y="16531"/>
                  <a:pt x="16458" y="16487"/>
                  <a:pt x="16470" y="16446"/>
                </a:cubicBezTo>
                <a:cubicBezTo>
                  <a:pt x="16480" y="16410"/>
                  <a:pt x="16484" y="16378"/>
                  <a:pt x="16495" y="16346"/>
                </a:cubicBezTo>
                <a:cubicBezTo>
                  <a:pt x="16495" y="16321"/>
                  <a:pt x="16495" y="16313"/>
                  <a:pt x="16495" y="16297"/>
                </a:cubicBezTo>
                <a:cubicBezTo>
                  <a:pt x="16529" y="16286"/>
                  <a:pt x="16526" y="16262"/>
                  <a:pt x="16570" y="16247"/>
                </a:cubicBezTo>
                <a:cubicBezTo>
                  <a:pt x="16634" y="16225"/>
                  <a:pt x="16726" y="16239"/>
                  <a:pt x="16793" y="16222"/>
                </a:cubicBezTo>
                <a:cubicBezTo>
                  <a:pt x="16851" y="16208"/>
                  <a:pt x="16931" y="16222"/>
                  <a:pt x="16991" y="16222"/>
                </a:cubicBezTo>
              </a:path>
              <a:path w="7691" h="2060">
                <a:moveTo>
                  <a:pt x="16619" y="16346"/>
                </a:moveTo>
                <a:cubicBezTo>
                  <a:pt x="16680" y="16346"/>
                  <a:pt x="16705" y="16358"/>
                  <a:pt x="16768" y="16371"/>
                </a:cubicBezTo>
                <a:cubicBezTo>
                  <a:pt x="16798" y="16377"/>
                  <a:pt x="16836" y="16371"/>
                  <a:pt x="16867" y="16371"/>
                </a:cubicBezTo>
              </a:path>
              <a:path w="7691" h="2060">
                <a:moveTo>
                  <a:pt x="16644" y="16346"/>
                </a:moveTo>
                <a:cubicBezTo>
                  <a:pt x="16621" y="16369"/>
                  <a:pt x="16617" y="16377"/>
                  <a:pt x="16594" y="16371"/>
                </a:cubicBezTo>
                <a:cubicBezTo>
                  <a:pt x="16594" y="16414"/>
                  <a:pt x="16584" y="16409"/>
                  <a:pt x="16619" y="16421"/>
                </a:cubicBezTo>
                <a:cubicBezTo>
                  <a:pt x="16632" y="16459"/>
                  <a:pt x="16641" y="16449"/>
                  <a:pt x="16669" y="16470"/>
                </a:cubicBezTo>
                <a:cubicBezTo>
                  <a:pt x="16703" y="16495"/>
                  <a:pt x="16704" y="16510"/>
                  <a:pt x="16743" y="16520"/>
                </a:cubicBezTo>
                <a:cubicBezTo>
                  <a:pt x="16743" y="16567"/>
                  <a:pt x="16749" y="16583"/>
                  <a:pt x="16718" y="16619"/>
                </a:cubicBezTo>
                <a:cubicBezTo>
                  <a:pt x="16696" y="16642"/>
                  <a:pt x="16688" y="16647"/>
                  <a:pt x="16694" y="16669"/>
                </a:cubicBezTo>
                <a:cubicBezTo>
                  <a:pt x="16655" y="16679"/>
                  <a:pt x="16639" y="16694"/>
                  <a:pt x="16594" y="16694"/>
                </a:cubicBezTo>
                <a:cubicBezTo>
                  <a:pt x="16586" y="16694"/>
                  <a:pt x="16578" y="16694"/>
                  <a:pt x="16570" y="16694"/>
                </a:cubicBezTo>
              </a:path>
              <a:path w="7691" h="2060">
                <a:moveTo>
                  <a:pt x="17462" y="16123"/>
                </a:moveTo>
                <a:cubicBezTo>
                  <a:pt x="17515" y="16123"/>
                  <a:pt x="17533" y="16103"/>
                  <a:pt x="17587" y="16098"/>
                </a:cubicBezTo>
                <a:cubicBezTo>
                  <a:pt x="17626" y="16095"/>
                  <a:pt x="17661" y="16123"/>
                  <a:pt x="17711" y="16123"/>
                </a:cubicBezTo>
                <a:cubicBezTo>
                  <a:pt x="17748" y="16123"/>
                  <a:pt x="17848" y="16113"/>
                  <a:pt x="17884" y="16098"/>
                </a:cubicBezTo>
                <a:cubicBezTo>
                  <a:pt x="17927" y="16080"/>
                  <a:pt x="17992" y="16093"/>
                  <a:pt x="18033" y="16073"/>
                </a:cubicBezTo>
                <a:cubicBezTo>
                  <a:pt x="18083" y="16049"/>
                  <a:pt x="18093" y="16049"/>
                  <a:pt x="18157" y="16049"/>
                </a:cubicBezTo>
                <a:cubicBezTo>
                  <a:pt x="18207" y="16049"/>
                  <a:pt x="18256" y="16049"/>
                  <a:pt x="18306" y="16049"/>
                </a:cubicBezTo>
              </a:path>
              <a:path w="7691" h="2060">
                <a:moveTo>
                  <a:pt x="17438" y="16396"/>
                </a:moveTo>
                <a:cubicBezTo>
                  <a:pt x="17514" y="16375"/>
                  <a:pt x="17584" y="16352"/>
                  <a:pt x="17661" y="16346"/>
                </a:cubicBezTo>
                <a:cubicBezTo>
                  <a:pt x="17730" y="16341"/>
                  <a:pt x="17766" y="16335"/>
                  <a:pt x="17835" y="16321"/>
                </a:cubicBezTo>
                <a:cubicBezTo>
                  <a:pt x="17883" y="16311"/>
                  <a:pt x="17936" y="16307"/>
                  <a:pt x="17959" y="16297"/>
                </a:cubicBezTo>
                <a:cubicBezTo>
                  <a:pt x="17983" y="16297"/>
                  <a:pt x="17992" y="16297"/>
                  <a:pt x="18008" y="16297"/>
                </a:cubicBezTo>
              </a:path>
              <a:path w="7691" h="2060">
                <a:moveTo>
                  <a:pt x="17835" y="15900"/>
                </a:moveTo>
                <a:cubicBezTo>
                  <a:pt x="17887" y="15940"/>
                  <a:pt x="17881" y="15920"/>
                  <a:pt x="17934" y="15949"/>
                </a:cubicBezTo>
                <a:cubicBezTo>
                  <a:pt x="17963" y="15965"/>
                  <a:pt x="18044" y="16049"/>
                  <a:pt x="18058" y="16073"/>
                </a:cubicBezTo>
                <a:cubicBezTo>
                  <a:pt x="18083" y="16115"/>
                  <a:pt x="18057" y="16242"/>
                  <a:pt x="18033" y="16272"/>
                </a:cubicBezTo>
                <a:cubicBezTo>
                  <a:pt x="17971" y="16349"/>
                  <a:pt x="17884" y="16421"/>
                  <a:pt x="17810" y="16470"/>
                </a:cubicBezTo>
                <a:cubicBezTo>
                  <a:pt x="17802" y="16478"/>
                  <a:pt x="17793" y="16487"/>
                  <a:pt x="17785" y="16495"/>
                </a:cubicBezTo>
              </a:path>
              <a:path w="7691" h="2060">
                <a:moveTo>
                  <a:pt x="18579" y="16148"/>
                </a:moveTo>
                <a:cubicBezTo>
                  <a:pt x="18629" y="16148"/>
                  <a:pt x="18678" y="16148"/>
                  <a:pt x="18728" y="16148"/>
                </a:cubicBezTo>
                <a:cubicBezTo>
                  <a:pt x="18740" y="16186"/>
                  <a:pt x="18757" y="16173"/>
                  <a:pt x="18802" y="16173"/>
                </a:cubicBezTo>
                <a:cubicBezTo>
                  <a:pt x="18841" y="16173"/>
                  <a:pt x="18857" y="16197"/>
                  <a:pt x="18901" y="16197"/>
                </a:cubicBezTo>
                <a:cubicBezTo>
                  <a:pt x="19116" y="16197"/>
                  <a:pt x="19331" y="16197"/>
                  <a:pt x="19546" y="16197"/>
                </a:cubicBezTo>
              </a:path>
              <a:path w="7691" h="2060">
                <a:moveTo>
                  <a:pt x="18579" y="15503"/>
                </a:moveTo>
                <a:cubicBezTo>
                  <a:pt x="18618" y="15493"/>
                  <a:pt x="18633" y="15478"/>
                  <a:pt x="18678" y="15478"/>
                </a:cubicBezTo>
                <a:cubicBezTo>
                  <a:pt x="18744" y="15478"/>
                  <a:pt x="18810" y="15478"/>
                  <a:pt x="18876" y="15478"/>
                </a:cubicBezTo>
              </a:path>
              <a:path w="7691" h="2060">
                <a:moveTo>
                  <a:pt x="18604" y="15503"/>
                </a:moveTo>
                <a:cubicBezTo>
                  <a:pt x="18545" y="15537"/>
                  <a:pt x="18511" y="15554"/>
                  <a:pt x="18504" y="15627"/>
                </a:cubicBezTo>
                <a:cubicBezTo>
                  <a:pt x="18499" y="15680"/>
                  <a:pt x="18540" y="15677"/>
                  <a:pt x="18579" y="15677"/>
                </a:cubicBezTo>
                <a:cubicBezTo>
                  <a:pt x="18640" y="15677"/>
                  <a:pt x="18676" y="15710"/>
                  <a:pt x="18728" y="15726"/>
                </a:cubicBezTo>
                <a:cubicBezTo>
                  <a:pt x="18776" y="15741"/>
                  <a:pt x="18777" y="15750"/>
                  <a:pt x="18777" y="15801"/>
                </a:cubicBezTo>
                <a:cubicBezTo>
                  <a:pt x="18777" y="15853"/>
                  <a:pt x="18718" y="15879"/>
                  <a:pt x="18678" y="15900"/>
                </a:cubicBezTo>
                <a:cubicBezTo>
                  <a:pt x="18623" y="15929"/>
                  <a:pt x="18554" y="15981"/>
                  <a:pt x="18554" y="15974"/>
                </a:cubicBezTo>
                <a:cubicBezTo>
                  <a:pt x="18554" y="15966"/>
                  <a:pt x="18554" y="15957"/>
                  <a:pt x="18554" y="15949"/>
                </a:cubicBezTo>
              </a:path>
              <a:path w="7691" h="2060">
                <a:moveTo>
                  <a:pt x="18976" y="15751"/>
                </a:moveTo>
                <a:cubicBezTo>
                  <a:pt x="18976" y="15810"/>
                  <a:pt x="18953" y="15958"/>
                  <a:pt x="19000" y="15974"/>
                </a:cubicBezTo>
                <a:cubicBezTo>
                  <a:pt x="19026" y="15965"/>
                  <a:pt x="19046" y="15956"/>
                  <a:pt x="19050" y="15925"/>
                </a:cubicBezTo>
                <a:cubicBezTo>
                  <a:pt x="19056" y="15882"/>
                  <a:pt x="19087" y="15863"/>
                  <a:pt x="19100" y="15825"/>
                </a:cubicBezTo>
                <a:cubicBezTo>
                  <a:pt x="19112" y="15791"/>
                  <a:pt x="19110" y="15759"/>
                  <a:pt x="19124" y="15726"/>
                </a:cubicBezTo>
                <a:cubicBezTo>
                  <a:pt x="19142" y="15685"/>
                  <a:pt x="19169" y="15643"/>
                  <a:pt x="19174" y="15602"/>
                </a:cubicBezTo>
                <a:cubicBezTo>
                  <a:pt x="19179" y="15560"/>
                  <a:pt x="19195" y="15541"/>
                  <a:pt x="19199" y="15503"/>
                </a:cubicBezTo>
                <a:cubicBezTo>
                  <a:pt x="19199" y="15495"/>
                  <a:pt x="19199" y="15486"/>
                  <a:pt x="19199" y="15478"/>
                </a:cubicBezTo>
                <a:cubicBezTo>
                  <a:pt x="19246" y="15478"/>
                  <a:pt x="19262" y="15461"/>
                  <a:pt x="19298" y="15453"/>
                </a:cubicBezTo>
                <a:cubicBezTo>
                  <a:pt x="19366" y="15438"/>
                  <a:pt x="19593" y="15419"/>
                  <a:pt x="19645" y="15429"/>
                </a:cubicBezTo>
                <a:cubicBezTo>
                  <a:pt x="19668" y="15451"/>
                  <a:pt x="19673" y="15459"/>
                  <a:pt x="19695" y="15453"/>
                </a:cubicBezTo>
              </a:path>
              <a:path w="7691" h="2060">
                <a:moveTo>
                  <a:pt x="19323" y="15577"/>
                </a:moveTo>
                <a:cubicBezTo>
                  <a:pt x="19414" y="15577"/>
                  <a:pt x="19486" y="15581"/>
                  <a:pt x="19571" y="15602"/>
                </a:cubicBezTo>
                <a:cubicBezTo>
                  <a:pt x="19611" y="15612"/>
                  <a:pt x="19612" y="15604"/>
                  <a:pt x="19621" y="15577"/>
                </a:cubicBezTo>
              </a:path>
              <a:path w="7691" h="2060">
                <a:moveTo>
                  <a:pt x="19422" y="15577"/>
                </a:moveTo>
                <a:cubicBezTo>
                  <a:pt x="19392" y="15577"/>
                  <a:pt x="19315" y="15577"/>
                  <a:pt x="19298" y="15602"/>
                </a:cubicBezTo>
                <a:cubicBezTo>
                  <a:pt x="19269" y="15645"/>
                  <a:pt x="19232" y="15680"/>
                  <a:pt x="19273" y="15726"/>
                </a:cubicBezTo>
                <a:cubicBezTo>
                  <a:pt x="19305" y="15762"/>
                  <a:pt x="19359" y="15753"/>
                  <a:pt x="19397" y="15776"/>
                </a:cubicBezTo>
                <a:cubicBezTo>
                  <a:pt x="19443" y="15804"/>
                  <a:pt x="19423" y="15846"/>
                  <a:pt x="19397" y="15875"/>
                </a:cubicBezTo>
                <a:cubicBezTo>
                  <a:pt x="19373" y="15902"/>
                  <a:pt x="19309" y="15937"/>
                  <a:pt x="19273" y="15949"/>
                </a:cubicBezTo>
                <a:cubicBezTo>
                  <a:pt x="19230" y="15963"/>
                  <a:pt x="19215" y="15981"/>
                  <a:pt x="19174" y="15999"/>
                </a:cubicBezTo>
                <a:cubicBezTo>
                  <a:pt x="19166" y="15999"/>
                  <a:pt x="19157" y="15999"/>
                  <a:pt x="19149" y="15999"/>
                </a:cubicBezTo>
              </a:path>
              <a:path w="7691" h="2060">
                <a:moveTo>
                  <a:pt x="18827" y="15478"/>
                </a:moveTo>
                <a:cubicBezTo>
                  <a:pt x="18819" y="15486"/>
                  <a:pt x="18810" y="15495"/>
                  <a:pt x="18802" y="15503"/>
                </a:cubicBezTo>
              </a:path>
              <a:path w="7691" h="2060">
                <a:moveTo>
                  <a:pt x="18876" y="15503"/>
                </a:moveTo>
                <a:cubicBezTo>
                  <a:pt x="18828" y="15503"/>
                  <a:pt x="18811" y="15500"/>
                  <a:pt x="18802" y="15503"/>
                </a:cubicBezTo>
                <a:cubicBezTo>
                  <a:pt x="18759" y="15517"/>
                  <a:pt x="18757" y="15506"/>
                  <a:pt x="18728" y="15528"/>
                </a:cubicBezTo>
                <a:cubicBezTo>
                  <a:pt x="18689" y="15558"/>
                  <a:pt x="18671" y="15636"/>
                  <a:pt x="18653" y="15677"/>
                </a:cubicBezTo>
                <a:cubicBezTo>
                  <a:pt x="18642" y="15703"/>
                  <a:pt x="18609" y="15767"/>
                  <a:pt x="18628" y="15801"/>
                </a:cubicBezTo>
                <a:cubicBezTo>
                  <a:pt x="18654" y="15847"/>
                  <a:pt x="18719" y="15823"/>
                  <a:pt x="18752" y="15801"/>
                </a:cubicBezTo>
                <a:cubicBezTo>
                  <a:pt x="18786" y="15779"/>
                  <a:pt x="18827" y="15765"/>
                  <a:pt x="18852" y="15726"/>
                </a:cubicBezTo>
                <a:cubicBezTo>
                  <a:pt x="18882" y="15680"/>
                  <a:pt x="18920" y="15632"/>
                  <a:pt x="18926" y="15577"/>
                </a:cubicBezTo>
                <a:cubicBezTo>
                  <a:pt x="18926" y="15553"/>
                  <a:pt x="18926" y="15544"/>
                  <a:pt x="18926" y="15528"/>
                </a:cubicBezTo>
                <a:cubicBezTo>
                  <a:pt x="18886" y="15541"/>
                  <a:pt x="18885" y="15583"/>
                  <a:pt x="18852" y="15627"/>
                </a:cubicBezTo>
                <a:cubicBezTo>
                  <a:pt x="18814" y="15678"/>
                  <a:pt x="18817" y="15679"/>
                  <a:pt x="18827" y="15726"/>
                </a:cubicBezTo>
                <a:cubicBezTo>
                  <a:pt x="18837" y="15771"/>
                  <a:pt x="18844" y="15751"/>
                  <a:pt x="18876" y="15726"/>
                </a:cubicBezTo>
              </a:path>
              <a:path w="7691" h="2060">
                <a:moveTo>
                  <a:pt x="18876" y="15627"/>
                </a:moveTo>
                <a:cubicBezTo>
                  <a:pt x="18868" y="15690"/>
                  <a:pt x="18852" y="15736"/>
                  <a:pt x="18852" y="15801"/>
                </a:cubicBezTo>
                <a:cubicBezTo>
                  <a:pt x="18852" y="15874"/>
                  <a:pt x="18846" y="15937"/>
                  <a:pt x="18876" y="15999"/>
                </a:cubicBezTo>
                <a:cubicBezTo>
                  <a:pt x="18934" y="15985"/>
                  <a:pt x="18969" y="15954"/>
                  <a:pt x="19000" y="15900"/>
                </a:cubicBezTo>
                <a:cubicBezTo>
                  <a:pt x="19041" y="15831"/>
                  <a:pt x="19086" y="15770"/>
                  <a:pt x="19124" y="15701"/>
                </a:cubicBezTo>
                <a:cubicBezTo>
                  <a:pt x="19149" y="15656"/>
                  <a:pt x="19188" y="15622"/>
                  <a:pt x="19199" y="15577"/>
                </a:cubicBezTo>
                <a:cubicBezTo>
                  <a:pt x="19178" y="15605"/>
                  <a:pt x="19133" y="15669"/>
                  <a:pt x="19124" y="15701"/>
                </a:cubicBezTo>
                <a:cubicBezTo>
                  <a:pt x="19107" y="15764"/>
                  <a:pt x="19107" y="15765"/>
                  <a:pt x="19124" y="15825"/>
                </a:cubicBezTo>
                <a:cubicBezTo>
                  <a:pt x="19173" y="15825"/>
                  <a:pt x="19184" y="15814"/>
                  <a:pt x="19224" y="15801"/>
                </a:cubicBezTo>
                <a:cubicBezTo>
                  <a:pt x="19272" y="15785"/>
                  <a:pt x="19295" y="15747"/>
                  <a:pt x="19323" y="15701"/>
                </a:cubicBezTo>
                <a:cubicBezTo>
                  <a:pt x="19367" y="15629"/>
                  <a:pt x="19390" y="15567"/>
                  <a:pt x="19447" y="15503"/>
                </a:cubicBezTo>
                <a:cubicBezTo>
                  <a:pt x="19447" y="15456"/>
                  <a:pt x="19376" y="15608"/>
                  <a:pt x="19348" y="15652"/>
                </a:cubicBezTo>
                <a:cubicBezTo>
                  <a:pt x="19305" y="15718"/>
                  <a:pt x="19247" y="15798"/>
                  <a:pt x="19224" y="15875"/>
                </a:cubicBezTo>
                <a:cubicBezTo>
                  <a:pt x="19214" y="15909"/>
                  <a:pt x="19274" y="15944"/>
                  <a:pt x="19298" y="15949"/>
                </a:cubicBezTo>
                <a:cubicBezTo>
                  <a:pt x="19359" y="15962"/>
                  <a:pt x="19403" y="15939"/>
                  <a:pt x="19447" y="15900"/>
                </a:cubicBezTo>
                <a:cubicBezTo>
                  <a:pt x="19495" y="15857"/>
                  <a:pt x="19537" y="15833"/>
                  <a:pt x="19571" y="15776"/>
                </a:cubicBezTo>
                <a:cubicBezTo>
                  <a:pt x="19607" y="15716"/>
                  <a:pt x="19598" y="15738"/>
                  <a:pt x="19645" y="15701"/>
                </a:cubicBezTo>
                <a:cubicBezTo>
                  <a:pt x="19585" y="15799"/>
                  <a:pt x="19507" y="15879"/>
                  <a:pt x="19447" y="15974"/>
                </a:cubicBezTo>
                <a:cubicBezTo>
                  <a:pt x="19421" y="16015"/>
                  <a:pt x="19371" y="16097"/>
                  <a:pt x="19397" y="16148"/>
                </a:cubicBezTo>
                <a:cubicBezTo>
                  <a:pt x="19411" y="16175"/>
                  <a:pt x="19455" y="16192"/>
                  <a:pt x="19472" y="16197"/>
                </a:cubicBezTo>
              </a:path>
              <a:path w="7691" h="2060">
                <a:moveTo>
                  <a:pt x="19893" y="15776"/>
                </a:moveTo>
                <a:cubicBezTo>
                  <a:pt x="19912" y="15807"/>
                  <a:pt x="19934" y="15815"/>
                  <a:pt x="19943" y="15850"/>
                </a:cubicBezTo>
                <a:cubicBezTo>
                  <a:pt x="19954" y="15893"/>
                  <a:pt x="19945" y="15897"/>
                  <a:pt x="19968" y="15925"/>
                </a:cubicBezTo>
                <a:cubicBezTo>
                  <a:pt x="20003" y="15967"/>
                  <a:pt x="19974" y="15981"/>
                  <a:pt x="19993" y="16024"/>
                </a:cubicBezTo>
                <a:cubicBezTo>
                  <a:pt x="20013" y="16069"/>
                  <a:pt x="20007" y="16056"/>
                  <a:pt x="20017" y="16049"/>
                </a:cubicBezTo>
                <a:cubicBezTo>
                  <a:pt x="20084" y="16004"/>
                  <a:pt x="20064" y="15948"/>
                  <a:pt x="20092" y="15875"/>
                </a:cubicBezTo>
                <a:cubicBezTo>
                  <a:pt x="20115" y="15815"/>
                  <a:pt x="20137" y="15759"/>
                  <a:pt x="20166" y="15701"/>
                </a:cubicBezTo>
                <a:cubicBezTo>
                  <a:pt x="20189" y="15656"/>
                  <a:pt x="20194" y="15595"/>
                  <a:pt x="20216" y="15553"/>
                </a:cubicBezTo>
                <a:cubicBezTo>
                  <a:pt x="20233" y="15521"/>
                  <a:pt x="20256" y="15513"/>
                  <a:pt x="20265" y="15478"/>
                </a:cubicBezTo>
                <a:cubicBezTo>
                  <a:pt x="20282" y="15414"/>
                  <a:pt x="20236" y="15449"/>
                  <a:pt x="20290" y="15453"/>
                </a:cubicBezTo>
                <a:cubicBezTo>
                  <a:pt x="20392" y="15460"/>
                  <a:pt x="20489" y="15466"/>
                  <a:pt x="20588" y="15478"/>
                </a:cubicBezTo>
                <a:cubicBezTo>
                  <a:pt x="20768" y="15499"/>
                  <a:pt x="20998" y="15433"/>
                  <a:pt x="21158" y="15503"/>
                </a:cubicBezTo>
              </a:path>
              <a:path w="7691" h="2060">
                <a:moveTo>
                  <a:pt x="20489" y="15652"/>
                </a:moveTo>
                <a:cubicBezTo>
                  <a:pt x="20621" y="15652"/>
                  <a:pt x="20754" y="15652"/>
                  <a:pt x="20886" y="15652"/>
                </a:cubicBezTo>
              </a:path>
              <a:path w="7691" h="2060">
                <a:moveTo>
                  <a:pt x="20662" y="15627"/>
                </a:moveTo>
                <a:cubicBezTo>
                  <a:pt x="20611" y="15627"/>
                  <a:pt x="20609" y="15642"/>
                  <a:pt x="20588" y="15652"/>
                </a:cubicBezTo>
                <a:cubicBezTo>
                  <a:pt x="20536" y="15678"/>
                  <a:pt x="20558" y="15650"/>
                  <a:pt x="20513" y="15701"/>
                </a:cubicBezTo>
                <a:cubicBezTo>
                  <a:pt x="20490" y="15727"/>
                  <a:pt x="20466" y="15777"/>
                  <a:pt x="20513" y="15801"/>
                </a:cubicBezTo>
                <a:cubicBezTo>
                  <a:pt x="20544" y="15817"/>
                  <a:pt x="20604" y="15811"/>
                  <a:pt x="20638" y="15825"/>
                </a:cubicBezTo>
                <a:cubicBezTo>
                  <a:pt x="20683" y="15843"/>
                  <a:pt x="20704" y="15867"/>
                  <a:pt x="20737" y="15900"/>
                </a:cubicBezTo>
                <a:cubicBezTo>
                  <a:pt x="20709" y="15936"/>
                  <a:pt x="20697" y="15963"/>
                  <a:pt x="20662" y="15999"/>
                </a:cubicBezTo>
                <a:cubicBezTo>
                  <a:pt x="20605" y="16057"/>
                  <a:pt x="20562" y="16086"/>
                  <a:pt x="20489" y="16123"/>
                </a:cubicBezTo>
                <a:cubicBezTo>
                  <a:pt x="20442" y="16147"/>
                  <a:pt x="20436" y="16148"/>
                  <a:pt x="20389" y="16148"/>
                </a:cubicBezTo>
              </a:path>
              <a:path w="7691" h="2060">
                <a:moveTo>
                  <a:pt x="19794" y="15602"/>
                </a:moveTo>
                <a:cubicBezTo>
                  <a:pt x="19827" y="15602"/>
                  <a:pt x="19860" y="15602"/>
                  <a:pt x="19893" y="15602"/>
                </a:cubicBezTo>
                <a:cubicBezTo>
                  <a:pt x="19893" y="15577"/>
                  <a:pt x="19893" y="15569"/>
                  <a:pt x="19918" y="15577"/>
                </a:cubicBezTo>
              </a:path>
              <a:path w="7691" h="2060">
                <a:moveTo>
                  <a:pt x="19794" y="16297"/>
                </a:moveTo>
                <a:cubicBezTo>
                  <a:pt x="19833" y="16306"/>
                  <a:pt x="19849" y="16321"/>
                  <a:pt x="19893" y="16321"/>
                </a:cubicBezTo>
                <a:cubicBezTo>
                  <a:pt x="19962" y="16321"/>
                  <a:pt x="20048" y="16334"/>
                  <a:pt x="20117" y="16346"/>
                </a:cubicBezTo>
                <a:cubicBezTo>
                  <a:pt x="20207" y="16362"/>
                  <a:pt x="20274" y="16371"/>
                  <a:pt x="20365" y="16371"/>
                </a:cubicBezTo>
                <a:cubicBezTo>
                  <a:pt x="20434" y="16371"/>
                  <a:pt x="20490" y="16346"/>
                  <a:pt x="20563" y="16346"/>
                </a:cubicBezTo>
                <a:cubicBezTo>
                  <a:pt x="20671" y="16346"/>
                  <a:pt x="20778" y="16346"/>
                  <a:pt x="20886" y="16346"/>
                </a:cubicBezTo>
              </a:path>
              <a:path w="7691" h="2060">
                <a:moveTo>
                  <a:pt x="20141" y="16520"/>
                </a:moveTo>
                <a:cubicBezTo>
                  <a:pt x="20238" y="16489"/>
                  <a:pt x="20291" y="16445"/>
                  <a:pt x="20365" y="16495"/>
                </a:cubicBezTo>
                <a:cubicBezTo>
                  <a:pt x="20394" y="16515"/>
                  <a:pt x="20402" y="16588"/>
                  <a:pt x="20389" y="16619"/>
                </a:cubicBezTo>
                <a:cubicBezTo>
                  <a:pt x="20365" y="16679"/>
                  <a:pt x="20257" y="16765"/>
                  <a:pt x="20216" y="16818"/>
                </a:cubicBezTo>
                <a:cubicBezTo>
                  <a:pt x="20191" y="16842"/>
                  <a:pt x="20182" y="16850"/>
                  <a:pt x="20166" y="16867"/>
                </a:cubicBezTo>
                <a:cubicBezTo>
                  <a:pt x="20198" y="16891"/>
                  <a:pt x="20252" y="16913"/>
                  <a:pt x="20290" y="16917"/>
                </a:cubicBezTo>
                <a:cubicBezTo>
                  <a:pt x="20344" y="16923"/>
                  <a:pt x="20375" y="16922"/>
                  <a:pt x="20414" y="16892"/>
                </a:cubicBezTo>
              </a:path>
              <a:path w="7691" h="2060">
                <a:moveTo>
                  <a:pt x="21183" y="15180"/>
                </a:moveTo>
                <a:cubicBezTo>
                  <a:pt x="21220" y="15235"/>
                  <a:pt x="21278" y="15296"/>
                  <a:pt x="21307" y="15354"/>
                </a:cubicBezTo>
                <a:cubicBezTo>
                  <a:pt x="21333" y="15405"/>
                  <a:pt x="21339" y="15475"/>
                  <a:pt x="21357" y="15528"/>
                </a:cubicBezTo>
                <a:cubicBezTo>
                  <a:pt x="21379" y="15593"/>
                  <a:pt x="21403" y="15679"/>
                  <a:pt x="21382" y="15751"/>
                </a:cubicBezTo>
                <a:cubicBezTo>
                  <a:pt x="21354" y="15845"/>
                  <a:pt x="21287" y="16014"/>
                  <a:pt x="21233" y="16098"/>
                </a:cubicBezTo>
                <a:cubicBezTo>
                  <a:pt x="21164" y="16207"/>
                  <a:pt x="21096" y="16306"/>
                  <a:pt x="21034" y="16421"/>
                </a:cubicBezTo>
                <a:cubicBezTo>
                  <a:pt x="20990" y="16502"/>
                  <a:pt x="20953" y="16586"/>
                  <a:pt x="20910" y="16669"/>
                </a:cubicBezTo>
                <a:cubicBezTo>
                  <a:pt x="20873" y="16739"/>
                  <a:pt x="20836" y="16807"/>
                  <a:pt x="20786" y="16867"/>
                </a:cubicBezTo>
                <a:cubicBezTo>
                  <a:pt x="20737" y="16917"/>
                  <a:pt x="20721" y="16934"/>
                  <a:pt x="20687" y="16966"/>
                </a:cubicBezTo>
              </a:path>
              <a:path w="7691" h="2060">
                <a:moveTo>
                  <a:pt x="20092" y="16495"/>
                </a:moveTo>
                <a:cubicBezTo>
                  <a:pt x="20101" y="16532"/>
                  <a:pt x="20140" y="16587"/>
                  <a:pt x="20166" y="16619"/>
                </a:cubicBezTo>
                <a:cubicBezTo>
                  <a:pt x="20223" y="16688"/>
                  <a:pt x="20322" y="16765"/>
                  <a:pt x="20365" y="16842"/>
                </a:cubicBezTo>
                <a:cubicBezTo>
                  <a:pt x="20405" y="16913"/>
                  <a:pt x="20445" y="16971"/>
                  <a:pt x="20489" y="17041"/>
                </a:cubicBezTo>
                <a:cubicBezTo>
                  <a:pt x="20528" y="17100"/>
                  <a:pt x="20532" y="17112"/>
                  <a:pt x="20563" y="17140"/>
                </a:cubicBezTo>
              </a:path>
              <a:path w="7691" h="2060">
                <a:moveTo>
                  <a:pt x="13940" y="15304"/>
                </a:moveTo>
                <a:cubicBezTo>
                  <a:pt x="14010" y="15375"/>
                  <a:pt x="14104" y="15447"/>
                  <a:pt x="14163" y="15528"/>
                </a:cubicBezTo>
                <a:cubicBezTo>
                  <a:pt x="14229" y="15619"/>
                  <a:pt x="14342" y="15710"/>
                  <a:pt x="14436" y="15776"/>
                </a:cubicBezTo>
                <a:cubicBezTo>
                  <a:pt x="14482" y="15808"/>
                  <a:pt x="14520" y="15834"/>
                  <a:pt x="14560" y="158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Ink 33"/>
          <p:cNvSpPr/>
          <p:nvPr/>
        </p:nvSpPr>
        <p:spPr>
          <a:xfrm>
            <a:off x="223920" y="5616720"/>
            <a:ext cx="268200" cy="161640"/>
          </a:xfrm>
          <a:custGeom>
            <a:avLst/>
            <a:gdLst/>
            <a:ahLst/>
            <a:rect l="l" t="t" r="r" b="b"/>
            <a:pathLst>
              <a:path w="745" h="448">
                <a:moveTo>
                  <a:pt x="843" y="15602"/>
                </a:moveTo>
                <a:cubicBezTo>
                  <a:pt x="777" y="15612"/>
                  <a:pt x="767" y="15629"/>
                  <a:pt x="719" y="15677"/>
                </a:cubicBezTo>
                <a:cubicBezTo>
                  <a:pt x="678" y="15718"/>
                  <a:pt x="671" y="15759"/>
                  <a:pt x="645" y="15801"/>
                </a:cubicBezTo>
                <a:cubicBezTo>
                  <a:pt x="618" y="15846"/>
                  <a:pt x="620" y="15866"/>
                  <a:pt x="620" y="15925"/>
                </a:cubicBezTo>
                <a:cubicBezTo>
                  <a:pt x="620" y="15971"/>
                  <a:pt x="628" y="15996"/>
                  <a:pt x="670" y="16024"/>
                </a:cubicBezTo>
                <a:cubicBezTo>
                  <a:pt x="734" y="16066"/>
                  <a:pt x="753" y="16037"/>
                  <a:pt x="819" y="16024"/>
                </a:cubicBezTo>
              </a:path>
              <a:path w="745" h="448">
                <a:moveTo>
                  <a:pt x="1141" y="15751"/>
                </a:moveTo>
                <a:cubicBezTo>
                  <a:pt x="1094" y="15751"/>
                  <a:pt x="1053" y="15752"/>
                  <a:pt x="1017" y="15776"/>
                </a:cubicBezTo>
                <a:cubicBezTo>
                  <a:pt x="974" y="15804"/>
                  <a:pt x="967" y="15828"/>
                  <a:pt x="967" y="15875"/>
                </a:cubicBezTo>
                <a:cubicBezTo>
                  <a:pt x="967" y="15936"/>
                  <a:pt x="1007" y="15931"/>
                  <a:pt x="1042" y="15900"/>
                </a:cubicBezTo>
                <a:cubicBezTo>
                  <a:pt x="1077" y="15869"/>
                  <a:pt x="1108" y="15834"/>
                  <a:pt x="1141" y="15801"/>
                </a:cubicBezTo>
                <a:cubicBezTo>
                  <a:pt x="1149" y="15793"/>
                  <a:pt x="1158" y="15784"/>
                  <a:pt x="1166" y="15776"/>
                </a:cubicBezTo>
              </a:path>
              <a:path w="745" h="448">
                <a:moveTo>
                  <a:pt x="1364" y="15726"/>
                </a:moveTo>
                <a:cubicBezTo>
                  <a:pt x="1364" y="15718"/>
                  <a:pt x="1364" y="15709"/>
                  <a:pt x="1364" y="15701"/>
                </a:cubicBezTo>
                <a:cubicBezTo>
                  <a:pt x="1338" y="15708"/>
                  <a:pt x="1279" y="15723"/>
                  <a:pt x="1265" y="15751"/>
                </a:cubicBezTo>
                <a:cubicBezTo>
                  <a:pt x="1248" y="15784"/>
                  <a:pt x="1252" y="15765"/>
                  <a:pt x="1240" y="15801"/>
                </a:cubicBezTo>
                <a:cubicBezTo>
                  <a:pt x="1253" y="15837"/>
                  <a:pt x="1271" y="15825"/>
                  <a:pt x="1315" y="15825"/>
                </a:cubicBezTo>
                <a:cubicBezTo>
                  <a:pt x="1323" y="15825"/>
                  <a:pt x="1331" y="15825"/>
                  <a:pt x="1339" y="15825"/>
                </a:cubicBezTo>
                <a:cubicBezTo>
                  <a:pt x="1339" y="15862"/>
                  <a:pt x="1330" y="15920"/>
                  <a:pt x="1315" y="15949"/>
                </a:cubicBezTo>
                <a:cubicBezTo>
                  <a:pt x="1291" y="15996"/>
                  <a:pt x="1255" y="15964"/>
                  <a:pt x="1240" y="160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Ink 34"/>
          <p:cNvSpPr/>
          <p:nvPr/>
        </p:nvSpPr>
        <p:spPr>
          <a:xfrm>
            <a:off x="581040" y="5626080"/>
            <a:ext cx="81000" cy="115920"/>
          </a:xfrm>
          <a:custGeom>
            <a:avLst/>
            <a:gdLst/>
            <a:ahLst/>
            <a:rect l="l" t="t" r="r" b="b"/>
            <a:pathLst>
              <a:path w="225" h="323">
                <a:moveTo>
                  <a:pt x="1612" y="15677"/>
                </a:moveTo>
                <a:cubicBezTo>
                  <a:pt x="1665" y="15706"/>
                  <a:pt x="1694" y="15733"/>
                  <a:pt x="1736" y="15776"/>
                </a:cubicBezTo>
                <a:cubicBezTo>
                  <a:pt x="1764" y="15804"/>
                  <a:pt x="1777" y="15839"/>
                  <a:pt x="1786" y="15875"/>
                </a:cubicBezTo>
                <a:cubicBezTo>
                  <a:pt x="1829" y="15875"/>
                  <a:pt x="1824" y="15885"/>
                  <a:pt x="1836" y="15850"/>
                </a:cubicBezTo>
              </a:path>
              <a:path w="225" h="323">
                <a:moveTo>
                  <a:pt x="1811" y="15627"/>
                </a:moveTo>
                <a:cubicBezTo>
                  <a:pt x="1774" y="15700"/>
                  <a:pt x="1726" y="15755"/>
                  <a:pt x="1687" y="15825"/>
                </a:cubicBezTo>
                <a:cubicBezTo>
                  <a:pt x="1660" y="15874"/>
                  <a:pt x="1663" y="15906"/>
                  <a:pt x="1637" y="159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Ink 35"/>
          <p:cNvSpPr/>
          <p:nvPr/>
        </p:nvSpPr>
        <p:spPr>
          <a:xfrm>
            <a:off x="803160" y="5688000"/>
            <a:ext cx="27000" cy="19080"/>
          </a:xfrm>
          <a:custGeom>
            <a:avLst/>
            <a:gdLst/>
            <a:ahLst/>
            <a:rect l="l" t="t" r="r" b="b"/>
            <a:pathLst>
              <a:path w="76" h="50">
                <a:moveTo>
                  <a:pt x="2232" y="15801"/>
                </a:moveTo>
                <a:cubicBezTo>
                  <a:pt x="2273" y="15811"/>
                  <a:pt x="2296" y="15818"/>
                  <a:pt x="2307" y="158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Ink 36"/>
          <p:cNvSpPr/>
          <p:nvPr/>
        </p:nvSpPr>
        <p:spPr>
          <a:xfrm>
            <a:off x="5062680" y="4527720"/>
            <a:ext cx="608040" cy="642600"/>
          </a:xfrm>
          <a:custGeom>
            <a:avLst/>
            <a:gdLst/>
            <a:ahLst/>
            <a:rect l="l" t="t" r="r" b="b"/>
            <a:pathLst>
              <a:path w="1688" h="1787">
                <a:moveTo>
                  <a:pt x="14337" y="12626"/>
                </a:moveTo>
                <a:cubicBezTo>
                  <a:pt x="14417" y="12647"/>
                  <a:pt x="14477" y="12650"/>
                  <a:pt x="14560" y="12650"/>
                </a:cubicBezTo>
                <a:cubicBezTo>
                  <a:pt x="14705" y="12650"/>
                  <a:pt x="14837" y="12648"/>
                  <a:pt x="14982" y="12626"/>
                </a:cubicBezTo>
                <a:cubicBezTo>
                  <a:pt x="15123" y="12604"/>
                  <a:pt x="15263" y="12592"/>
                  <a:pt x="15404" y="12576"/>
                </a:cubicBezTo>
                <a:cubicBezTo>
                  <a:pt x="15481" y="12567"/>
                  <a:pt x="15565" y="12570"/>
                  <a:pt x="15627" y="12601"/>
                </a:cubicBezTo>
              </a:path>
              <a:path w="1688" h="1787">
                <a:moveTo>
                  <a:pt x="14064" y="13047"/>
                </a:moveTo>
                <a:cubicBezTo>
                  <a:pt x="14114" y="13047"/>
                  <a:pt x="14163" y="13047"/>
                  <a:pt x="14213" y="13047"/>
                </a:cubicBezTo>
              </a:path>
              <a:path w="1688" h="1787">
                <a:moveTo>
                  <a:pt x="14461" y="12898"/>
                </a:moveTo>
                <a:cubicBezTo>
                  <a:pt x="14483" y="12892"/>
                  <a:pt x="14575" y="12856"/>
                  <a:pt x="14610" y="12874"/>
                </a:cubicBezTo>
                <a:cubicBezTo>
                  <a:pt x="14642" y="12891"/>
                  <a:pt x="14650" y="12968"/>
                  <a:pt x="14635" y="12998"/>
                </a:cubicBezTo>
                <a:cubicBezTo>
                  <a:pt x="14617" y="13033"/>
                  <a:pt x="14560" y="13091"/>
                  <a:pt x="14536" y="13122"/>
                </a:cubicBezTo>
                <a:cubicBezTo>
                  <a:pt x="14521" y="13143"/>
                  <a:pt x="14447" y="13213"/>
                  <a:pt x="14436" y="13221"/>
                </a:cubicBezTo>
                <a:cubicBezTo>
                  <a:pt x="14428" y="13221"/>
                  <a:pt x="14420" y="13221"/>
                  <a:pt x="14412" y="13221"/>
                </a:cubicBezTo>
                <a:cubicBezTo>
                  <a:pt x="14420" y="13247"/>
                  <a:pt x="14429" y="13269"/>
                  <a:pt x="14461" y="13271"/>
                </a:cubicBezTo>
                <a:cubicBezTo>
                  <a:pt x="14534" y="13277"/>
                  <a:pt x="14610" y="13271"/>
                  <a:pt x="14684" y="13271"/>
                </a:cubicBezTo>
              </a:path>
              <a:path w="1688" h="1787">
                <a:moveTo>
                  <a:pt x="14957" y="13072"/>
                </a:moveTo>
                <a:cubicBezTo>
                  <a:pt x="14995" y="13085"/>
                  <a:pt x="14982" y="13101"/>
                  <a:pt x="14982" y="13146"/>
                </a:cubicBezTo>
                <a:cubicBezTo>
                  <a:pt x="14982" y="13206"/>
                  <a:pt x="14972" y="13231"/>
                  <a:pt x="15032" y="13246"/>
                </a:cubicBezTo>
                <a:cubicBezTo>
                  <a:pt x="15044" y="13197"/>
                  <a:pt x="15091" y="13168"/>
                  <a:pt x="15106" y="13122"/>
                </a:cubicBezTo>
                <a:cubicBezTo>
                  <a:pt x="15119" y="13085"/>
                  <a:pt x="15131" y="13065"/>
                  <a:pt x="15131" y="13022"/>
                </a:cubicBezTo>
                <a:cubicBezTo>
                  <a:pt x="15131" y="12979"/>
                  <a:pt x="15132" y="12983"/>
                  <a:pt x="15106" y="12948"/>
                </a:cubicBezTo>
                <a:cubicBezTo>
                  <a:pt x="15122" y="12927"/>
                  <a:pt x="15153" y="12880"/>
                  <a:pt x="15156" y="12874"/>
                </a:cubicBezTo>
                <a:cubicBezTo>
                  <a:pt x="15174" y="12838"/>
                  <a:pt x="15175" y="12846"/>
                  <a:pt x="15205" y="12824"/>
                </a:cubicBezTo>
                <a:cubicBezTo>
                  <a:pt x="15273" y="12773"/>
                  <a:pt x="15341" y="12761"/>
                  <a:pt x="15429" y="12750"/>
                </a:cubicBezTo>
                <a:cubicBezTo>
                  <a:pt x="15517" y="12739"/>
                  <a:pt x="15612" y="12750"/>
                  <a:pt x="15701" y="12750"/>
                </a:cubicBezTo>
              </a:path>
              <a:path w="1688" h="1787">
                <a:moveTo>
                  <a:pt x="15329" y="12923"/>
                </a:moveTo>
                <a:cubicBezTo>
                  <a:pt x="15389" y="12923"/>
                  <a:pt x="15610" y="12896"/>
                  <a:pt x="15627" y="12948"/>
                </a:cubicBezTo>
              </a:path>
              <a:path w="1688" h="1787">
                <a:moveTo>
                  <a:pt x="15379" y="12923"/>
                </a:moveTo>
                <a:cubicBezTo>
                  <a:pt x="15329" y="12935"/>
                  <a:pt x="15329" y="12947"/>
                  <a:pt x="15329" y="12998"/>
                </a:cubicBezTo>
                <a:cubicBezTo>
                  <a:pt x="15329" y="13035"/>
                  <a:pt x="15373" y="13062"/>
                  <a:pt x="15404" y="13072"/>
                </a:cubicBezTo>
                <a:cubicBezTo>
                  <a:pt x="15443" y="13085"/>
                  <a:pt x="15473" y="13099"/>
                  <a:pt x="15478" y="13146"/>
                </a:cubicBezTo>
                <a:cubicBezTo>
                  <a:pt x="15482" y="13182"/>
                  <a:pt x="15433" y="13211"/>
                  <a:pt x="15404" y="13221"/>
                </a:cubicBezTo>
                <a:cubicBezTo>
                  <a:pt x="15371" y="13232"/>
                  <a:pt x="15337" y="13234"/>
                  <a:pt x="15304" y="13246"/>
                </a:cubicBezTo>
                <a:cubicBezTo>
                  <a:pt x="15288" y="13254"/>
                  <a:pt x="15271" y="13263"/>
                  <a:pt x="15255" y="13271"/>
                </a:cubicBezTo>
              </a:path>
              <a:path w="1688" h="1787">
                <a:moveTo>
                  <a:pt x="14163" y="13543"/>
                </a:moveTo>
                <a:cubicBezTo>
                  <a:pt x="14252" y="13543"/>
                  <a:pt x="14326" y="13558"/>
                  <a:pt x="14412" y="13568"/>
                </a:cubicBezTo>
                <a:cubicBezTo>
                  <a:pt x="14538" y="13583"/>
                  <a:pt x="14659" y="13546"/>
                  <a:pt x="14784" y="13543"/>
                </a:cubicBezTo>
                <a:cubicBezTo>
                  <a:pt x="14952" y="13538"/>
                  <a:pt x="15114" y="13499"/>
                  <a:pt x="15280" y="13494"/>
                </a:cubicBezTo>
                <a:cubicBezTo>
                  <a:pt x="15402" y="13491"/>
                  <a:pt x="15508" y="13483"/>
                  <a:pt x="15627" y="13469"/>
                </a:cubicBezTo>
                <a:cubicBezTo>
                  <a:pt x="15685" y="13469"/>
                  <a:pt x="15710" y="13469"/>
                  <a:pt x="15751" y="13469"/>
                </a:cubicBezTo>
              </a:path>
              <a:path w="1688" h="1787">
                <a:moveTo>
                  <a:pt x="14536" y="13816"/>
                </a:moveTo>
                <a:cubicBezTo>
                  <a:pt x="14640" y="13816"/>
                  <a:pt x="14735" y="13807"/>
                  <a:pt x="14833" y="13791"/>
                </a:cubicBezTo>
                <a:cubicBezTo>
                  <a:pt x="14898" y="13781"/>
                  <a:pt x="14969" y="13773"/>
                  <a:pt x="15032" y="13767"/>
                </a:cubicBezTo>
                <a:cubicBezTo>
                  <a:pt x="15056" y="13765"/>
                  <a:pt x="15082" y="13767"/>
                  <a:pt x="15106" y="13767"/>
                </a:cubicBezTo>
              </a:path>
              <a:path w="1688" h="1787">
                <a:moveTo>
                  <a:pt x="14610" y="13816"/>
                </a:moveTo>
                <a:cubicBezTo>
                  <a:pt x="14583" y="13843"/>
                  <a:pt x="14503" y="13902"/>
                  <a:pt x="14486" y="13940"/>
                </a:cubicBezTo>
                <a:cubicBezTo>
                  <a:pt x="14486" y="13948"/>
                  <a:pt x="14486" y="13957"/>
                  <a:pt x="14486" y="13965"/>
                </a:cubicBezTo>
                <a:cubicBezTo>
                  <a:pt x="14552" y="13976"/>
                  <a:pt x="14604" y="14024"/>
                  <a:pt x="14660" y="14039"/>
                </a:cubicBezTo>
                <a:cubicBezTo>
                  <a:pt x="14725" y="14056"/>
                  <a:pt x="14726" y="14088"/>
                  <a:pt x="14784" y="14114"/>
                </a:cubicBezTo>
                <a:cubicBezTo>
                  <a:pt x="14837" y="14138"/>
                  <a:pt x="14793" y="14145"/>
                  <a:pt x="14784" y="14188"/>
                </a:cubicBezTo>
                <a:cubicBezTo>
                  <a:pt x="14772" y="14248"/>
                  <a:pt x="14729" y="14289"/>
                  <a:pt x="14660" y="14312"/>
                </a:cubicBezTo>
                <a:cubicBezTo>
                  <a:pt x="14618" y="14326"/>
                  <a:pt x="14573" y="14350"/>
                  <a:pt x="14536" y="14362"/>
                </a:cubicBezTo>
                <a:cubicBezTo>
                  <a:pt x="14528" y="14362"/>
                  <a:pt x="14519" y="14362"/>
                  <a:pt x="14511" y="143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Ink 37"/>
          <p:cNvSpPr/>
          <p:nvPr/>
        </p:nvSpPr>
        <p:spPr>
          <a:xfrm>
            <a:off x="5045040" y="5527800"/>
            <a:ext cx="233280" cy="223560"/>
          </a:xfrm>
          <a:custGeom>
            <a:avLst/>
            <a:gdLst/>
            <a:ahLst/>
            <a:rect l="l" t="t" r="r" b="b"/>
            <a:pathLst>
              <a:path w="646" h="621">
                <a:moveTo>
                  <a:pt x="14015" y="15453"/>
                </a:moveTo>
                <a:cubicBezTo>
                  <a:pt x="14023" y="15420"/>
                  <a:pt x="14053" y="15387"/>
                  <a:pt x="14089" y="15379"/>
                </a:cubicBezTo>
                <a:cubicBezTo>
                  <a:pt x="14167" y="15362"/>
                  <a:pt x="14259" y="15347"/>
                  <a:pt x="14337" y="15379"/>
                </a:cubicBezTo>
                <a:cubicBezTo>
                  <a:pt x="14381" y="15397"/>
                  <a:pt x="14391" y="15420"/>
                  <a:pt x="14412" y="15453"/>
                </a:cubicBezTo>
                <a:cubicBezTo>
                  <a:pt x="14450" y="15511"/>
                  <a:pt x="14416" y="15493"/>
                  <a:pt x="14412" y="15553"/>
                </a:cubicBezTo>
                <a:cubicBezTo>
                  <a:pt x="14407" y="15627"/>
                  <a:pt x="14359" y="15683"/>
                  <a:pt x="14312" y="15726"/>
                </a:cubicBezTo>
                <a:cubicBezTo>
                  <a:pt x="14263" y="15772"/>
                  <a:pt x="14230" y="15825"/>
                  <a:pt x="14188" y="15875"/>
                </a:cubicBezTo>
                <a:cubicBezTo>
                  <a:pt x="14150" y="15920"/>
                  <a:pt x="14157" y="15926"/>
                  <a:pt x="14188" y="15949"/>
                </a:cubicBezTo>
                <a:cubicBezTo>
                  <a:pt x="14243" y="15990"/>
                  <a:pt x="14317" y="15974"/>
                  <a:pt x="14387" y="15974"/>
                </a:cubicBezTo>
                <a:cubicBezTo>
                  <a:pt x="14478" y="15974"/>
                  <a:pt x="14569" y="15974"/>
                  <a:pt x="14660" y="159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Ink 38"/>
          <p:cNvSpPr/>
          <p:nvPr/>
        </p:nvSpPr>
        <p:spPr>
          <a:xfrm>
            <a:off x="7670880" y="1401840"/>
            <a:ext cx="36360" cy="911160"/>
          </a:xfrm>
          <a:custGeom>
            <a:avLst/>
            <a:gdLst/>
            <a:ahLst/>
            <a:rect l="l" t="t" r="r" b="b"/>
            <a:pathLst>
              <a:path w="100" h="2531">
                <a:moveTo>
                  <a:pt x="21307" y="3894"/>
                </a:moveTo>
                <a:cubicBezTo>
                  <a:pt x="21307" y="3944"/>
                  <a:pt x="21307" y="3944"/>
                  <a:pt x="21307" y="3994"/>
                </a:cubicBezTo>
                <a:cubicBezTo>
                  <a:pt x="21307" y="4228"/>
                  <a:pt x="21315" y="4458"/>
                  <a:pt x="21332" y="4688"/>
                </a:cubicBezTo>
                <a:cubicBezTo>
                  <a:pt x="21343" y="4837"/>
                  <a:pt x="21354" y="4987"/>
                  <a:pt x="21357" y="5135"/>
                </a:cubicBezTo>
                <a:cubicBezTo>
                  <a:pt x="21361" y="5302"/>
                  <a:pt x="21382" y="5462"/>
                  <a:pt x="21382" y="5631"/>
                </a:cubicBezTo>
                <a:cubicBezTo>
                  <a:pt x="21382" y="5800"/>
                  <a:pt x="21394" y="5961"/>
                  <a:pt x="21406" y="6127"/>
                </a:cubicBezTo>
                <a:cubicBezTo>
                  <a:pt x="21413" y="6225"/>
                  <a:pt x="21406" y="6326"/>
                  <a:pt x="21406" y="64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Ink 39"/>
          <p:cNvSpPr/>
          <p:nvPr/>
        </p:nvSpPr>
        <p:spPr>
          <a:xfrm>
            <a:off x="7062840" y="1830240"/>
            <a:ext cx="1314360" cy="54000"/>
          </a:xfrm>
          <a:custGeom>
            <a:avLst/>
            <a:gdLst/>
            <a:ahLst/>
            <a:rect l="l" t="t" r="r" b="b"/>
            <a:pathLst>
              <a:path w="3647" h="150">
                <a:moveTo>
                  <a:pt x="19621" y="5110"/>
                </a:moveTo>
                <a:cubicBezTo>
                  <a:pt x="19767" y="5151"/>
                  <a:pt x="19896" y="5156"/>
                  <a:pt x="20042" y="5184"/>
                </a:cubicBezTo>
                <a:cubicBezTo>
                  <a:pt x="20167" y="5208"/>
                  <a:pt x="20287" y="5193"/>
                  <a:pt x="20414" y="5209"/>
                </a:cubicBezTo>
                <a:cubicBezTo>
                  <a:pt x="20565" y="5228"/>
                  <a:pt x="20708" y="5234"/>
                  <a:pt x="20861" y="5234"/>
                </a:cubicBezTo>
                <a:cubicBezTo>
                  <a:pt x="21046" y="5234"/>
                  <a:pt x="21223" y="5221"/>
                  <a:pt x="21406" y="5209"/>
                </a:cubicBezTo>
                <a:cubicBezTo>
                  <a:pt x="21596" y="5197"/>
                  <a:pt x="21787" y="5197"/>
                  <a:pt x="21977" y="5184"/>
                </a:cubicBezTo>
                <a:cubicBezTo>
                  <a:pt x="22142" y="5173"/>
                  <a:pt x="22308" y="5163"/>
                  <a:pt x="22473" y="5159"/>
                </a:cubicBezTo>
                <a:cubicBezTo>
                  <a:pt x="22658" y="5155"/>
                  <a:pt x="22838" y="5125"/>
                  <a:pt x="23019" y="5110"/>
                </a:cubicBezTo>
                <a:cubicBezTo>
                  <a:pt x="23105" y="5103"/>
                  <a:pt x="23181" y="5092"/>
                  <a:pt x="23267" y="50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Ink 40"/>
          <p:cNvSpPr/>
          <p:nvPr/>
        </p:nvSpPr>
        <p:spPr>
          <a:xfrm>
            <a:off x="8010360" y="1465200"/>
            <a:ext cx="177840" cy="27000"/>
          </a:xfrm>
          <a:custGeom>
            <a:avLst/>
            <a:gdLst/>
            <a:ahLst/>
            <a:rect l="l" t="t" r="r" b="b"/>
            <a:pathLst>
              <a:path w="497" h="75">
                <a:moveTo>
                  <a:pt x="22250" y="4068"/>
                </a:moveTo>
                <a:cubicBezTo>
                  <a:pt x="22354" y="4068"/>
                  <a:pt x="22405" y="4088"/>
                  <a:pt x="22498" y="4093"/>
                </a:cubicBezTo>
                <a:cubicBezTo>
                  <a:pt x="22539" y="4095"/>
                  <a:pt x="22632" y="4102"/>
                  <a:pt x="22671" y="4118"/>
                </a:cubicBezTo>
                <a:cubicBezTo>
                  <a:pt x="22709" y="4134"/>
                  <a:pt x="22701" y="4142"/>
                  <a:pt x="22746" y="41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Ink 41"/>
          <p:cNvSpPr/>
          <p:nvPr/>
        </p:nvSpPr>
        <p:spPr>
          <a:xfrm>
            <a:off x="8055000" y="1490760"/>
            <a:ext cx="44280" cy="250560"/>
          </a:xfrm>
          <a:custGeom>
            <a:avLst/>
            <a:gdLst/>
            <a:ahLst/>
            <a:rect l="l" t="t" r="r" b="b"/>
            <a:pathLst>
              <a:path w="125" h="696">
                <a:moveTo>
                  <a:pt x="22498" y="4142"/>
                </a:moveTo>
                <a:cubicBezTo>
                  <a:pt x="22488" y="4172"/>
                  <a:pt x="22491" y="4199"/>
                  <a:pt x="22473" y="4242"/>
                </a:cubicBezTo>
                <a:cubicBezTo>
                  <a:pt x="22450" y="4296"/>
                  <a:pt x="22433" y="4374"/>
                  <a:pt x="22423" y="4440"/>
                </a:cubicBezTo>
                <a:cubicBezTo>
                  <a:pt x="22413" y="4507"/>
                  <a:pt x="22399" y="4569"/>
                  <a:pt x="22399" y="4638"/>
                </a:cubicBezTo>
                <a:cubicBezTo>
                  <a:pt x="22399" y="4710"/>
                  <a:pt x="22374" y="4767"/>
                  <a:pt x="22374" y="48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Ink 42"/>
          <p:cNvSpPr/>
          <p:nvPr/>
        </p:nvSpPr>
        <p:spPr>
          <a:xfrm>
            <a:off x="7991640" y="1731960"/>
            <a:ext cx="179280" cy="19080"/>
          </a:xfrm>
          <a:custGeom>
            <a:avLst/>
            <a:gdLst/>
            <a:ahLst/>
            <a:rect l="l" t="t" r="r" b="b"/>
            <a:pathLst>
              <a:path w="497" h="51">
                <a:moveTo>
                  <a:pt x="22200" y="4812"/>
                </a:moveTo>
                <a:cubicBezTo>
                  <a:pt x="22250" y="4812"/>
                  <a:pt x="22259" y="4823"/>
                  <a:pt x="22299" y="4837"/>
                </a:cubicBezTo>
                <a:cubicBezTo>
                  <a:pt x="22380" y="4865"/>
                  <a:pt x="22671" y="4787"/>
                  <a:pt x="22696" y="48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Ink 43"/>
          <p:cNvSpPr/>
          <p:nvPr/>
        </p:nvSpPr>
        <p:spPr>
          <a:xfrm>
            <a:off x="7296120" y="1527120"/>
            <a:ext cx="204840" cy="17640"/>
          </a:xfrm>
          <a:custGeom>
            <a:avLst/>
            <a:gdLst/>
            <a:ahLst/>
            <a:rect l="l" t="t" r="r" b="b"/>
            <a:pathLst>
              <a:path w="572" h="50">
                <a:moveTo>
                  <a:pt x="20265" y="4291"/>
                </a:moveTo>
                <a:cubicBezTo>
                  <a:pt x="20367" y="4291"/>
                  <a:pt x="20465" y="4276"/>
                  <a:pt x="20563" y="4266"/>
                </a:cubicBezTo>
                <a:cubicBezTo>
                  <a:pt x="20646" y="4257"/>
                  <a:pt x="20729" y="4248"/>
                  <a:pt x="20811" y="4242"/>
                </a:cubicBezTo>
                <a:cubicBezTo>
                  <a:pt x="20819" y="4242"/>
                  <a:pt x="20828" y="4242"/>
                  <a:pt x="20836" y="42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Ink 44"/>
          <p:cNvSpPr/>
          <p:nvPr/>
        </p:nvSpPr>
        <p:spPr>
          <a:xfrm>
            <a:off x="7385040" y="1554120"/>
            <a:ext cx="9360" cy="125280"/>
          </a:xfrm>
          <a:custGeom>
            <a:avLst/>
            <a:gdLst/>
            <a:ahLst/>
            <a:rect l="l" t="t" r="r" b="b"/>
            <a:pathLst>
              <a:path w="26" h="348">
                <a:moveTo>
                  <a:pt x="20513" y="4316"/>
                </a:moveTo>
                <a:cubicBezTo>
                  <a:pt x="20513" y="4378"/>
                  <a:pt x="20484" y="4645"/>
                  <a:pt x="20538" y="46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Ink 45"/>
          <p:cNvSpPr/>
          <p:nvPr/>
        </p:nvSpPr>
        <p:spPr>
          <a:xfrm>
            <a:off x="7429680" y="1535040"/>
            <a:ext cx="17280" cy="144360"/>
          </a:xfrm>
          <a:custGeom>
            <a:avLst/>
            <a:gdLst/>
            <a:ahLst/>
            <a:rect l="l" t="t" r="r" b="b"/>
            <a:pathLst>
              <a:path w="50" h="398">
                <a:moveTo>
                  <a:pt x="20638" y="4266"/>
                </a:moveTo>
                <a:cubicBezTo>
                  <a:pt x="20638" y="4379"/>
                  <a:pt x="20648" y="4478"/>
                  <a:pt x="20662" y="4589"/>
                </a:cubicBezTo>
                <a:cubicBezTo>
                  <a:pt x="20672" y="4672"/>
                  <a:pt x="20669" y="4608"/>
                  <a:pt x="20687" y="46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Ink 46"/>
          <p:cNvSpPr/>
          <p:nvPr/>
        </p:nvSpPr>
        <p:spPr>
          <a:xfrm>
            <a:off x="7313760" y="1677960"/>
            <a:ext cx="206280" cy="28440"/>
          </a:xfrm>
          <a:custGeom>
            <a:avLst/>
            <a:gdLst/>
            <a:ahLst/>
            <a:rect l="l" t="t" r="r" b="b"/>
            <a:pathLst>
              <a:path w="572" h="76">
                <a:moveTo>
                  <a:pt x="20315" y="4738"/>
                </a:moveTo>
                <a:cubicBezTo>
                  <a:pt x="20394" y="4701"/>
                  <a:pt x="20475" y="4670"/>
                  <a:pt x="20563" y="4663"/>
                </a:cubicBezTo>
                <a:cubicBezTo>
                  <a:pt x="20668" y="4654"/>
                  <a:pt x="20780" y="4663"/>
                  <a:pt x="20886" y="46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Ink 47"/>
          <p:cNvSpPr/>
          <p:nvPr/>
        </p:nvSpPr>
        <p:spPr>
          <a:xfrm>
            <a:off x="7277040" y="2009880"/>
            <a:ext cx="268200" cy="17280"/>
          </a:xfrm>
          <a:custGeom>
            <a:avLst/>
            <a:gdLst/>
            <a:ahLst/>
            <a:rect l="l" t="t" r="r" b="b"/>
            <a:pathLst>
              <a:path w="745" h="51">
                <a:moveTo>
                  <a:pt x="20216" y="5631"/>
                </a:moveTo>
                <a:cubicBezTo>
                  <a:pt x="20282" y="5631"/>
                  <a:pt x="20325" y="5610"/>
                  <a:pt x="20389" y="5606"/>
                </a:cubicBezTo>
                <a:cubicBezTo>
                  <a:pt x="20475" y="5601"/>
                  <a:pt x="20552" y="5585"/>
                  <a:pt x="20638" y="5581"/>
                </a:cubicBezTo>
                <a:cubicBezTo>
                  <a:pt x="20745" y="5576"/>
                  <a:pt x="20853" y="5581"/>
                  <a:pt x="20960" y="55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Ink 48"/>
          <p:cNvSpPr/>
          <p:nvPr/>
        </p:nvSpPr>
        <p:spPr>
          <a:xfrm>
            <a:off x="7323120" y="2044800"/>
            <a:ext cx="7920" cy="117360"/>
          </a:xfrm>
          <a:custGeom>
            <a:avLst/>
            <a:gdLst/>
            <a:ahLst/>
            <a:rect l="l" t="t" r="r" b="b"/>
            <a:pathLst>
              <a:path w="26" h="324">
                <a:moveTo>
                  <a:pt x="20340" y="5680"/>
                </a:moveTo>
                <a:cubicBezTo>
                  <a:pt x="20340" y="5755"/>
                  <a:pt x="20307" y="5984"/>
                  <a:pt x="20365" y="60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Ink 49"/>
          <p:cNvSpPr/>
          <p:nvPr/>
        </p:nvSpPr>
        <p:spPr>
          <a:xfrm>
            <a:off x="7385040" y="2027160"/>
            <a:ext cx="17640" cy="135000"/>
          </a:xfrm>
          <a:custGeom>
            <a:avLst/>
            <a:gdLst/>
            <a:ahLst/>
            <a:rect l="l" t="t" r="r" b="b"/>
            <a:pathLst>
              <a:path w="51" h="373">
                <a:moveTo>
                  <a:pt x="20513" y="5631"/>
                </a:moveTo>
                <a:cubicBezTo>
                  <a:pt x="20513" y="5743"/>
                  <a:pt x="20509" y="5855"/>
                  <a:pt x="20538" y="5953"/>
                </a:cubicBezTo>
                <a:cubicBezTo>
                  <a:pt x="20551" y="5997"/>
                  <a:pt x="20518" y="5988"/>
                  <a:pt x="20563" y="60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Ink 50"/>
          <p:cNvSpPr/>
          <p:nvPr/>
        </p:nvSpPr>
        <p:spPr>
          <a:xfrm>
            <a:off x="7429680" y="2044800"/>
            <a:ext cx="9360" cy="108000"/>
          </a:xfrm>
          <a:custGeom>
            <a:avLst/>
            <a:gdLst/>
            <a:ahLst/>
            <a:rect l="l" t="t" r="r" b="b"/>
            <a:pathLst>
              <a:path w="25" h="299">
                <a:moveTo>
                  <a:pt x="20638" y="5680"/>
                </a:moveTo>
                <a:cubicBezTo>
                  <a:pt x="20638" y="5752"/>
                  <a:pt x="20656" y="5788"/>
                  <a:pt x="20662" y="5854"/>
                </a:cubicBezTo>
                <a:cubicBezTo>
                  <a:pt x="20666" y="5894"/>
                  <a:pt x="20662" y="5938"/>
                  <a:pt x="20662" y="59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Ink 51"/>
          <p:cNvSpPr/>
          <p:nvPr/>
        </p:nvSpPr>
        <p:spPr>
          <a:xfrm>
            <a:off x="7205760" y="2160720"/>
            <a:ext cx="287280" cy="36360"/>
          </a:xfrm>
          <a:custGeom>
            <a:avLst/>
            <a:gdLst/>
            <a:ahLst/>
            <a:rect l="l" t="t" r="r" b="b"/>
            <a:pathLst>
              <a:path w="795" h="100">
                <a:moveTo>
                  <a:pt x="20017" y="6102"/>
                </a:moveTo>
                <a:cubicBezTo>
                  <a:pt x="20109" y="6076"/>
                  <a:pt x="20171" y="6052"/>
                  <a:pt x="20265" y="6052"/>
                </a:cubicBezTo>
                <a:cubicBezTo>
                  <a:pt x="20363" y="6052"/>
                  <a:pt x="20443" y="6032"/>
                  <a:pt x="20538" y="6028"/>
                </a:cubicBezTo>
                <a:cubicBezTo>
                  <a:pt x="20620" y="6025"/>
                  <a:pt x="20684" y="6007"/>
                  <a:pt x="20762" y="6003"/>
                </a:cubicBezTo>
                <a:cubicBezTo>
                  <a:pt x="20778" y="6003"/>
                  <a:pt x="20795" y="6003"/>
                  <a:pt x="20811" y="60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Ink 52"/>
          <p:cNvSpPr/>
          <p:nvPr/>
        </p:nvSpPr>
        <p:spPr>
          <a:xfrm>
            <a:off x="7885080" y="2017800"/>
            <a:ext cx="401760" cy="9360"/>
          </a:xfrm>
          <a:custGeom>
            <a:avLst/>
            <a:gdLst/>
            <a:ahLst/>
            <a:rect l="l" t="t" r="r" b="b"/>
            <a:pathLst>
              <a:path w="1117" h="26">
                <a:moveTo>
                  <a:pt x="21903" y="5606"/>
                </a:moveTo>
                <a:cubicBezTo>
                  <a:pt x="21987" y="5631"/>
                  <a:pt x="22038" y="5631"/>
                  <a:pt x="22126" y="5631"/>
                </a:cubicBezTo>
                <a:cubicBezTo>
                  <a:pt x="22239" y="5631"/>
                  <a:pt x="22338" y="5617"/>
                  <a:pt x="22448" y="5606"/>
                </a:cubicBezTo>
                <a:cubicBezTo>
                  <a:pt x="22634" y="5587"/>
                  <a:pt x="22831" y="5606"/>
                  <a:pt x="23019" y="56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Ink 53"/>
          <p:cNvSpPr/>
          <p:nvPr/>
        </p:nvSpPr>
        <p:spPr>
          <a:xfrm>
            <a:off x="7929720" y="2027160"/>
            <a:ext cx="27000" cy="204840"/>
          </a:xfrm>
          <a:custGeom>
            <a:avLst/>
            <a:gdLst/>
            <a:ahLst/>
            <a:rect l="l" t="t" r="r" b="b"/>
            <a:pathLst>
              <a:path w="75" h="571">
                <a:moveTo>
                  <a:pt x="22076" y="5631"/>
                </a:moveTo>
                <a:cubicBezTo>
                  <a:pt x="22109" y="5674"/>
                  <a:pt x="22101" y="5697"/>
                  <a:pt x="22101" y="5755"/>
                </a:cubicBezTo>
                <a:cubicBezTo>
                  <a:pt x="22101" y="5799"/>
                  <a:pt x="22087" y="5909"/>
                  <a:pt x="22076" y="5953"/>
                </a:cubicBezTo>
                <a:cubicBezTo>
                  <a:pt x="22064" y="6005"/>
                  <a:pt x="22019" y="6125"/>
                  <a:pt x="22027" y="6176"/>
                </a:cubicBezTo>
                <a:cubicBezTo>
                  <a:pt x="22051" y="6201"/>
                  <a:pt x="22059" y="6209"/>
                  <a:pt x="22076" y="61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Ink 54"/>
          <p:cNvSpPr/>
          <p:nvPr/>
        </p:nvSpPr>
        <p:spPr>
          <a:xfrm>
            <a:off x="7991640" y="2009880"/>
            <a:ext cx="161640" cy="214200"/>
          </a:xfrm>
          <a:custGeom>
            <a:avLst/>
            <a:gdLst/>
            <a:ahLst/>
            <a:rect l="l" t="t" r="r" b="b"/>
            <a:pathLst>
              <a:path w="448" h="596">
                <a:moveTo>
                  <a:pt x="22200" y="5680"/>
                </a:moveTo>
                <a:cubicBezTo>
                  <a:pt x="22229" y="5719"/>
                  <a:pt x="22225" y="5766"/>
                  <a:pt x="22250" y="5804"/>
                </a:cubicBezTo>
                <a:cubicBezTo>
                  <a:pt x="22278" y="5846"/>
                  <a:pt x="22301" y="5887"/>
                  <a:pt x="22324" y="5928"/>
                </a:cubicBezTo>
                <a:cubicBezTo>
                  <a:pt x="22351" y="5975"/>
                  <a:pt x="22355" y="6029"/>
                  <a:pt x="22374" y="6077"/>
                </a:cubicBezTo>
                <a:cubicBezTo>
                  <a:pt x="22395" y="6130"/>
                  <a:pt x="22422" y="6164"/>
                  <a:pt x="22473" y="6176"/>
                </a:cubicBezTo>
                <a:cubicBezTo>
                  <a:pt x="22473" y="6119"/>
                  <a:pt x="22482" y="6098"/>
                  <a:pt x="22498" y="6052"/>
                </a:cubicBezTo>
                <a:cubicBezTo>
                  <a:pt x="22519" y="5990"/>
                  <a:pt x="22518" y="5919"/>
                  <a:pt x="22547" y="5854"/>
                </a:cubicBezTo>
                <a:cubicBezTo>
                  <a:pt x="22575" y="5792"/>
                  <a:pt x="22601" y="5721"/>
                  <a:pt x="22622" y="5655"/>
                </a:cubicBezTo>
                <a:cubicBezTo>
                  <a:pt x="22635" y="5612"/>
                  <a:pt x="22616" y="5622"/>
                  <a:pt x="22647" y="55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Ink 55"/>
          <p:cNvSpPr/>
          <p:nvPr/>
        </p:nvSpPr>
        <p:spPr>
          <a:xfrm>
            <a:off x="7823160" y="2214720"/>
            <a:ext cx="463680" cy="9360"/>
          </a:xfrm>
          <a:custGeom>
            <a:avLst/>
            <a:gdLst/>
            <a:ahLst/>
            <a:rect l="l" t="t" r="r" b="b"/>
            <a:pathLst>
              <a:path w="1291" h="25">
                <a:moveTo>
                  <a:pt x="21729" y="6176"/>
                </a:moveTo>
                <a:cubicBezTo>
                  <a:pt x="21782" y="6176"/>
                  <a:pt x="21811" y="6161"/>
                  <a:pt x="21853" y="6152"/>
                </a:cubicBezTo>
                <a:cubicBezTo>
                  <a:pt x="22044" y="6113"/>
                  <a:pt x="22284" y="6163"/>
                  <a:pt x="22473" y="6176"/>
                </a:cubicBezTo>
                <a:cubicBezTo>
                  <a:pt x="22653" y="6188"/>
                  <a:pt x="22838" y="6176"/>
                  <a:pt x="23019" y="61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Ink 56"/>
          <p:cNvSpPr/>
          <p:nvPr/>
        </p:nvSpPr>
        <p:spPr>
          <a:xfrm>
            <a:off x="7197840" y="1928880"/>
            <a:ext cx="392040" cy="322200"/>
          </a:xfrm>
          <a:custGeom>
            <a:avLst/>
            <a:gdLst/>
            <a:ahLst/>
            <a:rect l="l" t="t" r="r" b="b"/>
            <a:pathLst>
              <a:path w="1092" h="894">
                <a:moveTo>
                  <a:pt x="19993" y="5358"/>
                </a:moveTo>
                <a:cubicBezTo>
                  <a:pt x="20027" y="5392"/>
                  <a:pt x="20044" y="5419"/>
                  <a:pt x="20067" y="5457"/>
                </a:cubicBezTo>
                <a:cubicBezTo>
                  <a:pt x="20106" y="5521"/>
                  <a:pt x="20162" y="5573"/>
                  <a:pt x="20216" y="5631"/>
                </a:cubicBezTo>
                <a:cubicBezTo>
                  <a:pt x="20275" y="5694"/>
                  <a:pt x="20344" y="5735"/>
                  <a:pt x="20414" y="5779"/>
                </a:cubicBezTo>
                <a:cubicBezTo>
                  <a:pt x="20492" y="5828"/>
                  <a:pt x="20571" y="5864"/>
                  <a:pt x="20638" y="5928"/>
                </a:cubicBezTo>
                <a:cubicBezTo>
                  <a:pt x="20711" y="5997"/>
                  <a:pt x="20803" y="6067"/>
                  <a:pt x="20886" y="6127"/>
                </a:cubicBezTo>
                <a:cubicBezTo>
                  <a:pt x="20946" y="6170"/>
                  <a:pt x="20981" y="6227"/>
                  <a:pt x="21059" y="6251"/>
                </a:cubicBezTo>
                <a:cubicBezTo>
                  <a:pt x="21067" y="6251"/>
                  <a:pt x="21076" y="6251"/>
                  <a:pt x="21084" y="62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Ink 57"/>
          <p:cNvSpPr/>
          <p:nvPr/>
        </p:nvSpPr>
        <p:spPr>
          <a:xfrm>
            <a:off x="7750080" y="1946160"/>
            <a:ext cx="501840" cy="304920"/>
          </a:xfrm>
          <a:custGeom>
            <a:avLst/>
            <a:gdLst/>
            <a:ahLst/>
            <a:rect l="l" t="t" r="r" b="b"/>
            <a:pathLst>
              <a:path w="1391" h="845">
                <a:moveTo>
                  <a:pt x="21530" y="5407"/>
                </a:moveTo>
                <a:cubicBezTo>
                  <a:pt x="21616" y="5431"/>
                  <a:pt x="21673" y="5445"/>
                  <a:pt x="21754" y="5482"/>
                </a:cubicBezTo>
                <a:cubicBezTo>
                  <a:pt x="21831" y="5517"/>
                  <a:pt x="21886" y="5582"/>
                  <a:pt x="21952" y="5631"/>
                </a:cubicBezTo>
                <a:cubicBezTo>
                  <a:pt x="22043" y="5698"/>
                  <a:pt x="22135" y="5761"/>
                  <a:pt x="22225" y="5829"/>
                </a:cubicBezTo>
                <a:cubicBezTo>
                  <a:pt x="22332" y="5910"/>
                  <a:pt x="22434" y="5981"/>
                  <a:pt x="22547" y="6052"/>
                </a:cubicBezTo>
                <a:cubicBezTo>
                  <a:pt x="22637" y="6108"/>
                  <a:pt x="22700" y="6155"/>
                  <a:pt x="22796" y="6201"/>
                </a:cubicBezTo>
                <a:cubicBezTo>
                  <a:pt x="22858" y="6231"/>
                  <a:pt x="22855" y="6242"/>
                  <a:pt x="22920" y="62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Ink 58"/>
          <p:cNvSpPr/>
          <p:nvPr/>
        </p:nvSpPr>
        <p:spPr>
          <a:xfrm>
            <a:off x="7759800" y="1419120"/>
            <a:ext cx="563400" cy="403200"/>
          </a:xfrm>
          <a:custGeom>
            <a:avLst/>
            <a:gdLst/>
            <a:ahLst/>
            <a:rect l="l" t="t" r="r" b="b"/>
            <a:pathLst>
              <a:path w="1564" h="1117">
                <a:moveTo>
                  <a:pt x="21555" y="3944"/>
                </a:moveTo>
                <a:cubicBezTo>
                  <a:pt x="21588" y="4019"/>
                  <a:pt x="21593" y="4039"/>
                  <a:pt x="21654" y="4093"/>
                </a:cubicBezTo>
                <a:cubicBezTo>
                  <a:pt x="21746" y="4173"/>
                  <a:pt x="21825" y="4248"/>
                  <a:pt x="21927" y="4316"/>
                </a:cubicBezTo>
                <a:cubicBezTo>
                  <a:pt x="22050" y="4398"/>
                  <a:pt x="22148" y="4512"/>
                  <a:pt x="22275" y="4589"/>
                </a:cubicBezTo>
                <a:cubicBezTo>
                  <a:pt x="22491" y="4720"/>
                  <a:pt x="22691" y="4846"/>
                  <a:pt x="22920" y="4961"/>
                </a:cubicBezTo>
                <a:cubicBezTo>
                  <a:pt x="23019" y="5011"/>
                  <a:pt x="23052" y="5028"/>
                  <a:pt x="23118" y="50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Ink 59"/>
          <p:cNvSpPr/>
          <p:nvPr/>
        </p:nvSpPr>
        <p:spPr>
          <a:xfrm>
            <a:off x="6205680" y="4741920"/>
            <a:ext cx="1831680" cy="44280"/>
          </a:xfrm>
          <a:custGeom>
            <a:avLst/>
            <a:gdLst/>
            <a:ahLst/>
            <a:rect l="l" t="t" r="r" b="b"/>
            <a:pathLst>
              <a:path w="5086" h="125">
                <a:moveTo>
                  <a:pt x="17239" y="13196"/>
                </a:moveTo>
                <a:cubicBezTo>
                  <a:pt x="17375" y="13196"/>
                  <a:pt x="17503" y="13181"/>
                  <a:pt x="17636" y="13171"/>
                </a:cubicBezTo>
                <a:cubicBezTo>
                  <a:pt x="18418" y="13113"/>
                  <a:pt x="19215" y="13222"/>
                  <a:pt x="19993" y="13196"/>
                </a:cubicBezTo>
                <a:cubicBezTo>
                  <a:pt x="20222" y="13188"/>
                  <a:pt x="20432" y="13185"/>
                  <a:pt x="20662" y="13196"/>
                </a:cubicBezTo>
                <a:cubicBezTo>
                  <a:pt x="21001" y="13212"/>
                  <a:pt x="21341" y="13200"/>
                  <a:pt x="21679" y="13221"/>
                </a:cubicBezTo>
                <a:cubicBezTo>
                  <a:pt x="21820" y="13230"/>
                  <a:pt x="21963" y="13217"/>
                  <a:pt x="22101" y="13246"/>
                </a:cubicBezTo>
                <a:cubicBezTo>
                  <a:pt x="22176" y="13262"/>
                  <a:pt x="22249" y="13283"/>
                  <a:pt x="22324" y="132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Ink 60"/>
          <p:cNvSpPr/>
          <p:nvPr/>
        </p:nvSpPr>
        <p:spPr>
          <a:xfrm>
            <a:off x="5965920" y="6276960"/>
            <a:ext cx="214200" cy="9720"/>
          </a:xfrm>
          <a:custGeom>
            <a:avLst/>
            <a:gdLst/>
            <a:ahLst/>
            <a:rect l="l" t="t" r="r" b="b"/>
            <a:pathLst>
              <a:path w="596" h="25">
                <a:moveTo>
                  <a:pt x="16570" y="17462"/>
                </a:moveTo>
                <a:cubicBezTo>
                  <a:pt x="16752" y="17462"/>
                  <a:pt x="16948" y="17470"/>
                  <a:pt x="17115" y="17438"/>
                </a:cubicBezTo>
                <a:cubicBezTo>
                  <a:pt x="17132" y="17438"/>
                  <a:pt x="17148" y="17438"/>
                  <a:pt x="17165" y="174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Ink 61"/>
          <p:cNvSpPr/>
          <p:nvPr/>
        </p:nvSpPr>
        <p:spPr>
          <a:xfrm>
            <a:off x="6286680" y="6089760"/>
            <a:ext cx="492120" cy="260280"/>
          </a:xfrm>
          <a:custGeom>
            <a:avLst/>
            <a:gdLst/>
            <a:ahLst/>
            <a:rect l="l" t="t" r="r" b="b"/>
            <a:pathLst>
              <a:path w="1366" h="720">
                <a:moveTo>
                  <a:pt x="17462" y="17338"/>
                </a:moveTo>
                <a:cubicBezTo>
                  <a:pt x="17488" y="17390"/>
                  <a:pt x="17487" y="17420"/>
                  <a:pt x="17487" y="17487"/>
                </a:cubicBezTo>
                <a:cubicBezTo>
                  <a:pt x="17487" y="17518"/>
                  <a:pt x="17498" y="17583"/>
                  <a:pt x="17512" y="17611"/>
                </a:cubicBezTo>
                <a:cubicBezTo>
                  <a:pt x="17520" y="17619"/>
                  <a:pt x="17529" y="17628"/>
                  <a:pt x="17537" y="17636"/>
                </a:cubicBezTo>
                <a:cubicBezTo>
                  <a:pt x="17579" y="17612"/>
                  <a:pt x="17584" y="17598"/>
                  <a:pt x="17611" y="17562"/>
                </a:cubicBezTo>
                <a:cubicBezTo>
                  <a:pt x="17639" y="17525"/>
                  <a:pt x="17695" y="17409"/>
                  <a:pt x="17711" y="17363"/>
                </a:cubicBezTo>
                <a:cubicBezTo>
                  <a:pt x="17731" y="17303"/>
                  <a:pt x="17731" y="17244"/>
                  <a:pt x="17760" y="17190"/>
                </a:cubicBezTo>
                <a:cubicBezTo>
                  <a:pt x="17793" y="17128"/>
                  <a:pt x="17788" y="17057"/>
                  <a:pt x="17810" y="16991"/>
                </a:cubicBezTo>
                <a:cubicBezTo>
                  <a:pt x="17823" y="16953"/>
                  <a:pt x="17826" y="16927"/>
                  <a:pt x="17859" y="16917"/>
                </a:cubicBezTo>
                <a:cubicBezTo>
                  <a:pt x="17972" y="16885"/>
                  <a:pt x="18122" y="16930"/>
                  <a:pt x="18231" y="16942"/>
                </a:cubicBezTo>
                <a:cubicBezTo>
                  <a:pt x="18424" y="16964"/>
                  <a:pt x="18632" y="16942"/>
                  <a:pt x="18827" y="169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Ink 62"/>
          <p:cNvSpPr/>
          <p:nvPr/>
        </p:nvSpPr>
        <p:spPr>
          <a:xfrm>
            <a:off x="6491160" y="6153120"/>
            <a:ext cx="125640" cy="7920"/>
          </a:xfrm>
          <a:custGeom>
            <a:avLst/>
            <a:gdLst/>
            <a:ahLst/>
            <a:rect l="l" t="t" r="r" b="b"/>
            <a:pathLst>
              <a:path w="348" h="26">
                <a:moveTo>
                  <a:pt x="18033" y="17115"/>
                </a:moveTo>
                <a:cubicBezTo>
                  <a:pt x="18086" y="17092"/>
                  <a:pt x="18103" y="17090"/>
                  <a:pt x="18157" y="17090"/>
                </a:cubicBezTo>
                <a:cubicBezTo>
                  <a:pt x="18216" y="17090"/>
                  <a:pt x="18251" y="17109"/>
                  <a:pt x="18306" y="17115"/>
                </a:cubicBezTo>
                <a:cubicBezTo>
                  <a:pt x="18330" y="17117"/>
                  <a:pt x="18356" y="17115"/>
                  <a:pt x="18380" y="171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Ink 63"/>
          <p:cNvSpPr/>
          <p:nvPr/>
        </p:nvSpPr>
        <p:spPr>
          <a:xfrm>
            <a:off x="6465960" y="6170760"/>
            <a:ext cx="106200" cy="169560"/>
          </a:xfrm>
          <a:custGeom>
            <a:avLst/>
            <a:gdLst/>
            <a:ahLst/>
            <a:rect l="l" t="t" r="r" b="b"/>
            <a:pathLst>
              <a:path w="298" h="472">
                <a:moveTo>
                  <a:pt x="18033" y="17140"/>
                </a:moveTo>
                <a:cubicBezTo>
                  <a:pt x="17983" y="17152"/>
                  <a:pt x="17988" y="17175"/>
                  <a:pt x="17959" y="17214"/>
                </a:cubicBezTo>
                <a:cubicBezTo>
                  <a:pt x="17990" y="17257"/>
                  <a:pt x="17994" y="17263"/>
                  <a:pt x="18033" y="17289"/>
                </a:cubicBezTo>
                <a:cubicBezTo>
                  <a:pt x="18082" y="17322"/>
                  <a:pt x="18134" y="17337"/>
                  <a:pt x="18182" y="17363"/>
                </a:cubicBezTo>
                <a:cubicBezTo>
                  <a:pt x="18218" y="17382"/>
                  <a:pt x="18251" y="17395"/>
                  <a:pt x="18256" y="17438"/>
                </a:cubicBezTo>
                <a:cubicBezTo>
                  <a:pt x="18260" y="17471"/>
                  <a:pt x="18266" y="17519"/>
                  <a:pt x="18231" y="17537"/>
                </a:cubicBezTo>
                <a:cubicBezTo>
                  <a:pt x="18193" y="17556"/>
                  <a:pt x="18144" y="17569"/>
                  <a:pt x="18107" y="17587"/>
                </a:cubicBezTo>
                <a:cubicBezTo>
                  <a:pt x="18066" y="17607"/>
                  <a:pt x="18058" y="17611"/>
                  <a:pt x="18008" y="17611"/>
                </a:cubicBezTo>
                <a:cubicBezTo>
                  <a:pt x="18000" y="17611"/>
                  <a:pt x="17991" y="17611"/>
                  <a:pt x="17983" y="176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Ink 64"/>
          <p:cNvSpPr/>
          <p:nvPr/>
        </p:nvSpPr>
        <p:spPr>
          <a:xfrm>
            <a:off x="6170760" y="6411960"/>
            <a:ext cx="465120" cy="17280"/>
          </a:xfrm>
          <a:custGeom>
            <a:avLst/>
            <a:gdLst/>
            <a:ahLst/>
            <a:rect l="l" t="t" r="r" b="b"/>
            <a:pathLst>
              <a:path w="1291" h="50">
                <a:moveTo>
                  <a:pt x="17140" y="17859"/>
                </a:moveTo>
                <a:cubicBezTo>
                  <a:pt x="17316" y="17859"/>
                  <a:pt x="17487" y="17851"/>
                  <a:pt x="17661" y="17835"/>
                </a:cubicBezTo>
                <a:cubicBezTo>
                  <a:pt x="17785" y="17823"/>
                  <a:pt x="17910" y="17822"/>
                  <a:pt x="18033" y="17810"/>
                </a:cubicBezTo>
                <a:cubicBezTo>
                  <a:pt x="18162" y="17797"/>
                  <a:pt x="18300" y="17810"/>
                  <a:pt x="18430" y="178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Ink 65"/>
          <p:cNvSpPr/>
          <p:nvPr/>
        </p:nvSpPr>
        <p:spPr>
          <a:xfrm>
            <a:off x="6313320" y="6456240"/>
            <a:ext cx="142920" cy="16992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17711" y="17959"/>
                </a:moveTo>
                <a:cubicBezTo>
                  <a:pt x="17763" y="17936"/>
                  <a:pt x="17781" y="17934"/>
                  <a:pt x="17835" y="17934"/>
                </a:cubicBezTo>
                <a:cubicBezTo>
                  <a:pt x="17874" y="17934"/>
                  <a:pt x="17889" y="17959"/>
                  <a:pt x="17934" y="17959"/>
                </a:cubicBezTo>
                <a:cubicBezTo>
                  <a:pt x="17923" y="18026"/>
                  <a:pt x="17918" y="18007"/>
                  <a:pt x="17859" y="18033"/>
                </a:cubicBezTo>
                <a:cubicBezTo>
                  <a:pt x="17816" y="18052"/>
                  <a:pt x="17688" y="18083"/>
                  <a:pt x="17735" y="18083"/>
                </a:cubicBezTo>
                <a:cubicBezTo>
                  <a:pt x="17786" y="18083"/>
                  <a:pt x="17788" y="18078"/>
                  <a:pt x="17810" y="18107"/>
                </a:cubicBezTo>
                <a:cubicBezTo>
                  <a:pt x="17843" y="18151"/>
                  <a:pt x="17859" y="18150"/>
                  <a:pt x="17859" y="18207"/>
                </a:cubicBezTo>
                <a:cubicBezTo>
                  <a:pt x="17859" y="18243"/>
                  <a:pt x="17816" y="18286"/>
                  <a:pt x="17785" y="18306"/>
                </a:cubicBezTo>
                <a:cubicBezTo>
                  <a:pt x="17733" y="18340"/>
                  <a:pt x="17665" y="18387"/>
                  <a:pt x="17611" y="18405"/>
                </a:cubicBezTo>
                <a:cubicBezTo>
                  <a:pt x="17571" y="18419"/>
                  <a:pt x="17546" y="18407"/>
                  <a:pt x="17537" y="183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Ink 4"/>
          <p:cNvSpPr/>
          <p:nvPr/>
        </p:nvSpPr>
        <p:spPr>
          <a:xfrm>
            <a:off x="544680" y="1982880"/>
            <a:ext cx="36360" cy="554040"/>
          </a:xfrm>
          <a:custGeom>
            <a:avLst/>
            <a:gdLst/>
            <a:ahLst/>
            <a:rect l="l" t="t" r="r" b="b"/>
            <a:pathLst>
              <a:path w="100" h="1539">
                <a:moveTo>
                  <a:pt x="1612" y="5531"/>
                </a:moveTo>
                <a:cubicBezTo>
                  <a:pt x="1612" y="5523"/>
                  <a:pt x="1612" y="5515"/>
                  <a:pt x="1612" y="5507"/>
                </a:cubicBezTo>
                <a:cubicBezTo>
                  <a:pt x="1580" y="5561"/>
                  <a:pt x="1588" y="5613"/>
                  <a:pt x="1588" y="5680"/>
                </a:cubicBezTo>
                <a:cubicBezTo>
                  <a:pt x="1588" y="5840"/>
                  <a:pt x="1575" y="5997"/>
                  <a:pt x="1563" y="6152"/>
                </a:cubicBezTo>
                <a:cubicBezTo>
                  <a:pt x="1543" y="6409"/>
                  <a:pt x="1573" y="6668"/>
                  <a:pt x="1538" y="6921"/>
                </a:cubicBezTo>
                <a:cubicBezTo>
                  <a:pt x="1530" y="6976"/>
                  <a:pt x="1521" y="6990"/>
                  <a:pt x="1513" y="70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Ink 5"/>
          <p:cNvSpPr/>
          <p:nvPr/>
        </p:nvSpPr>
        <p:spPr>
          <a:xfrm>
            <a:off x="776160" y="1946160"/>
            <a:ext cx="2162160" cy="706680"/>
          </a:xfrm>
          <a:custGeom>
            <a:avLst/>
            <a:gdLst/>
            <a:ahLst/>
            <a:rect l="l" t="t" r="r" b="b"/>
            <a:pathLst>
              <a:path w="6004" h="1961">
                <a:moveTo>
                  <a:pt x="2332" y="5407"/>
                </a:moveTo>
                <a:cubicBezTo>
                  <a:pt x="2332" y="5592"/>
                  <a:pt x="2324" y="5773"/>
                  <a:pt x="2307" y="5953"/>
                </a:cubicBezTo>
                <a:cubicBezTo>
                  <a:pt x="2295" y="6085"/>
                  <a:pt x="2267" y="6218"/>
                  <a:pt x="2257" y="6350"/>
                </a:cubicBezTo>
                <a:cubicBezTo>
                  <a:pt x="2246" y="6492"/>
                  <a:pt x="2219" y="6631"/>
                  <a:pt x="2208" y="6772"/>
                </a:cubicBezTo>
                <a:cubicBezTo>
                  <a:pt x="2199" y="6888"/>
                  <a:pt x="2187" y="7004"/>
                  <a:pt x="2183" y="7119"/>
                </a:cubicBezTo>
                <a:cubicBezTo>
                  <a:pt x="2180" y="7194"/>
                  <a:pt x="2170" y="7256"/>
                  <a:pt x="2158" y="7317"/>
                </a:cubicBezTo>
                <a:cubicBezTo>
                  <a:pt x="2158" y="7334"/>
                  <a:pt x="2158" y="7350"/>
                  <a:pt x="2158" y="7367"/>
                </a:cubicBezTo>
              </a:path>
              <a:path w="6004" h="1961">
                <a:moveTo>
                  <a:pt x="3299" y="6028"/>
                </a:moveTo>
                <a:cubicBezTo>
                  <a:pt x="3332" y="6126"/>
                  <a:pt x="3329" y="6223"/>
                  <a:pt x="3349" y="6325"/>
                </a:cubicBezTo>
                <a:cubicBezTo>
                  <a:pt x="3373" y="6447"/>
                  <a:pt x="3374" y="6575"/>
                  <a:pt x="3398" y="6697"/>
                </a:cubicBezTo>
                <a:cubicBezTo>
                  <a:pt x="3414" y="6781"/>
                  <a:pt x="3428" y="6861"/>
                  <a:pt x="3448" y="6945"/>
                </a:cubicBezTo>
              </a:path>
              <a:path w="6004" h="1961">
                <a:moveTo>
                  <a:pt x="2828" y="6672"/>
                </a:moveTo>
                <a:cubicBezTo>
                  <a:pt x="2981" y="6666"/>
                  <a:pt x="3121" y="6648"/>
                  <a:pt x="3274" y="6648"/>
                </a:cubicBezTo>
                <a:cubicBezTo>
                  <a:pt x="3392" y="6648"/>
                  <a:pt x="3500" y="6623"/>
                  <a:pt x="3621" y="6623"/>
                </a:cubicBezTo>
              </a:path>
              <a:path w="6004" h="1961">
                <a:moveTo>
                  <a:pt x="4043" y="6648"/>
                </a:moveTo>
                <a:cubicBezTo>
                  <a:pt x="4066" y="6625"/>
                  <a:pt x="4070" y="6617"/>
                  <a:pt x="4093" y="6623"/>
                </a:cubicBezTo>
                <a:cubicBezTo>
                  <a:pt x="4106" y="6583"/>
                  <a:pt x="4105" y="6613"/>
                  <a:pt x="4118" y="6573"/>
                </a:cubicBezTo>
              </a:path>
              <a:path w="6004" h="1961">
                <a:moveTo>
                  <a:pt x="4018" y="6474"/>
                </a:moveTo>
                <a:cubicBezTo>
                  <a:pt x="3956" y="6474"/>
                  <a:pt x="3899" y="6463"/>
                  <a:pt x="3845" y="6499"/>
                </a:cubicBezTo>
                <a:cubicBezTo>
                  <a:pt x="3777" y="6545"/>
                  <a:pt x="3788" y="6609"/>
                  <a:pt x="3770" y="6672"/>
                </a:cubicBezTo>
                <a:cubicBezTo>
                  <a:pt x="3746" y="6755"/>
                  <a:pt x="3741" y="6793"/>
                  <a:pt x="3795" y="6871"/>
                </a:cubicBezTo>
                <a:cubicBezTo>
                  <a:pt x="3831" y="6922"/>
                  <a:pt x="3861" y="6921"/>
                  <a:pt x="3919" y="6921"/>
                </a:cubicBezTo>
                <a:cubicBezTo>
                  <a:pt x="3927" y="6921"/>
                  <a:pt x="3936" y="6921"/>
                  <a:pt x="3944" y="6921"/>
                </a:cubicBezTo>
              </a:path>
              <a:path w="6004" h="1961">
                <a:moveTo>
                  <a:pt x="4043" y="6796"/>
                </a:moveTo>
                <a:cubicBezTo>
                  <a:pt x="4077" y="6839"/>
                  <a:pt x="4102" y="6882"/>
                  <a:pt x="4142" y="6921"/>
                </a:cubicBezTo>
                <a:cubicBezTo>
                  <a:pt x="4180" y="6958"/>
                  <a:pt x="4210" y="6992"/>
                  <a:pt x="4266" y="6995"/>
                </a:cubicBezTo>
                <a:cubicBezTo>
                  <a:pt x="4291" y="6995"/>
                  <a:pt x="4316" y="6995"/>
                  <a:pt x="4341" y="6995"/>
                </a:cubicBezTo>
              </a:path>
              <a:path w="6004" h="1961">
                <a:moveTo>
                  <a:pt x="4390" y="6548"/>
                </a:moveTo>
                <a:cubicBezTo>
                  <a:pt x="4421" y="6658"/>
                  <a:pt x="4467" y="6722"/>
                  <a:pt x="4514" y="6821"/>
                </a:cubicBezTo>
                <a:cubicBezTo>
                  <a:pt x="4544" y="6884"/>
                  <a:pt x="4580" y="6936"/>
                  <a:pt x="4614" y="6995"/>
                </a:cubicBezTo>
                <a:cubicBezTo>
                  <a:pt x="4614" y="7058"/>
                  <a:pt x="4590" y="6919"/>
                  <a:pt x="4589" y="6896"/>
                </a:cubicBezTo>
                <a:cubicBezTo>
                  <a:pt x="4586" y="6806"/>
                  <a:pt x="4562" y="6653"/>
                  <a:pt x="4614" y="6573"/>
                </a:cubicBezTo>
                <a:cubicBezTo>
                  <a:pt x="4638" y="6536"/>
                  <a:pt x="4696" y="6484"/>
                  <a:pt x="4738" y="6474"/>
                </a:cubicBezTo>
                <a:cubicBezTo>
                  <a:pt x="4808" y="6457"/>
                  <a:pt x="4904" y="6483"/>
                  <a:pt x="4961" y="6524"/>
                </a:cubicBezTo>
                <a:cubicBezTo>
                  <a:pt x="5030" y="6574"/>
                  <a:pt x="5047" y="6673"/>
                  <a:pt x="5085" y="6747"/>
                </a:cubicBezTo>
                <a:cubicBezTo>
                  <a:pt x="5114" y="6804"/>
                  <a:pt x="5143" y="6867"/>
                  <a:pt x="5159" y="6921"/>
                </a:cubicBezTo>
                <a:cubicBezTo>
                  <a:pt x="5171" y="6961"/>
                  <a:pt x="5176" y="6984"/>
                  <a:pt x="5209" y="6995"/>
                </a:cubicBezTo>
              </a:path>
              <a:path w="6004" h="1961">
                <a:moveTo>
                  <a:pt x="5730" y="6102"/>
                </a:moveTo>
                <a:cubicBezTo>
                  <a:pt x="5667" y="6253"/>
                  <a:pt x="5611" y="6363"/>
                  <a:pt x="5606" y="6524"/>
                </a:cubicBezTo>
                <a:cubicBezTo>
                  <a:pt x="5602" y="6651"/>
                  <a:pt x="5583" y="6805"/>
                  <a:pt x="5631" y="6921"/>
                </a:cubicBezTo>
                <a:cubicBezTo>
                  <a:pt x="5662" y="6997"/>
                  <a:pt x="5722" y="7046"/>
                  <a:pt x="5779" y="7094"/>
                </a:cubicBezTo>
                <a:cubicBezTo>
                  <a:pt x="5823" y="7131"/>
                  <a:pt x="5861" y="7170"/>
                  <a:pt x="5928" y="7144"/>
                </a:cubicBezTo>
                <a:cubicBezTo>
                  <a:pt x="6003" y="7115"/>
                  <a:pt x="6008" y="7051"/>
                  <a:pt x="6052" y="6995"/>
                </a:cubicBezTo>
                <a:cubicBezTo>
                  <a:pt x="6122" y="6905"/>
                  <a:pt x="6123" y="6877"/>
                  <a:pt x="6152" y="6772"/>
                </a:cubicBezTo>
                <a:cubicBezTo>
                  <a:pt x="6180" y="6670"/>
                  <a:pt x="6166" y="6626"/>
                  <a:pt x="6152" y="6524"/>
                </a:cubicBezTo>
                <a:cubicBezTo>
                  <a:pt x="6144" y="6465"/>
                  <a:pt x="6132" y="6348"/>
                  <a:pt x="6102" y="6300"/>
                </a:cubicBezTo>
                <a:cubicBezTo>
                  <a:pt x="6051" y="6217"/>
                  <a:pt x="5958" y="6199"/>
                  <a:pt x="5904" y="6152"/>
                </a:cubicBezTo>
                <a:cubicBezTo>
                  <a:pt x="5879" y="6130"/>
                  <a:pt x="5872" y="6144"/>
                  <a:pt x="5879" y="6176"/>
                </a:cubicBezTo>
                <a:cubicBezTo>
                  <a:pt x="5887" y="6184"/>
                  <a:pt x="5896" y="6193"/>
                  <a:pt x="5904" y="6201"/>
                </a:cubicBezTo>
              </a:path>
              <a:path w="6004" h="1961">
                <a:moveTo>
                  <a:pt x="5730" y="6672"/>
                </a:moveTo>
                <a:cubicBezTo>
                  <a:pt x="5766" y="6646"/>
                  <a:pt x="5807" y="6626"/>
                  <a:pt x="5854" y="6623"/>
                </a:cubicBezTo>
                <a:cubicBezTo>
                  <a:pt x="5927" y="6618"/>
                  <a:pt x="5963" y="6631"/>
                  <a:pt x="6028" y="6648"/>
                </a:cubicBezTo>
                <a:cubicBezTo>
                  <a:pt x="6036" y="6648"/>
                  <a:pt x="6044" y="6648"/>
                  <a:pt x="6052" y="6648"/>
                </a:cubicBezTo>
              </a:path>
              <a:path w="6004" h="1961">
                <a:moveTo>
                  <a:pt x="6573" y="6524"/>
                </a:moveTo>
                <a:cubicBezTo>
                  <a:pt x="6514" y="6524"/>
                  <a:pt x="6608" y="6538"/>
                  <a:pt x="6623" y="6548"/>
                </a:cubicBezTo>
                <a:cubicBezTo>
                  <a:pt x="6689" y="6592"/>
                  <a:pt x="6715" y="6598"/>
                  <a:pt x="6796" y="6598"/>
                </a:cubicBezTo>
                <a:cubicBezTo>
                  <a:pt x="6887" y="6598"/>
                  <a:pt x="6978" y="6598"/>
                  <a:pt x="7069" y="6598"/>
                </a:cubicBezTo>
              </a:path>
              <a:path w="6004" h="1961">
                <a:moveTo>
                  <a:pt x="6623" y="6921"/>
                </a:moveTo>
                <a:cubicBezTo>
                  <a:pt x="6667" y="6947"/>
                  <a:pt x="6739" y="6960"/>
                  <a:pt x="6796" y="6945"/>
                </a:cubicBezTo>
                <a:cubicBezTo>
                  <a:pt x="6873" y="6924"/>
                  <a:pt x="6938" y="6921"/>
                  <a:pt x="7020" y="6921"/>
                </a:cubicBezTo>
                <a:cubicBezTo>
                  <a:pt x="7105" y="6921"/>
                  <a:pt x="7173" y="6918"/>
                  <a:pt x="7218" y="6896"/>
                </a:cubicBezTo>
                <a:cubicBezTo>
                  <a:pt x="7226" y="6896"/>
                  <a:pt x="7235" y="6896"/>
                  <a:pt x="7243" y="6896"/>
                </a:cubicBezTo>
              </a:path>
              <a:path w="6004" h="1961">
                <a:moveTo>
                  <a:pt x="7615" y="6102"/>
                </a:moveTo>
                <a:cubicBezTo>
                  <a:pt x="7615" y="6198"/>
                  <a:pt x="7604" y="6282"/>
                  <a:pt x="7590" y="6375"/>
                </a:cubicBezTo>
                <a:cubicBezTo>
                  <a:pt x="7580" y="6442"/>
                  <a:pt x="7565" y="6504"/>
                  <a:pt x="7565" y="6573"/>
                </a:cubicBezTo>
                <a:cubicBezTo>
                  <a:pt x="7565" y="6642"/>
                  <a:pt x="7549" y="6664"/>
                  <a:pt x="7565" y="6697"/>
                </a:cubicBezTo>
                <a:cubicBezTo>
                  <a:pt x="7582" y="6732"/>
                  <a:pt x="7592" y="6722"/>
                  <a:pt x="7640" y="6722"/>
                </a:cubicBezTo>
                <a:cubicBezTo>
                  <a:pt x="7757" y="6722"/>
                  <a:pt x="7868" y="6697"/>
                  <a:pt x="7987" y="6697"/>
                </a:cubicBezTo>
                <a:cubicBezTo>
                  <a:pt x="8055" y="6697"/>
                  <a:pt x="8081" y="6704"/>
                  <a:pt x="8136" y="6722"/>
                </a:cubicBezTo>
                <a:cubicBezTo>
                  <a:pt x="8144" y="6722"/>
                  <a:pt x="8153" y="6722"/>
                  <a:pt x="8161" y="6722"/>
                </a:cubicBezTo>
              </a:path>
              <a:path w="6004" h="1961">
                <a:moveTo>
                  <a:pt x="8111" y="6152"/>
                </a:moveTo>
                <a:cubicBezTo>
                  <a:pt x="8102" y="6246"/>
                  <a:pt x="8086" y="6326"/>
                  <a:pt x="8086" y="6424"/>
                </a:cubicBezTo>
                <a:cubicBezTo>
                  <a:pt x="8086" y="6538"/>
                  <a:pt x="8093" y="6683"/>
                  <a:pt x="8111" y="6796"/>
                </a:cubicBezTo>
                <a:cubicBezTo>
                  <a:pt x="8128" y="6899"/>
                  <a:pt x="8136" y="6987"/>
                  <a:pt x="8136" y="7094"/>
                </a:cubicBezTo>
                <a:cubicBezTo>
                  <a:pt x="8136" y="7171"/>
                  <a:pt x="8144" y="7222"/>
                  <a:pt x="8161" y="7293"/>
                </a:cubicBezTo>
                <a:cubicBezTo>
                  <a:pt x="8163" y="7301"/>
                  <a:pt x="8161" y="7384"/>
                  <a:pt x="8161" y="73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Ink 6"/>
          <p:cNvSpPr/>
          <p:nvPr/>
        </p:nvSpPr>
        <p:spPr>
          <a:xfrm>
            <a:off x="3313080" y="2116080"/>
            <a:ext cx="1785960" cy="465120"/>
          </a:xfrm>
          <a:custGeom>
            <a:avLst/>
            <a:gdLst/>
            <a:ahLst/>
            <a:rect l="l" t="t" r="r" b="b"/>
            <a:pathLst>
              <a:path w="4961" h="1291">
                <a:moveTo>
                  <a:pt x="9773" y="6102"/>
                </a:moveTo>
                <a:cubicBezTo>
                  <a:pt x="9773" y="6143"/>
                  <a:pt x="9773" y="6135"/>
                  <a:pt x="9773" y="6176"/>
                </a:cubicBezTo>
                <a:cubicBezTo>
                  <a:pt x="9773" y="6251"/>
                  <a:pt x="9786" y="6306"/>
                  <a:pt x="9798" y="6375"/>
                </a:cubicBezTo>
                <a:cubicBezTo>
                  <a:pt x="9802" y="6399"/>
                  <a:pt x="9795" y="6425"/>
                  <a:pt x="9798" y="6449"/>
                </a:cubicBezTo>
                <a:cubicBezTo>
                  <a:pt x="9798" y="6363"/>
                  <a:pt x="9809" y="6280"/>
                  <a:pt x="9773" y="6201"/>
                </a:cubicBezTo>
                <a:cubicBezTo>
                  <a:pt x="9735" y="6117"/>
                  <a:pt x="9715" y="6148"/>
                  <a:pt x="9649" y="6102"/>
                </a:cubicBezTo>
                <a:cubicBezTo>
                  <a:pt x="9591" y="6062"/>
                  <a:pt x="9563" y="6075"/>
                  <a:pt x="9500" y="6102"/>
                </a:cubicBezTo>
                <a:cubicBezTo>
                  <a:pt x="9416" y="6138"/>
                  <a:pt x="9366" y="6188"/>
                  <a:pt x="9302" y="6251"/>
                </a:cubicBezTo>
                <a:cubicBezTo>
                  <a:pt x="9268" y="6285"/>
                  <a:pt x="9212" y="6319"/>
                  <a:pt x="9203" y="6350"/>
                </a:cubicBezTo>
                <a:cubicBezTo>
                  <a:pt x="9188" y="6406"/>
                  <a:pt x="9208" y="6410"/>
                  <a:pt x="9227" y="6449"/>
                </a:cubicBezTo>
                <a:cubicBezTo>
                  <a:pt x="9284" y="6442"/>
                  <a:pt x="9321" y="6412"/>
                  <a:pt x="9376" y="6400"/>
                </a:cubicBezTo>
                <a:cubicBezTo>
                  <a:pt x="9460" y="6382"/>
                  <a:pt x="9545" y="6414"/>
                  <a:pt x="9624" y="6424"/>
                </a:cubicBezTo>
                <a:cubicBezTo>
                  <a:pt x="9716" y="6436"/>
                  <a:pt x="9796" y="6465"/>
                  <a:pt x="9872" y="6524"/>
                </a:cubicBezTo>
                <a:cubicBezTo>
                  <a:pt x="9938" y="6576"/>
                  <a:pt x="10024" y="6664"/>
                  <a:pt x="10046" y="6747"/>
                </a:cubicBezTo>
                <a:cubicBezTo>
                  <a:pt x="10057" y="6788"/>
                  <a:pt x="10040" y="6865"/>
                  <a:pt x="10021" y="6896"/>
                </a:cubicBezTo>
                <a:cubicBezTo>
                  <a:pt x="9971" y="6980"/>
                  <a:pt x="9877" y="6965"/>
                  <a:pt x="9798" y="6995"/>
                </a:cubicBezTo>
                <a:cubicBezTo>
                  <a:pt x="9710" y="7029"/>
                  <a:pt x="9617" y="7032"/>
                  <a:pt x="9525" y="7069"/>
                </a:cubicBezTo>
                <a:cubicBezTo>
                  <a:pt x="9485" y="7085"/>
                  <a:pt x="9393" y="7133"/>
                  <a:pt x="9351" y="7119"/>
                </a:cubicBezTo>
                <a:cubicBezTo>
                  <a:pt x="9303" y="7103"/>
                  <a:pt x="9347" y="7110"/>
                  <a:pt x="9327" y="7069"/>
                </a:cubicBezTo>
              </a:path>
              <a:path w="4961" h="1291">
                <a:moveTo>
                  <a:pt x="10145" y="6697"/>
                </a:moveTo>
                <a:cubicBezTo>
                  <a:pt x="10154" y="6827"/>
                  <a:pt x="10185" y="6892"/>
                  <a:pt x="10220" y="7020"/>
                </a:cubicBezTo>
                <a:cubicBezTo>
                  <a:pt x="10220" y="7028"/>
                  <a:pt x="10220" y="7037"/>
                  <a:pt x="10220" y="7045"/>
                </a:cubicBezTo>
              </a:path>
              <a:path w="4961" h="1291">
                <a:moveTo>
                  <a:pt x="10096" y="6424"/>
                </a:moveTo>
                <a:cubicBezTo>
                  <a:pt x="10139" y="6424"/>
                  <a:pt x="10135" y="6423"/>
                  <a:pt x="10170" y="6449"/>
                </a:cubicBezTo>
              </a:path>
              <a:path w="4961" h="1291">
                <a:moveTo>
                  <a:pt x="10443" y="6648"/>
                </a:moveTo>
                <a:cubicBezTo>
                  <a:pt x="10453" y="6730"/>
                  <a:pt x="10484" y="6817"/>
                  <a:pt x="10517" y="6896"/>
                </a:cubicBezTo>
                <a:cubicBezTo>
                  <a:pt x="10542" y="6957"/>
                  <a:pt x="10560" y="7003"/>
                  <a:pt x="10567" y="7069"/>
                </a:cubicBezTo>
              </a:path>
              <a:path w="4961" h="1291">
                <a:moveTo>
                  <a:pt x="10567" y="7094"/>
                </a:moveTo>
                <a:cubicBezTo>
                  <a:pt x="10558" y="6985"/>
                  <a:pt x="10561" y="6902"/>
                  <a:pt x="10567" y="6796"/>
                </a:cubicBezTo>
                <a:cubicBezTo>
                  <a:pt x="10570" y="6731"/>
                  <a:pt x="10552" y="6674"/>
                  <a:pt x="10592" y="6623"/>
                </a:cubicBezTo>
                <a:cubicBezTo>
                  <a:pt x="10625" y="6581"/>
                  <a:pt x="10625" y="6552"/>
                  <a:pt x="10691" y="6548"/>
                </a:cubicBezTo>
                <a:cubicBezTo>
                  <a:pt x="10754" y="6544"/>
                  <a:pt x="10836" y="6532"/>
                  <a:pt x="10889" y="6573"/>
                </a:cubicBezTo>
                <a:cubicBezTo>
                  <a:pt x="10988" y="6649"/>
                  <a:pt x="10984" y="6745"/>
                  <a:pt x="11013" y="6846"/>
                </a:cubicBezTo>
                <a:cubicBezTo>
                  <a:pt x="11031" y="6910"/>
                  <a:pt x="11038" y="6951"/>
                  <a:pt x="11038" y="7020"/>
                </a:cubicBezTo>
                <a:cubicBezTo>
                  <a:pt x="11038" y="7031"/>
                  <a:pt x="11038" y="7136"/>
                  <a:pt x="11038" y="7069"/>
                </a:cubicBezTo>
              </a:path>
              <a:path w="4961" h="1291">
                <a:moveTo>
                  <a:pt x="11881" y="5904"/>
                </a:moveTo>
                <a:cubicBezTo>
                  <a:pt x="11881" y="5896"/>
                  <a:pt x="11881" y="5887"/>
                  <a:pt x="11881" y="5879"/>
                </a:cubicBezTo>
                <a:cubicBezTo>
                  <a:pt x="11804" y="5890"/>
                  <a:pt x="11840" y="5903"/>
                  <a:pt x="11782" y="5953"/>
                </a:cubicBezTo>
                <a:cubicBezTo>
                  <a:pt x="11720" y="6006"/>
                  <a:pt x="11697" y="6049"/>
                  <a:pt x="11658" y="6127"/>
                </a:cubicBezTo>
                <a:cubicBezTo>
                  <a:pt x="11604" y="6233"/>
                  <a:pt x="11587" y="6359"/>
                  <a:pt x="11559" y="6474"/>
                </a:cubicBezTo>
                <a:cubicBezTo>
                  <a:pt x="11526" y="6610"/>
                  <a:pt x="11486" y="6754"/>
                  <a:pt x="11509" y="6896"/>
                </a:cubicBezTo>
                <a:cubicBezTo>
                  <a:pt x="11521" y="6970"/>
                  <a:pt x="11573" y="7073"/>
                  <a:pt x="11633" y="7119"/>
                </a:cubicBezTo>
                <a:cubicBezTo>
                  <a:pt x="11677" y="7153"/>
                  <a:pt x="11775" y="7194"/>
                  <a:pt x="11832" y="7169"/>
                </a:cubicBezTo>
                <a:cubicBezTo>
                  <a:pt x="11916" y="7132"/>
                  <a:pt x="11976" y="7049"/>
                  <a:pt x="12030" y="6970"/>
                </a:cubicBezTo>
                <a:cubicBezTo>
                  <a:pt x="12115" y="6846"/>
                  <a:pt x="12113" y="6739"/>
                  <a:pt x="12154" y="6598"/>
                </a:cubicBezTo>
                <a:cubicBezTo>
                  <a:pt x="12180" y="6509"/>
                  <a:pt x="12180" y="6418"/>
                  <a:pt x="12154" y="6325"/>
                </a:cubicBezTo>
                <a:cubicBezTo>
                  <a:pt x="12136" y="6258"/>
                  <a:pt x="12097" y="6183"/>
                  <a:pt x="12055" y="6127"/>
                </a:cubicBezTo>
                <a:cubicBezTo>
                  <a:pt x="12026" y="6089"/>
                  <a:pt x="11985" y="6074"/>
                  <a:pt x="11956" y="6052"/>
                </a:cubicBezTo>
                <a:cubicBezTo>
                  <a:pt x="11911" y="6018"/>
                  <a:pt x="11910" y="6012"/>
                  <a:pt x="11931" y="6052"/>
                </a:cubicBezTo>
              </a:path>
              <a:path w="4961" h="1291">
                <a:moveTo>
                  <a:pt x="11584" y="6648"/>
                </a:moveTo>
                <a:cubicBezTo>
                  <a:pt x="11576" y="6656"/>
                  <a:pt x="11567" y="6664"/>
                  <a:pt x="11559" y="6672"/>
                </a:cubicBezTo>
                <a:cubicBezTo>
                  <a:pt x="11616" y="6672"/>
                  <a:pt x="11656" y="6656"/>
                  <a:pt x="11708" y="6648"/>
                </a:cubicBezTo>
                <a:cubicBezTo>
                  <a:pt x="11770" y="6638"/>
                  <a:pt x="11821" y="6637"/>
                  <a:pt x="11881" y="6623"/>
                </a:cubicBezTo>
                <a:cubicBezTo>
                  <a:pt x="11914" y="6623"/>
                  <a:pt x="11931" y="6623"/>
                  <a:pt x="11956" y="6623"/>
                </a:cubicBezTo>
              </a:path>
              <a:path w="4961" h="1291">
                <a:moveTo>
                  <a:pt x="12948" y="6102"/>
                </a:moveTo>
                <a:cubicBezTo>
                  <a:pt x="12948" y="6138"/>
                  <a:pt x="12941" y="6174"/>
                  <a:pt x="12923" y="6201"/>
                </a:cubicBezTo>
                <a:cubicBezTo>
                  <a:pt x="12885" y="6258"/>
                  <a:pt x="12843" y="6322"/>
                  <a:pt x="12799" y="6375"/>
                </a:cubicBezTo>
                <a:cubicBezTo>
                  <a:pt x="12724" y="6465"/>
                  <a:pt x="12665" y="6559"/>
                  <a:pt x="12601" y="6648"/>
                </a:cubicBezTo>
                <a:cubicBezTo>
                  <a:pt x="12547" y="6723"/>
                  <a:pt x="12482" y="6795"/>
                  <a:pt x="12427" y="6871"/>
                </a:cubicBezTo>
                <a:cubicBezTo>
                  <a:pt x="12401" y="6908"/>
                  <a:pt x="12384" y="6940"/>
                  <a:pt x="12378" y="6970"/>
                </a:cubicBezTo>
                <a:cubicBezTo>
                  <a:pt x="12560" y="6970"/>
                  <a:pt x="12757" y="6962"/>
                  <a:pt x="12923" y="6995"/>
                </a:cubicBezTo>
                <a:cubicBezTo>
                  <a:pt x="12975" y="7005"/>
                  <a:pt x="13003" y="7007"/>
                  <a:pt x="13047" y="7020"/>
                </a:cubicBezTo>
                <a:cubicBezTo>
                  <a:pt x="13067" y="7026"/>
                  <a:pt x="13101" y="7020"/>
                  <a:pt x="13122" y="7020"/>
                </a:cubicBezTo>
              </a:path>
              <a:path w="4961" h="1291">
                <a:moveTo>
                  <a:pt x="13816" y="6003"/>
                </a:moveTo>
                <a:cubicBezTo>
                  <a:pt x="13678" y="5950"/>
                  <a:pt x="13708" y="5959"/>
                  <a:pt x="13593" y="6028"/>
                </a:cubicBezTo>
                <a:cubicBezTo>
                  <a:pt x="13525" y="6069"/>
                  <a:pt x="13440" y="6132"/>
                  <a:pt x="13395" y="6201"/>
                </a:cubicBezTo>
                <a:cubicBezTo>
                  <a:pt x="13317" y="6322"/>
                  <a:pt x="13281" y="6435"/>
                  <a:pt x="13246" y="6573"/>
                </a:cubicBezTo>
                <a:cubicBezTo>
                  <a:pt x="13217" y="6688"/>
                  <a:pt x="13220" y="6807"/>
                  <a:pt x="13295" y="6896"/>
                </a:cubicBezTo>
                <a:cubicBezTo>
                  <a:pt x="13360" y="6972"/>
                  <a:pt x="13427" y="7011"/>
                  <a:pt x="13519" y="7045"/>
                </a:cubicBezTo>
                <a:cubicBezTo>
                  <a:pt x="13599" y="7075"/>
                  <a:pt x="13686" y="7051"/>
                  <a:pt x="13767" y="7020"/>
                </a:cubicBezTo>
                <a:cubicBezTo>
                  <a:pt x="13884" y="6975"/>
                  <a:pt x="13976" y="6880"/>
                  <a:pt x="14064" y="6796"/>
                </a:cubicBezTo>
                <a:cubicBezTo>
                  <a:pt x="14137" y="6726"/>
                  <a:pt x="14158" y="6672"/>
                  <a:pt x="14163" y="6573"/>
                </a:cubicBezTo>
                <a:cubicBezTo>
                  <a:pt x="14167" y="6478"/>
                  <a:pt x="14155" y="6410"/>
                  <a:pt x="14114" y="6325"/>
                </a:cubicBezTo>
                <a:cubicBezTo>
                  <a:pt x="14060" y="6212"/>
                  <a:pt x="13997" y="6185"/>
                  <a:pt x="13891" y="6127"/>
                </a:cubicBezTo>
                <a:cubicBezTo>
                  <a:pt x="13814" y="6085"/>
                  <a:pt x="13752" y="6077"/>
                  <a:pt x="13667" y="6077"/>
                </a:cubicBezTo>
                <a:cubicBezTo>
                  <a:pt x="13634" y="6077"/>
                  <a:pt x="13601" y="6077"/>
                  <a:pt x="13568" y="60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Ink 7"/>
          <p:cNvSpPr/>
          <p:nvPr/>
        </p:nvSpPr>
        <p:spPr>
          <a:xfrm>
            <a:off x="1330200" y="3027240"/>
            <a:ext cx="2286000" cy="482760"/>
          </a:xfrm>
          <a:custGeom>
            <a:avLst/>
            <a:gdLst/>
            <a:ahLst/>
            <a:rect l="l" t="t" r="r" b="b"/>
            <a:pathLst>
              <a:path w="6351" h="1340">
                <a:moveTo>
                  <a:pt x="4440" y="8731"/>
                </a:moveTo>
                <a:cubicBezTo>
                  <a:pt x="4440" y="8804"/>
                  <a:pt x="4453" y="8870"/>
                  <a:pt x="4465" y="8930"/>
                </a:cubicBezTo>
                <a:cubicBezTo>
                  <a:pt x="4474" y="8976"/>
                  <a:pt x="4465" y="9032"/>
                  <a:pt x="4465" y="9079"/>
                </a:cubicBezTo>
                <a:cubicBezTo>
                  <a:pt x="4465" y="9038"/>
                  <a:pt x="4476" y="9043"/>
                  <a:pt x="4465" y="9004"/>
                </a:cubicBezTo>
                <a:cubicBezTo>
                  <a:pt x="4451" y="8952"/>
                  <a:pt x="4437" y="8873"/>
                  <a:pt x="4415" y="8830"/>
                </a:cubicBezTo>
                <a:cubicBezTo>
                  <a:pt x="4385" y="8771"/>
                  <a:pt x="4331" y="8754"/>
                  <a:pt x="4291" y="8731"/>
                </a:cubicBezTo>
                <a:cubicBezTo>
                  <a:pt x="4236" y="8699"/>
                  <a:pt x="4181" y="8710"/>
                  <a:pt x="4118" y="8731"/>
                </a:cubicBezTo>
                <a:cubicBezTo>
                  <a:pt x="4041" y="8757"/>
                  <a:pt x="3991" y="8826"/>
                  <a:pt x="3944" y="8880"/>
                </a:cubicBezTo>
                <a:cubicBezTo>
                  <a:pt x="3877" y="8956"/>
                  <a:pt x="3852" y="9025"/>
                  <a:pt x="3795" y="9103"/>
                </a:cubicBezTo>
                <a:cubicBezTo>
                  <a:pt x="3763" y="9147"/>
                  <a:pt x="3711" y="9222"/>
                  <a:pt x="3696" y="9277"/>
                </a:cubicBezTo>
                <a:cubicBezTo>
                  <a:pt x="3696" y="9302"/>
                  <a:pt x="3696" y="9310"/>
                  <a:pt x="3696" y="9327"/>
                </a:cubicBezTo>
                <a:cubicBezTo>
                  <a:pt x="3712" y="9311"/>
                  <a:pt x="3741" y="9281"/>
                  <a:pt x="3770" y="9252"/>
                </a:cubicBezTo>
                <a:cubicBezTo>
                  <a:pt x="3826" y="9196"/>
                  <a:pt x="3875" y="9141"/>
                  <a:pt x="3944" y="9103"/>
                </a:cubicBezTo>
                <a:cubicBezTo>
                  <a:pt x="4056" y="9042"/>
                  <a:pt x="4148" y="9044"/>
                  <a:pt x="4266" y="9054"/>
                </a:cubicBezTo>
                <a:cubicBezTo>
                  <a:pt x="4363" y="9062"/>
                  <a:pt x="4397" y="9110"/>
                  <a:pt x="4465" y="9178"/>
                </a:cubicBezTo>
                <a:cubicBezTo>
                  <a:pt x="4534" y="9247"/>
                  <a:pt x="4539" y="9282"/>
                  <a:pt x="4539" y="9376"/>
                </a:cubicBezTo>
                <a:cubicBezTo>
                  <a:pt x="4539" y="9436"/>
                  <a:pt x="4515" y="9511"/>
                  <a:pt x="4465" y="9550"/>
                </a:cubicBezTo>
                <a:cubicBezTo>
                  <a:pt x="4363" y="9629"/>
                  <a:pt x="4283" y="9656"/>
                  <a:pt x="4167" y="9699"/>
                </a:cubicBezTo>
                <a:cubicBezTo>
                  <a:pt x="4097" y="9725"/>
                  <a:pt x="4019" y="9744"/>
                  <a:pt x="3944" y="9748"/>
                </a:cubicBezTo>
                <a:cubicBezTo>
                  <a:pt x="3886" y="9751"/>
                  <a:pt x="3821" y="9748"/>
                  <a:pt x="3770" y="9723"/>
                </a:cubicBezTo>
                <a:cubicBezTo>
                  <a:pt x="3746" y="9723"/>
                  <a:pt x="3738" y="9723"/>
                  <a:pt x="3746" y="9699"/>
                </a:cubicBezTo>
              </a:path>
              <a:path w="6351" h="1340">
                <a:moveTo>
                  <a:pt x="4663" y="9203"/>
                </a:moveTo>
                <a:cubicBezTo>
                  <a:pt x="4690" y="9273"/>
                  <a:pt x="4669" y="9332"/>
                  <a:pt x="4688" y="9401"/>
                </a:cubicBezTo>
                <a:cubicBezTo>
                  <a:pt x="4710" y="9481"/>
                  <a:pt x="4713" y="9537"/>
                  <a:pt x="4713" y="9624"/>
                </a:cubicBezTo>
              </a:path>
              <a:path w="6351" h="1340">
                <a:moveTo>
                  <a:pt x="4713" y="8979"/>
                </a:moveTo>
                <a:cubicBezTo>
                  <a:pt x="4738" y="8979"/>
                  <a:pt x="4746" y="8979"/>
                  <a:pt x="4738" y="9004"/>
                </a:cubicBezTo>
              </a:path>
              <a:path w="6351" h="1340">
                <a:moveTo>
                  <a:pt x="5011" y="9252"/>
                </a:moveTo>
                <a:cubicBezTo>
                  <a:pt x="5035" y="9318"/>
                  <a:pt x="5038" y="9387"/>
                  <a:pt x="5060" y="9451"/>
                </a:cubicBezTo>
                <a:cubicBezTo>
                  <a:pt x="5085" y="9524"/>
                  <a:pt x="5086" y="9607"/>
                  <a:pt x="5110" y="9674"/>
                </a:cubicBezTo>
                <a:cubicBezTo>
                  <a:pt x="5132" y="9696"/>
                  <a:pt x="5141" y="9701"/>
                  <a:pt x="5135" y="9723"/>
                </a:cubicBezTo>
                <a:cubicBezTo>
                  <a:pt x="5099" y="9677"/>
                  <a:pt x="5110" y="9636"/>
                  <a:pt x="5110" y="9575"/>
                </a:cubicBezTo>
                <a:cubicBezTo>
                  <a:pt x="5110" y="9493"/>
                  <a:pt x="5146" y="9411"/>
                  <a:pt x="5159" y="9327"/>
                </a:cubicBezTo>
                <a:cubicBezTo>
                  <a:pt x="5167" y="9272"/>
                  <a:pt x="5211" y="9252"/>
                  <a:pt x="5259" y="9227"/>
                </a:cubicBezTo>
                <a:cubicBezTo>
                  <a:pt x="5317" y="9196"/>
                  <a:pt x="5359" y="9158"/>
                  <a:pt x="5432" y="9178"/>
                </a:cubicBezTo>
                <a:cubicBezTo>
                  <a:pt x="5494" y="9195"/>
                  <a:pt x="5526" y="9252"/>
                  <a:pt x="5556" y="9302"/>
                </a:cubicBezTo>
                <a:cubicBezTo>
                  <a:pt x="5593" y="9363"/>
                  <a:pt x="5615" y="9433"/>
                  <a:pt x="5631" y="9500"/>
                </a:cubicBezTo>
                <a:cubicBezTo>
                  <a:pt x="5645" y="9560"/>
                  <a:pt x="5655" y="9608"/>
                  <a:pt x="5655" y="9674"/>
                </a:cubicBezTo>
                <a:cubicBezTo>
                  <a:pt x="5655" y="9699"/>
                  <a:pt x="5655" y="9707"/>
                  <a:pt x="5680" y="9699"/>
                </a:cubicBezTo>
              </a:path>
              <a:path w="6351" h="1340">
                <a:moveTo>
                  <a:pt x="5978" y="9277"/>
                </a:moveTo>
                <a:cubicBezTo>
                  <a:pt x="6084" y="9277"/>
                  <a:pt x="6176" y="9279"/>
                  <a:pt x="6276" y="9302"/>
                </a:cubicBezTo>
                <a:cubicBezTo>
                  <a:pt x="6300" y="9302"/>
                  <a:pt x="6309" y="9302"/>
                  <a:pt x="6325" y="9302"/>
                </a:cubicBezTo>
              </a:path>
              <a:path w="6351" h="1340">
                <a:moveTo>
                  <a:pt x="6052" y="9550"/>
                </a:moveTo>
                <a:cubicBezTo>
                  <a:pt x="6116" y="9523"/>
                  <a:pt x="6155" y="9525"/>
                  <a:pt x="6226" y="9525"/>
                </a:cubicBezTo>
                <a:cubicBezTo>
                  <a:pt x="6276" y="9525"/>
                  <a:pt x="6325" y="9525"/>
                  <a:pt x="6375" y="9525"/>
                </a:cubicBezTo>
              </a:path>
              <a:path w="6351" h="1340">
                <a:moveTo>
                  <a:pt x="6722" y="9004"/>
                </a:moveTo>
                <a:cubicBezTo>
                  <a:pt x="6836" y="9004"/>
                  <a:pt x="6939" y="9006"/>
                  <a:pt x="7045" y="8979"/>
                </a:cubicBezTo>
                <a:cubicBezTo>
                  <a:pt x="7095" y="8966"/>
                  <a:pt x="7166" y="8979"/>
                  <a:pt x="7218" y="8979"/>
                </a:cubicBezTo>
              </a:path>
              <a:path w="6351" h="1340">
                <a:moveTo>
                  <a:pt x="7541" y="8607"/>
                </a:moveTo>
                <a:cubicBezTo>
                  <a:pt x="7577" y="8620"/>
                  <a:pt x="7565" y="8638"/>
                  <a:pt x="7565" y="8682"/>
                </a:cubicBezTo>
                <a:cubicBezTo>
                  <a:pt x="7565" y="8778"/>
                  <a:pt x="7522" y="8828"/>
                  <a:pt x="7491" y="8905"/>
                </a:cubicBezTo>
                <a:cubicBezTo>
                  <a:pt x="7478" y="8937"/>
                  <a:pt x="7482" y="9001"/>
                  <a:pt x="7466" y="9029"/>
                </a:cubicBezTo>
                <a:cubicBezTo>
                  <a:pt x="7443" y="9052"/>
                  <a:pt x="7435" y="9056"/>
                  <a:pt x="7441" y="9079"/>
                </a:cubicBezTo>
                <a:cubicBezTo>
                  <a:pt x="7513" y="9079"/>
                  <a:pt x="7574" y="9063"/>
                  <a:pt x="7640" y="9054"/>
                </a:cubicBezTo>
                <a:cubicBezTo>
                  <a:pt x="7743" y="9040"/>
                  <a:pt x="7857" y="9054"/>
                  <a:pt x="7962" y="9054"/>
                </a:cubicBezTo>
              </a:path>
              <a:path w="6351" h="1340">
                <a:moveTo>
                  <a:pt x="8136" y="8582"/>
                </a:moveTo>
                <a:cubicBezTo>
                  <a:pt x="8136" y="8623"/>
                  <a:pt x="8164" y="8700"/>
                  <a:pt x="8161" y="8731"/>
                </a:cubicBezTo>
                <a:cubicBezTo>
                  <a:pt x="8153" y="8819"/>
                  <a:pt x="8117" y="8916"/>
                  <a:pt x="8111" y="9004"/>
                </a:cubicBezTo>
                <a:cubicBezTo>
                  <a:pt x="8104" y="9102"/>
                  <a:pt x="8086" y="9184"/>
                  <a:pt x="8086" y="9277"/>
                </a:cubicBezTo>
                <a:cubicBezTo>
                  <a:pt x="8086" y="9282"/>
                  <a:pt x="8081" y="9390"/>
                  <a:pt x="8111" y="9351"/>
                </a:cubicBezTo>
                <a:cubicBezTo>
                  <a:pt x="8111" y="9343"/>
                  <a:pt x="8111" y="9335"/>
                  <a:pt x="8111" y="9327"/>
                </a:cubicBezTo>
              </a:path>
              <a:path w="6351" h="1340">
                <a:moveTo>
                  <a:pt x="8409" y="9153"/>
                </a:moveTo>
                <a:cubicBezTo>
                  <a:pt x="8409" y="9128"/>
                  <a:pt x="8409" y="9120"/>
                  <a:pt x="8409" y="9153"/>
                </a:cubicBezTo>
              </a:path>
              <a:path w="6351" h="1340">
                <a:moveTo>
                  <a:pt x="8409" y="9252"/>
                </a:moveTo>
                <a:cubicBezTo>
                  <a:pt x="8428" y="9326"/>
                  <a:pt x="8436" y="9333"/>
                  <a:pt x="8434" y="9376"/>
                </a:cubicBezTo>
                <a:cubicBezTo>
                  <a:pt x="8510" y="9359"/>
                  <a:pt x="8482" y="9392"/>
                  <a:pt x="8558" y="9327"/>
                </a:cubicBezTo>
                <a:cubicBezTo>
                  <a:pt x="8599" y="9292"/>
                  <a:pt x="8632" y="9225"/>
                  <a:pt x="8657" y="9178"/>
                </a:cubicBezTo>
                <a:cubicBezTo>
                  <a:pt x="8694" y="9109"/>
                  <a:pt x="8719" y="9060"/>
                  <a:pt x="8731" y="8979"/>
                </a:cubicBezTo>
                <a:cubicBezTo>
                  <a:pt x="8739" y="8922"/>
                  <a:pt x="8728" y="8830"/>
                  <a:pt x="8706" y="8781"/>
                </a:cubicBezTo>
                <a:cubicBezTo>
                  <a:pt x="8687" y="8739"/>
                  <a:pt x="8658" y="8672"/>
                  <a:pt x="8632" y="8632"/>
                </a:cubicBezTo>
                <a:cubicBezTo>
                  <a:pt x="8610" y="8598"/>
                  <a:pt x="8583" y="8561"/>
                  <a:pt x="8558" y="8533"/>
                </a:cubicBezTo>
                <a:cubicBezTo>
                  <a:pt x="8532" y="8504"/>
                  <a:pt x="8524" y="8485"/>
                  <a:pt x="8508" y="8458"/>
                </a:cubicBezTo>
                <a:cubicBezTo>
                  <a:pt x="8596" y="8458"/>
                  <a:pt x="8670" y="8437"/>
                  <a:pt x="8756" y="8434"/>
                </a:cubicBezTo>
                <a:cubicBezTo>
                  <a:pt x="8860" y="8430"/>
                  <a:pt x="8954" y="8420"/>
                  <a:pt x="9054" y="8409"/>
                </a:cubicBezTo>
                <a:cubicBezTo>
                  <a:pt x="9170" y="8396"/>
                  <a:pt x="9301" y="8407"/>
                  <a:pt x="9401" y="8434"/>
                </a:cubicBezTo>
                <a:cubicBezTo>
                  <a:pt x="9409" y="8434"/>
                  <a:pt x="9418" y="8434"/>
                  <a:pt x="9426" y="8434"/>
                </a:cubicBezTo>
              </a:path>
              <a:path w="6351" h="1340">
                <a:moveTo>
                  <a:pt x="9103" y="8806"/>
                </a:moveTo>
                <a:cubicBezTo>
                  <a:pt x="9119" y="8851"/>
                  <a:pt x="9128" y="8829"/>
                  <a:pt x="9128" y="8905"/>
                </a:cubicBezTo>
                <a:cubicBezTo>
                  <a:pt x="9128" y="8982"/>
                  <a:pt x="9153" y="9046"/>
                  <a:pt x="9153" y="9128"/>
                </a:cubicBezTo>
                <a:cubicBezTo>
                  <a:pt x="9153" y="9211"/>
                  <a:pt x="9153" y="9293"/>
                  <a:pt x="9153" y="9376"/>
                </a:cubicBezTo>
              </a:path>
              <a:path w="6351" h="1340">
                <a:moveTo>
                  <a:pt x="9451" y="8756"/>
                </a:moveTo>
                <a:cubicBezTo>
                  <a:pt x="9463" y="8806"/>
                  <a:pt x="9475" y="8820"/>
                  <a:pt x="9475" y="8880"/>
                </a:cubicBezTo>
                <a:cubicBezTo>
                  <a:pt x="9475" y="8945"/>
                  <a:pt x="9474" y="8943"/>
                  <a:pt x="9500" y="9004"/>
                </a:cubicBezTo>
              </a:path>
              <a:path w="6351" h="1340">
                <a:moveTo>
                  <a:pt x="9500" y="9054"/>
                </a:moveTo>
                <a:lnTo>
                  <a:pt x="9500" y="9054"/>
                </a:lnTo>
              </a:path>
              <a:path w="6351" h="1340">
                <a:moveTo>
                  <a:pt x="9500" y="8806"/>
                </a:moveTo>
                <a:cubicBezTo>
                  <a:pt x="9440" y="8754"/>
                  <a:pt x="9464" y="8756"/>
                  <a:pt x="9401" y="8756"/>
                </a:cubicBezTo>
                <a:cubicBezTo>
                  <a:pt x="9422" y="8818"/>
                  <a:pt x="9548" y="8803"/>
                  <a:pt x="9624" y="8806"/>
                </a:cubicBezTo>
                <a:cubicBezTo>
                  <a:pt x="9707" y="8809"/>
                  <a:pt x="9768" y="8786"/>
                  <a:pt x="9847" y="8781"/>
                </a:cubicBezTo>
                <a:cubicBezTo>
                  <a:pt x="9902" y="8778"/>
                  <a:pt x="9941" y="8756"/>
                  <a:pt x="9996" y="8756"/>
                </a:cubicBezTo>
                <a:cubicBezTo>
                  <a:pt x="10023" y="8756"/>
                  <a:pt x="10043" y="8781"/>
                  <a:pt x="10046" y="8806"/>
                </a:cubicBezTo>
                <a:cubicBezTo>
                  <a:pt x="10052" y="8852"/>
                  <a:pt x="9996" y="8918"/>
                  <a:pt x="9971" y="8954"/>
                </a:cubicBezTo>
                <a:cubicBezTo>
                  <a:pt x="9908" y="9044"/>
                  <a:pt x="9847" y="9107"/>
                  <a:pt x="9798" y="9203"/>
                </a:cubicBezTo>
                <a:cubicBezTo>
                  <a:pt x="9768" y="9262"/>
                  <a:pt x="9738" y="9324"/>
                  <a:pt x="9699" y="9376"/>
                </a:cubicBezTo>
                <a:cubicBezTo>
                  <a:pt x="9666" y="9420"/>
                  <a:pt x="9682" y="9456"/>
                  <a:pt x="9649" y="95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Ink 8"/>
          <p:cNvSpPr/>
          <p:nvPr/>
        </p:nvSpPr>
        <p:spPr>
          <a:xfrm>
            <a:off x="4116240" y="3071880"/>
            <a:ext cx="1928880" cy="849240"/>
          </a:xfrm>
          <a:custGeom>
            <a:avLst/>
            <a:gdLst/>
            <a:ahLst/>
            <a:rect l="l" t="t" r="r" b="b"/>
            <a:pathLst>
              <a:path w="5359" h="2357">
                <a:moveTo>
                  <a:pt x="12402" y="8781"/>
                </a:moveTo>
                <a:cubicBezTo>
                  <a:pt x="12418" y="8824"/>
                  <a:pt x="12424" y="8853"/>
                  <a:pt x="12427" y="8905"/>
                </a:cubicBezTo>
                <a:cubicBezTo>
                  <a:pt x="12431" y="8979"/>
                  <a:pt x="12427" y="9054"/>
                  <a:pt x="12427" y="9128"/>
                </a:cubicBezTo>
                <a:cubicBezTo>
                  <a:pt x="12427" y="9070"/>
                  <a:pt x="12411" y="9025"/>
                  <a:pt x="12402" y="8979"/>
                </a:cubicBezTo>
                <a:cubicBezTo>
                  <a:pt x="12390" y="8920"/>
                  <a:pt x="12368" y="8882"/>
                  <a:pt x="12328" y="8830"/>
                </a:cubicBezTo>
                <a:cubicBezTo>
                  <a:pt x="12296" y="8787"/>
                  <a:pt x="12231" y="8743"/>
                  <a:pt x="12179" y="8731"/>
                </a:cubicBezTo>
                <a:cubicBezTo>
                  <a:pt x="12093" y="8712"/>
                  <a:pt x="11961" y="8725"/>
                  <a:pt x="11881" y="8756"/>
                </a:cubicBezTo>
                <a:cubicBezTo>
                  <a:pt x="11793" y="8790"/>
                  <a:pt x="11742" y="8865"/>
                  <a:pt x="11683" y="8930"/>
                </a:cubicBezTo>
                <a:cubicBezTo>
                  <a:pt x="11589" y="9033"/>
                  <a:pt x="11561" y="9126"/>
                  <a:pt x="11509" y="9252"/>
                </a:cubicBezTo>
                <a:cubicBezTo>
                  <a:pt x="11446" y="9403"/>
                  <a:pt x="11413" y="9481"/>
                  <a:pt x="11460" y="9649"/>
                </a:cubicBezTo>
                <a:cubicBezTo>
                  <a:pt x="11483" y="9734"/>
                  <a:pt x="11550" y="9788"/>
                  <a:pt x="11609" y="9847"/>
                </a:cubicBezTo>
                <a:cubicBezTo>
                  <a:pt x="11643" y="9881"/>
                  <a:pt x="11733" y="9886"/>
                  <a:pt x="11782" y="9872"/>
                </a:cubicBezTo>
                <a:cubicBezTo>
                  <a:pt x="11863" y="9849"/>
                  <a:pt x="11963" y="9794"/>
                  <a:pt x="12030" y="9748"/>
                </a:cubicBezTo>
                <a:cubicBezTo>
                  <a:pt x="12112" y="9691"/>
                  <a:pt x="12196" y="9645"/>
                  <a:pt x="12204" y="9550"/>
                </a:cubicBezTo>
                <a:cubicBezTo>
                  <a:pt x="12204" y="9542"/>
                  <a:pt x="12204" y="9533"/>
                  <a:pt x="12204" y="9525"/>
                </a:cubicBezTo>
              </a:path>
              <a:path w="5359" h="2357">
                <a:moveTo>
                  <a:pt x="12774" y="9103"/>
                </a:moveTo>
                <a:cubicBezTo>
                  <a:pt x="12774" y="9170"/>
                  <a:pt x="12767" y="9220"/>
                  <a:pt x="12750" y="9277"/>
                </a:cubicBezTo>
                <a:cubicBezTo>
                  <a:pt x="12748" y="9284"/>
                  <a:pt x="12750" y="9370"/>
                  <a:pt x="12750" y="9302"/>
                </a:cubicBezTo>
                <a:cubicBezTo>
                  <a:pt x="12734" y="9265"/>
                  <a:pt x="12733" y="9171"/>
                  <a:pt x="12700" y="9153"/>
                </a:cubicBezTo>
                <a:cubicBezTo>
                  <a:pt x="12614" y="9105"/>
                  <a:pt x="12522" y="9115"/>
                  <a:pt x="12452" y="9178"/>
                </a:cubicBezTo>
                <a:cubicBezTo>
                  <a:pt x="12404" y="9221"/>
                  <a:pt x="12343" y="9325"/>
                  <a:pt x="12303" y="9351"/>
                </a:cubicBezTo>
                <a:cubicBezTo>
                  <a:pt x="12278" y="9351"/>
                  <a:pt x="12270" y="9351"/>
                  <a:pt x="12278" y="9376"/>
                </a:cubicBezTo>
                <a:cubicBezTo>
                  <a:pt x="12325" y="9376"/>
                  <a:pt x="12341" y="9359"/>
                  <a:pt x="12378" y="9351"/>
                </a:cubicBezTo>
                <a:cubicBezTo>
                  <a:pt x="12447" y="9336"/>
                  <a:pt x="12531" y="9330"/>
                  <a:pt x="12601" y="9327"/>
                </a:cubicBezTo>
                <a:cubicBezTo>
                  <a:pt x="12675" y="9324"/>
                  <a:pt x="12785" y="9336"/>
                  <a:pt x="12849" y="9376"/>
                </a:cubicBezTo>
                <a:cubicBezTo>
                  <a:pt x="12901" y="9408"/>
                  <a:pt x="12933" y="9469"/>
                  <a:pt x="12948" y="9525"/>
                </a:cubicBezTo>
                <a:cubicBezTo>
                  <a:pt x="12960" y="9570"/>
                  <a:pt x="12934" y="9623"/>
                  <a:pt x="12898" y="9649"/>
                </a:cubicBezTo>
                <a:cubicBezTo>
                  <a:pt x="12853" y="9682"/>
                  <a:pt x="12780" y="9736"/>
                  <a:pt x="12725" y="9748"/>
                </a:cubicBezTo>
                <a:cubicBezTo>
                  <a:pt x="12629" y="9769"/>
                  <a:pt x="12503" y="9748"/>
                  <a:pt x="12402" y="9748"/>
                </a:cubicBezTo>
              </a:path>
              <a:path w="5359" h="2357">
                <a:moveTo>
                  <a:pt x="13320" y="9103"/>
                </a:moveTo>
                <a:cubicBezTo>
                  <a:pt x="13332" y="9165"/>
                  <a:pt x="13345" y="9210"/>
                  <a:pt x="13345" y="9277"/>
                </a:cubicBezTo>
                <a:cubicBezTo>
                  <a:pt x="13345" y="9343"/>
                  <a:pt x="13345" y="9409"/>
                  <a:pt x="13345" y="9475"/>
                </a:cubicBezTo>
                <a:cubicBezTo>
                  <a:pt x="13345" y="9532"/>
                  <a:pt x="13368" y="9436"/>
                  <a:pt x="13370" y="9426"/>
                </a:cubicBezTo>
                <a:cubicBezTo>
                  <a:pt x="13387" y="9347"/>
                  <a:pt x="13359" y="9267"/>
                  <a:pt x="13345" y="9203"/>
                </a:cubicBezTo>
                <a:cubicBezTo>
                  <a:pt x="13336" y="9162"/>
                  <a:pt x="13324" y="9127"/>
                  <a:pt x="13271" y="9103"/>
                </a:cubicBezTo>
                <a:cubicBezTo>
                  <a:pt x="13222" y="9081"/>
                  <a:pt x="13155" y="9124"/>
                  <a:pt x="13122" y="9153"/>
                </a:cubicBezTo>
                <a:cubicBezTo>
                  <a:pt x="13059" y="9209"/>
                  <a:pt x="12981" y="9325"/>
                  <a:pt x="12948" y="9401"/>
                </a:cubicBezTo>
                <a:cubicBezTo>
                  <a:pt x="12919" y="9466"/>
                  <a:pt x="12904" y="9579"/>
                  <a:pt x="12923" y="9649"/>
                </a:cubicBezTo>
                <a:cubicBezTo>
                  <a:pt x="12937" y="9701"/>
                  <a:pt x="12986" y="9737"/>
                  <a:pt x="13022" y="9773"/>
                </a:cubicBezTo>
                <a:cubicBezTo>
                  <a:pt x="13077" y="9829"/>
                  <a:pt x="13130" y="9807"/>
                  <a:pt x="13196" y="9798"/>
                </a:cubicBezTo>
                <a:cubicBezTo>
                  <a:pt x="13260" y="9789"/>
                  <a:pt x="13309" y="9787"/>
                  <a:pt x="13370" y="9773"/>
                </a:cubicBezTo>
                <a:cubicBezTo>
                  <a:pt x="13419" y="9762"/>
                  <a:pt x="13407" y="9760"/>
                  <a:pt x="13444" y="9748"/>
                </a:cubicBezTo>
              </a:path>
              <a:path w="5359" h="2357">
                <a:moveTo>
                  <a:pt x="13767" y="9376"/>
                </a:moveTo>
                <a:cubicBezTo>
                  <a:pt x="13872" y="9376"/>
                  <a:pt x="13973" y="9383"/>
                  <a:pt x="14064" y="9401"/>
                </a:cubicBezTo>
                <a:cubicBezTo>
                  <a:pt x="14092" y="9407"/>
                  <a:pt x="14133" y="9401"/>
                  <a:pt x="14163" y="9401"/>
                </a:cubicBezTo>
              </a:path>
              <a:path w="5359" h="2357">
                <a:moveTo>
                  <a:pt x="13767" y="9649"/>
                </a:moveTo>
                <a:cubicBezTo>
                  <a:pt x="13883" y="9649"/>
                  <a:pt x="13998" y="9649"/>
                  <a:pt x="14114" y="9649"/>
                </a:cubicBezTo>
              </a:path>
              <a:path w="5359" h="2357">
                <a:moveTo>
                  <a:pt x="14461" y="8954"/>
                </a:moveTo>
                <a:cubicBezTo>
                  <a:pt x="14499" y="8964"/>
                  <a:pt x="14545" y="8966"/>
                  <a:pt x="14585" y="8979"/>
                </a:cubicBezTo>
                <a:cubicBezTo>
                  <a:pt x="14660" y="9004"/>
                  <a:pt x="14709" y="8991"/>
                  <a:pt x="14784" y="8979"/>
                </a:cubicBezTo>
                <a:cubicBezTo>
                  <a:pt x="14825" y="8973"/>
                  <a:pt x="14863" y="9004"/>
                  <a:pt x="14908" y="9004"/>
                </a:cubicBezTo>
                <a:cubicBezTo>
                  <a:pt x="14933" y="9004"/>
                  <a:pt x="14957" y="9004"/>
                  <a:pt x="14982" y="9004"/>
                </a:cubicBezTo>
              </a:path>
              <a:path w="5359" h="2357">
                <a:moveTo>
                  <a:pt x="15156" y="9376"/>
                </a:moveTo>
                <a:cubicBezTo>
                  <a:pt x="15181" y="9412"/>
                  <a:pt x="15223" y="9504"/>
                  <a:pt x="15280" y="9500"/>
                </a:cubicBezTo>
                <a:cubicBezTo>
                  <a:pt x="15319" y="9498"/>
                  <a:pt x="15394" y="9450"/>
                  <a:pt x="15429" y="9426"/>
                </a:cubicBezTo>
                <a:cubicBezTo>
                  <a:pt x="15481" y="9389"/>
                  <a:pt x="15524" y="9332"/>
                  <a:pt x="15553" y="9277"/>
                </a:cubicBezTo>
                <a:cubicBezTo>
                  <a:pt x="15612" y="9163"/>
                  <a:pt x="15627" y="9082"/>
                  <a:pt x="15627" y="8954"/>
                </a:cubicBezTo>
                <a:cubicBezTo>
                  <a:pt x="15627" y="8869"/>
                  <a:pt x="15607" y="8820"/>
                  <a:pt x="15553" y="8756"/>
                </a:cubicBezTo>
                <a:cubicBezTo>
                  <a:pt x="15495" y="8687"/>
                  <a:pt x="15418" y="8629"/>
                  <a:pt x="15354" y="8582"/>
                </a:cubicBezTo>
                <a:cubicBezTo>
                  <a:pt x="15331" y="8560"/>
                  <a:pt x="15326" y="8552"/>
                  <a:pt x="15304" y="8558"/>
                </a:cubicBezTo>
                <a:cubicBezTo>
                  <a:pt x="15626" y="8558"/>
                  <a:pt x="16048" y="8623"/>
                  <a:pt x="16346" y="8533"/>
                </a:cubicBezTo>
                <a:cubicBezTo>
                  <a:pt x="16354" y="8533"/>
                  <a:pt x="16363" y="8533"/>
                  <a:pt x="16371" y="8533"/>
                </a:cubicBezTo>
              </a:path>
              <a:path w="5359" h="2357">
                <a:moveTo>
                  <a:pt x="15850" y="8880"/>
                </a:moveTo>
                <a:cubicBezTo>
                  <a:pt x="15908" y="8894"/>
                  <a:pt x="15921" y="8918"/>
                  <a:pt x="15925" y="8979"/>
                </a:cubicBezTo>
                <a:cubicBezTo>
                  <a:pt x="15933" y="9112"/>
                  <a:pt x="15979" y="9373"/>
                  <a:pt x="15900" y="9475"/>
                </a:cubicBezTo>
              </a:path>
              <a:path w="5359" h="2357">
                <a:moveTo>
                  <a:pt x="16297" y="8979"/>
                </a:moveTo>
                <a:cubicBezTo>
                  <a:pt x="16283" y="9069"/>
                  <a:pt x="16272" y="9122"/>
                  <a:pt x="16272" y="9203"/>
                </a:cubicBezTo>
                <a:cubicBezTo>
                  <a:pt x="16272" y="9211"/>
                  <a:pt x="16272" y="9219"/>
                  <a:pt x="16272" y="9227"/>
                </a:cubicBezTo>
                <a:cubicBezTo>
                  <a:pt x="16272" y="9145"/>
                  <a:pt x="16270" y="9074"/>
                  <a:pt x="16247" y="9004"/>
                </a:cubicBezTo>
                <a:cubicBezTo>
                  <a:pt x="16232" y="8960"/>
                  <a:pt x="16220" y="8942"/>
                  <a:pt x="16173" y="8930"/>
                </a:cubicBezTo>
                <a:cubicBezTo>
                  <a:pt x="16186" y="8969"/>
                  <a:pt x="16223" y="8954"/>
                  <a:pt x="16272" y="8954"/>
                </a:cubicBezTo>
                <a:cubicBezTo>
                  <a:pt x="16353" y="8954"/>
                  <a:pt x="16421" y="8939"/>
                  <a:pt x="16495" y="8930"/>
                </a:cubicBezTo>
                <a:cubicBezTo>
                  <a:pt x="16563" y="8930"/>
                  <a:pt x="16582" y="8933"/>
                  <a:pt x="16619" y="8905"/>
                </a:cubicBezTo>
              </a:path>
              <a:path w="5359" h="2357">
                <a:moveTo>
                  <a:pt x="16793" y="8855"/>
                </a:moveTo>
                <a:cubicBezTo>
                  <a:pt x="16752" y="8896"/>
                  <a:pt x="16722" y="8927"/>
                  <a:pt x="16694" y="8979"/>
                </a:cubicBezTo>
                <a:cubicBezTo>
                  <a:pt x="16658" y="9048"/>
                  <a:pt x="16614" y="9128"/>
                  <a:pt x="16594" y="9203"/>
                </a:cubicBezTo>
                <a:cubicBezTo>
                  <a:pt x="16583" y="9245"/>
                  <a:pt x="16570" y="9380"/>
                  <a:pt x="16545" y="9426"/>
                </a:cubicBezTo>
                <a:cubicBezTo>
                  <a:pt x="16523" y="9465"/>
                  <a:pt x="16520" y="9454"/>
                  <a:pt x="16520" y="9500"/>
                </a:cubicBezTo>
              </a:path>
              <a:path w="5359" h="2357">
                <a:moveTo>
                  <a:pt x="15379" y="9847"/>
                </a:moveTo>
                <a:cubicBezTo>
                  <a:pt x="15499" y="9847"/>
                  <a:pt x="15613" y="9858"/>
                  <a:pt x="15726" y="9872"/>
                </a:cubicBezTo>
                <a:cubicBezTo>
                  <a:pt x="16029" y="9910"/>
                  <a:pt x="16346" y="9850"/>
                  <a:pt x="16644" y="9897"/>
                </a:cubicBezTo>
                <a:cubicBezTo>
                  <a:pt x="16710" y="9907"/>
                  <a:pt x="16753" y="9909"/>
                  <a:pt x="16793" y="9922"/>
                </a:cubicBezTo>
              </a:path>
              <a:path w="5359" h="2357">
                <a:moveTo>
                  <a:pt x="15751" y="10145"/>
                </a:moveTo>
                <a:cubicBezTo>
                  <a:pt x="15751" y="10238"/>
                  <a:pt x="15742" y="10314"/>
                  <a:pt x="15726" y="10393"/>
                </a:cubicBezTo>
                <a:cubicBezTo>
                  <a:pt x="15716" y="10444"/>
                  <a:pt x="15712" y="10472"/>
                  <a:pt x="15701" y="10517"/>
                </a:cubicBezTo>
                <a:cubicBezTo>
                  <a:pt x="15750" y="10517"/>
                  <a:pt x="15806" y="10506"/>
                  <a:pt x="15850" y="10492"/>
                </a:cubicBezTo>
                <a:cubicBezTo>
                  <a:pt x="15925" y="10468"/>
                  <a:pt x="15985" y="10460"/>
                  <a:pt x="16049" y="10468"/>
                </a:cubicBezTo>
                <a:cubicBezTo>
                  <a:pt x="16108" y="10475"/>
                  <a:pt x="16124" y="10476"/>
                  <a:pt x="16173" y="10492"/>
                </a:cubicBezTo>
                <a:cubicBezTo>
                  <a:pt x="16192" y="10498"/>
                  <a:pt x="16227" y="10492"/>
                  <a:pt x="16247" y="10492"/>
                </a:cubicBezTo>
              </a:path>
              <a:path w="5359" h="2357">
                <a:moveTo>
                  <a:pt x="16197" y="10170"/>
                </a:moveTo>
                <a:cubicBezTo>
                  <a:pt x="16197" y="10290"/>
                  <a:pt x="16187" y="10404"/>
                  <a:pt x="16173" y="10517"/>
                </a:cubicBezTo>
                <a:cubicBezTo>
                  <a:pt x="16161" y="10620"/>
                  <a:pt x="16179" y="10716"/>
                  <a:pt x="16197" y="10815"/>
                </a:cubicBezTo>
                <a:cubicBezTo>
                  <a:pt x="16201" y="10838"/>
                  <a:pt x="16197" y="10866"/>
                  <a:pt x="16197" y="108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Ink 9"/>
          <p:cNvSpPr/>
          <p:nvPr/>
        </p:nvSpPr>
        <p:spPr>
          <a:xfrm>
            <a:off x="2724120" y="3544920"/>
            <a:ext cx="946080" cy="428760"/>
          </a:xfrm>
          <a:custGeom>
            <a:avLst/>
            <a:gdLst/>
            <a:ahLst/>
            <a:rect l="l" t="t" r="r" b="b"/>
            <a:pathLst>
              <a:path w="2631" h="1192">
                <a:moveTo>
                  <a:pt x="7565" y="9847"/>
                </a:moveTo>
                <a:cubicBezTo>
                  <a:pt x="7637" y="9853"/>
                  <a:pt x="7695" y="9868"/>
                  <a:pt x="7764" y="9872"/>
                </a:cubicBezTo>
                <a:cubicBezTo>
                  <a:pt x="7850" y="9877"/>
                  <a:pt x="7927" y="9894"/>
                  <a:pt x="8012" y="9897"/>
                </a:cubicBezTo>
                <a:cubicBezTo>
                  <a:pt x="8418" y="9910"/>
                  <a:pt x="8823" y="9898"/>
                  <a:pt x="9227" y="9922"/>
                </a:cubicBezTo>
                <a:cubicBezTo>
                  <a:pt x="9377" y="9931"/>
                  <a:pt x="9525" y="9943"/>
                  <a:pt x="9674" y="9947"/>
                </a:cubicBezTo>
                <a:cubicBezTo>
                  <a:pt x="9788" y="9950"/>
                  <a:pt x="9886" y="9981"/>
                  <a:pt x="9996" y="9996"/>
                </a:cubicBezTo>
                <a:cubicBezTo>
                  <a:pt x="10060" y="10005"/>
                  <a:pt x="10130" y="9996"/>
                  <a:pt x="10195" y="9996"/>
                </a:cubicBezTo>
              </a:path>
              <a:path w="2631" h="1192">
                <a:moveTo>
                  <a:pt x="8285" y="10244"/>
                </a:moveTo>
                <a:cubicBezTo>
                  <a:pt x="8295" y="10275"/>
                  <a:pt x="8325" y="10278"/>
                  <a:pt x="8334" y="10319"/>
                </a:cubicBezTo>
                <a:cubicBezTo>
                  <a:pt x="8363" y="10458"/>
                  <a:pt x="8325" y="10628"/>
                  <a:pt x="8310" y="10765"/>
                </a:cubicBezTo>
                <a:cubicBezTo>
                  <a:pt x="8301" y="10847"/>
                  <a:pt x="8307" y="10917"/>
                  <a:pt x="8285" y="10988"/>
                </a:cubicBezTo>
                <a:cubicBezTo>
                  <a:pt x="8285" y="11013"/>
                  <a:pt x="8285" y="11021"/>
                  <a:pt x="8285" y="11038"/>
                </a:cubicBezTo>
              </a:path>
              <a:path w="2631" h="1192">
                <a:moveTo>
                  <a:pt x="8706" y="10319"/>
                </a:moveTo>
                <a:cubicBezTo>
                  <a:pt x="8706" y="10402"/>
                  <a:pt x="8706" y="10484"/>
                  <a:pt x="8706" y="10567"/>
                </a:cubicBezTo>
              </a:path>
              <a:path w="2631" h="1192">
                <a:moveTo>
                  <a:pt x="8682" y="10567"/>
                </a:moveTo>
                <a:cubicBezTo>
                  <a:pt x="8666" y="10485"/>
                  <a:pt x="8653" y="10412"/>
                  <a:pt x="8632" y="10344"/>
                </a:cubicBezTo>
                <a:cubicBezTo>
                  <a:pt x="8621" y="10308"/>
                  <a:pt x="8597" y="10282"/>
                  <a:pt x="8558" y="10269"/>
                </a:cubicBezTo>
                <a:cubicBezTo>
                  <a:pt x="8550" y="10269"/>
                  <a:pt x="8541" y="10269"/>
                  <a:pt x="8533" y="10269"/>
                </a:cubicBezTo>
                <a:cubicBezTo>
                  <a:pt x="8576" y="10301"/>
                  <a:pt x="8677" y="10294"/>
                  <a:pt x="8756" y="10294"/>
                </a:cubicBezTo>
                <a:cubicBezTo>
                  <a:pt x="8863" y="10294"/>
                  <a:pt x="8951" y="10284"/>
                  <a:pt x="9054" y="10269"/>
                </a:cubicBezTo>
                <a:cubicBezTo>
                  <a:pt x="9120" y="10259"/>
                  <a:pt x="9200" y="10263"/>
                  <a:pt x="9252" y="10294"/>
                </a:cubicBezTo>
                <a:cubicBezTo>
                  <a:pt x="9240" y="10343"/>
                  <a:pt x="9226" y="10392"/>
                  <a:pt x="9203" y="10443"/>
                </a:cubicBezTo>
                <a:cubicBezTo>
                  <a:pt x="9168" y="10521"/>
                  <a:pt x="9125" y="10624"/>
                  <a:pt x="9079" y="10691"/>
                </a:cubicBezTo>
                <a:cubicBezTo>
                  <a:pt x="9043" y="10743"/>
                  <a:pt x="8970" y="10798"/>
                  <a:pt x="8954" y="10864"/>
                </a:cubicBezTo>
                <a:cubicBezTo>
                  <a:pt x="8944" y="10906"/>
                  <a:pt x="8945" y="10948"/>
                  <a:pt x="8930" y="10988"/>
                </a:cubicBezTo>
                <a:cubicBezTo>
                  <a:pt x="8910" y="11029"/>
                  <a:pt x="8891" y="11045"/>
                  <a:pt x="8930" y="110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Ink 10"/>
          <p:cNvSpPr/>
          <p:nvPr/>
        </p:nvSpPr>
        <p:spPr>
          <a:xfrm>
            <a:off x="1347840" y="4152960"/>
            <a:ext cx="1697040" cy="446040"/>
          </a:xfrm>
          <a:custGeom>
            <a:avLst/>
            <a:gdLst/>
            <a:ahLst/>
            <a:rect l="l" t="t" r="r" b="b"/>
            <a:pathLst>
              <a:path w="4713" h="1241">
                <a:moveTo>
                  <a:pt x="4490" y="11757"/>
                </a:moveTo>
                <a:cubicBezTo>
                  <a:pt x="4490" y="11841"/>
                  <a:pt x="4473" y="11959"/>
                  <a:pt x="4465" y="12005"/>
                </a:cubicBezTo>
                <a:cubicBezTo>
                  <a:pt x="4461" y="12030"/>
                  <a:pt x="4483" y="12012"/>
                  <a:pt x="4465" y="12030"/>
                </a:cubicBezTo>
                <a:cubicBezTo>
                  <a:pt x="4459" y="11979"/>
                  <a:pt x="4446" y="11932"/>
                  <a:pt x="4440" y="11881"/>
                </a:cubicBezTo>
                <a:cubicBezTo>
                  <a:pt x="4432" y="11816"/>
                  <a:pt x="4413" y="11804"/>
                  <a:pt x="4366" y="11757"/>
                </a:cubicBezTo>
                <a:cubicBezTo>
                  <a:pt x="4327" y="11719"/>
                  <a:pt x="4269" y="11733"/>
                  <a:pt x="4217" y="11733"/>
                </a:cubicBezTo>
                <a:cubicBezTo>
                  <a:pt x="4149" y="11733"/>
                  <a:pt x="4092" y="11760"/>
                  <a:pt x="4043" y="11807"/>
                </a:cubicBezTo>
                <a:cubicBezTo>
                  <a:pt x="3940" y="11905"/>
                  <a:pt x="3850" y="11991"/>
                  <a:pt x="3795" y="12129"/>
                </a:cubicBezTo>
                <a:cubicBezTo>
                  <a:pt x="3760" y="12216"/>
                  <a:pt x="3717" y="12381"/>
                  <a:pt x="3746" y="12477"/>
                </a:cubicBezTo>
                <a:cubicBezTo>
                  <a:pt x="3789" y="12615"/>
                  <a:pt x="3871" y="12629"/>
                  <a:pt x="3969" y="12700"/>
                </a:cubicBezTo>
                <a:cubicBezTo>
                  <a:pt x="4043" y="12754"/>
                  <a:pt x="4141" y="12773"/>
                  <a:pt x="4242" y="12750"/>
                </a:cubicBezTo>
                <a:cubicBezTo>
                  <a:pt x="4291" y="12739"/>
                  <a:pt x="4379" y="12716"/>
                  <a:pt x="4415" y="12675"/>
                </a:cubicBezTo>
                <a:cubicBezTo>
                  <a:pt x="4434" y="12653"/>
                  <a:pt x="4449" y="12617"/>
                  <a:pt x="4465" y="12601"/>
                </a:cubicBezTo>
              </a:path>
              <a:path w="4713" h="1241">
                <a:moveTo>
                  <a:pt x="4787" y="12080"/>
                </a:moveTo>
                <a:cubicBezTo>
                  <a:pt x="4746" y="12096"/>
                  <a:pt x="4663" y="12092"/>
                  <a:pt x="4638" y="12129"/>
                </a:cubicBezTo>
                <a:cubicBezTo>
                  <a:pt x="4598" y="12187"/>
                  <a:pt x="4552" y="12284"/>
                  <a:pt x="4539" y="12353"/>
                </a:cubicBezTo>
                <a:cubicBezTo>
                  <a:pt x="4529" y="12407"/>
                  <a:pt x="4499" y="12529"/>
                  <a:pt x="4539" y="12576"/>
                </a:cubicBezTo>
                <a:cubicBezTo>
                  <a:pt x="4552" y="12591"/>
                  <a:pt x="4666" y="12656"/>
                  <a:pt x="4688" y="12650"/>
                </a:cubicBezTo>
                <a:cubicBezTo>
                  <a:pt x="4769" y="12629"/>
                  <a:pt x="4858" y="12567"/>
                  <a:pt x="4911" y="12502"/>
                </a:cubicBezTo>
                <a:cubicBezTo>
                  <a:pt x="4948" y="12457"/>
                  <a:pt x="5044" y="12356"/>
                  <a:pt x="5011" y="12278"/>
                </a:cubicBezTo>
                <a:cubicBezTo>
                  <a:pt x="5000" y="12253"/>
                  <a:pt x="4933" y="12232"/>
                  <a:pt x="4911" y="12229"/>
                </a:cubicBezTo>
                <a:cubicBezTo>
                  <a:pt x="4887" y="12226"/>
                  <a:pt x="4861" y="12229"/>
                  <a:pt x="4837" y="12229"/>
                </a:cubicBezTo>
              </a:path>
              <a:path w="4713" h="1241">
                <a:moveTo>
                  <a:pt x="5432" y="11956"/>
                </a:moveTo>
                <a:cubicBezTo>
                  <a:pt x="5432" y="12071"/>
                  <a:pt x="5432" y="12170"/>
                  <a:pt x="5407" y="12278"/>
                </a:cubicBezTo>
                <a:cubicBezTo>
                  <a:pt x="5394" y="12336"/>
                  <a:pt x="5427" y="12321"/>
                  <a:pt x="5432" y="12303"/>
                </a:cubicBezTo>
                <a:cubicBezTo>
                  <a:pt x="5432" y="12287"/>
                  <a:pt x="5432" y="12270"/>
                  <a:pt x="5432" y="12254"/>
                </a:cubicBezTo>
              </a:path>
              <a:path w="4713" h="1241">
                <a:moveTo>
                  <a:pt x="5407" y="12030"/>
                </a:moveTo>
                <a:cubicBezTo>
                  <a:pt x="5268" y="12004"/>
                  <a:pt x="5276" y="12010"/>
                  <a:pt x="5159" y="12030"/>
                </a:cubicBezTo>
                <a:cubicBezTo>
                  <a:pt x="5095" y="12041"/>
                  <a:pt x="5052" y="12037"/>
                  <a:pt x="5035" y="12105"/>
                </a:cubicBezTo>
                <a:cubicBezTo>
                  <a:pt x="5092" y="12146"/>
                  <a:pt x="5139" y="12138"/>
                  <a:pt x="5209" y="12154"/>
                </a:cubicBezTo>
                <a:cubicBezTo>
                  <a:pt x="5311" y="12178"/>
                  <a:pt x="5418" y="12224"/>
                  <a:pt x="5507" y="12278"/>
                </a:cubicBezTo>
                <a:cubicBezTo>
                  <a:pt x="5603" y="12336"/>
                  <a:pt x="5671" y="12415"/>
                  <a:pt x="5680" y="12526"/>
                </a:cubicBezTo>
                <a:cubicBezTo>
                  <a:pt x="5682" y="12551"/>
                  <a:pt x="5634" y="12620"/>
                  <a:pt x="5606" y="12626"/>
                </a:cubicBezTo>
                <a:cubicBezTo>
                  <a:pt x="5524" y="12643"/>
                  <a:pt x="5444" y="12650"/>
                  <a:pt x="5358" y="12650"/>
                </a:cubicBezTo>
                <a:cubicBezTo>
                  <a:pt x="5275" y="12650"/>
                  <a:pt x="5193" y="12650"/>
                  <a:pt x="5110" y="12650"/>
                </a:cubicBezTo>
              </a:path>
              <a:path w="4713" h="1241">
                <a:moveTo>
                  <a:pt x="5904" y="12254"/>
                </a:moveTo>
                <a:cubicBezTo>
                  <a:pt x="5956" y="12267"/>
                  <a:pt x="5990" y="12278"/>
                  <a:pt x="6052" y="12278"/>
                </a:cubicBezTo>
                <a:cubicBezTo>
                  <a:pt x="6094" y="12278"/>
                  <a:pt x="6102" y="12278"/>
                  <a:pt x="6127" y="12278"/>
                </a:cubicBezTo>
              </a:path>
              <a:path w="4713" h="1241">
                <a:moveTo>
                  <a:pt x="5879" y="12502"/>
                </a:moveTo>
                <a:cubicBezTo>
                  <a:pt x="5943" y="12478"/>
                  <a:pt x="5984" y="12477"/>
                  <a:pt x="6052" y="12477"/>
                </a:cubicBezTo>
                <a:cubicBezTo>
                  <a:pt x="6077" y="12477"/>
                  <a:pt x="6102" y="12477"/>
                  <a:pt x="6127" y="12477"/>
                </a:cubicBezTo>
              </a:path>
              <a:path w="4713" h="1241">
                <a:moveTo>
                  <a:pt x="6524" y="12154"/>
                </a:moveTo>
                <a:cubicBezTo>
                  <a:pt x="6681" y="12154"/>
                  <a:pt x="7102" y="12154"/>
                  <a:pt x="6945" y="12154"/>
                </a:cubicBezTo>
              </a:path>
              <a:path w="4713" h="1241">
                <a:moveTo>
                  <a:pt x="7293" y="11857"/>
                </a:moveTo>
                <a:cubicBezTo>
                  <a:pt x="7293" y="11920"/>
                  <a:pt x="7271" y="11965"/>
                  <a:pt x="7268" y="12030"/>
                </a:cubicBezTo>
                <a:cubicBezTo>
                  <a:pt x="7263" y="12140"/>
                  <a:pt x="7284" y="12258"/>
                  <a:pt x="7243" y="12353"/>
                </a:cubicBezTo>
                <a:cubicBezTo>
                  <a:pt x="7270" y="12388"/>
                  <a:pt x="7268" y="12383"/>
                  <a:pt x="7268" y="12427"/>
                </a:cubicBezTo>
              </a:path>
              <a:path w="4713" h="1241">
                <a:moveTo>
                  <a:pt x="7640" y="11857"/>
                </a:moveTo>
                <a:cubicBezTo>
                  <a:pt x="7640" y="11940"/>
                  <a:pt x="7640" y="12022"/>
                  <a:pt x="7640" y="12105"/>
                </a:cubicBezTo>
              </a:path>
              <a:path w="4713" h="1241">
                <a:moveTo>
                  <a:pt x="7615" y="12080"/>
                </a:moveTo>
                <a:cubicBezTo>
                  <a:pt x="7615" y="11981"/>
                  <a:pt x="7631" y="11947"/>
                  <a:pt x="7565" y="11881"/>
                </a:cubicBezTo>
                <a:cubicBezTo>
                  <a:pt x="7538" y="11854"/>
                  <a:pt x="7522" y="11855"/>
                  <a:pt x="7491" y="11832"/>
                </a:cubicBezTo>
                <a:cubicBezTo>
                  <a:pt x="7582" y="11866"/>
                  <a:pt x="7624" y="11846"/>
                  <a:pt x="7714" y="11832"/>
                </a:cubicBezTo>
                <a:cubicBezTo>
                  <a:pt x="7794" y="11819"/>
                  <a:pt x="7882" y="11813"/>
                  <a:pt x="7962" y="11807"/>
                </a:cubicBezTo>
                <a:cubicBezTo>
                  <a:pt x="8011" y="11803"/>
                  <a:pt x="8062" y="11807"/>
                  <a:pt x="8111" y="11807"/>
                </a:cubicBezTo>
                <a:cubicBezTo>
                  <a:pt x="8111" y="11865"/>
                  <a:pt x="8091" y="11860"/>
                  <a:pt x="8062" y="11906"/>
                </a:cubicBezTo>
                <a:cubicBezTo>
                  <a:pt x="8012" y="11984"/>
                  <a:pt x="7978" y="12012"/>
                  <a:pt x="7938" y="12105"/>
                </a:cubicBezTo>
                <a:cubicBezTo>
                  <a:pt x="7897" y="12200"/>
                  <a:pt x="7855" y="12299"/>
                  <a:pt x="7838" y="12402"/>
                </a:cubicBezTo>
                <a:cubicBezTo>
                  <a:pt x="7829" y="12459"/>
                  <a:pt x="7813" y="12490"/>
                  <a:pt x="7813" y="12551"/>
                </a:cubicBezTo>
              </a:path>
              <a:path w="4713" h="1241">
                <a:moveTo>
                  <a:pt x="6896" y="12601"/>
                </a:moveTo>
                <a:cubicBezTo>
                  <a:pt x="6871" y="12601"/>
                  <a:pt x="6863" y="12601"/>
                  <a:pt x="6871" y="12576"/>
                </a:cubicBezTo>
                <a:cubicBezTo>
                  <a:pt x="6875" y="12622"/>
                  <a:pt x="6874" y="12688"/>
                  <a:pt x="6896" y="12725"/>
                </a:cubicBezTo>
                <a:cubicBezTo>
                  <a:pt x="6918" y="12763"/>
                  <a:pt x="6953" y="12781"/>
                  <a:pt x="6995" y="12774"/>
                </a:cubicBezTo>
                <a:cubicBezTo>
                  <a:pt x="7042" y="12767"/>
                  <a:pt x="7080" y="12725"/>
                  <a:pt x="7094" y="12675"/>
                </a:cubicBezTo>
                <a:cubicBezTo>
                  <a:pt x="7115" y="12598"/>
                  <a:pt x="7153" y="12534"/>
                  <a:pt x="7169" y="12452"/>
                </a:cubicBezTo>
                <a:cubicBezTo>
                  <a:pt x="7183" y="12382"/>
                  <a:pt x="7154" y="12320"/>
                  <a:pt x="7144" y="12254"/>
                </a:cubicBezTo>
                <a:cubicBezTo>
                  <a:pt x="7135" y="12190"/>
                  <a:pt x="7122" y="12139"/>
                  <a:pt x="7094" y="12080"/>
                </a:cubicBezTo>
                <a:cubicBezTo>
                  <a:pt x="7075" y="12041"/>
                  <a:pt x="7062" y="11997"/>
                  <a:pt x="7045" y="11956"/>
                </a:cubicBezTo>
                <a:cubicBezTo>
                  <a:pt x="7032" y="11924"/>
                  <a:pt x="7010" y="11887"/>
                  <a:pt x="6995" y="11857"/>
                </a:cubicBezTo>
                <a:cubicBezTo>
                  <a:pt x="6981" y="11829"/>
                  <a:pt x="6961" y="11780"/>
                  <a:pt x="6945" y="11757"/>
                </a:cubicBezTo>
                <a:cubicBezTo>
                  <a:pt x="6931" y="11737"/>
                  <a:pt x="6912" y="11722"/>
                  <a:pt x="6921" y="11683"/>
                </a:cubicBezTo>
                <a:cubicBezTo>
                  <a:pt x="6927" y="11655"/>
                  <a:pt x="6941" y="11600"/>
                  <a:pt x="6970" y="11584"/>
                </a:cubicBezTo>
                <a:cubicBezTo>
                  <a:pt x="7008" y="11563"/>
                  <a:pt x="7051" y="11565"/>
                  <a:pt x="7094" y="11559"/>
                </a:cubicBezTo>
                <a:cubicBezTo>
                  <a:pt x="7161" y="11550"/>
                  <a:pt x="7226" y="11538"/>
                  <a:pt x="7293" y="11534"/>
                </a:cubicBezTo>
                <a:cubicBezTo>
                  <a:pt x="7635" y="11516"/>
                  <a:pt x="8002" y="11517"/>
                  <a:pt x="8334" y="11559"/>
                </a:cubicBezTo>
                <a:cubicBezTo>
                  <a:pt x="8385" y="11565"/>
                  <a:pt x="8415" y="11568"/>
                  <a:pt x="8458" y="115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Ink 11"/>
          <p:cNvSpPr/>
          <p:nvPr/>
        </p:nvSpPr>
        <p:spPr>
          <a:xfrm>
            <a:off x="4071960" y="4205160"/>
            <a:ext cx="1992240" cy="403200"/>
          </a:xfrm>
          <a:custGeom>
            <a:avLst/>
            <a:gdLst/>
            <a:ahLst/>
            <a:rect l="l" t="t" r="r" b="b"/>
            <a:pathLst>
              <a:path w="5532" h="1117">
                <a:moveTo>
                  <a:pt x="11956" y="12030"/>
                </a:moveTo>
                <a:cubicBezTo>
                  <a:pt x="11942" y="12251"/>
                  <a:pt x="11957" y="12111"/>
                  <a:pt x="11931" y="12179"/>
                </a:cubicBezTo>
                <a:cubicBezTo>
                  <a:pt x="11937" y="12140"/>
                  <a:pt x="11968" y="12092"/>
                  <a:pt x="11956" y="12055"/>
                </a:cubicBezTo>
                <a:cubicBezTo>
                  <a:pt x="11940" y="12006"/>
                  <a:pt x="11920" y="11950"/>
                  <a:pt x="11881" y="11906"/>
                </a:cubicBezTo>
                <a:cubicBezTo>
                  <a:pt x="11850" y="11871"/>
                  <a:pt x="11824" y="11842"/>
                  <a:pt x="11782" y="11832"/>
                </a:cubicBezTo>
                <a:cubicBezTo>
                  <a:pt x="11724" y="11818"/>
                  <a:pt x="11636" y="11840"/>
                  <a:pt x="11584" y="11857"/>
                </a:cubicBezTo>
                <a:cubicBezTo>
                  <a:pt x="11486" y="11889"/>
                  <a:pt x="11409" y="11962"/>
                  <a:pt x="11336" y="12030"/>
                </a:cubicBezTo>
                <a:cubicBezTo>
                  <a:pt x="11313" y="12053"/>
                  <a:pt x="11305" y="12057"/>
                  <a:pt x="11311" y="12080"/>
                </a:cubicBezTo>
                <a:cubicBezTo>
                  <a:pt x="11392" y="12080"/>
                  <a:pt x="11456" y="12066"/>
                  <a:pt x="11534" y="12055"/>
                </a:cubicBezTo>
                <a:cubicBezTo>
                  <a:pt x="11624" y="12042"/>
                  <a:pt x="11697" y="12068"/>
                  <a:pt x="11782" y="12080"/>
                </a:cubicBezTo>
                <a:cubicBezTo>
                  <a:pt x="11869" y="12092"/>
                  <a:pt x="11916" y="12116"/>
                  <a:pt x="11981" y="12179"/>
                </a:cubicBezTo>
                <a:cubicBezTo>
                  <a:pt x="12065" y="12259"/>
                  <a:pt x="12147" y="12334"/>
                  <a:pt x="12154" y="12452"/>
                </a:cubicBezTo>
                <a:cubicBezTo>
                  <a:pt x="12158" y="12524"/>
                  <a:pt x="12156" y="12572"/>
                  <a:pt x="12105" y="12626"/>
                </a:cubicBezTo>
                <a:cubicBezTo>
                  <a:pt x="12050" y="12684"/>
                  <a:pt x="12022" y="12695"/>
                  <a:pt x="11956" y="12725"/>
                </a:cubicBezTo>
                <a:cubicBezTo>
                  <a:pt x="11882" y="12758"/>
                  <a:pt x="11813" y="12750"/>
                  <a:pt x="11733" y="12750"/>
                </a:cubicBezTo>
                <a:cubicBezTo>
                  <a:pt x="11626" y="12750"/>
                  <a:pt x="11527" y="12750"/>
                  <a:pt x="11435" y="12725"/>
                </a:cubicBezTo>
                <a:cubicBezTo>
                  <a:pt x="11427" y="12725"/>
                  <a:pt x="11418" y="12725"/>
                  <a:pt x="11410" y="12725"/>
                </a:cubicBezTo>
              </a:path>
              <a:path w="5532" h="1117">
                <a:moveTo>
                  <a:pt x="12378" y="12303"/>
                </a:moveTo>
                <a:cubicBezTo>
                  <a:pt x="12459" y="12325"/>
                  <a:pt x="12518" y="12328"/>
                  <a:pt x="12601" y="12328"/>
                </a:cubicBezTo>
                <a:cubicBezTo>
                  <a:pt x="12665" y="12328"/>
                  <a:pt x="12709" y="12353"/>
                  <a:pt x="12774" y="12353"/>
                </a:cubicBezTo>
                <a:cubicBezTo>
                  <a:pt x="12799" y="12353"/>
                  <a:pt x="12807" y="12353"/>
                  <a:pt x="12824" y="12353"/>
                </a:cubicBezTo>
                <a:cubicBezTo>
                  <a:pt x="12786" y="12340"/>
                  <a:pt x="12799" y="12323"/>
                  <a:pt x="12799" y="12278"/>
                </a:cubicBezTo>
                <a:cubicBezTo>
                  <a:pt x="12799" y="12242"/>
                  <a:pt x="12791" y="12206"/>
                  <a:pt x="12774" y="12179"/>
                </a:cubicBezTo>
                <a:cubicBezTo>
                  <a:pt x="12750" y="12142"/>
                  <a:pt x="12688" y="12095"/>
                  <a:pt x="12650" y="12080"/>
                </a:cubicBezTo>
                <a:cubicBezTo>
                  <a:pt x="12581" y="12052"/>
                  <a:pt x="12500" y="12058"/>
                  <a:pt x="12427" y="12080"/>
                </a:cubicBezTo>
                <a:cubicBezTo>
                  <a:pt x="12363" y="12099"/>
                  <a:pt x="12293" y="12149"/>
                  <a:pt x="12254" y="12204"/>
                </a:cubicBezTo>
                <a:cubicBezTo>
                  <a:pt x="12215" y="12259"/>
                  <a:pt x="12165" y="12359"/>
                  <a:pt x="12179" y="12427"/>
                </a:cubicBezTo>
                <a:cubicBezTo>
                  <a:pt x="12195" y="12504"/>
                  <a:pt x="12209" y="12560"/>
                  <a:pt x="12278" y="12601"/>
                </a:cubicBezTo>
                <a:cubicBezTo>
                  <a:pt x="12380" y="12662"/>
                  <a:pt x="12457" y="12671"/>
                  <a:pt x="12576" y="12675"/>
                </a:cubicBezTo>
                <a:cubicBezTo>
                  <a:pt x="12645" y="12677"/>
                  <a:pt x="12722" y="12691"/>
                  <a:pt x="12774" y="12650"/>
                </a:cubicBezTo>
                <a:cubicBezTo>
                  <a:pt x="12805" y="12625"/>
                  <a:pt x="12817" y="12625"/>
                  <a:pt x="12849" y="12601"/>
                </a:cubicBezTo>
              </a:path>
              <a:path w="5532" h="1117">
                <a:moveTo>
                  <a:pt x="13295" y="12080"/>
                </a:moveTo>
                <a:cubicBezTo>
                  <a:pt x="13295" y="12133"/>
                  <a:pt x="13317" y="12160"/>
                  <a:pt x="13320" y="12204"/>
                </a:cubicBezTo>
                <a:cubicBezTo>
                  <a:pt x="13324" y="12256"/>
                  <a:pt x="13334" y="12260"/>
                  <a:pt x="13345" y="12303"/>
                </a:cubicBezTo>
                <a:cubicBezTo>
                  <a:pt x="13368" y="12273"/>
                  <a:pt x="13392" y="12242"/>
                  <a:pt x="13395" y="12204"/>
                </a:cubicBezTo>
                <a:cubicBezTo>
                  <a:pt x="13399" y="12149"/>
                  <a:pt x="13404" y="12097"/>
                  <a:pt x="13370" y="12055"/>
                </a:cubicBezTo>
                <a:cubicBezTo>
                  <a:pt x="13337" y="12014"/>
                  <a:pt x="13299" y="11984"/>
                  <a:pt x="13246" y="11981"/>
                </a:cubicBezTo>
                <a:cubicBezTo>
                  <a:pt x="13197" y="11978"/>
                  <a:pt x="13133" y="12001"/>
                  <a:pt x="13097" y="12030"/>
                </a:cubicBezTo>
                <a:cubicBezTo>
                  <a:pt x="13039" y="12076"/>
                  <a:pt x="13038" y="12114"/>
                  <a:pt x="13022" y="12179"/>
                </a:cubicBezTo>
                <a:cubicBezTo>
                  <a:pt x="12995" y="12284"/>
                  <a:pt x="12972" y="12452"/>
                  <a:pt x="13022" y="12551"/>
                </a:cubicBezTo>
                <a:cubicBezTo>
                  <a:pt x="13050" y="12607"/>
                  <a:pt x="13143" y="12623"/>
                  <a:pt x="13196" y="12626"/>
                </a:cubicBezTo>
                <a:cubicBezTo>
                  <a:pt x="13278" y="12631"/>
                  <a:pt x="13358" y="12582"/>
                  <a:pt x="13444" y="12576"/>
                </a:cubicBezTo>
                <a:cubicBezTo>
                  <a:pt x="13449" y="12576"/>
                  <a:pt x="13542" y="12552"/>
                  <a:pt x="13543" y="12551"/>
                </a:cubicBezTo>
                <a:cubicBezTo>
                  <a:pt x="13543" y="12543"/>
                  <a:pt x="13543" y="12534"/>
                  <a:pt x="13543" y="12526"/>
                </a:cubicBezTo>
              </a:path>
              <a:path w="5532" h="1117">
                <a:moveTo>
                  <a:pt x="13915" y="12080"/>
                </a:moveTo>
                <a:cubicBezTo>
                  <a:pt x="13965" y="12110"/>
                  <a:pt x="14002" y="12105"/>
                  <a:pt x="14064" y="12105"/>
                </a:cubicBezTo>
                <a:cubicBezTo>
                  <a:pt x="14130" y="12105"/>
                  <a:pt x="14177" y="12086"/>
                  <a:pt x="14238" y="12080"/>
                </a:cubicBezTo>
                <a:cubicBezTo>
                  <a:pt x="14270" y="12077"/>
                  <a:pt x="14305" y="12080"/>
                  <a:pt x="14337" y="12080"/>
                </a:cubicBezTo>
              </a:path>
              <a:path w="5532" h="1117">
                <a:moveTo>
                  <a:pt x="13965" y="12378"/>
                </a:moveTo>
                <a:cubicBezTo>
                  <a:pt x="14073" y="12378"/>
                  <a:pt x="14180" y="12378"/>
                  <a:pt x="14288" y="12378"/>
                </a:cubicBezTo>
              </a:path>
              <a:path w="5532" h="1117">
                <a:moveTo>
                  <a:pt x="14660" y="12154"/>
                </a:moveTo>
                <a:cubicBezTo>
                  <a:pt x="14800" y="12154"/>
                  <a:pt x="14941" y="12154"/>
                  <a:pt x="15081" y="12154"/>
                </a:cubicBezTo>
              </a:path>
              <a:path w="5532" h="1117">
                <a:moveTo>
                  <a:pt x="15131" y="12427"/>
                </a:moveTo>
                <a:cubicBezTo>
                  <a:pt x="15146" y="12454"/>
                  <a:pt x="15158" y="12493"/>
                  <a:pt x="15180" y="12551"/>
                </a:cubicBezTo>
                <a:cubicBezTo>
                  <a:pt x="15190" y="12578"/>
                  <a:pt x="15217" y="12639"/>
                  <a:pt x="15255" y="12650"/>
                </a:cubicBezTo>
                <a:cubicBezTo>
                  <a:pt x="15301" y="12663"/>
                  <a:pt x="15370" y="12653"/>
                  <a:pt x="15404" y="12626"/>
                </a:cubicBezTo>
                <a:cubicBezTo>
                  <a:pt x="15461" y="12581"/>
                  <a:pt x="15512" y="12540"/>
                  <a:pt x="15553" y="12477"/>
                </a:cubicBezTo>
                <a:cubicBezTo>
                  <a:pt x="15608" y="12393"/>
                  <a:pt x="15648" y="12328"/>
                  <a:pt x="15652" y="12229"/>
                </a:cubicBezTo>
                <a:cubicBezTo>
                  <a:pt x="15656" y="12122"/>
                  <a:pt x="15642" y="12048"/>
                  <a:pt x="15577" y="11956"/>
                </a:cubicBezTo>
                <a:cubicBezTo>
                  <a:pt x="15532" y="11892"/>
                  <a:pt x="15484" y="11858"/>
                  <a:pt x="15429" y="11807"/>
                </a:cubicBezTo>
                <a:cubicBezTo>
                  <a:pt x="15391" y="11772"/>
                  <a:pt x="15349" y="11747"/>
                  <a:pt x="15304" y="11733"/>
                </a:cubicBezTo>
                <a:cubicBezTo>
                  <a:pt x="15296" y="11733"/>
                  <a:pt x="15288" y="11733"/>
                  <a:pt x="15280" y="11733"/>
                </a:cubicBezTo>
                <a:cubicBezTo>
                  <a:pt x="15361" y="11733"/>
                  <a:pt x="15424" y="11716"/>
                  <a:pt x="15503" y="11708"/>
                </a:cubicBezTo>
                <a:cubicBezTo>
                  <a:pt x="15681" y="11690"/>
                  <a:pt x="15846" y="11683"/>
                  <a:pt x="16024" y="11683"/>
                </a:cubicBezTo>
                <a:cubicBezTo>
                  <a:pt x="16135" y="11683"/>
                  <a:pt x="16303" y="11652"/>
                  <a:pt x="16396" y="11708"/>
                </a:cubicBezTo>
              </a:path>
              <a:path w="5532" h="1117">
                <a:moveTo>
                  <a:pt x="15850" y="12030"/>
                </a:moveTo>
                <a:cubicBezTo>
                  <a:pt x="15861" y="12073"/>
                  <a:pt x="15892" y="12107"/>
                  <a:pt x="15900" y="12154"/>
                </a:cubicBezTo>
                <a:cubicBezTo>
                  <a:pt x="15928" y="12309"/>
                  <a:pt x="15898" y="12498"/>
                  <a:pt x="15875" y="12650"/>
                </a:cubicBezTo>
                <a:cubicBezTo>
                  <a:pt x="15875" y="12683"/>
                  <a:pt x="15875" y="12700"/>
                  <a:pt x="15875" y="12725"/>
                </a:cubicBezTo>
              </a:path>
              <a:path w="5532" h="1117">
                <a:moveTo>
                  <a:pt x="16222" y="12129"/>
                </a:moveTo>
                <a:cubicBezTo>
                  <a:pt x="16273" y="12146"/>
                  <a:pt x="16231" y="12175"/>
                  <a:pt x="16247" y="12229"/>
                </a:cubicBezTo>
                <a:cubicBezTo>
                  <a:pt x="16251" y="12244"/>
                  <a:pt x="16293" y="12378"/>
                  <a:pt x="16247" y="12378"/>
                </a:cubicBezTo>
                <a:cubicBezTo>
                  <a:pt x="16225" y="12378"/>
                  <a:pt x="16294" y="12214"/>
                  <a:pt x="16297" y="12204"/>
                </a:cubicBezTo>
                <a:cubicBezTo>
                  <a:pt x="16305" y="12176"/>
                  <a:pt x="16265" y="12125"/>
                  <a:pt x="16247" y="12105"/>
                </a:cubicBezTo>
                <a:cubicBezTo>
                  <a:pt x="16218" y="12073"/>
                  <a:pt x="16117" y="12060"/>
                  <a:pt x="16148" y="12030"/>
                </a:cubicBezTo>
                <a:cubicBezTo>
                  <a:pt x="16172" y="12007"/>
                  <a:pt x="16436" y="12009"/>
                  <a:pt x="16470" y="12005"/>
                </a:cubicBezTo>
                <a:cubicBezTo>
                  <a:pt x="16533" y="11997"/>
                  <a:pt x="16582" y="11988"/>
                  <a:pt x="16644" y="11981"/>
                </a:cubicBezTo>
              </a:path>
              <a:path w="5532" h="1117">
                <a:moveTo>
                  <a:pt x="16842" y="11981"/>
                </a:moveTo>
                <a:cubicBezTo>
                  <a:pt x="16832" y="12034"/>
                  <a:pt x="16801" y="12085"/>
                  <a:pt x="16768" y="12129"/>
                </a:cubicBezTo>
                <a:cubicBezTo>
                  <a:pt x="16707" y="12210"/>
                  <a:pt x="16685" y="12333"/>
                  <a:pt x="16644" y="12427"/>
                </a:cubicBezTo>
                <a:cubicBezTo>
                  <a:pt x="16619" y="12485"/>
                  <a:pt x="16592" y="12546"/>
                  <a:pt x="16570" y="12601"/>
                </a:cubicBezTo>
                <a:cubicBezTo>
                  <a:pt x="16550" y="12652"/>
                  <a:pt x="16541" y="12733"/>
                  <a:pt x="16520" y="12774"/>
                </a:cubicBezTo>
                <a:cubicBezTo>
                  <a:pt x="16512" y="12782"/>
                  <a:pt x="16503" y="12791"/>
                  <a:pt x="16495" y="127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Ink 12"/>
          <p:cNvSpPr/>
          <p:nvPr/>
        </p:nvSpPr>
        <p:spPr>
          <a:xfrm>
            <a:off x="2401920" y="4670280"/>
            <a:ext cx="590400" cy="339840"/>
          </a:xfrm>
          <a:custGeom>
            <a:avLst/>
            <a:gdLst/>
            <a:ahLst/>
            <a:rect l="l" t="t" r="r" b="b"/>
            <a:pathLst>
              <a:path w="1639" h="943">
                <a:moveTo>
                  <a:pt x="6672" y="12998"/>
                </a:moveTo>
                <a:cubicBezTo>
                  <a:pt x="6792" y="12998"/>
                  <a:pt x="6903" y="12983"/>
                  <a:pt x="7020" y="12973"/>
                </a:cubicBezTo>
                <a:cubicBezTo>
                  <a:pt x="7163" y="12961"/>
                  <a:pt x="7299" y="12994"/>
                  <a:pt x="7441" y="12998"/>
                </a:cubicBezTo>
                <a:cubicBezTo>
                  <a:pt x="7666" y="13004"/>
                  <a:pt x="7891" y="13005"/>
                  <a:pt x="8111" y="13022"/>
                </a:cubicBezTo>
                <a:cubicBezTo>
                  <a:pt x="8175" y="13027"/>
                  <a:pt x="8245" y="13022"/>
                  <a:pt x="8310" y="13022"/>
                </a:cubicBezTo>
              </a:path>
              <a:path w="1639" h="943">
                <a:moveTo>
                  <a:pt x="7193" y="13246"/>
                </a:moveTo>
                <a:cubicBezTo>
                  <a:pt x="7193" y="13290"/>
                  <a:pt x="7213" y="13312"/>
                  <a:pt x="7218" y="13345"/>
                </a:cubicBezTo>
                <a:cubicBezTo>
                  <a:pt x="7232" y="13431"/>
                  <a:pt x="7201" y="13512"/>
                  <a:pt x="7193" y="13593"/>
                </a:cubicBezTo>
                <a:cubicBezTo>
                  <a:pt x="7183" y="13697"/>
                  <a:pt x="7194" y="13795"/>
                  <a:pt x="7218" y="13891"/>
                </a:cubicBezTo>
                <a:cubicBezTo>
                  <a:pt x="7218" y="13899"/>
                  <a:pt x="7218" y="13907"/>
                  <a:pt x="7218" y="13915"/>
                </a:cubicBezTo>
              </a:path>
              <a:path w="1639" h="943">
                <a:moveTo>
                  <a:pt x="7541" y="13295"/>
                </a:moveTo>
                <a:cubicBezTo>
                  <a:pt x="7541" y="13373"/>
                  <a:pt x="7554" y="13456"/>
                  <a:pt x="7516" y="13519"/>
                </a:cubicBezTo>
                <a:cubicBezTo>
                  <a:pt x="7529" y="13469"/>
                  <a:pt x="7541" y="13455"/>
                  <a:pt x="7541" y="13395"/>
                </a:cubicBezTo>
                <a:cubicBezTo>
                  <a:pt x="7541" y="13343"/>
                  <a:pt x="7546" y="13342"/>
                  <a:pt x="7516" y="13320"/>
                </a:cubicBezTo>
                <a:cubicBezTo>
                  <a:pt x="7483" y="13295"/>
                  <a:pt x="7456" y="13281"/>
                  <a:pt x="7417" y="13271"/>
                </a:cubicBezTo>
                <a:cubicBezTo>
                  <a:pt x="7430" y="13310"/>
                  <a:pt x="7467" y="13295"/>
                  <a:pt x="7516" y="13295"/>
                </a:cubicBezTo>
                <a:cubicBezTo>
                  <a:pt x="7598" y="13295"/>
                  <a:pt x="7660" y="13282"/>
                  <a:pt x="7739" y="13271"/>
                </a:cubicBezTo>
                <a:cubicBezTo>
                  <a:pt x="7807" y="13262"/>
                  <a:pt x="7871" y="13251"/>
                  <a:pt x="7938" y="13246"/>
                </a:cubicBezTo>
                <a:cubicBezTo>
                  <a:pt x="7975" y="13243"/>
                  <a:pt x="8042" y="13232"/>
                  <a:pt x="8062" y="13271"/>
                </a:cubicBezTo>
                <a:cubicBezTo>
                  <a:pt x="8077" y="13300"/>
                  <a:pt x="8046" y="13348"/>
                  <a:pt x="8037" y="13370"/>
                </a:cubicBezTo>
                <a:cubicBezTo>
                  <a:pt x="7998" y="13460"/>
                  <a:pt x="7932" y="13545"/>
                  <a:pt x="7913" y="13643"/>
                </a:cubicBezTo>
                <a:cubicBezTo>
                  <a:pt x="7904" y="13692"/>
                  <a:pt x="7888" y="13717"/>
                  <a:pt x="7888" y="13767"/>
                </a:cubicBezTo>
                <a:cubicBezTo>
                  <a:pt x="7888" y="13792"/>
                  <a:pt x="7888" y="13816"/>
                  <a:pt x="7888" y="138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Ink 13"/>
          <p:cNvSpPr/>
          <p:nvPr/>
        </p:nvSpPr>
        <p:spPr>
          <a:xfrm>
            <a:off x="4125960" y="4911840"/>
            <a:ext cx="1357200" cy="571320"/>
          </a:xfrm>
          <a:custGeom>
            <a:avLst/>
            <a:gdLst/>
            <a:ahLst/>
            <a:rect l="l" t="t" r="r" b="b"/>
            <a:pathLst>
              <a:path w="3771" h="1588">
                <a:moveTo>
                  <a:pt x="11981" y="13891"/>
                </a:moveTo>
                <a:cubicBezTo>
                  <a:pt x="11981" y="13883"/>
                  <a:pt x="11981" y="13874"/>
                  <a:pt x="11981" y="13866"/>
                </a:cubicBezTo>
                <a:cubicBezTo>
                  <a:pt x="12017" y="13879"/>
                  <a:pt x="12005" y="13896"/>
                  <a:pt x="12005" y="13940"/>
                </a:cubicBezTo>
                <a:cubicBezTo>
                  <a:pt x="12005" y="14048"/>
                  <a:pt x="12005" y="14155"/>
                  <a:pt x="12005" y="14263"/>
                </a:cubicBezTo>
                <a:cubicBezTo>
                  <a:pt x="12016" y="14231"/>
                  <a:pt x="12012" y="14186"/>
                  <a:pt x="12030" y="14139"/>
                </a:cubicBezTo>
                <a:cubicBezTo>
                  <a:pt x="12051" y="14085"/>
                  <a:pt x="12058" y="14026"/>
                  <a:pt x="12030" y="13965"/>
                </a:cubicBezTo>
                <a:cubicBezTo>
                  <a:pt x="12007" y="13915"/>
                  <a:pt x="11926" y="13865"/>
                  <a:pt x="11881" y="13841"/>
                </a:cubicBezTo>
                <a:cubicBezTo>
                  <a:pt x="11824" y="13810"/>
                  <a:pt x="11766" y="13799"/>
                  <a:pt x="11708" y="13841"/>
                </a:cubicBezTo>
                <a:cubicBezTo>
                  <a:pt x="11628" y="13899"/>
                  <a:pt x="11570" y="13969"/>
                  <a:pt x="11534" y="14064"/>
                </a:cubicBezTo>
                <a:cubicBezTo>
                  <a:pt x="11482" y="14201"/>
                  <a:pt x="11460" y="14287"/>
                  <a:pt x="11460" y="14436"/>
                </a:cubicBezTo>
                <a:cubicBezTo>
                  <a:pt x="11460" y="14562"/>
                  <a:pt x="11523" y="14597"/>
                  <a:pt x="11609" y="14684"/>
                </a:cubicBezTo>
                <a:cubicBezTo>
                  <a:pt x="11664" y="14739"/>
                  <a:pt x="11728" y="14755"/>
                  <a:pt x="11807" y="14759"/>
                </a:cubicBezTo>
                <a:cubicBezTo>
                  <a:pt x="11883" y="14763"/>
                  <a:pt x="11922" y="14719"/>
                  <a:pt x="11981" y="14684"/>
                </a:cubicBezTo>
                <a:cubicBezTo>
                  <a:pt x="12037" y="14651"/>
                  <a:pt x="12057" y="14633"/>
                  <a:pt x="12105" y="14585"/>
                </a:cubicBezTo>
              </a:path>
              <a:path w="3771" h="1588">
                <a:moveTo>
                  <a:pt x="12353" y="14089"/>
                </a:moveTo>
                <a:cubicBezTo>
                  <a:pt x="12291" y="14099"/>
                  <a:pt x="12289" y="14100"/>
                  <a:pt x="12254" y="14163"/>
                </a:cubicBezTo>
                <a:cubicBezTo>
                  <a:pt x="12217" y="14230"/>
                  <a:pt x="12169" y="14311"/>
                  <a:pt x="12154" y="14387"/>
                </a:cubicBezTo>
                <a:cubicBezTo>
                  <a:pt x="12140" y="14458"/>
                  <a:pt x="12137" y="14563"/>
                  <a:pt x="12204" y="14610"/>
                </a:cubicBezTo>
                <a:cubicBezTo>
                  <a:pt x="12235" y="14632"/>
                  <a:pt x="12316" y="14654"/>
                  <a:pt x="12353" y="14635"/>
                </a:cubicBezTo>
                <a:cubicBezTo>
                  <a:pt x="12411" y="14606"/>
                  <a:pt x="12467" y="14540"/>
                  <a:pt x="12502" y="14486"/>
                </a:cubicBezTo>
                <a:cubicBezTo>
                  <a:pt x="12528" y="14447"/>
                  <a:pt x="12576" y="14361"/>
                  <a:pt x="12551" y="14312"/>
                </a:cubicBezTo>
                <a:cubicBezTo>
                  <a:pt x="12532" y="14275"/>
                  <a:pt x="12509" y="14245"/>
                  <a:pt x="12477" y="14213"/>
                </a:cubicBezTo>
                <a:cubicBezTo>
                  <a:pt x="12448" y="14184"/>
                  <a:pt x="12436" y="14175"/>
                  <a:pt x="12427" y="14139"/>
                </a:cubicBezTo>
              </a:path>
              <a:path w="3771" h="1588">
                <a:moveTo>
                  <a:pt x="12923" y="13791"/>
                </a:moveTo>
                <a:cubicBezTo>
                  <a:pt x="12923" y="13873"/>
                  <a:pt x="12945" y="13934"/>
                  <a:pt x="12948" y="14015"/>
                </a:cubicBezTo>
                <a:cubicBezTo>
                  <a:pt x="12953" y="14140"/>
                  <a:pt x="12930" y="14293"/>
                  <a:pt x="12973" y="14412"/>
                </a:cubicBezTo>
                <a:cubicBezTo>
                  <a:pt x="12982" y="14437"/>
                  <a:pt x="13009" y="14505"/>
                  <a:pt x="13022" y="14511"/>
                </a:cubicBezTo>
                <a:cubicBezTo>
                  <a:pt x="13050" y="14511"/>
                  <a:pt x="13061" y="14509"/>
                  <a:pt x="13072" y="14486"/>
                </a:cubicBezTo>
              </a:path>
              <a:path w="3771" h="1588">
                <a:moveTo>
                  <a:pt x="12576" y="13742"/>
                </a:moveTo>
                <a:cubicBezTo>
                  <a:pt x="12568" y="13742"/>
                  <a:pt x="12559" y="13742"/>
                  <a:pt x="12551" y="13742"/>
                </a:cubicBezTo>
                <a:cubicBezTo>
                  <a:pt x="12607" y="13784"/>
                  <a:pt x="12677" y="13767"/>
                  <a:pt x="12750" y="13767"/>
                </a:cubicBezTo>
                <a:cubicBezTo>
                  <a:pt x="12887" y="13767"/>
                  <a:pt x="13044" y="13745"/>
                  <a:pt x="13171" y="13791"/>
                </a:cubicBezTo>
              </a:path>
              <a:path w="3771" h="1588">
                <a:moveTo>
                  <a:pt x="13370" y="14188"/>
                </a:moveTo>
                <a:cubicBezTo>
                  <a:pt x="13417" y="14188"/>
                  <a:pt x="13449" y="14210"/>
                  <a:pt x="13494" y="14213"/>
                </a:cubicBezTo>
                <a:cubicBezTo>
                  <a:pt x="13600" y="14220"/>
                  <a:pt x="13709" y="14213"/>
                  <a:pt x="13816" y="14213"/>
                </a:cubicBezTo>
              </a:path>
              <a:path w="3771" h="1588">
                <a:moveTo>
                  <a:pt x="13469" y="14436"/>
                </a:moveTo>
                <a:cubicBezTo>
                  <a:pt x="13553" y="14454"/>
                  <a:pt x="13634" y="14480"/>
                  <a:pt x="13717" y="14486"/>
                </a:cubicBezTo>
                <a:cubicBezTo>
                  <a:pt x="13750" y="14489"/>
                  <a:pt x="13783" y="14486"/>
                  <a:pt x="13816" y="14486"/>
                </a:cubicBezTo>
              </a:path>
              <a:path w="3771" h="1588">
                <a:moveTo>
                  <a:pt x="14312" y="13643"/>
                </a:moveTo>
                <a:cubicBezTo>
                  <a:pt x="14338" y="13694"/>
                  <a:pt x="14358" y="13756"/>
                  <a:pt x="14362" y="13816"/>
                </a:cubicBezTo>
                <a:cubicBezTo>
                  <a:pt x="14369" y="13931"/>
                  <a:pt x="14362" y="14048"/>
                  <a:pt x="14362" y="14163"/>
                </a:cubicBezTo>
              </a:path>
              <a:path w="3771" h="1588">
                <a:moveTo>
                  <a:pt x="14858" y="13866"/>
                </a:moveTo>
                <a:cubicBezTo>
                  <a:pt x="14849" y="13928"/>
                  <a:pt x="14835" y="13978"/>
                  <a:pt x="14808" y="14039"/>
                </a:cubicBezTo>
                <a:cubicBezTo>
                  <a:pt x="14765" y="14138"/>
                  <a:pt x="14720" y="14221"/>
                  <a:pt x="14660" y="14312"/>
                </a:cubicBezTo>
                <a:cubicBezTo>
                  <a:pt x="14594" y="14411"/>
                  <a:pt x="14549" y="14511"/>
                  <a:pt x="14486" y="14610"/>
                </a:cubicBezTo>
                <a:cubicBezTo>
                  <a:pt x="14431" y="14697"/>
                  <a:pt x="14406" y="14831"/>
                  <a:pt x="14337" y="14908"/>
                </a:cubicBezTo>
                <a:cubicBezTo>
                  <a:pt x="14295" y="14954"/>
                  <a:pt x="14287" y="14967"/>
                  <a:pt x="14263" y="15007"/>
                </a:cubicBezTo>
              </a:path>
              <a:path w="3771" h="1588">
                <a:moveTo>
                  <a:pt x="14833" y="14486"/>
                </a:moveTo>
                <a:cubicBezTo>
                  <a:pt x="14833" y="14553"/>
                  <a:pt x="14819" y="14598"/>
                  <a:pt x="14808" y="14660"/>
                </a:cubicBezTo>
                <a:cubicBezTo>
                  <a:pt x="14797" y="14723"/>
                  <a:pt x="14775" y="14779"/>
                  <a:pt x="14759" y="14833"/>
                </a:cubicBezTo>
                <a:cubicBezTo>
                  <a:pt x="14740" y="14896"/>
                  <a:pt x="14828" y="14883"/>
                  <a:pt x="14858" y="14883"/>
                </a:cubicBezTo>
                <a:cubicBezTo>
                  <a:pt x="14924" y="14883"/>
                  <a:pt x="15163" y="14912"/>
                  <a:pt x="15180" y="14858"/>
                </a:cubicBezTo>
              </a:path>
              <a:path w="3771" h="1588">
                <a:moveTo>
                  <a:pt x="15230" y="14560"/>
                </a:moveTo>
                <a:cubicBezTo>
                  <a:pt x="15230" y="14616"/>
                  <a:pt x="15212" y="14658"/>
                  <a:pt x="15205" y="14709"/>
                </a:cubicBezTo>
                <a:cubicBezTo>
                  <a:pt x="15192" y="14807"/>
                  <a:pt x="15177" y="14911"/>
                  <a:pt x="15156" y="15007"/>
                </a:cubicBezTo>
                <a:cubicBezTo>
                  <a:pt x="15139" y="15085"/>
                  <a:pt x="15116" y="15152"/>
                  <a:pt x="15106" y="152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Ink 14"/>
          <p:cNvSpPr/>
          <p:nvPr/>
        </p:nvSpPr>
        <p:spPr>
          <a:xfrm>
            <a:off x="1320840" y="5160960"/>
            <a:ext cx="1305000" cy="366840"/>
          </a:xfrm>
          <a:custGeom>
            <a:avLst/>
            <a:gdLst/>
            <a:ahLst/>
            <a:rect l="l" t="t" r="r" b="b"/>
            <a:pathLst>
              <a:path w="3623" h="1018">
                <a:moveTo>
                  <a:pt x="4316" y="14337"/>
                </a:moveTo>
                <a:cubicBezTo>
                  <a:pt x="4347" y="14347"/>
                  <a:pt x="4354" y="14391"/>
                  <a:pt x="4341" y="14436"/>
                </a:cubicBezTo>
                <a:cubicBezTo>
                  <a:pt x="4318" y="14515"/>
                  <a:pt x="4294" y="14575"/>
                  <a:pt x="4291" y="14660"/>
                </a:cubicBezTo>
                <a:cubicBezTo>
                  <a:pt x="4287" y="14788"/>
                  <a:pt x="4254" y="14906"/>
                  <a:pt x="4242" y="15032"/>
                </a:cubicBezTo>
                <a:cubicBezTo>
                  <a:pt x="4233" y="15126"/>
                  <a:pt x="4243" y="15225"/>
                  <a:pt x="4266" y="15304"/>
                </a:cubicBezTo>
                <a:cubicBezTo>
                  <a:pt x="4266" y="15312"/>
                  <a:pt x="4266" y="15321"/>
                  <a:pt x="4266" y="15329"/>
                </a:cubicBezTo>
              </a:path>
              <a:path w="3623" h="1018">
                <a:moveTo>
                  <a:pt x="3671" y="14982"/>
                </a:moveTo>
                <a:cubicBezTo>
                  <a:pt x="3857" y="14942"/>
                  <a:pt x="4013" y="14937"/>
                  <a:pt x="4192" y="14908"/>
                </a:cubicBezTo>
                <a:cubicBezTo>
                  <a:pt x="4294" y="14891"/>
                  <a:pt x="4385" y="14883"/>
                  <a:pt x="4490" y="14883"/>
                </a:cubicBezTo>
                <a:cubicBezTo>
                  <a:pt x="4498" y="14883"/>
                  <a:pt x="4506" y="14883"/>
                  <a:pt x="4514" y="14883"/>
                </a:cubicBezTo>
              </a:path>
              <a:path w="3623" h="1018">
                <a:moveTo>
                  <a:pt x="4887" y="14759"/>
                </a:moveTo>
                <a:cubicBezTo>
                  <a:pt x="4801" y="14767"/>
                  <a:pt x="4721" y="14779"/>
                  <a:pt x="4663" y="14858"/>
                </a:cubicBezTo>
                <a:cubicBezTo>
                  <a:pt x="4625" y="14910"/>
                  <a:pt x="4593" y="14994"/>
                  <a:pt x="4589" y="15056"/>
                </a:cubicBezTo>
                <a:cubicBezTo>
                  <a:pt x="4586" y="15107"/>
                  <a:pt x="4626" y="15172"/>
                  <a:pt x="4688" y="15131"/>
                </a:cubicBezTo>
                <a:cubicBezTo>
                  <a:pt x="4749" y="15090"/>
                  <a:pt x="4800" y="15016"/>
                  <a:pt x="4837" y="14957"/>
                </a:cubicBezTo>
              </a:path>
              <a:path w="3623" h="1018">
                <a:moveTo>
                  <a:pt x="4911" y="14908"/>
                </a:moveTo>
                <a:cubicBezTo>
                  <a:pt x="4911" y="14983"/>
                  <a:pt x="4921" y="15033"/>
                  <a:pt x="4936" y="15106"/>
                </a:cubicBezTo>
                <a:cubicBezTo>
                  <a:pt x="4936" y="15114"/>
                  <a:pt x="4936" y="15123"/>
                  <a:pt x="4936" y="15131"/>
                </a:cubicBezTo>
                <a:cubicBezTo>
                  <a:pt x="4976" y="15141"/>
                  <a:pt x="4976" y="15140"/>
                  <a:pt x="4986" y="15180"/>
                </a:cubicBezTo>
                <a:cubicBezTo>
                  <a:pt x="5038" y="15180"/>
                  <a:pt x="5047" y="15168"/>
                  <a:pt x="5085" y="15131"/>
                </a:cubicBezTo>
              </a:path>
              <a:path w="3623" h="1018">
                <a:moveTo>
                  <a:pt x="5184" y="14734"/>
                </a:moveTo>
                <a:cubicBezTo>
                  <a:pt x="5144" y="14800"/>
                  <a:pt x="5180" y="14811"/>
                  <a:pt x="5184" y="14883"/>
                </a:cubicBezTo>
                <a:cubicBezTo>
                  <a:pt x="5189" y="14960"/>
                  <a:pt x="5191" y="15015"/>
                  <a:pt x="5184" y="15081"/>
                </a:cubicBezTo>
                <a:cubicBezTo>
                  <a:pt x="5184" y="15123"/>
                  <a:pt x="5184" y="15131"/>
                  <a:pt x="5184" y="15156"/>
                </a:cubicBezTo>
                <a:cubicBezTo>
                  <a:pt x="5220" y="15144"/>
                  <a:pt x="5228" y="15056"/>
                  <a:pt x="5234" y="15007"/>
                </a:cubicBezTo>
                <a:cubicBezTo>
                  <a:pt x="5241" y="14951"/>
                  <a:pt x="5250" y="14883"/>
                  <a:pt x="5283" y="14833"/>
                </a:cubicBezTo>
                <a:cubicBezTo>
                  <a:pt x="5304" y="14801"/>
                  <a:pt x="5375" y="14743"/>
                  <a:pt x="5407" y="14734"/>
                </a:cubicBezTo>
                <a:cubicBezTo>
                  <a:pt x="5450" y="14722"/>
                  <a:pt x="5549" y="14728"/>
                  <a:pt x="5581" y="14759"/>
                </a:cubicBezTo>
                <a:cubicBezTo>
                  <a:pt x="5632" y="14809"/>
                  <a:pt x="5652" y="14889"/>
                  <a:pt x="5655" y="14957"/>
                </a:cubicBezTo>
                <a:cubicBezTo>
                  <a:pt x="5660" y="15055"/>
                  <a:pt x="5650" y="15170"/>
                  <a:pt x="5680" y="15230"/>
                </a:cubicBezTo>
                <a:cubicBezTo>
                  <a:pt x="5680" y="15238"/>
                  <a:pt x="5680" y="15247"/>
                  <a:pt x="5680" y="15255"/>
                </a:cubicBezTo>
              </a:path>
              <a:path w="3623" h="1018">
                <a:moveTo>
                  <a:pt x="6077" y="14833"/>
                </a:moveTo>
                <a:cubicBezTo>
                  <a:pt x="6160" y="14851"/>
                  <a:pt x="6218" y="14858"/>
                  <a:pt x="6300" y="14858"/>
                </a:cubicBezTo>
                <a:cubicBezTo>
                  <a:pt x="6358" y="14858"/>
                  <a:pt x="6416" y="14858"/>
                  <a:pt x="6474" y="14858"/>
                </a:cubicBezTo>
              </a:path>
              <a:path w="3623" h="1018">
                <a:moveTo>
                  <a:pt x="6152" y="15056"/>
                </a:moveTo>
                <a:cubicBezTo>
                  <a:pt x="6216" y="15080"/>
                  <a:pt x="6257" y="15081"/>
                  <a:pt x="6325" y="15081"/>
                </a:cubicBezTo>
                <a:cubicBezTo>
                  <a:pt x="6361" y="15081"/>
                  <a:pt x="6390" y="15063"/>
                  <a:pt x="6424" y="15056"/>
                </a:cubicBezTo>
              </a:path>
              <a:path w="3623" h="1018">
                <a:moveTo>
                  <a:pt x="6846" y="14858"/>
                </a:moveTo>
                <a:cubicBezTo>
                  <a:pt x="6907" y="14832"/>
                  <a:pt x="6929" y="14833"/>
                  <a:pt x="6995" y="14833"/>
                </a:cubicBezTo>
                <a:cubicBezTo>
                  <a:pt x="7045" y="14833"/>
                  <a:pt x="7094" y="14833"/>
                  <a:pt x="7144" y="14833"/>
                </a:cubicBezTo>
              </a:path>
              <a:path w="3623" h="1018">
                <a:moveTo>
                  <a:pt x="6722" y="14461"/>
                </a:moveTo>
                <a:cubicBezTo>
                  <a:pt x="6747" y="14492"/>
                  <a:pt x="6788" y="14548"/>
                  <a:pt x="6796" y="14585"/>
                </a:cubicBezTo>
                <a:cubicBezTo>
                  <a:pt x="6812" y="14664"/>
                  <a:pt x="6789" y="14736"/>
                  <a:pt x="6772" y="14808"/>
                </a:cubicBezTo>
                <a:cubicBezTo>
                  <a:pt x="6765" y="14836"/>
                  <a:pt x="6790" y="14857"/>
                  <a:pt x="6796" y="14883"/>
                </a:cubicBezTo>
                <a:cubicBezTo>
                  <a:pt x="6836" y="14873"/>
                  <a:pt x="6859" y="14845"/>
                  <a:pt x="6896" y="14833"/>
                </a:cubicBezTo>
                <a:cubicBezTo>
                  <a:pt x="6933" y="14821"/>
                  <a:pt x="6951" y="14808"/>
                  <a:pt x="6995" y="14808"/>
                </a:cubicBezTo>
                <a:cubicBezTo>
                  <a:pt x="7040" y="14808"/>
                  <a:pt x="7064" y="14784"/>
                  <a:pt x="7119" y="14784"/>
                </a:cubicBezTo>
                <a:cubicBezTo>
                  <a:pt x="7165" y="14784"/>
                  <a:pt x="7205" y="14770"/>
                  <a:pt x="7218" y="14808"/>
                </a:cubicBezTo>
              </a:path>
              <a:path w="3623" h="1018">
                <a:moveTo>
                  <a:pt x="7243" y="14362"/>
                </a:moveTo>
                <a:cubicBezTo>
                  <a:pt x="7243" y="14433"/>
                  <a:pt x="7265" y="14484"/>
                  <a:pt x="7268" y="14560"/>
                </a:cubicBezTo>
                <a:cubicBezTo>
                  <a:pt x="7274" y="14699"/>
                  <a:pt x="7224" y="14825"/>
                  <a:pt x="7218" y="14957"/>
                </a:cubicBezTo>
                <a:cubicBezTo>
                  <a:pt x="7215" y="15025"/>
                  <a:pt x="7232" y="15077"/>
                  <a:pt x="7243" y="15131"/>
                </a:cubicBezTo>
                <a:cubicBezTo>
                  <a:pt x="7255" y="15189"/>
                  <a:pt x="7251" y="15230"/>
                  <a:pt x="7268" y="15280"/>
                </a:cubicBezTo>
                <a:cubicBezTo>
                  <a:pt x="7282" y="15322"/>
                  <a:pt x="7262" y="15313"/>
                  <a:pt x="7293" y="153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Ink 15"/>
          <p:cNvSpPr/>
          <p:nvPr/>
        </p:nvSpPr>
        <p:spPr>
          <a:xfrm>
            <a:off x="4830840" y="5680080"/>
            <a:ext cx="3581280" cy="1170000"/>
          </a:xfrm>
          <a:custGeom>
            <a:avLst/>
            <a:gdLst/>
            <a:ahLst/>
            <a:rect l="l" t="t" r="r" b="b"/>
            <a:pathLst>
              <a:path w="9948" h="3250">
                <a:moveTo>
                  <a:pt x="14015" y="16842"/>
                </a:moveTo>
                <a:cubicBezTo>
                  <a:pt x="14062" y="16916"/>
                  <a:pt x="14062" y="16946"/>
                  <a:pt x="14139" y="16991"/>
                </a:cubicBezTo>
                <a:cubicBezTo>
                  <a:pt x="14231" y="17044"/>
                  <a:pt x="14343" y="17014"/>
                  <a:pt x="14436" y="16991"/>
                </a:cubicBezTo>
                <a:cubicBezTo>
                  <a:pt x="14565" y="16959"/>
                  <a:pt x="14712" y="16840"/>
                  <a:pt x="14808" y="16743"/>
                </a:cubicBezTo>
                <a:cubicBezTo>
                  <a:pt x="14965" y="16583"/>
                  <a:pt x="15084" y="16408"/>
                  <a:pt x="15205" y="16222"/>
                </a:cubicBezTo>
                <a:cubicBezTo>
                  <a:pt x="15261" y="16135"/>
                  <a:pt x="15316" y="16005"/>
                  <a:pt x="15329" y="15900"/>
                </a:cubicBezTo>
                <a:cubicBezTo>
                  <a:pt x="15338" y="15830"/>
                  <a:pt x="15310" y="15815"/>
                  <a:pt x="15304" y="15776"/>
                </a:cubicBezTo>
                <a:cubicBezTo>
                  <a:pt x="15277" y="15838"/>
                  <a:pt x="15251" y="15901"/>
                  <a:pt x="15230" y="15974"/>
                </a:cubicBezTo>
                <a:cubicBezTo>
                  <a:pt x="15158" y="16224"/>
                  <a:pt x="15074" y="16475"/>
                  <a:pt x="14982" y="16718"/>
                </a:cubicBezTo>
                <a:cubicBezTo>
                  <a:pt x="14888" y="16966"/>
                  <a:pt x="14803" y="17238"/>
                  <a:pt x="14660" y="17462"/>
                </a:cubicBezTo>
                <a:cubicBezTo>
                  <a:pt x="14521" y="17679"/>
                  <a:pt x="14354" y="17938"/>
                  <a:pt x="14114" y="18058"/>
                </a:cubicBezTo>
                <a:cubicBezTo>
                  <a:pt x="13988" y="18121"/>
                  <a:pt x="13825" y="18134"/>
                  <a:pt x="13692" y="18083"/>
                </a:cubicBezTo>
                <a:cubicBezTo>
                  <a:pt x="13551" y="18029"/>
                  <a:pt x="13476" y="17927"/>
                  <a:pt x="13444" y="17785"/>
                </a:cubicBezTo>
                <a:cubicBezTo>
                  <a:pt x="13410" y="17631"/>
                  <a:pt x="13426" y="17386"/>
                  <a:pt x="13494" y="17239"/>
                </a:cubicBezTo>
                <a:cubicBezTo>
                  <a:pt x="13554" y="17109"/>
                  <a:pt x="13696" y="16968"/>
                  <a:pt x="13816" y="16892"/>
                </a:cubicBezTo>
                <a:cubicBezTo>
                  <a:pt x="14000" y="16776"/>
                  <a:pt x="14151" y="16806"/>
                  <a:pt x="14312" y="16917"/>
                </a:cubicBezTo>
                <a:cubicBezTo>
                  <a:pt x="14400" y="16978"/>
                  <a:pt x="14449" y="17042"/>
                  <a:pt x="14536" y="17115"/>
                </a:cubicBezTo>
              </a:path>
              <a:path w="9948" h="3250">
                <a:moveTo>
                  <a:pt x="15379" y="16793"/>
                </a:moveTo>
                <a:cubicBezTo>
                  <a:pt x="15276" y="16803"/>
                  <a:pt x="15270" y="16817"/>
                  <a:pt x="15205" y="16892"/>
                </a:cubicBezTo>
                <a:cubicBezTo>
                  <a:pt x="15126" y="16983"/>
                  <a:pt x="15046" y="17031"/>
                  <a:pt x="14982" y="17140"/>
                </a:cubicBezTo>
                <a:cubicBezTo>
                  <a:pt x="14955" y="17186"/>
                  <a:pt x="14891" y="17285"/>
                  <a:pt x="15007" y="17264"/>
                </a:cubicBezTo>
                <a:cubicBezTo>
                  <a:pt x="15062" y="17254"/>
                  <a:pt x="15137" y="17192"/>
                  <a:pt x="15180" y="17165"/>
                </a:cubicBezTo>
              </a:path>
              <a:path w="9948" h="3250">
                <a:moveTo>
                  <a:pt x="15404" y="16892"/>
                </a:moveTo>
                <a:cubicBezTo>
                  <a:pt x="15347" y="16911"/>
                  <a:pt x="15373" y="16954"/>
                  <a:pt x="15354" y="17016"/>
                </a:cubicBezTo>
                <a:cubicBezTo>
                  <a:pt x="15328" y="17101"/>
                  <a:pt x="15317" y="17152"/>
                  <a:pt x="15354" y="17239"/>
                </a:cubicBezTo>
                <a:cubicBezTo>
                  <a:pt x="15365" y="17266"/>
                  <a:pt x="15409" y="17354"/>
                  <a:pt x="15453" y="17338"/>
                </a:cubicBezTo>
                <a:cubicBezTo>
                  <a:pt x="15577" y="17292"/>
                  <a:pt x="15642" y="17233"/>
                  <a:pt x="15726" y="17140"/>
                </a:cubicBezTo>
                <a:cubicBezTo>
                  <a:pt x="15802" y="17056"/>
                  <a:pt x="15846" y="17005"/>
                  <a:pt x="15850" y="16892"/>
                </a:cubicBezTo>
                <a:cubicBezTo>
                  <a:pt x="15852" y="16828"/>
                  <a:pt x="15839" y="16741"/>
                  <a:pt x="15801" y="16694"/>
                </a:cubicBezTo>
                <a:cubicBezTo>
                  <a:pt x="15776" y="16663"/>
                  <a:pt x="15760" y="16653"/>
                  <a:pt x="15726" y="16644"/>
                </a:cubicBezTo>
                <a:cubicBezTo>
                  <a:pt x="15726" y="16713"/>
                  <a:pt x="15740" y="16732"/>
                  <a:pt x="15801" y="16768"/>
                </a:cubicBezTo>
                <a:cubicBezTo>
                  <a:pt x="15878" y="16814"/>
                  <a:pt x="15947" y="16832"/>
                  <a:pt x="16024" y="16867"/>
                </a:cubicBezTo>
                <a:cubicBezTo>
                  <a:pt x="16083" y="16894"/>
                  <a:pt x="16084" y="16892"/>
                  <a:pt x="16148" y="16892"/>
                </a:cubicBezTo>
              </a:path>
              <a:path w="9948" h="3250">
                <a:moveTo>
                  <a:pt x="16148" y="16892"/>
                </a:moveTo>
                <a:cubicBezTo>
                  <a:pt x="16135" y="16861"/>
                  <a:pt x="16088" y="16794"/>
                  <a:pt x="16123" y="16818"/>
                </a:cubicBezTo>
                <a:cubicBezTo>
                  <a:pt x="16157" y="16841"/>
                  <a:pt x="16193" y="16878"/>
                  <a:pt x="16197" y="16917"/>
                </a:cubicBezTo>
                <a:cubicBezTo>
                  <a:pt x="16197" y="16925"/>
                  <a:pt x="16197" y="16934"/>
                  <a:pt x="16197" y="16942"/>
                </a:cubicBezTo>
              </a:path>
              <a:path w="9948" h="3250">
                <a:moveTo>
                  <a:pt x="16024" y="16917"/>
                </a:moveTo>
                <a:cubicBezTo>
                  <a:pt x="16058" y="16892"/>
                  <a:pt x="16101" y="16876"/>
                  <a:pt x="16148" y="16892"/>
                </a:cubicBezTo>
                <a:cubicBezTo>
                  <a:pt x="16245" y="16925"/>
                  <a:pt x="16342" y="16917"/>
                  <a:pt x="16446" y="16917"/>
                </a:cubicBezTo>
                <a:cubicBezTo>
                  <a:pt x="16494" y="16917"/>
                  <a:pt x="16507" y="16914"/>
                  <a:pt x="16545" y="16942"/>
                </a:cubicBezTo>
                <a:cubicBezTo>
                  <a:pt x="16531" y="16998"/>
                  <a:pt x="16496" y="17010"/>
                  <a:pt x="16446" y="17041"/>
                </a:cubicBezTo>
                <a:cubicBezTo>
                  <a:pt x="16342" y="17106"/>
                  <a:pt x="16217" y="17161"/>
                  <a:pt x="16123" y="17239"/>
                </a:cubicBezTo>
                <a:cubicBezTo>
                  <a:pt x="16043" y="17305"/>
                  <a:pt x="15974" y="17389"/>
                  <a:pt x="15900" y="17462"/>
                </a:cubicBezTo>
                <a:cubicBezTo>
                  <a:pt x="15870" y="17492"/>
                  <a:pt x="15875" y="17497"/>
                  <a:pt x="15875" y="17537"/>
                </a:cubicBezTo>
                <a:cubicBezTo>
                  <a:pt x="15971" y="17537"/>
                  <a:pt x="16056" y="17522"/>
                  <a:pt x="16148" y="17512"/>
                </a:cubicBezTo>
                <a:cubicBezTo>
                  <a:pt x="16245" y="17501"/>
                  <a:pt x="16332" y="17523"/>
                  <a:pt x="16421" y="17537"/>
                </a:cubicBezTo>
                <a:cubicBezTo>
                  <a:pt x="16474" y="17546"/>
                  <a:pt x="16524" y="17557"/>
                  <a:pt x="16570" y="17562"/>
                </a:cubicBezTo>
                <a:cubicBezTo>
                  <a:pt x="16598" y="17562"/>
                  <a:pt x="16608" y="17565"/>
                  <a:pt x="16619" y="17587"/>
                </a:cubicBezTo>
              </a:path>
              <a:path w="9948" h="3250">
                <a:moveTo>
                  <a:pt x="16669" y="16892"/>
                </a:moveTo>
                <a:cubicBezTo>
                  <a:pt x="16724" y="16937"/>
                  <a:pt x="16748" y="16942"/>
                  <a:pt x="16818" y="16942"/>
                </a:cubicBezTo>
                <a:cubicBezTo>
                  <a:pt x="16904" y="16942"/>
                  <a:pt x="16962" y="16930"/>
                  <a:pt x="17041" y="16892"/>
                </a:cubicBezTo>
                <a:cubicBezTo>
                  <a:pt x="17106" y="16861"/>
                  <a:pt x="17148" y="16827"/>
                  <a:pt x="17214" y="16818"/>
                </a:cubicBezTo>
                <a:cubicBezTo>
                  <a:pt x="17155" y="16865"/>
                  <a:pt x="17101" y="16919"/>
                  <a:pt x="17041" y="16966"/>
                </a:cubicBezTo>
                <a:cubicBezTo>
                  <a:pt x="16945" y="17041"/>
                  <a:pt x="16856" y="17103"/>
                  <a:pt x="16768" y="17190"/>
                </a:cubicBezTo>
                <a:cubicBezTo>
                  <a:pt x="16719" y="17239"/>
                  <a:pt x="16676" y="17293"/>
                  <a:pt x="16669" y="17363"/>
                </a:cubicBezTo>
                <a:cubicBezTo>
                  <a:pt x="16669" y="17371"/>
                  <a:pt x="16669" y="17380"/>
                  <a:pt x="16669" y="17388"/>
                </a:cubicBezTo>
                <a:cubicBezTo>
                  <a:pt x="16813" y="17388"/>
                  <a:pt x="16950" y="17379"/>
                  <a:pt x="17090" y="17363"/>
                </a:cubicBezTo>
                <a:cubicBezTo>
                  <a:pt x="17172" y="17353"/>
                  <a:pt x="17325" y="17340"/>
                  <a:pt x="17388" y="17388"/>
                </a:cubicBezTo>
              </a:path>
              <a:path w="9948" h="3250">
                <a:moveTo>
                  <a:pt x="17611" y="16793"/>
                </a:moveTo>
                <a:cubicBezTo>
                  <a:pt x="17510" y="16879"/>
                  <a:pt x="17462" y="16938"/>
                  <a:pt x="17413" y="17066"/>
                </a:cubicBezTo>
                <a:cubicBezTo>
                  <a:pt x="17382" y="17147"/>
                  <a:pt x="17339" y="17250"/>
                  <a:pt x="17363" y="17338"/>
                </a:cubicBezTo>
                <a:cubicBezTo>
                  <a:pt x="17378" y="17393"/>
                  <a:pt x="17417" y="17423"/>
                  <a:pt x="17462" y="17438"/>
                </a:cubicBezTo>
                <a:cubicBezTo>
                  <a:pt x="17558" y="17470"/>
                  <a:pt x="17606" y="17420"/>
                  <a:pt x="17686" y="17363"/>
                </a:cubicBezTo>
                <a:cubicBezTo>
                  <a:pt x="17803" y="17280"/>
                  <a:pt x="17874" y="17173"/>
                  <a:pt x="17934" y="17041"/>
                </a:cubicBezTo>
                <a:cubicBezTo>
                  <a:pt x="17972" y="16957"/>
                  <a:pt x="17980" y="16882"/>
                  <a:pt x="17983" y="16793"/>
                </a:cubicBezTo>
                <a:cubicBezTo>
                  <a:pt x="17983" y="16751"/>
                  <a:pt x="17983" y="16743"/>
                  <a:pt x="17983" y="16718"/>
                </a:cubicBezTo>
                <a:cubicBezTo>
                  <a:pt x="17958" y="16761"/>
                  <a:pt x="17932" y="16787"/>
                  <a:pt x="17909" y="16867"/>
                </a:cubicBezTo>
                <a:cubicBezTo>
                  <a:pt x="17870" y="17005"/>
                  <a:pt x="17869" y="17172"/>
                  <a:pt x="17859" y="17314"/>
                </a:cubicBezTo>
                <a:cubicBezTo>
                  <a:pt x="17846" y="17508"/>
                  <a:pt x="17813" y="17695"/>
                  <a:pt x="17760" y="17884"/>
                </a:cubicBezTo>
                <a:cubicBezTo>
                  <a:pt x="17729" y="17993"/>
                  <a:pt x="17701" y="18130"/>
                  <a:pt x="17661" y="18231"/>
                </a:cubicBezTo>
                <a:cubicBezTo>
                  <a:pt x="17653" y="18239"/>
                  <a:pt x="17644" y="18248"/>
                  <a:pt x="17636" y="18256"/>
                </a:cubicBezTo>
                <a:cubicBezTo>
                  <a:pt x="17590" y="18174"/>
                  <a:pt x="17541" y="18111"/>
                  <a:pt x="17487" y="18033"/>
                </a:cubicBezTo>
                <a:cubicBezTo>
                  <a:pt x="17382" y="17881"/>
                  <a:pt x="17243" y="17793"/>
                  <a:pt x="17066" y="17735"/>
                </a:cubicBezTo>
                <a:cubicBezTo>
                  <a:pt x="16879" y="17674"/>
                  <a:pt x="16632" y="17657"/>
                  <a:pt x="16446" y="17735"/>
                </a:cubicBezTo>
                <a:cubicBezTo>
                  <a:pt x="16305" y="17795"/>
                  <a:pt x="16085" y="17926"/>
                  <a:pt x="15999" y="18058"/>
                </a:cubicBezTo>
                <a:cubicBezTo>
                  <a:pt x="15920" y="18179"/>
                  <a:pt x="15880" y="18335"/>
                  <a:pt x="15900" y="18479"/>
                </a:cubicBezTo>
                <a:cubicBezTo>
                  <a:pt x="15915" y="18584"/>
                  <a:pt x="15958" y="18629"/>
                  <a:pt x="16024" y="18703"/>
                </a:cubicBezTo>
              </a:path>
              <a:path w="9948" h="3250">
                <a:moveTo>
                  <a:pt x="18554" y="16644"/>
                </a:moveTo>
                <a:cubicBezTo>
                  <a:pt x="18554" y="16788"/>
                  <a:pt x="18560" y="16926"/>
                  <a:pt x="18529" y="17066"/>
                </a:cubicBezTo>
                <a:cubicBezTo>
                  <a:pt x="18494" y="17223"/>
                  <a:pt x="18447" y="17380"/>
                  <a:pt x="18430" y="17537"/>
                </a:cubicBezTo>
                <a:cubicBezTo>
                  <a:pt x="18421" y="17621"/>
                  <a:pt x="18455" y="17699"/>
                  <a:pt x="18455" y="17785"/>
                </a:cubicBezTo>
              </a:path>
              <a:path w="9948" h="3250">
                <a:moveTo>
                  <a:pt x="17884" y="16495"/>
                </a:moveTo>
                <a:cubicBezTo>
                  <a:pt x="17884" y="16308"/>
                  <a:pt x="17835" y="16171"/>
                  <a:pt x="17983" y="16049"/>
                </a:cubicBezTo>
                <a:cubicBezTo>
                  <a:pt x="18066" y="15981"/>
                  <a:pt x="18203" y="15927"/>
                  <a:pt x="18306" y="15900"/>
                </a:cubicBezTo>
                <a:cubicBezTo>
                  <a:pt x="18471" y="15857"/>
                  <a:pt x="18637" y="15871"/>
                  <a:pt x="18802" y="15900"/>
                </a:cubicBezTo>
                <a:cubicBezTo>
                  <a:pt x="18970" y="15930"/>
                  <a:pt x="19139" y="15989"/>
                  <a:pt x="19273" y="16098"/>
                </a:cubicBezTo>
                <a:cubicBezTo>
                  <a:pt x="19383" y="16188"/>
                  <a:pt x="19443" y="16302"/>
                  <a:pt x="19422" y="16446"/>
                </a:cubicBezTo>
                <a:cubicBezTo>
                  <a:pt x="19409" y="16533"/>
                  <a:pt x="19267" y="16618"/>
                  <a:pt x="19199" y="16644"/>
                </a:cubicBezTo>
                <a:cubicBezTo>
                  <a:pt x="19087" y="16687"/>
                  <a:pt x="18988" y="16748"/>
                  <a:pt x="18876" y="16793"/>
                </a:cubicBezTo>
                <a:cubicBezTo>
                  <a:pt x="18799" y="16824"/>
                  <a:pt x="18727" y="16841"/>
                  <a:pt x="18678" y="16917"/>
                </a:cubicBezTo>
                <a:cubicBezTo>
                  <a:pt x="18650" y="16945"/>
                  <a:pt x="18641" y="16958"/>
                  <a:pt x="18653" y="16991"/>
                </a:cubicBezTo>
                <a:cubicBezTo>
                  <a:pt x="18741" y="17060"/>
                  <a:pt x="18809" y="17081"/>
                  <a:pt x="18926" y="17115"/>
                </a:cubicBezTo>
                <a:cubicBezTo>
                  <a:pt x="19043" y="17149"/>
                  <a:pt x="19188" y="17164"/>
                  <a:pt x="19298" y="17214"/>
                </a:cubicBezTo>
                <a:cubicBezTo>
                  <a:pt x="19323" y="17231"/>
                  <a:pt x="19347" y="17247"/>
                  <a:pt x="19372" y="17264"/>
                </a:cubicBezTo>
              </a:path>
              <a:path w="9948" h="3250">
                <a:moveTo>
                  <a:pt x="19546" y="17388"/>
                </a:moveTo>
                <a:cubicBezTo>
                  <a:pt x="19668" y="17518"/>
                  <a:pt x="19853" y="17657"/>
                  <a:pt x="19869" y="17859"/>
                </a:cubicBezTo>
                <a:cubicBezTo>
                  <a:pt x="19877" y="17952"/>
                  <a:pt x="19764" y="18109"/>
                  <a:pt x="19720" y="18182"/>
                </a:cubicBezTo>
                <a:cubicBezTo>
                  <a:pt x="19635" y="18323"/>
                  <a:pt x="19480" y="18429"/>
                  <a:pt x="19323" y="18479"/>
                </a:cubicBezTo>
                <a:cubicBezTo>
                  <a:pt x="19133" y="18539"/>
                  <a:pt x="18900" y="18589"/>
                  <a:pt x="18703" y="18579"/>
                </a:cubicBezTo>
                <a:cubicBezTo>
                  <a:pt x="18489" y="18568"/>
                  <a:pt x="18271" y="18534"/>
                  <a:pt x="18058" y="18504"/>
                </a:cubicBezTo>
                <a:cubicBezTo>
                  <a:pt x="17826" y="18472"/>
                  <a:pt x="17598" y="18437"/>
                  <a:pt x="17363" y="18455"/>
                </a:cubicBezTo>
                <a:cubicBezTo>
                  <a:pt x="17088" y="18476"/>
                  <a:pt x="16793" y="18529"/>
                  <a:pt x="16570" y="18703"/>
                </a:cubicBezTo>
                <a:cubicBezTo>
                  <a:pt x="16508" y="18751"/>
                  <a:pt x="16285" y="18994"/>
                  <a:pt x="16321" y="19025"/>
                </a:cubicBezTo>
                <a:cubicBezTo>
                  <a:pt x="16396" y="19025"/>
                  <a:pt x="16420" y="19025"/>
                  <a:pt x="16470" y="19025"/>
                </a:cubicBezTo>
              </a:path>
              <a:path w="9948" h="3250">
                <a:moveTo>
                  <a:pt x="19695" y="17190"/>
                </a:moveTo>
                <a:cubicBezTo>
                  <a:pt x="19738" y="17240"/>
                  <a:pt x="19721" y="17234"/>
                  <a:pt x="19794" y="17264"/>
                </a:cubicBezTo>
                <a:cubicBezTo>
                  <a:pt x="19857" y="17290"/>
                  <a:pt x="19923" y="17289"/>
                  <a:pt x="19993" y="17289"/>
                </a:cubicBezTo>
                <a:cubicBezTo>
                  <a:pt x="20113" y="17289"/>
                  <a:pt x="20221" y="17288"/>
                  <a:pt x="20340" y="17314"/>
                </a:cubicBezTo>
                <a:cubicBezTo>
                  <a:pt x="20418" y="17331"/>
                  <a:pt x="20514" y="17361"/>
                  <a:pt x="20588" y="17388"/>
                </a:cubicBezTo>
                <a:cubicBezTo>
                  <a:pt x="20642" y="17408"/>
                  <a:pt x="20638" y="17407"/>
                  <a:pt x="20687" y="17413"/>
                </a:cubicBezTo>
                <a:cubicBezTo>
                  <a:pt x="20664" y="17371"/>
                  <a:pt x="20632" y="17339"/>
                  <a:pt x="20613" y="17289"/>
                </a:cubicBezTo>
                <a:cubicBezTo>
                  <a:pt x="20594" y="17241"/>
                  <a:pt x="20579" y="17154"/>
                  <a:pt x="20538" y="17115"/>
                </a:cubicBezTo>
                <a:cubicBezTo>
                  <a:pt x="20476" y="17056"/>
                  <a:pt x="20388" y="17012"/>
                  <a:pt x="20315" y="16966"/>
                </a:cubicBezTo>
                <a:cubicBezTo>
                  <a:pt x="20216" y="16904"/>
                  <a:pt x="20103" y="16888"/>
                  <a:pt x="19993" y="16917"/>
                </a:cubicBezTo>
                <a:cubicBezTo>
                  <a:pt x="19872" y="16949"/>
                  <a:pt x="19819" y="16991"/>
                  <a:pt x="19745" y="17090"/>
                </a:cubicBezTo>
                <a:cubicBezTo>
                  <a:pt x="19686" y="17169"/>
                  <a:pt x="19649" y="17262"/>
                  <a:pt x="19670" y="17363"/>
                </a:cubicBezTo>
                <a:cubicBezTo>
                  <a:pt x="19688" y="17447"/>
                  <a:pt x="19768" y="17551"/>
                  <a:pt x="19844" y="17587"/>
                </a:cubicBezTo>
                <a:cubicBezTo>
                  <a:pt x="19921" y="17624"/>
                  <a:pt x="20057" y="17626"/>
                  <a:pt x="20141" y="17611"/>
                </a:cubicBezTo>
                <a:cubicBezTo>
                  <a:pt x="20239" y="17593"/>
                  <a:pt x="20313" y="17547"/>
                  <a:pt x="20389" y="17487"/>
                </a:cubicBezTo>
                <a:cubicBezTo>
                  <a:pt x="20424" y="17459"/>
                  <a:pt x="20431" y="17406"/>
                  <a:pt x="20464" y="17388"/>
                </a:cubicBezTo>
                <a:cubicBezTo>
                  <a:pt x="20527" y="17354"/>
                  <a:pt x="20590" y="17385"/>
                  <a:pt x="20662" y="17388"/>
                </a:cubicBezTo>
                <a:cubicBezTo>
                  <a:pt x="20753" y="17392"/>
                  <a:pt x="20821" y="17425"/>
                  <a:pt x="20910" y="17438"/>
                </a:cubicBezTo>
                <a:cubicBezTo>
                  <a:pt x="20991" y="17450"/>
                  <a:pt x="21080" y="17441"/>
                  <a:pt x="21158" y="17462"/>
                </a:cubicBezTo>
                <a:cubicBezTo>
                  <a:pt x="21207" y="17475"/>
                  <a:pt x="21231" y="17482"/>
                  <a:pt x="21282" y="17487"/>
                </a:cubicBezTo>
                <a:cubicBezTo>
                  <a:pt x="21288" y="17437"/>
                  <a:pt x="21288" y="17431"/>
                  <a:pt x="21307" y="17388"/>
                </a:cubicBezTo>
                <a:cubicBezTo>
                  <a:pt x="21336" y="17324"/>
                  <a:pt x="21368" y="17271"/>
                  <a:pt x="21382" y="17190"/>
                </a:cubicBezTo>
                <a:cubicBezTo>
                  <a:pt x="21391" y="17135"/>
                  <a:pt x="21365" y="17012"/>
                  <a:pt x="21332" y="16966"/>
                </a:cubicBezTo>
                <a:cubicBezTo>
                  <a:pt x="21265" y="16874"/>
                  <a:pt x="21202" y="16811"/>
                  <a:pt x="21084" y="16793"/>
                </a:cubicBezTo>
                <a:cubicBezTo>
                  <a:pt x="20975" y="16777"/>
                  <a:pt x="20890" y="16794"/>
                  <a:pt x="20811" y="16867"/>
                </a:cubicBezTo>
                <a:cubicBezTo>
                  <a:pt x="20714" y="16956"/>
                  <a:pt x="20656" y="17058"/>
                  <a:pt x="20638" y="17190"/>
                </a:cubicBezTo>
                <a:cubicBezTo>
                  <a:pt x="20621" y="17312"/>
                  <a:pt x="20686" y="17423"/>
                  <a:pt x="20762" y="17512"/>
                </a:cubicBezTo>
                <a:cubicBezTo>
                  <a:pt x="20857" y="17623"/>
                  <a:pt x="20956" y="17694"/>
                  <a:pt x="21084" y="17760"/>
                </a:cubicBezTo>
                <a:cubicBezTo>
                  <a:pt x="21180" y="17809"/>
                  <a:pt x="21211" y="17825"/>
                  <a:pt x="21282" y="17835"/>
                </a:cubicBezTo>
              </a:path>
              <a:path w="9948" h="3250">
                <a:moveTo>
                  <a:pt x="21679" y="16222"/>
                </a:moveTo>
                <a:cubicBezTo>
                  <a:pt x="21692" y="16276"/>
                  <a:pt x="21725" y="16283"/>
                  <a:pt x="21729" y="16346"/>
                </a:cubicBezTo>
                <a:cubicBezTo>
                  <a:pt x="21734" y="16431"/>
                  <a:pt x="21735" y="16514"/>
                  <a:pt x="21704" y="16594"/>
                </a:cubicBezTo>
                <a:cubicBezTo>
                  <a:pt x="21658" y="16714"/>
                  <a:pt x="21591" y="16842"/>
                  <a:pt x="21555" y="16966"/>
                </a:cubicBezTo>
                <a:cubicBezTo>
                  <a:pt x="21542" y="17012"/>
                  <a:pt x="21566" y="17017"/>
                  <a:pt x="21530" y="17041"/>
                </a:cubicBezTo>
              </a:path>
              <a:path w="9948" h="3250">
                <a:moveTo>
                  <a:pt x="22126" y="16197"/>
                </a:moveTo>
                <a:cubicBezTo>
                  <a:pt x="22168" y="16281"/>
                  <a:pt x="22149" y="16353"/>
                  <a:pt x="22126" y="16446"/>
                </a:cubicBezTo>
                <a:cubicBezTo>
                  <a:pt x="22097" y="16560"/>
                  <a:pt x="22040" y="16656"/>
                  <a:pt x="22002" y="16768"/>
                </a:cubicBezTo>
                <a:cubicBezTo>
                  <a:pt x="21976" y="16847"/>
                  <a:pt x="21937" y="16911"/>
                  <a:pt x="21927" y="16991"/>
                </a:cubicBezTo>
              </a:path>
              <a:path w="9948" h="3250">
                <a:moveTo>
                  <a:pt x="21307" y="16545"/>
                </a:moveTo>
                <a:cubicBezTo>
                  <a:pt x="21359" y="16514"/>
                  <a:pt x="21464" y="16477"/>
                  <a:pt x="21530" y="16470"/>
                </a:cubicBezTo>
                <a:cubicBezTo>
                  <a:pt x="21647" y="16470"/>
                  <a:pt x="21681" y="16472"/>
                  <a:pt x="21754" y="16446"/>
                </a:cubicBezTo>
              </a:path>
              <a:path w="9948" h="3250">
                <a:moveTo>
                  <a:pt x="22151" y="16371"/>
                </a:moveTo>
                <a:lnTo>
                  <a:pt x="22151" y="16371"/>
                </a:lnTo>
              </a:path>
              <a:path w="9948" h="3250">
                <a:moveTo>
                  <a:pt x="21431" y="16793"/>
                </a:moveTo>
                <a:cubicBezTo>
                  <a:pt x="21603" y="16772"/>
                  <a:pt x="21714" y="16776"/>
                  <a:pt x="21878" y="16793"/>
                </a:cubicBezTo>
                <a:cubicBezTo>
                  <a:pt x="21903" y="16793"/>
                  <a:pt x="21927" y="16793"/>
                  <a:pt x="21952" y="16793"/>
                </a:cubicBezTo>
              </a:path>
              <a:path w="9948" h="3250">
                <a:moveTo>
                  <a:pt x="22671" y="16768"/>
                </a:moveTo>
                <a:cubicBezTo>
                  <a:pt x="22620" y="16878"/>
                  <a:pt x="22580" y="16985"/>
                  <a:pt x="22523" y="17090"/>
                </a:cubicBezTo>
                <a:cubicBezTo>
                  <a:pt x="22482" y="17165"/>
                  <a:pt x="22432" y="17238"/>
                  <a:pt x="22399" y="17314"/>
                </a:cubicBezTo>
                <a:cubicBezTo>
                  <a:pt x="22374" y="17372"/>
                  <a:pt x="22343" y="17442"/>
                  <a:pt x="22423" y="17462"/>
                </a:cubicBezTo>
                <a:cubicBezTo>
                  <a:pt x="22498" y="17480"/>
                  <a:pt x="22572" y="17495"/>
                  <a:pt x="22647" y="17512"/>
                </a:cubicBezTo>
                <a:cubicBezTo>
                  <a:pt x="22728" y="17531"/>
                  <a:pt x="22786" y="17537"/>
                  <a:pt x="22870" y="17537"/>
                </a:cubicBezTo>
                <a:cubicBezTo>
                  <a:pt x="22917" y="17537"/>
                  <a:pt x="22956" y="17552"/>
                  <a:pt x="22969" y="17512"/>
                </a:cubicBezTo>
              </a:path>
              <a:path w="9948" h="3250">
                <a:moveTo>
                  <a:pt x="23341" y="16991"/>
                </a:moveTo>
                <a:cubicBezTo>
                  <a:pt x="23379" y="17105"/>
                  <a:pt x="23346" y="17172"/>
                  <a:pt x="23316" y="17289"/>
                </a:cubicBezTo>
                <a:cubicBezTo>
                  <a:pt x="23278" y="17437"/>
                  <a:pt x="23186" y="17534"/>
                  <a:pt x="23118" y="17661"/>
                </a:cubicBezTo>
                <a:cubicBezTo>
                  <a:pt x="23042" y="17801"/>
                  <a:pt x="22982" y="17940"/>
                  <a:pt x="22920" y="18083"/>
                </a:cubicBezTo>
                <a:cubicBezTo>
                  <a:pt x="22864" y="18212"/>
                  <a:pt x="22818" y="18347"/>
                  <a:pt x="22771" y="18479"/>
                </a:cubicBezTo>
                <a:cubicBezTo>
                  <a:pt x="22763" y="18504"/>
                  <a:pt x="22754" y="18529"/>
                  <a:pt x="22746" y="185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Ink 4"/>
          <p:cNvSpPr/>
          <p:nvPr/>
        </p:nvSpPr>
        <p:spPr>
          <a:xfrm>
            <a:off x="652320" y="1125360"/>
            <a:ext cx="392400" cy="482760"/>
          </a:xfrm>
          <a:custGeom>
            <a:avLst/>
            <a:gdLst/>
            <a:ahLst/>
            <a:rect l="l" t="t" r="r" b="b"/>
            <a:pathLst>
              <a:path w="1092" h="1341">
                <a:moveTo>
                  <a:pt x="1860" y="3349"/>
                </a:moveTo>
                <a:cubicBezTo>
                  <a:pt x="1835" y="3478"/>
                  <a:pt x="1814" y="3610"/>
                  <a:pt x="1811" y="3746"/>
                </a:cubicBezTo>
                <a:cubicBezTo>
                  <a:pt x="1809" y="3845"/>
                  <a:pt x="1815" y="4115"/>
                  <a:pt x="1836" y="4018"/>
                </a:cubicBezTo>
                <a:cubicBezTo>
                  <a:pt x="1836" y="3993"/>
                  <a:pt x="1836" y="3969"/>
                  <a:pt x="1836" y="3944"/>
                </a:cubicBezTo>
              </a:path>
              <a:path w="1092" h="1341">
                <a:moveTo>
                  <a:pt x="2108" y="3398"/>
                </a:moveTo>
                <a:cubicBezTo>
                  <a:pt x="2108" y="3355"/>
                  <a:pt x="2114" y="3339"/>
                  <a:pt x="2158" y="3324"/>
                </a:cubicBezTo>
                <a:cubicBezTo>
                  <a:pt x="2212" y="3306"/>
                  <a:pt x="2234" y="3303"/>
                  <a:pt x="2282" y="3324"/>
                </a:cubicBezTo>
                <a:cubicBezTo>
                  <a:pt x="2357" y="3356"/>
                  <a:pt x="2377" y="3394"/>
                  <a:pt x="2381" y="3473"/>
                </a:cubicBezTo>
                <a:cubicBezTo>
                  <a:pt x="2386" y="3556"/>
                  <a:pt x="2329" y="3590"/>
                  <a:pt x="2282" y="3646"/>
                </a:cubicBezTo>
                <a:cubicBezTo>
                  <a:pt x="2274" y="3654"/>
                  <a:pt x="2265" y="3663"/>
                  <a:pt x="2257" y="3671"/>
                </a:cubicBezTo>
                <a:cubicBezTo>
                  <a:pt x="2235" y="3657"/>
                  <a:pt x="2205" y="3598"/>
                  <a:pt x="2257" y="3572"/>
                </a:cubicBezTo>
                <a:cubicBezTo>
                  <a:pt x="2301" y="3550"/>
                  <a:pt x="2391" y="3571"/>
                  <a:pt x="2431" y="3597"/>
                </a:cubicBezTo>
                <a:cubicBezTo>
                  <a:pt x="2482" y="3630"/>
                  <a:pt x="2495" y="3715"/>
                  <a:pt x="2480" y="3770"/>
                </a:cubicBezTo>
                <a:cubicBezTo>
                  <a:pt x="2454" y="3866"/>
                  <a:pt x="2390" y="3902"/>
                  <a:pt x="2332" y="3944"/>
                </a:cubicBezTo>
                <a:cubicBezTo>
                  <a:pt x="2226" y="4021"/>
                  <a:pt x="2261" y="3996"/>
                  <a:pt x="2183" y="3944"/>
                </a:cubicBezTo>
                <a:cubicBezTo>
                  <a:pt x="2142" y="3944"/>
                  <a:pt x="2133" y="3928"/>
                  <a:pt x="2158" y="3870"/>
                </a:cubicBezTo>
              </a:path>
              <a:path w="1092" h="1341">
                <a:moveTo>
                  <a:pt x="2530" y="3125"/>
                </a:moveTo>
                <a:cubicBezTo>
                  <a:pt x="2567" y="3189"/>
                  <a:pt x="2618" y="3234"/>
                  <a:pt x="2654" y="3299"/>
                </a:cubicBezTo>
                <a:cubicBezTo>
                  <a:pt x="2703" y="3387"/>
                  <a:pt x="2776" y="3459"/>
                  <a:pt x="2828" y="3547"/>
                </a:cubicBezTo>
                <a:cubicBezTo>
                  <a:pt x="2883" y="3640"/>
                  <a:pt x="2899" y="3740"/>
                  <a:pt x="2902" y="3845"/>
                </a:cubicBezTo>
                <a:cubicBezTo>
                  <a:pt x="2905" y="3963"/>
                  <a:pt x="2909" y="4084"/>
                  <a:pt x="2853" y="4192"/>
                </a:cubicBezTo>
                <a:cubicBezTo>
                  <a:pt x="2821" y="4254"/>
                  <a:pt x="2766" y="4350"/>
                  <a:pt x="2704" y="4390"/>
                </a:cubicBezTo>
                <a:cubicBezTo>
                  <a:pt x="2655" y="4421"/>
                  <a:pt x="2642" y="4427"/>
                  <a:pt x="2604" y="44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Ink 5"/>
          <p:cNvSpPr/>
          <p:nvPr/>
        </p:nvSpPr>
        <p:spPr>
          <a:xfrm>
            <a:off x="1231920" y="1187280"/>
            <a:ext cx="430200" cy="312840"/>
          </a:xfrm>
          <a:custGeom>
            <a:avLst/>
            <a:gdLst/>
            <a:ahLst/>
            <a:rect l="l" t="t" r="r" b="b"/>
            <a:pathLst>
              <a:path w="1192" h="869">
                <a:moveTo>
                  <a:pt x="3696" y="3497"/>
                </a:moveTo>
                <a:cubicBezTo>
                  <a:pt x="3627" y="3497"/>
                  <a:pt x="3547" y="3488"/>
                  <a:pt x="3497" y="3547"/>
                </a:cubicBezTo>
                <a:cubicBezTo>
                  <a:pt x="3475" y="3574"/>
                  <a:pt x="3427" y="3638"/>
                  <a:pt x="3423" y="3671"/>
                </a:cubicBezTo>
                <a:cubicBezTo>
                  <a:pt x="3423" y="3679"/>
                  <a:pt x="3423" y="3688"/>
                  <a:pt x="3423" y="3696"/>
                </a:cubicBezTo>
                <a:cubicBezTo>
                  <a:pt x="3475" y="3706"/>
                  <a:pt x="3523" y="3723"/>
                  <a:pt x="3572" y="3746"/>
                </a:cubicBezTo>
                <a:cubicBezTo>
                  <a:pt x="3640" y="3777"/>
                  <a:pt x="3735" y="3823"/>
                  <a:pt x="3770" y="3894"/>
                </a:cubicBezTo>
                <a:cubicBezTo>
                  <a:pt x="3814" y="3982"/>
                  <a:pt x="3749" y="4047"/>
                  <a:pt x="3696" y="4093"/>
                </a:cubicBezTo>
                <a:cubicBezTo>
                  <a:pt x="3630" y="4151"/>
                  <a:pt x="3609" y="4167"/>
                  <a:pt x="3522" y="4167"/>
                </a:cubicBezTo>
                <a:cubicBezTo>
                  <a:pt x="3428" y="4167"/>
                  <a:pt x="3454" y="4134"/>
                  <a:pt x="3448" y="4093"/>
                </a:cubicBezTo>
                <a:cubicBezTo>
                  <a:pt x="3436" y="4017"/>
                  <a:pt x="3401" y="3990"/>
                  <a:pt x="3448" y="3944"/>
                </a:cubicBezTo>
              </a:path>
              <a:path w="1192" h="869">
                <a:moveTo>
                  <a:pt x="3919" y="3597"/>
                </a:moveTo>
                <a:cubicBezTo>
                  <a:pt x="3950" y="3648"/>
                  <a:pt x="3979" y="3728"/>
                  <a:pt x="3969" y="3795"/>
                </a:cubicBezTo>
                <a:cubicBezTo>
                  <a:pt x="3956" y="3878"/>
                  <a:pt x="3911" y="4007"/>
                  <a:pt x="3944" y="4093"/>
                </a:cubicBezTo>
                <a:cubicBezTo>
                  <a:pt x="3966" y="4115"/>
                  <a:pt x="3975" y="4120"/>
                  <a:pt x="3969" y="4142"/>
                </a:cubicBezTo>
                <a:cubicBezTo>
                  <a:pt x="4028" y="4065"/>
                  <a:pt x="3979" y="3932"/>
                  <a:pt x="3969" y="3845"/>
                </a:cubicBezTo>
              </a:path>
              <a:path w="1192" h="869">
                <a:moveTo>
                  <a:pt x="3944" y="3299"/>
                </a:moveTo>
                <a:cubicBezTo>
                  <a:pt x="3944" y="3324"/>
                  <a:pt x="3944" y="3332"/>
                  <a:pt x="3944" y="3349"/>
                </a:cubicBezTo>
              </a:path>
              <a:path w="1192" h="869">
                <a:moveTo>
                  <a:pt x="4192" y="3473"/>
                </a:moveTo>
                <a:cubicBezTo>
                  <a:pt x="4153" y="3537"/>
                  <a:pt x="4167" y="3616"/>
                  <a:pt x="4167" y="3696"/>
                </a:cubicBezTo>
                <a:cubicBezTo>
                  <a:pt x="4167" y="3801"/>
                  <a:pt x="4177" y="3896"/>
                  <a:pt x="4192" y="3994"/>
                </a:cubicBezTo>
                <a:cubicBezTo>
                  <a:pt x="4199" y="4040"/>
                  <a:pt x="4208" y="4170"/>
                  <a:pt x="4192" y="4043"/>
                </a:cubicBezTo>
                <a:cubicBezTo>
                  <a:pt x="4175" y="3910"/>
                  <a:pt x="4179" y="3747"/>
                  <a:pt x="4217" y="3621"/>
                </a:cubicBezTo>
                <a:cubicBezTo>
                  <a:pt x="4246" y="3525"/>
                  <a:pt x="4288" y="3457"/>
                  <a:pt x="4390" y="3423"/>
                </a:cubicBezTo>
                <a:cubicBezTo>
                  <a:pt x="4468" y="3397"/>
                  <a:pt x="4489" y="3497"/>
                  <a:pt x="4514" y="3547"/>
                </a:cubicBezTo>
                <a:cubicBezTo>
                  <a:pt x="4557" y="3634"/>
                  <a:pt x="4564" y="3699"/>
                  <a:pt x="4564" y="3795"/>
                </a:cubicBezTo>
                <a:cubicBezTo>
                  <a:pt x="4564" y="3874"/>
                  <a:pt x="4589" y="3939"/>
                  <a:pt x="4589" y="4018"/>
                </a:cubicBezTo>
                <a:cubicBezTo>
                  <a:pt x="4589" y="4050"/>
                  <a:pt x="4609" y="4105"/>
                  <a:pt x="4614" y="4043"/>
                </a:cubicBezTo>
                <a:cubicBezTo>
                  <a:pt x="4614" y="4027"/>
                  <a:pt x="4614" y="4010"/>
                  <a:pt x="4614" y="39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Ink 6"/>
          <p:cNvSpPr/>
          <p:nvPr/>
        </p:nvSpPr>
        <p:spPr>
          <a:xfrm>
            <a:off x="1847880" y="1062000"/>
            <a:ext cx="268200" cy="465120"/>
          </a:xfrm>
          <a:custGeom>
            <a:avLst/>
            <a:gdLst/>
            <a:ahLst/>
            <a:rect l="l" t="t" r="r" b="b"/>
            <a:pathLst>
              <a:path w="745" h="1291">
                <a:moveTo>
                  <a:pt x="5135" y="3696"/>
                </a:moveTo>
                <a:cubicBezTo>
                  <a:pt x="5174" y="3706"/>
                  <a:pt x="5189" y="3721"/>
                  <a:pt x="5234" y="3721"/>
                </a:cubicBezTo>
                <a:cubicBezTo>
                  <a:pt x="5298" y="3721"/>
                  <a:pt x="5358" y="3734"/>
                  <a:pt x="5407" y="3696"/>
                </a:cubicBezTo>
              </a:path>
              <a:path w="745" h="1291">
                <a:moveTo>
                  <a:pt x="5755" y="2952"/>
                </a:moveTo>
                <a:cubicBezTo>
                  <a:pt x="5755" y="3151"/>
                  <a:pt x="5742" y="3351"/>
                  <a:pt x="5779" y="3547"/>
                </a:cubicBezTo>
                <a:cubicBezTo>
                  <a:pt x="5804" y="3681"/>
                  <a:pt x="5811" y="3811"/>
                  <a:pt x="5829" y="3944"/>
                </a:cubicBezTo>
                <a:cubicBezTo>
                  <a:pt x="5841" y="4035"/>
                  <a:pt x="5789" y="4152"/>
                  <a:pt x="5854" y="4217"/>
                </a:cubicBezTo>
                <a:cubicBezTo>
                  <a:pt x="5873" y="4236"/>
                  <a:pt x="5879" y="4247"/>
                  <a:pt x="5879" y="42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Ink 7"/>
          <p:cNvSpPr/>
          <p:nvPr/>
        </p:nvSpPr>
        <p:spPr>
          <a:xfrm>
            <a:off x="2276640" y="1482840"/>
            <a:ext cx="18720" cy="204840"/>
          </a:xfrm>
          <a:custGeom>
            <a:avLst/>
            <a:gdLst/>
            <a:ahLst/>
            <a:rect l="l" t="t" r="r" b="b"/>
            <a:pathLst>
              <a:path w="51" h="571">
                <a:moveTo>
                  <a:pt x="6325" y="4118"/>
                </a:moveTo>
                <a:cubicBezTo>
                  <a:pt x="6325" y="4247"/>
                  <a:pt x="6336" y="4366"/>
                  <a:pt x="6350" y="4490"/>
                </a:cubicBezTo>
                <a:cubicBezTo>
                  <a:pt x="6358" y="4559"/>
                  <a:pt x="6309" y="4710"/>
                  <a:pt x="6375" y="4688"/>
                </a:cubicBezTo>
                <a:cubicBezTo>
                  <a:pt x="6375" y="4680"/>
                  <a:pt x="6375" y="4671"/>
                  <a:pt x="6375" y="46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Ink 8"/>
          <p:cNvSpPr/>
          <p:nvPr/>
        </p:nvSpPr>
        <p:spPr>
          <a:xfrm>
            <a:off x="2473200" y="1152360"/>
            <a:ext cx="1116000" cy="446400"/>
          </a:xfrm>
          <a:custGeom>
            <a:avLst/>
            <a:gdLst/>
            <a:ahLst/>
            <a:rect l="l" t="t" r="r" b="b"/>
            <a:pathLst>
              <a:path w="3101" h="1241">
                <a:moveTo>
                  <a:pt x="7045" y="3547"/>
                </a:moveTo>
                <a:cubicBezTo>
                  <a:pt x="7002" y="3558"/>
                  <a:pt x="6979" y="3587"/>
                  <a:pt x="6945" y="3621"/>
                </a:cubicBezTo>
                <a:cubicBezTo>
                  <a:pt x="6883" y="3683"/>
                  <a:pt x="6874" y="3758"/>
                  <a:pt x="6871" y="3845"/>
                </a:cubicBezTo>
                <a:cubicBezTo>
                  <a:pt x="6867" y="3967"/>
                  <a:pt x="6870" y="4057"/>
                  <a:pt x="6921" y="4167"/>
                </a:cubicBezTo>
                <a:cubicBezTo>
                  <a:pt x="6943" y="4215"/>
                  <a:pt x="7011" y="4253"/>
                  <a:pt x="7069" y="4242"/>
                </a:cubicBezTo>
                <a:cubicBezTo>
                  <a:pt x="7094" y="4234"/>
                  <a:pt x="7119" y="4225"/>
                  <a:pt x="7144" y="4217"/>
                </a:cubicBezTo>
              </a:path>
              <a:path w="3101" h="1241">
                <a:moveTo>
                  <a:pt x="7317" y="3746"/>
                </a:moveTo>
                <a:cubicBezTo>
                  <a:pt x="7295" y="3874"/>
                  <a:pt x="7222" y="4064"/>
                  <a:pt x="7268" y="4192"/>
                </a:cubicBezTo>
                <a:cubicBezTo>
                  <a:pt x="7293" y="4263"/>
                  <a:pt x="7346" y="4249"/>
                  <a:pt x="7392" y="4242"/>
                </a:cubicBezTo>
                <a:cubicBezTo>
                  <a:pt x="7452" y="4232"/>
                  <a:pt x="7500" y="4061"/>
                  <a:pt x="7516" y="4018"/>
                </a:cubicBezTo>
                <a:cubicBezTo>
                  <a:pt x="7552" y="3924"/>
                  <a:pt x="7568" y="3787"/>
                  <a:pt x="7516" y="3696"/>
                </a:cubicBezTo>
                <a:cubicBezTo>
                  <a:pt x="7486" y="3643"/>
                  <a:pt x="7446" y="3646"/>
                  <a:pt x="7392" y="3646"/>
                </a:cubicBezTo>
                <a:cubicBezTo>
                  <a:pt x="7359" y="3646"/>
                  <a:pt x="7326" y="3646"/>
                  <a:pt x="7293" y="3646"/>
                </a:cubicBezTo>
              </a:path>
              <a:path w="3101" h="1241">
                <a:moveTo>
                  <a:pt x="7764" y="3200"/>
                </a:moveTo>
                <a:cubicBezTo>
                  <a:pt x="7719" y="3323"/>
                  <a:pt x="7729" y="3391"/>
                  <a:pt x="7714" y="3522"/>
                </a:cubicBezTo>
                <a:cubicBezTo>
                  <a:pt x="7693" y="3703"/>
                  <a:pt x="7704" y="3886"/>
                  <a:pt x="7739" y="4068"/>
                </a:cubicBezTo>
                <a:cubicBezTo>
                  <a:pt x="7762" y="4186"/>
                  <a:pt x="7826" y="4331"/>
                  <a:pt x="7863" y="4415"/>
                </a:cubicBezTo>
                <a:cubicBezTo>
                  <a:pt x="7886" y="4467"/>
                  <a:pt x="7843" y="4410"/>
                  <a:pt x="7838" y="4390"/>
                </a:cubicBezTo>
              </a:path>
              <a:path w="3101" h="1241">
                <a:moveTo>
                  <a:pt x="7615" y="3696"/>
                </a:moveTo>
                <a:cubicBezTo>
                  <a:pt x="7622" y="3718"/>
                  <a:pt x="7704" y="3750"/>
                  <a:pt x="7739" y="3746"/>
                </a:cubicBezTo>
                <a:cubicBezTo>
                  <a:pt x="7815" y="3738"/>
                  <a:pt x="7903" y="3699"/>
                  <a:pt x="7987" y="3721"/>
                </a:cubicBezTo>
                <a:cubicBezTo>
                  <a:pt x="8062" y="3741"/>
                  <a:pt x="8024" y="3737"/>
                  <a:pt x="8086" y="3721"/>
                </a:cubicBezTo>
              </a:path>
              <a:path w="3101" h="1241">
                <a:moveTo>
                  <a:pt x="8409" y="3770"/>
                </a:moveTo>
                <a:cubicBezTo>
                  <a:pt x="8445" y="3749"/>
                  <a:pt x="8513" y="3729"/>
                  <a:pt x="8558" y="3721"/>
                </a:cubicBezTo>
                <a:cubicBezTo>
                  <a:pt x="8615" y="3711"/>
                  <a:pt x="8654" y="3735"/>
                  <a:pt x="8706" y="3746"/>
                </a:cubicBezTo>
              </a:path>
              <a:path w="3101" h="1241">
                <a:moveTo>
                  <a:pt x="8533" y="4018"/>
                </a:moveTo>
                <a:cubicBezTo>
                  <a:pt x="8602" y="4018"/>
                  <a:pt x="8669" y="4029"/>
                  <a:pt x="8731" y="3994"/>
                </a:cubicBezTo>
                <a:cubicBezTo>
                  <a:pt x="8823" y="3942"/>
                  <a:pt x="8887" y="3945"/>
                  <a:pt x="8979" y="3894"/>
                </a:cubicBezTo>
              </a:path>
              <a:path w="3101" h="1241">
                <a:moveTo>
                  <a:pt x="9475" y="3225"/>
                </a:moveTo>
                <a:cubicBezTo>
                  <a:pt x="9341" y="3466"/>
                  <a:pt x="9229" y="3665"/>
                  <a:pt x="9203" y="3944"/>
                </a:cubicBezTo>
                <a:cubicBezTo>
                  <a:pt x="9194" y="4035"/>
                  <a:pt x="9191" y="4208"/>
                  <a:pt x="9302" y="4242"/>
                </a:cubicBezTo>
                <a:cubicBezTo>
                  <a:pt x="9447" y="4287"/>
                  <a:pt x="9529" y="4230"/>
                  <a:pt x="9624" y="4118"/>
                </a:cubicBezTo>
                <a:cubicBezTo>
                  <a:pt x="9724" y="3999"/>
                  <a:pt x="9809" y="3890"/>
                  <a:pt x="9872" y="3746"/>
                </a:cubicBezTo>
                <a:cubicBezTo>
                  <a:pt x="9925" y="3624"/>
                  <a:pt x="9982" y="3474"/>
                  <a:pt x="9947" y="3349"/>
                </a:cubicBezTo>
                <a:cubicBezTo>
                  <a:pt x="9922" y="3258"/>
                  <a:pt x="9843" y="3215"/>
                  <a:pt x="9748" y="3200"/>
                </a:cubicBezTo>
                <a:cubicBezTo>
                  <a:pt x="9686" y="3190"/>
                  <a:pt x="9580" y="3201"/>
                  <a:pt x="9525" y="3225"/>
                </a:cubicBezTo>
                <a:cubicBezTo>
                  <a:pt x="9502" y="3247"/>
                  <a:pt x="9494" y="3252"/>
                  <a:pt x="9500" y="32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Ink 9"/>
          <p:cNvSpPr/>
          <p:nvPr/>
        </p:nvSpPr>
        <p:spPr>
          <a:xfrm>
            <a:off x="750960" y="2143080"/>
            <a:ext cx="812880" cy="258840"/>
          </a:xfrm>
          <a:custGeom>
            <a:avLst/>
            <a:gdLst/>
            <a:ahLst/>
            <a:rect l="l" t="t" r="r" b="b"/>
            <a:pathLst>
              <a:path w="2258" h="720">
                <a:moveTo>
                  <a:pt x="2406" y="6077"/>
                </a:moveTo>
                <a:cubicBezTo>
                  <a:pt x="2393" y="6039"/>
                  <a:pt x="2381" y="6057"/>
                  <a:pt x="2381" y="6003"/>
                </a:cubicBezTo>
                <a:cubicBezTo>
                  <a:pt x="2381" y="5977"/>
                  <a:pt x="2356" y="5956"/>
                  <a:pt x="2332" y="5953"/>
                </a:cubicBezTo>
                <a:cubicBezTo>
                  <a:pt x="2272" y="5945"/>
                  <a:pt x="2234" y="6036"/>
                  <a:pt x="2208" y="6077"/>
                </a:cubicBezTo>
                <a:cubicBezTo>
                  <a:pt x="2128" y="6199"/>
                  <a:pt x="2095" y="6328"/>
                  <a:pt x="2084" y="6474"/>
                </a:cubicBezTo>
                <a:cubicBezTo>
                  <a:pt x="2079" y="6541"/>
                  <a:pt x="2114" y="6600"/>
                  <a:pt x="2158" y="6648"/>
                </a:cubicBezTo>
                <a:cubicBezTo>
                  <a:pt x="2204" y="6698"/>
                  <a:pt x="2279" y="6671"/>
                  <a:pt x="2332" y="6648"/>
                </a:cubicBezTo>
                <a:cubicBezTo>
                  <a:pt x="2379" y="6627"/>
                  <a:pt x="2417" y="6604"/>
                  <a:pt x="2456" y="6573"/>
                </a:cubicBezTo>
              </a:path>
              <a:path w="2258" h="720">
                <a:moveTo>
                  <a:pt x="2952" y="5978"/>
                </a:moveTo>
                <a:cubicBezTo>
                  <a:pt x="2886" y="5963"/>
                  <a:pt x="2810" y="5954"/>
                  <a:pt x="2753" y="6003"/>
                </a:cubicBezTo>
                <a:cubicBezTo>
                  <a:pt x="2737" y="6017"/>
                  <a:pt x="2639" y="6094"/>
                  <a:pt x="2654" y="6127"/>
                </a:cubicBezTo>
                <a:cubicBezTo>
                  <a:pt x="2676" y="6176"/>
                  <a:pt x="2741" y="6220"/>
                  <a:pt x="2778" y="6251"/>
                </a:cubicBezTo>
                <a:cubicBezTo>
                  <a:pt x="2826" y="6291"/>
                  <a:pt x="2911" y="6306"/>
                  <a:pt x="2952" y="6350"/>
                </a:cubicBezTo>
                <a:cubicBezTo>
                  <a:pt x="2982" y="6382"/>
                  <a:pt x="3020" y="6452"/>
                  <a:pt x="3001" y="6499"/>
                </a:cubicBezTo>
                <a:cubicBezTo>
                  <a:pt x="2991" y="6525"/>
                  <a:pt x="2925" y="6546"/>
                  <a:pt x="2902" y="6548"/>
                </a:cubicBezTo>
                <a:cubicBezTo>
                  <a:pt x="2869" y="6550"/>
                  <a:pt x="2773" y="6548"/>
                  <a:pt x="2753" y="6524"/>
                </a:cubicBezTo>
                <a:cubicBezTo>
                  <a:pt x="2753" y="6516"/>
                  <a:pt x="2753" y="6507"/>
                  <a:pt x="2753" y="6499"/>
                </a:cubicBezTo>
              </a:path>
              <a:path w="2258" h="720">
                <a:moveTo>
                  <a:pt x="3324" y="6052"/>
                </a:moveTo>
                <a:cubicBezTo>
                  <a:pt x="3265" y="6135"/>
                  <a:pt x="3195" y="6221"/>
                  <a:pt x="3175" y="6325"/>
                </a:cubicBezTo>
                <a:cubicBezTo>
                  <a:pt x="3163" y="6387"/>
                  <a:pt x="3162" y="6477"/>
                  <a:pt x="3200" y="6524"/>
                </a:cubicBezTo>
                <a:cubicBezTo>
                  <a:pt x="3233" y="6565"/>
                  <a:pt x="3349" y="6603"/>
                  <a:pt x="3398" y="6598"/>
                </a:cubicBezTo>
                <a:cubicBezTo>
                  <a:pt x="3467" y="6591"/>
                  <a:pt x="3581" y="6527"/>
                  <a:pt x="3646" y="6499"/>
                </a:cubicBezTo>
                <a:cubicBezTo>
                  <a:pt x="3663" y="6491"/>
                  <a:pt x="3679" y="6482"/>
                  <a:pt x="3696" y="6474"/>
                </a:cubicBezTo>
              </a:path>
              <a:path w="2258" h="720">
                <a:moveTo>
                  <a:pt x="4018" y="6201"/>
                </a:moveTo>
                <a:cubicBezTo>
                  <a:pt x="4066" y="6165"/>
                  <a:pt x="4117" y="6177"/>
                  <a:pt x="4167" y="6152"/>
                </a:cubicBezTo>
                <a:cubicBezTo>
                  <a:pt x="4228" y="6121"/>
                  <a:pt x="4227" y="6133"/>
                  <a:pt x="4291" y="6152"/>
                </a:cubicBezTo>
                <a:cubicBezTo>
                  <a:pt x="4299" y="6152"/>
                  <a:pt x="4308" y="6152"/>
                  <a:pt x="4316" y="6152"/>
                </a:cubicBezTo>
              </a:path>
              <a:path w="2258" h="720">
                <a:moveTo>
                  <a:pt x="4118" y="6325"/>
                </a:moveTo>
                <a:cubicBezTo>
                  <a:pt x="4162" y="6306"/>
                  <a:pt x="4227" y="6284"/>
                  <a:pt x="4266" y="6276"/>
                </a:cubicBezTo>
                <a:cubicBezTo>
                  <a:pt x="4308" y="6276"/>
                  <a:pt x="4316" y="6276"/>
                  <a:pt x="4341" y="62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Ink 10"/>
          <p:cNvSpPr/>
          <p:nvPr/>
        </p:nvSpPr>
        <p:spPr>
          <a:xfrm>
            <a:off x="1714680" y="2035080"/>
            <a:ext cx="214200" cy="287280"/>
          </a:xfrm>
          <a:custGeom>
            <a:avLst/>
            <a:gdLst/>
            <a:ahLst/>
            <a:rect l="l" t="t" r="r" b="b"/>
            <a:pathLst>
              <a:path w="597" h="795">
                <a:moveTo>
                  <a:pt x="4762" y="6127"/>
                </a:moveTo>
                <a:cubicBezTo>
                  <a:pt x="4811" y="6115"/>
                  <a:pt x="4856" y="6116"/>
                  <a:pt x="4911" y="6102"/>
                </a:cubicBezTo>
                <a:cubicBezTo>
                  <a:pt x="4964" y="6089"/>
                  <a:pt x="4980" y="6077"/>
                  <a:pt x="5035" y="6077"/>
                </a:cubicBezTo>
              </a:path>
              <a:path w="597" h="795">
                <a:moveTo>
                  <a:pt x="5358" y="5655"/>
                </a:moveTo>
                <a:cubicBezTo>
                  <a:pt x="5358" y="5768"/>
                  <a:pt x="5345" y="5869"/>
                  <a:pt x="5333" y="5978"/>
                </a:cubicBezTo>
                <a:cubicBezTo>
                  <a:pt x="5323" y="6071"/>
                  <a:pt x="5308" y="6156"/>
                  <a:pt x="5308" y="6251"/>
                </a:cubicBezTo>
                <a:cubicBezTo>
                  <a:pt x="5308" y="6329"/>
                  <a:pt x="5313" y="6384"/>
                  <a:pt x="5333" y="6424"/>
                </a:cubicBezTo>
                <a:cubicBezTo>
                  <a:pt x="5333" y="6449"/>
                  <a:pt x="5333" y="6457"/>
                  <a:pt x="5358" y="64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Ink 11"/>
          <p:cNvSpPr/>
          <p:nvPr/>
        </p:nvSpPr>
        <p:spPr>
          <a:xfrm>
            <a:off x="741240" y="2803680"/>
            <a:ext cx="615960" cy="206280"/>
          </a:xfrm>
          <a:custGeom>
            <a:avLst/>
            <a:gdLst/>
            <a:ahLst/>
            <a:rect l="l" t="t" r="r" b="b"/>
            <a:pathLst>
              <a:path w="1712" h="571">
                <a:moveTo>
                  <a:pt x="2158" y="7813"/>
                </a:moveTo>
                <a:cubicBezTo>
                  <a:pt x="2158" y="7887"/>
                  <a:pt x="2180" y="7938"/>
                  <a:pt x="2183" y="8012"/>
                </a:cubicBezTo>
                <a:cubicBezTo>
                  <a:pt x="2186" y="8086"/>
                  <a:pt x="2189" y="8188"/>
                  <a:pt x="2208" y="8260"/>
                </a:cubicBezTo>
                <a:cubicBezTo>
                  <a:pt x="2209" y="8265"/>
                  <a:pt x="2238" y="8384"/>
                  <a:pt x="2257" y="8359"/>
                </a:cubicBezTo>
                <a:cubicBezTo>
                  <a:pt x="2257" y="8334"/>
                  <a:pt x="2257" y="8326"/>
                  <a:pt x="2232" y="8334"/>
                </a:cubicBezTo>
              </a:path>
              <a:path w="1712" h="571">
                <a:moveTo>
                  <a:pt x="2059" y="8136"/>
                </a:moveTo>
                <a:cubicBezTo>
                  <a:pt x="2090" y="8128"/>
                  <a:pt x="2153" y="8124"/>
                  <a:pt x="2183" y="8111"/>
                </a:cubicBezTo>
                <a:cubicBezTo>
                  <a:pt x="2241" y="8087"/>
                  <a:pt x="2293" y="8103"/>
                  <a:pt x="2356" y="8086"/>
                </a:cubicBezTo>
                <a:cubicBezTo>
                  <a:pt x="2373" y="8078"/>
                  <a:pt x="2389" y="8070"/>
                  <a:pt x="2406" y="8062"/>
                </a:cubicBezTo>
              </a:path>
              <a:path w="1712" h="571">
                <a:moveTo>
                  <a:pt x="2654" y="7863"/>
                </a:moveTo>
                <a:cubicBezTo>
                  <a:pt x="2560" y="7917"/>
                  <a:pt x="2580" y="7953"/>
                  <a:pt x="2580" y="8062"/>
                </a:cubicBezTo>
                <a:cubicBezTo>
                  <a:pt x="2580" y="8141"/>
                  <a:pt x="2575" y="8175"/>
                  <a:pt x="2629" y="8235"/>
                </a:cubicBezTo>
                <a:cubicBezTo>
                  <a:pt x="2664" y="8274"/>
                  <a:pt x="2707" y="8259"/>
                  <a:pt x="2729" y="8210"/>
                </a:cubicBezTo>
                <a:cubicBezTo>
                  <a:pt x="2746" y="8172"/>
                  <a:pt x="2751" y="8080"/>
                  <a:pt x="2753" y="8037"/>
                </a:cubicBezTo>
                <a:cubicBezTo>
                  <a:pt x="2753" y="7995"/>
                  <a:pt x="2753" y="7987"/>
                  <a:pt x="2753" y="7962"/>
                </a:cubicBezTo>
                <a:cubicBezTo>
                  <a:pt x="2753" y="7926"/>
                  <a:pt x="2724" y="7976"/>
                  <a:pt x="2729" y="8012"/>
                </a:cubicBezTo>
                <a:cubicBezTo>
                  <a:pt x="2737" y="8073"/>
                  <a:pt x="2753" y="8120"/>
                  <a:pt x="2753" y="8186"/>
                </a:cubicBezTo>
                <a:cubicBezTo>
                  <a:pt x="2753" y="8213"/>
                  <a:pt x="2791" y="8276"/>
                  <a:pt x="2828" y="8260"/>
                </a:cubicBezTo>
                <a:cubicBezTo>
                  <a:pt x="2858" y="8230"/>
                  <a:pt x="2869" y="8216"/>
                  <a:pt x="2877" y="8186"/>
                </a:cubicBezTo>
              </a:path>
              <a:path w="1712" h="571">
                <a:moveTo>
                  <a:pt x="2902" y="7888"/>
                </a:moveTo>
                <a:cubicBezTo>
                  <a:pt x="2902" y="7972"/>
                  <a:pt x="2883" y="8032"/>
                  <a:pt x="2877" y="8111"/>
                </a:cubicBezTo>
                <a:cubicBezTo>
                  <a:pt x="2873" y="8159"/>
                  <a:pt x="2895" y="8194"/>
                  <a:pt x="2902" y="8210"/>
                </a:cubicBezTo>
                <a:cubicBezTo>
                  <a:pt x="2902" y="8218"/>
                  <a:pt x="2902" y="8227"/>
                  <a:pt x="2902" y="8235"/>
                </a:cubicBezTo>
                <a:cubicBezTo>
                  <a:pt x="2915" y="8173"/>
                  <a:pt x="2912" y="8099"/>
                  <a:pt x="2927" y="8037"/>
                </a:cubicBezTo>
                <a:cubicBezTo>
                  <a:pt x="2945" y="7963"/>
                  <a:pt x="2975" y="7905"/>
                  <a:pt x="3001" y="7838"/>
                </a:cubicBezTo>
                <a:cubicBezTo>
                  <a:pt x="3001" y="7810"/>
                  <a:pt x="3003" y="7799"/>
                  <a:pt x="3026" y="7789"/>
                </a:cubicBezTo>
                <a:cubicBezTo>
                  <a:pt x="3081" y="7789"/>
                  <a:pt x="3082" y="7792"/>
                  <a:pt x="3101" y="7838"/>
                </a:cubicBezTo>
                <a:cubicBezTo>
                  <a:pt x="3130" y="7909"/>
                  <a:pt x="3146" y="7958"/>
                  <a:pt x="3150" y="8037"/>
                </a:cubicBezTo>
                <a:cubicBezTo>
                  <a:pt x="3151" y="8058"/>
                  <a:pt x="3138" y="8248"/>
                  <a:pt x="3175" y="8235"/>
                </a:cubicBezTo>
                <a:cubicBezTo>
                  <a:pt x="3175" y="8227"/>
                  <a:pt x="3175" y="8218"/>
                  <a:pt x="3175" y="8210"/>
                </a:cubicBezTo>
              </a:path>
              <a:path w="1712" h="571">
                <a:moveTo>
                  <a:pt x="3497" y="7938"/>
                </a:moveTo>
                <a:cubicBezTo>
                  <a:pt x="3497" y="7946"/>
                  <a:pt x="3497" y="7954"/>
                  <a:pt x="3497" y="7962"/>
                </a:cubicBezTo>
                <a:cubicBezTo>
                  <a:pt x="3520" y="7956"/>
                  <a:pt x="3576" y="7950"/>
                  <a:pt x="3597" y="7938"/>
                </a:cubicBezTo>
                <a:cubicBezTo>
                  <a:pt x="3635" y="7916"/>
                  <a:pt x="3648" y="7913"/>
                  <a:pt x="3696" y="7913"/>
                </a:cubicBezTo>
              </a:path>
              <a:path w="1712" h="571">
                <a:moveTo>
                  <a:pt x="3522" y="8062"/>
                </a:moveTo>
                <a:cubicBezTo>
                  <a:pt x="3575" y="8062"/>
                  <a:pt x="3651" y="8056"/>
                  <a:pt x="3696" y="8037"/>
                </a:cubicBezTo>
                <a:cubicBezTo>
                  <a:pt x="3724" y="8009"/>
                  <a:pt x="3737" y="8000"/>
                  <a:pt x="3770" y="80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Ink 12"/>
          <p:cNvSpPr/>
          <p:nvPr/>
        </p:nvSpPr>
        <p:spPr>
          <a:xfrm>
            <a:off x="1581120" y="2544840"/>
            <a:ext cx="1731960" cy="428400"/>
          </a:xfrm>
          <a:custGeom>
            <a:avLst/>
            <a:gdLst/>
            <a:ahLst/>
            <a:rect l="l" t="t" r="r" b="b"/>
            <a:pathLst>
              <a:path w="4814" h="1192">
                <a:moveTo>
                  <a:pt x="4415" y="7764"/>
                </a:moveTo>
                <a:cubicBezTo>
                  <a:pt x="4382" y="7819"/>
                  <a:pt x="4390" y="7870"/>
                  <a:pt x="4390" y="7938"/>
                </a:cubicBezTo>
                <a:cubicBezTo>
                  <a:pt x="4390" y="8007"/>
                  <a:pt x="4375" y="8076"/>
                  <a:pt x="4415" y="8136"/>
                </a:cubicBezTo>
                <a:cubicBezTo>
                  <a:pt x="4423" y="8144"/>
                  <a:pt x="4432" y="8153"/>
                  <a:pt x="4440" y="8161"/>
                </a:cubicBezTo>
                <a:cubicBezTo>
                  <a:pt x="4519" y="8141"/>
                  <a:pt x="4549" y="8112"/>
                  <a:pt x="4589" y="8037"/>
                </a:cubicBezTo>
                <a:cubicBezTo>
                  <a:pt x="4623" y="7974"/>
                  <a:pt x="4634" y="7884"/>
                  <a:pt x="4638" y="7813"/>
                </a:cubicBezTo>
                <a:cubicBezTo>
                  <a:pt x="4638" y="7772"/>
                  <a:pt x="4638" y="7748"/>
                  <a:pt x="4638" y="7789"/>
                </a:cubicBezTo>
                <a:cubicBezTo>
                  <a:pt x="4638" y="7875"/>
                  <a:pt x="4610" y="8021"/>
                  <a:pt x="4663" y="8086"/>
                </a:cubicBezTo>
                <a:cubicBezTo>
                  <a:pt x="4704" y="8137"/>
                  <a:pt x="4727" y="8151"/>
                  <a:pt x="4787" y="8111"/>
                </a:cubicBezTo>
                <a:cubicBezTo>
                  <a:pt x="4825" y="8073"/>
                  <a:pt x="4843" y="8050"/>
                  <a:pt x="4862" y="8012"/>
                </a:cubicBezTo>
              </a:path>
              <a:path w="4814" h="1192">
                <a:moveTo>
                  <a:pt x="4986" y="7689"/>
                </a:moveTo>
                <a:cubicBezTo>
                  <a:pt x="4986" y="7785"/>
                  <a:pt x="4975" y="7872"/>
                  <a:pt x="4961" y="7962"/>
                </a:cubicBezTo>
                <a:cubicBezTo>
                  <a:pt x="4955" y="7997"/>
                  <a:pt x="4958" y="8092"/>
                  <a:pt x="4986" y="8111"/>
                </a:cubicBezTo>
                <a:cubicBezTo>
                  <a:pt x="4994" y="8111"/>
                  <a:pt x="5003" y="8111"/>
                  <a:pt x="5011" y="8111"/>
                </a:cubicBezTo>
                <a:cubicBezTo>
                  <a:pt x="5025" y="8055"/>
                  <a:pt x="5040" y="7999"/>
                  <a:pt x="5060" y="7938"/>
                </a:cubicBezTo>
                <a:cubicBezTo>
                  <a:pt x="5092" y="7843"/>
                  <a:pt x="5112" y="7799"/>
                  <a:pt x="5184" y="7739"/>
                </a:cubicBezTo>
                <a:cubicBezTo>
                  <a:pt x="5216" y="7712"/>
                  <a:pt x="5252" y="7694"/>
                  <a:pt x="5283" y="7739"/>
                </a:cubicBezTo>
                <a:cubicBezTo>
                  <a:pt x="5319" y="7791"/>
                  <a:pt x="5350" y="7878"/>
                  <a:pt x="5358" y="7938"/>
                </a:cubicBezTo>
                <a:cubicBezTo>
                  <a:pt x="5370" y="8030"/>
                  <a:pt x="5333" y="8118"/>
                  <a:pt x="5333" y="8210"/>
                </a:cubicBezTo>
                <a:cubicBezTo>
                  <a:pt x="5333" y="8218"/>
                  <a:pt x="5333" y="8227"/>
                  <a:pt x="5333" y="8235"/>
                </a:cubicBezTo>
                <a:cubicBezTo>
                  <a:pt x="5362" y="8228"/>
                  <a:pt x="5436" y="8185"/>
                  <a:pt x="5457" y="8161"/>
                </a:cubicBezTo>
                <a:cubicBezTo>
                  <a:pt x="5465" y="8144"/>
                  <a:pt x="5474" y="8128"/>
                  <a:pt x="5482" y="8111"/>
                </a:cubicBezTo>
              </a:path>
              <a:path w="4814" h="1192">
                <a:moveTo>
                  <a:pt x="6028" y="7268"/>
                </a:moveTo>
                <a:cubicBezTo>
                  <a:pt x="6001" y="7376"/>
                  <a:pt x="6000" y="7482"/>
                  <a:pt x="5978" y="7590"/>
                </a:cubicBezTo>
                <a:cubicBezTo>
                  <a:pt x="5956" y="7700"/>
                  <a:pt x="5953" y="7799"/>
                  <a:pt x="5953" y="7913"/>
                </a:cubicBezTo>
                <a:cubicBezTo>
                  <a:pt x="5953" y="7989"/>
                  <a:pt x="5948" y="8027"/>
                  <a:pt x="5978" y="8086"/>
                </a:cubicBezTo>
                <a:cubicBezTo>
                  <a:pt x="5978" y="8009"/>
                  <a:pt x="5992" y="7932"/>
                  <a:pt x="5953" y="7863"/>
                </a:cubicBezTo>
                <a:cubicBezTo>
                  <a:pt x="5931" y="7825"/>
                  <a:pt x="5902" y="7764"/>
                  <a:pt x="5854" y="7764"/>
                </a:cubicBezTo>
                <a:cubicBezTo>
                  <a:pt x="5800" y="7764"/>
                  <a:pt x="5777" y="7821"/>
                  <a:pt x="5755" y="7863"/>
                </a:cubicBezTo>
                <a:cubicBezTo>
                  <a:pt x="5723" y="7924"/>
                  <a:pt x="5712" y="8002"/>
                  <a:pt x="5755" y="8062"/>
                </a:cubicBezTo>
                <a:cubicBezTo>
                  <a:pt x="5798" y="8122"/>
                  <a:pt x="5844" y="8132"/>
                  <a:pt x="5928" y="8136"/>
                </a:cubicBezTo>
                <a:cubicBezTo>
                  <a:pt x="6086" y="8144"/>
                  <a:pt x="6177" y="8104"/>
                  <a:pt x="6325" y="8037"/>
                </a:cubicBezTo>
                <a:cubicBezTo>
                  <a:pt x="6426" y="7991"/>
                  <a:pt x="6543" y="7936"/>
                  <a:pt x="6623" y="7863"/>
                </a:cubicBezTo>
                <a:cubicBezTo>
                  <a:pt x="6673" y="7817"/>
                  <a:pt x="6692" y="7773"/>
                  <a:pt x="6722" y="7714"/>
                </a:cubicBezTo>
                <a:cubicBezTo>
                  <a:pt x="6674" y="7695"/>
                  <a:pt x="6675" y="7686"/>
                  <a:pt x="6623" y="7714"/>
                </a:cubicBezTo>
                <a:cubicBezTo>
                  <a:pt x="6574" y="7741"/>
                  <a:pt x="6534" y="7863"/>
                  <a:pt x="6524" y="7913"/>
                </a:cubicBezTo>
                <a:cubicBezTo>
                  <a:pt x="6515" y="7959"/>
                  <a:pt x="6516" y="8066"/>
                  <a:pt x="6573" y="8086"/>
                </a:cubicBezTo>
                <a:cubicBezTo>
                  <a:pt x="6656" y="8115"/>
                  <a:pt x="6715" y="8099"/>
                  <a:pt x="6796" y="8086"/>
                </a:cubicBezTo>
                <a:cubicBezTo>
                  <a:pt x="6861" y="8076"/>
                  <a:pt x="6909" y="8064"/>
                  <a:pt x="6970" y="8037"/>
                </a:cubicBezTo>
              </a:path>
              <a:path w="4814" h="1192">
                <a:moveTo>
                  <a:pt x="7565" y="7144"/>
                </a:moveTo>
                <a:cubicBezTo>
                  <a:pt x="7518" y="7058"/>
                  <a:pt x="7520" y="7070"/>
                  <a:pt x="7441" y="7094"/>
                </a:cubicBezTo>
                <a:cubicBezTo>
                  <a:pt x="7359" y="7119"/>
                  <a:pt x="7343" y="7191"/>
                  <a:pt x="7317" y="7268"/>
                </a:cubicBezTo>
                <a:cubicBezTo>
                  <a:pt x="7273" y="7397"/>
                  <a:pt x="7208" y="7528"/>
                  <a:pt x="7193" y="7665"/>
                </a:cubicBezTo>
                <a:cubicBezTo>
                  <a:pt x="7180" y="7782"/>
                  <a:pt x="7194" y="7924"/>
                  <a:pt x="7218" y="8037"/>
                </a:cubicBezTo>
                <a:cubicBezTo>
                  <a:pt x="7233" y="8106"/>
                  <a:pt x="7270" y="8182"/>
                  <a:pt x="7317" y="8235"/>
                </a:cubicBezTo>
                <a:cubicBezTo>
                  <a:pt x="7340" y="8258"/>
                  <a:pt x="7348" y="8269"/>
                  <a:pt x="7342" y="8235"/>
                </a:cubicBezTo>
              </a:path>
              <a:path w="4814" h="1192">
                <a:moveTo>
                  <a:pt x="7094" y="7739"/>
                </a:moveTo>
                <a:cubicBezTo>
                  <a:pt x="7162" y="7807"/>
                  <a:pt x="7181" y="7815"/>
                  <a:pt x="7268" y="7838"/>
                </a:cubicBezTo>
                <a:cubicBezTo>
                  <a:pt x="7364" y="7863"/>
                  <a:pt x="7468" y="7875"/>
                  <a:pt x="7565" y="7838"/>
                </a:cubicBezTo>
                <a:cubicBezTo>
                  <a:pt x="7598" y="7825"/>
                  <a:pt x="7603" y="7798"/>
                  <a:pt x="7640" y="7789"/>
                </a:cubicBezTo>
              </a:path>
              <a:path w="4814" h="1192">
                <a:moveTo>
                  <a:pt x="7565" y="7863"/>
                </a:moveTo>
                <a:cubicBezTo>
                  <a:pt x="7563" y="7880"/>
                  <a:pt x="7501" y="8079"/>
                  <a:pt x="7565" y="8111"/>
                </a:cubicBezTo>
                <a:cubicBezTo>
                  <a:pt x="7573" y="8111"/>
                  <a:pt x="7582" y="8111"/>
                  <a:pt x="7590" y="8111"/>
                </a:cubicBezTo>
              </a:path>
              <a:path w="4814" h="1192">
                <a:moveTo>
                  <a:pt x="7590" y="7714"/>
                </a:moveTo>
                <a:lnTo>
                  <a:pt x="7590" y="7714"/>
                </a:lnTo>
              </a:path>
              <a:path w="4814" h="1192">
                <a:moveTo>
                  <a:pt x="7863" y="7813"/>
                </a:moveTo>
                <a:cubicBezTo>
                  <a:pt x="7840" y="7930"/>
                  <a:pt x="7845" y="7980"/>
                  <a:pt x="7863" y="8086"/>
                </a:cubicBezTo>
                <a:cubicBezTo>
                  <a:pt x="7877" y="8170"/>
                  <a:pt x="7869" y="8105"/>
                  <a:pt x="7888" y="8161"/>
                </a:cubicBezTo>
                <a:cubicBezTo>
                  <a:pt x="7934" y="8084"/>
                  <a:pt x="7934" y="8010"/>
                  <a:pt x="7938" y="7913"/>
                </a:cubicBezTo>
                <a:cubicBezTo>
                  <a:pt x="7938" y="7896"/>
                  <a:pt x="7938" y="7880"/>
                  <a:pt x="7938" y="7863"/>
                </a:cubicBezTo>
              </a:path>
              <a:path w="4814" h="1192">
                <a:moveTo>
                  <a:pt x="7987" y="7739"/>
                </a:moveTo>
                <a:cubicBezTo>
                  <a:pt x="7995" y="7731"/>
                  <a:pt x="8004" y="7722"/>
                  <a:pt x="8012" y="7714"/>
                </a:cubicBezTo>
                <a:cubicBezTo>
                  <a:pt x="8051" y="7779"/>
                  <a:pt x="8037" y="7858"/>
                  <a:pt x="8037" y="7938"/>
                </a:cubicBezTo>
                <a:cubicBezTo>
                  <a:pt x="8037" y="8004"/>
                  <a:pt x="8051" y="8104"/>
                  <a:pt x="8086" y="8161"/>
                </a:cubicBezTo>
                <a:cubicBezTo>
                  <a:pt x="8109" y="8184"/>
                  <a:pt x="8113" y="8192"/>
                  <a:pt x="8136" y="8186"/>
                </a:cubicBezTo>
                <a:cubicBezTo>
                  <a:pt x="8188" y="8186"/>
                  <a:pt x="8226" y="8150"/>
                  <a:pt x="8260" y="8111"/>
                </a:cubicBezTo>
                <a:cubicBezTo>
                  <a:pt x="8319" y="8042"/>
                  <a:pt x="8401" y="7917"/>
                  <a:pt x="8434" y="7838"/>
                </a:cubicBezTo>
                <a:cubicBezTo>
                  <a:pt x="8464" y="7764"/>
                  <a:pt x="8480" y="7733"/>
                  <a:pt x="8458" y="7689"/>
                </a:cubicBezTo>
                <a:cubicBezTo>
                  <a:pt x="8414" y="7734"/>
                  <a:pt x="8382" y="7778"/>
                  <a:pt x="8359" y="7838"/>
                </a:cubicBezTo>
                <a:cubicBezTo>
                  <a:pt x="8336" y="7898"/>
                  <a:pt x="8285" y="7994"/>
                  <a:pt x="8310" y="8062"/>
                </a:cubicBezTo>
                <a:cubicBezTo>
                  <a:pt x="8336" y="8131"/>
                  <a:pt x="8368" y="8136"/>
                  <a:pt x="8434" y="8136"/>
                </a:cubicBezTo>
                <a:cubicBezTo>
                  <a:pt x="8530" y="8136"/>
                  <a:pt x="8593" y="8124"/>
                  <a:pt x="8682" y="8086"/>
                </a:cubicBezTo>
                <a:cubicBezTo>
                  <a:pt x="8741" y="8061"/>
                  <a:pt x="8794" y="8057"/>
                  <a:pt x="8855" y="8037"/>
                </a:cubicBezTo>
              </a:path>
              <a:path w="4814" h="1192">
                <a:moveTo>
                  <a:pt x="9029" y="7913"/>
                </a:moveTo>
                <a:cubicBezTo>
                  <a:pt x="9051" y="7834"/>
                  <a:pt x="9076" y="7765"/>
                  <a:pt x="9029" y="7689"/>
                </a:cubicBezTo>
                <a:cubicBezTo>
                  <a:pt x="9018" y="7672"/>
                  <a:pt x="8948" y="7645"/>
                  <a:pt x="8930" y="7665"/>
                </a:cubicBezTo>
                <a:cubicBezTo>
                  <a:pt x="8872" y="7729"/>
                  <a:pt x="8849" y="7815"/>
                  <a:pt x="8830" y="7888"/>
                </a:cubicBezTo>
                <a:cubicBezTo>
                  <a:pt x="8806" y="7977"/>
                  <a:pt x="8790" y="8014"/>
                  <a:pt x="8855" y="8086"/>
                </a:cubicBezTo>
                <a:cubicBezTo>
                  <a:pt x="8899" y="8134"/>
                  <a:pt x="8938" y="8100"/>
                  <a:pt x="8979" y="8062"/>
                </a:cubicBezTo>
                <a:cubicBezTo>
                  <a:pt x="9061" y="7986"/>
                  <a:pt x="9094" y="7867"/>
                  <a:pt x="9128" y="7764"/>
                </a:cubicBezTo>
              </a:path>
              <a:path w="4814" h="1192">
                <a:moveTo>
                  <a:pt x="9178" y="7342"/>
                </a:moveTo>
                <a:cubicBezTo>
                  <a:pt x="9140" y="7317"/>
                  <a:pt x="9114" y="7370"/>
                  <a:pt x="9103" y="7441"/>
                </a:cubicBezTo>
                <a:cubicBezTo>
                  <a:pt x="9075" y="7613"/>
                  <a:pt x="9097" y="7790"/>
                  <a:pt x="9103" y="7962"/>
                </a:cubicBezTo>
                <a:cubicBezTo>
                  <a:pt x="9105" y="8026"/>
                  <a:pt x="9095" y="8106"/>
                  <a:pt x="9128" y="8161"/>
                </a:cubicBezTo>
                <a:cubicBezTo>
                  <a:pt x="9147" y="8193"/>
                  <a:pt x="9172" y="8203"/>
                  <a:pt x="9203" y="82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Ink 13"/>
          <p:cNvSpPr/>
          <p:nvPr/>
        </p:nvSpPr>
        <p:spPr>
          <a:xfrm>
            <a:off x="866880" y="3375000"/>
            <a:ext cx="482400" cy="206280"/>
          </a:xfrm>
          <a:custGeom>
            <a:avLst/>
            <a:gdLst/>
            <a:ahLst/>
            <a:rect l="l" t="t" r="r" b="b"/>
            <a:pathLst>
              <a:path w="1341" h="572">
                <a:moveTo>
                  <a:pt x="2704" y="9451"/>
                </a:moveTo>
                <a:cubicBezTo>
                  <a:pt x="2679" y="9419"/>
                  <a:pt x="2642" y="9341"/>
                  <a:pt x="2580" y="9376"/>
                </a:cubicBezTo>
                <a:cubicBezTo>
                  <a:pt x="2525" y="9407"/>
                  <a:pt x="2468" y="9457"/>
                  <a:pt x="2456" y="9525"/>
                </a:cubicBezTo>
                <a:cubicBezTo>
                  <a:pt x="2444" y="9598"/>
                  <a:pt x="2397" y="9751"/>
                  <a:pt x="2406" y="9823"/>
                </a:cubicBezTo>
                <a:cubicBezTo>
                  <a:pt x="2408" y="9840"/>
                  <a:pt x="2430" y="9934"/>
                  <a:pt x="2456" y="9947"/>
                </a:cubicBezTo>
                <a:cubicBezTo>
                  <a:pt x="2496" y="9967"/>
                  <a:pt x="2551" y="9938"/>
                  <a:pt x="2580" y="9922"/>
                </a:cubicBezTo>
                <a:cubicBezTo>
                  <a:pt x="2596" y="9914"/>
                  <a:pt x="2613" y="9905"/>
                  <a:pt x="2629" y="9897"/>
                </a:cubicBezTo>
              </a:path>
              <a:path w="1341" h="572">
                <a:moveTo>
                  <a:pt x="2952" y="9451"/>
                </a:moveTo>
                <a:cubicBezTo>
                  <a:pt x="2918" y="9517"/>
                  <a:pt x="2865" y="9601"/>
                  <a:pt x="2853" y="9674"/>
                </a:cubicBezTo>
                <a:cubicBezTo>
                  <a:pt x="2844" y="9732"/>
                  <a:pt x="2802" y="9866"/>
                  <a:pt x="2828" y="9922"/>
                </a:cubicBezTo>
                <a:cubicBezTo>
                  <a:pt x="2851" y="9972"/>
                  <a:pt x="2922" y="9942"/>
                  <a:pt x="2952" y="9922"/>
                </a:cubicBezTo>
                <a:cubicBezTo>
                  <a:pt x="3012" y="9882"/>
                  <a:pt x="3071" y="9783"/>
                  <a:pt x="3101" y="9723"/>
                </a:cubicBezTo>
                <a:cubicBezTo>
                  <a:pt x="3113" y="9700"/>
                  <a:pt x="3152" y="9553"/>
                  <a:pt x="3125" y="9525"/>
                </a:cubicBezTo>
                <a:cubicBezTo>
                  <a:pt x="3092" y="9491"/>
                  <a:pt x="3054" y="9551"/>
                  <a:pt x="3051" y="9575"/>
                </a:cubicBezTo>
                <a:cubicBezTo>
                  <a:pt x="3051" y="9583"/>
                  <a:pt x="3051" y="9591"/>
                  <a:pt x="3051" y="9599"/>
                </a:cubicBezTo>
              </a:path>
              <a:path w="1341" h="572">
                <a:moveTo>
                  <a:pt x="3497" y="9401"/>
                </a:moveTo>
                <a:cubicBezTo>
                  <a:pt x="3459" y="9411"/>
                  <a:pt x="3429" y="9425"/>
                  <a:pt x="3398" y="9451"/>
                </a:cubicBezTo>
                <a:cubicBezTo>
                  <a:pt x="3345" y="9497"/>
                  <a:pt x="3375" y="9523"/>
                  <a:pt x="3423" y="9550"/>
                </a:cubicBezTo>
                <a:cubicBezTo>
                  <a:pt x="3491" y="9588"/>
                  <a:pt x="3551" y="9637"/>
                  <a:pt x="3621" y="9674"/>
                </a:cubicBezTo>
                <a:cubicBezTo>
                  <a:pt x="3672" y="9701"/>
                  <a:pt x="3739" y="9711"/>
                  <a:pt x="3746" y="9773"/>
                </a:cubicBezTo>
                <a:cubicBezTo>
                  <a:pt x="3751" y="9817"/>
                  <a:pt x="3684" y="9863"/>
                  <a:pt x="3646" y="9872"/>
                </a:cubicBezTo>
                <a:cubicBezTo>
                  <a:pt x="3597" y="9883"/>
                  <a:pt x="3548" y="9897"/>
                  <a:pt x="3497" y="9897"/>
                </a:cubicBezTo>
                <a:cubicBezTo>
                  <a:pt x="3489" y="9897"/>
                  <a:pt x="3481" y="9897"/>
                  <a:pt x="3473" y="9897"/>
                </a:cubicBezTo>
                <a:cubicBezTo>
                  <a:pt x="3485" y="9859"/>
                  <a:pt x="3549" y="9846"/>
                  <a:pt x="3597" y="98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Ink 14"/>
          <p:cNvSpPr/>
          <p:nvPr/>
        </p:nvSpPr>
        <p:spPr>
          <a:xfrm>
            <a:off x="1482840" y="3411360"/>
            <a:ext cx="115920" cy="61920"/>
          </a:xfrm>
          <a:custGeom>
            <a:avLst/>
            <a:gdLst/>
            <a:ahLst/>
            <a:rect l="l" t="t" r="r" b="b"/>
            <a:pathLst>
              <a:path w="323" h="175">
                <a:moveTo>
                  <a:pt x="4118" y="9475"/>
                </a:moveTo>
                <a:cubicBezTo>
                  <a:pt x="4209" y="9475"/>
                  <a:pt x="4299" y="9475"/>
                  <a:pt x="4390" y="9475"/>
                </a:cubicBezTo>
              </a:path>
              <a:path w="323" h="175">
                <a:moveTo>
                  <a:pt x="4242" y="9649"/>
                </a:moveTo>
                <a:cubicBezTo>
                  <a:pt x="4308" y="9649"/>
                  <a:pt x="4374" y="9649"/>
                  <a:pt x="4440" y="96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Ink 15"/>
          <p:cNvSpPr/>
          <p:nvPr/>
        </p:nvSpPr>
        <p:spPr>
          <a:xfrm>
            <a:off x="1911240" y="3340080"/>
            <a:ext cx="204840" cy="214200"/>
          </a:xfrm>
          <a:custGeom>
            <a:avLst/>
            <a:gdLst/>
            <a:ahLst/>
            <a:rect l="l" t="t" r="r" b="b"/>
            <a:pathLst>
              <a:path w="572" h="596">
                <a:moveTo>
                  <a:pt x="5556" y="9302"/>
                </a:moveTo>
                <a:cubicBezTo>
                  <a:pt x="5492" y="9382"/>
                  <a:pt x="5436" y="9432"/>
                  <a:pt x="5383" y="9525"/>
                </a:cubicBezTo>
                <a:cubicBezTo>
                  <a:pt x="5345" y="9592"/>
                  <a:pt x="5312" y="9673"/>
                  <a:pt x="5308" y="9748"/>
                </a:cubicBezTo>
                <a:cubicBezTo>
                  <a:pt x="5305" y="9807"/>
                  <a:pt x="5345" y="9857"/>
                  <a:pt x="5407" y="9872"/>
                </a:cubicBezTo>
                <a:cubicBezTo>
                  <a:pt x="5453" y="9883"/>
                  <a:pt x="5597" y="9825"/>
                  <a:pt x="5631" y="9798"/>
                </a:cubicBezTo>
                <a:cubicBezTo>
                  <a:pt x="5727" y="9721"/>
                  <a:pt x="5850" y="9601"/>
                  <a:pt x="5879" y="9475"/>
                </a:cubicBezTo>
                <a:cubicBezTo>
                  <a:pt x="5900" y="9383"/>
                  <a:pt x="5864" y="9352"/>
                  <a:pt x="5804" y="9302"/>
                </a:cubicBezTo>
                <a:cubicBezTo>
                  <a:pt x="5743" y="9251"/>
                  <a:pt x="5698" y="9286"/>
                  <a:pt x="5631" y="9302"/>
                </a:cubicBezTo>
                <a:cubicBezTo>
                  <a:pt x="5583" y="9313"/>
                  <a:pt x="5579" y="9292"/>
                  <a:pt x="5556" y="93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Ink 16"/>
          <p:cNvSpPr/>
          <p:nvPr/>
        </p:nvSpPr>
        <p:spPr>
          <a:xfrm>
            <a:off x="3956040" y="3259080"/>
            <a:ext cx="561960" cy="241200"/>
          </a:xfrm>
          <a:custGeom>
            <a:avLst/>
            <a:gdLst/>
            <a:ahLst/>
            <a:rect l="l" t="t" r="r" b="b"/>
            <a:pathLst>
              <a:path w="1564" h="670">
                <a:moveTo>
                  <a:pt x="11410" y="9153"/>
                </a:moveTo>
                <a:cubicBezTo>
                  <a:pt x="11302" y="9160"/>
                  <a:pt x="11256" y="9162"/>
                  <a:pt x="11162" y="9203"/>
                </a:cubicBezTo>
                <a:cubicBezTo>
                  <a:pt x="11109" y="9226"/>
                  <a:pt x="11055" y="9264"/>
                  <a:pt x="11013" y="9302"/>
                </a:cubicBezTo>
                <a:cubicBezTo>
                  <a:pt x="10972" y="9339"/>
                  <a:pt x="10983" y="9382"/>
                  <a:pt x="11013" y="9426"/>
                </a:cubicBezTo>
                <a:cubicBezTo>
                  <a:pt x="11045" y="9475"/>
                  <a:pt x="11158" y="9497"/>
                  <a:pt x="11212" y="9525"/>
                </a:cubicBezTo>
                <a:cubicBezTo>
                  <a:pt x="11265" y="9552"/>
                  <a:pt x="11359" y="9589"/>
                  <a:pt x="11385" y="9649"/>
                </a:cubicBezTo>
                <a:cubicBezTo>
                  <a:pt x="11385" y="9674"/>
                  <a:pt x="11385" y="9682"/>
                  <a:pt x="11385" y="9699"/>
                </a:cubicBezTo>
                <a:cubicBezTo>
                  <a:pt x="11331" y="9731"/>
                  <a:pt x="11279" y="9723"/>
                  <a:pt x="11212" y="9723"/>
                </a:cubicBezTo>
                <a:cubicBezTo>
                  <a:pt x="11145" y="9723"/>
                  <a:pt x="11049" y="9752"/>
                  <a:pt x="11088" y="9674"/>
                </a:cubicBezTo>
              </a:path>
              <a:path w="1564" h="670">
                <a:moveTo>
                  <a:pt x="11633" y="9525"/>
                </a:moveTo>
                <a:cubicBezTo>
                  <a:pt x="11662" y="9515"/>
                  <a:pt x="11676" y="9504"/>
                  <a:pt x="11708" y="9475"/>
                </a:cubicBezTo>
                <a:cubicBezTo>
                  <a:pt x="11764" y="9423"/>
                  <a:pt x="11812" y="9382"/>
                  <a:pt x="11857" y="9327"/>
                </a:cubicBezTo>
                <a:cubicBezTo>
                  <a:pt x="11891" y="9285"/>
                  <a:pt x="11892" y="9320"/>
                  <a:pt x="11906" y="9277"/>
                </a:cubicBezTo>
                <a:cubicBezTo>
                  <a:pt x="11853" y="9277"/>
                  <a:pt x="11845" y="9289"/>
                  <a:pt x="11807" y="9327"/>
                </a:cubicBezTo>
                <a:cubicBezTo>
                  <a:pt x="11747" y="9386"/>
                  <a:pt x="11633" y="9483"/>
                  <a:pt x="11633" y="9575"/>
                </a:cubicBezTo>
                <a:cubicBezTo>
                  <a:pt x="11633" y="9651"/>
                  <a:pt x="11729" y="9664"/>
                  <a:pt x="11782" y="9649"/>
                </a:cubicBezTo>
                <a:cubicBezTo>
                  <a:pt x="11831" y="9635"/>
                  <a:pt x="11885" y="9597"/>
                  <a:pt x="11931" y="9575"/>
                </a:cubicBezTo>
              </a:path>
              <a:path w="1564" h="670">
                <a:moveTo>
                  <a:pt x="12055" y="9351"/>
                </a:moveTo>
                <a:cubicBezTo>
                  <a:pt x="12012" y="9452"/>
                  <a:pt x="11930" y="9570"/>
                  <a:pt x="12005" y="9674"/>
                </a:cubicBezTo>
                <a:cubicBezTo>
                  <a:pt x="12039" y="9722"/>
                  <a:pt x="12078" y="9725"/>
                  <a:pt x="12129" y="9699"/>
                </a:cubicBezTo>
                <a:cubicBezTo>
                  <a:pt x="12181" y="9673"/>
                  <a:pt x="12205" y="9597"/>
                  <a:pt x="12229" y="9550"/>
                </a:cubicBezTo>
              </a:path>
              <a:path w="1564" h="670">
                <a:moveTo>
                  <a:pt x="12402" y="9054"/>
                </a:moveTo>
                <a:cubicBezTo>
                  <a:pt x="12372" y="9135"/>
                  <a:pt x="12356" y="9214"/>
                  <a:pt x="12353" y="9302"/>
                </a:cubicBezTo>
                <a:cubicBezTo>
                  <a:pt x="12348" y="9434"/>
                  <a:pt x="12353" y="9567"/>
                  <a:pt x="12353" y="9699"/>
                </a:cubicBezTo>
              </a:path>
              <a:path w="1564" h="670">
                <a:moveTo>
                  <a:pt x="12204" y="9327"/>
                </a:moveTo>
                <a:cubicBezTo>
                  <a:pt x="12321" y="9327"/>
                  <a:pt x="12443" y="9343"/>
                  <a:pt x="12551" y="93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Ink 17"/>
          <p:cNvSpPr/>
          <p:nvPr/>
        </p:nvSpPr>
        <p:spPr>
          <a:xfrm>
            <a:off x="4741920" y="3419640"/>
            <a:ext cx="125280" cy="72720"/>
          </a:xfrm>
          <a:custGeom>
            <a:avLst/>
            <a:gdLst/>
            <a:ahLst/>
            <a:rect l="l" t="t" r="r" b="b"/>
            <a:pathLst>
              <a:path w="349" h="200">
                <a:moveTo>
                  <a:pt x="13171" y="9525"/>
                </a:moveTo>
                <a:cubicBezTo>
                  <a:pt x="13245" y="9505"/>
                  <a:pt x="13294" y="9500"/>
                  <a:pt x="13370" y="9500"/>
                </a:cubicBezTo>
                <a:cubicBezTo>
                  <a:pt x="13395" y="9500"/>
                  <a:pt x="13403" y="9500"/>
                  <a:pt x="13419" y="9500"/>
                </a:cubicBezTo>
              </a:path>
              <a:path w="349" h="200">
                <a:moveTo>
                  <a:pt x="13271" y="9699"/>
                </a:moveTo>
                <a:cubicBezTo>
                  <a:pt x="13338" y="9699"/>
                  <a:pt x="13390" y="9685"/>
                  <a:pt x="13444" y="9674"/>
                </a:cubicBezTo>
                <a:cubicBezTo>
                  <a:pt x="13489" y="9674"/>
                  <a:pt x="13502" y="9677"/>
                  <a:pt x="13519" y="96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Ink 18"/>
          <p:cNvSpPr/>
          <p:nvPr/>
        </p:nvSpPr>
        <p:spPr>
          <a:xfrm>
            <a:off x="5241960" y="3205080"/>
            <a:ext cx="438120" cy="304920"/>
          </a:xfrm>
          <a:custGeom>
            <a:avLst/>
            <a:gdLst/>
            <a:ahLst/>
            <a:rect l="l" t="t" r="r" b="b"/>
            <a:pathLst>
              <a:path w="1217" h="844">
                <a:moveTo>
                  <a:pt x="14585" y="9203"/>
                </a:moveTo>
                <a:cubicBezTo>
                  <a:pt x="14578" y="9325"/>
                  <a:pt x="14541" y="9450"/>
                  <a:pt x="14560" y="9575"/>
                </a:cubicBezTo>
                <a:cubicBezTo>
                  <a:pt x="14568" y="9624"/>
                  <a:pt x="14580" y="9724"/>
                  <a:pt x="14635" y="9748"/>
                </a:cubicBezTo>
                <a:cubicBezTo>
                  <a:pt x="14660" y="9748"/>
                  <a:pt x="14668" y="9748"/>
                  <a:pt x="14684" y="9748"/>
                </a:cubicBezTo>
                <a:cubicBezTo>
                  <a:pt x="14720" y="9688"/>
                  <a:pt x="14709" y="9625"/>
                  <a:pt x="14709" y="9550"/>
                </a:cubicBezTo>
                <a:cubicBezTo>
                  <a:pt x="14709" y="9507"/>
                  <a:pt x="14654" y="9362"/>
                  <a:pt x="14684" y="9327"/>
                </a:cubicBezTo>
                <a:cubicBezTo>
                  <a:pt x="14692" y="9327"/>
                  <a:pt x="14701" y="9327"/>
                  <a:pt x="14709" y="9327"/>
                </a:cubicBezTo>
                <a:cubicBezTo>
                  <a:pt x="14709" y="9414"/>
                  <a:pt x="14700" y="9495"/>
                  <a:pt x="14734" y="9575"/>
                </a:cubicBezTo>
                <a:cubicBezTo>
                  <a:pt x="14757" y="9628"/>
                  <a:pt x="14816" y="9693"/>
                  <a:pt x="14833" y="9723"/>
                </a:cubicBezTo>
                <a:cubicBezTo>
                  <a:pt x="14833" y="9731"/>
                  <a:pt x="14833" y="9740"/>
                  <a:pt x="14833" y="9748"/>
                </a:cubicBezTo>
                <a:cubicBezTo>
                  <a:pt x="14859" y="9714"/>
                  <a:pt x="14879" y="9643"/>
                  <a:pt x="14883" y="9599"/>
                </a:cubicBezTo>
                <a:cubicBezTo>
                  <a:pt x="14883" y="9558"/>
                  <a:pt x="14883" y="9516"/>
                  <a:pt x="14883" y="9475"/>
                </a:cubicBezTo>
              </a:path>
              <a:path w="1217" h="844">
                <a:moveTo>
                  <a:pt x="14883" y="9327"/>
                </a:moveTo>
                <a:cubicBezTo>
                  <a:pt x="14883" y="9418"/>
                  <a:pt x="14884" y="9491"/>
                  <a:pt x="14908" y="9575"/>
                </a:cubicBezTo>
                <a:cubicBezTo>
                  <a:pt x="14927" y="9643"/>
                  <a:pt x="14919" y="9698"/>
                  <a:pt x="14957" y="9723"/>
                </a:cubicBezTo>
                <a:cubicBezTo>
                  <a:pt x="14957" y="9655"/>
                  <a:pt x="14921" y="9590"/>
                  <a:pt x="14932" y="9525"/>
                </a:cubicBezTo>
                <a:cubicBezTo>
                  <a:pt x="14942" y="9468"/>
                  <a:pt x="14943" y="9355"/>
                  <a:pt x="15007" y="9327"/>
                </a:cubicBezTo>
                <a:cubicBezTo>
                  <a:pt x="15015" y="9327"/>
                  <a:pt x="15024" y="9327"/>
                  <a:pt x="15032" y="9327"/>
                </a:cubicBezTo>
                <a:cubicBezTo>
                  <a:pt x="15062" y="9378"/>
                  <a:pt x="15076" y="9440"/>
                  <a:pt x="15106" y="9500"/>
                </a:cubicBezTo>
                <a:cubicBezTo>
                  <a:pt x="15145" y="9578"/>
                  <a:pt x="15169" y="9640"/>
                  <a:pt x="15230" y="9699"/>
                </a:cubicBezTo>
                <a:cubicBezTo>
                  <a:pt x="15253" y="9721"/>
                  <a:pt x="15258" y="9729"/>
                  <a:pt x="15280" y="9723"/>
                </a:cubicBezTo>
              </a:path>
              <a:path w="1217" h="844">
                <a:moveTo>
                  <a:pt x="15701" y="8905"/>
                </a:moveTo>
                <a:cubicBezTo>
                  <a:pt x="15622" y="8925"/>
                  <a:pt x="15670" y="8957"/>
                  <a:pt x="15652" y="9029"/>
                </a:cubicBezTo>
                <a:cubicBezTo>
                  <a:pt x="15620" y="9156"/>
                  <a:pt x="15639" y="9246"/>
                  <a:pt x="15652" y="9376"/>
                </a:cubicBezTo>
                <a:cubicBezTo>
                  <a:pt x="15660" y="9461"/>
                  <a:pt x="15669" y="9544"/>
                  <a:pt x="15677" y="9624"/>
                </a:cubicBezTo>
                <a:cubicBezTo>
                  <a:pt x="15677" y="9649"/>
                  <a:pt x="15677" y="9657"/>
                  <a:pt x="15677" y="9674"/>
                </a:cubicBezTo>
                <a:cubicBezTo>
                  <a:pt x="15666" y="9588"/>
                  <a:pt x="15634" y="9484"/>
                  <a:pt x="15602" y="9401"/>
                </a:cubicBezTo>
                <a:cubicBezTo>
                  <a:pt x="15572" y="9341"/>
                  <a:pt x="15558" y="9315"/>
                  <a:pt x="15528" y="9277"/>
                </a:cubicBezTo>
                <a:cubicBezTo>
                  <a:pt x="15479" y="9301"/>
                  <a:pt x="15456" y="9341"/>
                  <a:pt x="15453" y="9401"/>
                </a:cubicBezTo>
                <a:cubicBezTo>
                  <a:pt x="15450" y="9466"/>
                  <a:pt x="15440" y="9547"/>
                  <a:pt x="15478" y="9575"/>
                </a:cubicBezTo>
                <a:cubicBezTo>
                  <a:pt x="15527" y="9611"/>
                  <a:pt x="15553" y="9596"/>
                  <a:pt x="15602" y="9575"/>
                </a:cubicBezTo>
                <a:cubicBezTo>
                  <a:pt x="15672" y="9545"/>
                  <a:pt x="15697" y="9510"/>
                  <a:pt x="15776" y="95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Ink 19"/>
          <p:cNvSpPr/>
          <p:nvPr/>
        </p:nvSpPr>
        <p:spPr>
          <a:xfrm>
            <a:off x="5813280" y="3490920"/>
            <a:ext cx="9720" cy="19080"/>
          </a:xfrm>
          <a:custGeom>
            <a:avLst/>
            <a:gdLst/>
            <a:ahLst/>
            <a:rect l="l" t="t" r="r" b="b"/>
            <a:pathLst>
              <a:path w="26" h="50">
                <a:moveTo>
                  <a:pt x="16148" y="9699"/>
                </a:moveTo>
                <a:cubicBezTo>
                  <a:pt x="16148" y="9727"/>
                  <a:pt x="16151" y="9737"/>
                  <a:pt x="16173" y="97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Ink 20"/>
          <p:cNvSpPr/>
          <p:nvPr/>
        </p:nvSpPr>
        <p:spPr>
          <a:xfrm>
            <a:off x="1214280" y="4537080"/>
            <a:ext cx="1857600" cy="812880"/>
          </a:xfrm>
          <a:custGeom>
            <a:avLst/>
            <a:gdLst/>
            <a:ahLst/>
            <a:rect l="l" t="t" r="r" b="b"/>
            <a:pathLst>
              <a:path w="5161" h="2258">
                <a:moveTo>
                  <a:pt x="4242" y="13146"/>
                </a:moveTo>
                <a:cubicBezTo>
                  <a:pt x="4255" y="13157"/>
                  <a:pt x="4282" y="13207"/>
                  <a:pt x="4316" y="13221"/>
                </a:cubicBezTo>
                <a:cubicBezTo>
                  <a:pt x="4341" y="13221"/>
                  <a:pt x="4349" y="13221"/>
                  <a:pt x="4366" y="13221"/>
                </a:cubicBezTo>
                <a:cubicBezTo>
                  <a:pt x="4386" y="13164"/>
                  <a:pt x="4430" y="13090"/>
                  <a:pt x="4440" y="13022"/>
                </a:cubicBezTo>
                <a:cubicBezTo>
                  <a:pt x="4454" y="12923"/>
                  <a:pt x="4487" y="12801"/>
                  <a:pt x="4465" y="12700"/>
                </a:cubicBezTo>
                <a:cubicBezTo>
                  <a:pt x="4440" y="12650"/>
                  <a:pt x="4432" y="12634"/>
                  <a:pt x="4415" y="12601"/>
                </a:cubicBezTo>
                <a:cubicBezTo>
                  <a:pt x="4270" y="12601"/>
                  <a:pt x="4214" y="12609"/>
                  <a:pt x="4093" y="12700"/>
                </a:cubicBezTo>
                <a:cubicBezTo>
                  <a:pt x="3893" y="12850"/>
                  <a:pt x="3743" y="13104"/>
                  <a:pt x="3621" y="13320"/>
                </a:cubicBezTo>
                <a:cubicBezTo>
                  <a:pt x="3442" y="13637"/>
                  <a:pt x="3331" y="14020"/>
                  <a:pt x="3373" y="14387"/>
                </a:cubicBezTo>
                <a:cubicBezTo>
                  <a:pt x="3395" y="14476"/>
                  <a:pt x="3396" y="14501"/>
                  <a:pt x="3448" y="14536"/>
                </a:cubicBezTo>
                <a:cubicBezTo>
                  <a:pt x="3599" y="14554"/>
                  <a:pt x="3640" y="14582"/>
                  <a:pt x="3770" y="14412"/>
                </a:cubicBezTo>
                <a:cubicBezTo>
                  <a:pt x="3902" y="14240"/>
                  <a:pt x="3975" y="14060"/>
                  <a:pt x="4068" y="13866"/>
                </a:cubicBezTo>
                <a:cubicBezTo>
                  <a:pt x="4158" y="13679"/>
                  <a:pt x="4208" y="13492"/>
                  <a:pt x="4266" y="13295"/>
                </a:cubicBezTo>
                <a:cubicBezTo>
                  <a:pt x="4299" y="13183"/>
                  <a:pt x="4310" y="13087"/>
                  <a:pt x="4316" y="12973"/>
                </a:cubicBezTo>
                <a:cubicBezTo>
                  <a:pt x="4221" y="13278"/>
                  <a:pt x="4191" y="13600"/>
                  <a:pt x="4142" y="13915"/>
                </a:cubicBezTo>
                <a:cubicBezTo>
                  <a:pt x="4115" y="14086"/>
                  <a:pt x="4122" y="14296"/>
                  <a:pt x="4192" y="14461"/>
                </a:cubicBezTo>
                <a:cubicBezTo>
                  <a:pt x="4229" y="14549"/>
                  <a:pt x="4335" y="14646"/>
                  <a:pt x="4440" y="14610"/>
                </a:cubicBezTo>
                <a:cubicBezTo>
                  <a:pt x="4585" y="14561"/>
                  <a:pt x="4691" y="14424"/>
                  <a:pt x="4787" y="14312"/>
                </a:cubicBezTo>
                <a:cubicBezTo>
                  <a:pt x="4917" y="14151"/>
                  <a:pt x="4978" y="14070"/>
                  <a:pt x="5060" y="13940"/>
                </a:cubicBezTo>
              </a:path>
              <a:path w="5161" h="2258">
                <a:moveTo>
                  <a:pt x="5283" y="12849"/>
                </a:moveTo>
                <a:cubicBezTo>
                  <a:pt x="5195" y="12937"/>
                  <a:pt x="5107" y="13020"/>
                  <a:pt x="5035" y="13122"/>
                </a:cubicBezTo>
                <a:cubicBezTo>
                  <a:pt x="4968" y="13218"/>
                  <a:pt x="4940" y="13329"/>
                  <a:pt x="4936" y="13444"/>
                </a:cubicBezTo>
                <a:cubicBezTo>
                  <a:pt x="4933" y="13532"/>
                  <a:pt x="5019" y="13630"/>
                  <a:pt x="5085" y="13692"/>
                </a:cubicBezTo>
                <a:cubicBezTo>
                  <a:pt x="5234" y="13831"/>
                  <a:pt x="5346" y="13953"/>
                  <a:pt x="5407" y="14163"/>
                </a:cubicBezTo>
                <a:cubicBezTo>
                  <a:pt x="5449" y="14306"/>
                  <a:pt x="5384" y="14467"/>
                  <a:pt x="5308" y="14585"/>
                </a:cubicBezTo>
                <a:cubicBezTo>
                  <a:pt x="5232" y="14704"/>
                  <a:pt x="5152" y="14813"/>
                  <a:pt x="5011" y="14858"/>
                </a:cubicBezTo>
                <a:cubicBezTo>
                  <a:pt x="4994" y="14858"/>
                  <a:pt x="4978" y="14858"/>
                  <a:pt x="4961" y="14858"/>
                </a:cubicBezTo>
                <a:cubicBezTo>
                  <a:pt x="4911" y="14768"/>
                  <a:pt x="4911" y="14749"/>
                  <a:pt x="4911" y="14635"/>
                </a:cubicBezTo>
                <a:cubicBezTo>
                  <a:pt x="4911" y="14480"/>
                  <a:pt x="4958" y="14339"/>
                  <a:pt x="4986" y="14188"/>
                </a:cubicBezTo>
                <a:cubicBezTo>
                  <a:pt x="5009" y="14052"/>
                  <a:pt x="5011" y="14015"/>
                  <a:pt x="5060" y="13940"/>
                </a:cubicBezTo>
              </a:path>
              <a:path w="5161" h="2258">
                <a:moveTo>
                  <a:pt x="5209" y="13419"/>
                </a:moveTo>
                <a:cubicBezTo>
                  <a:pt x="5256" y="13221"/>
                  <a:pt x="5293" y="13073"/>
                  <a:pt x="5383" y="12898"/>
                </a:cubicBezTo>
                <a:cubicBezTo>
                  <a:pt x="5407" y="12849"/>
                  <a:pt x="5415" y="12832"/>
                  <a:pt x="5432" y="12799"/>
                </a:cubicBezTo>
                <a:cubicBezTo>
                  <a:pt x="5497" y="12882"/>
                  <a:pt x="5489" y="12918"/>
                  <a:pt x="5507" y="13047"/>
                </a:cubicBezTo>
                <a:cubicBezTo>
                  <a:pt x="5535" y="13255"/>
                  <a:pt x="5517" y="13435"/>
                  <a:pt x="5507" y="13643"/>
                </a:cubicBezTo>
                <a:cubicBezTo>
                  <a:pt x="5497" y="13854"/>
                  <a:pt x="5450" y="14054"/>
                  <a:pt x="5432" y="14263"/>
                </a:cubicBezTo>
                <a:cubicBezTo>
                  <a:pt x="5424" y="14355"/>
                  <a:pt x="5324" y="14495"/>
                  <a:pt x="5407" y="14536"/>
                </a:cubicBezTo>
                <a:cubicBezTo>
                  <a:pt x="5415" y="14519"/>
                  <a:pt x="5424" y="14503"/>
                  <a:pt x="5432" y="14486"/>
                </a:cubicBezTo>
                <a:cubicBezTo>
                  <a:pt x="5471" y="14359"/>
                  <a:pt x="5521" y="14221"/>
                  <a:pt x="5556" y="14089"/>
                </a:cubicBezTo>
                <a:cubicBezTo>
                  <a:pt x="5592" y="13953"/>
                  <a:pt x="5622" y="13795"/>
                  <a:pt x="5730" y="13692"/>
                </a:cubicBezTo>
                <a:cubicBezTo>
                  <a:pt x="5773" y="13670"/>
                  <a:pt x="5784" y="13666"/>
                  <a:pt x="5804" y="13643"/>
                </a:cubicBezTo>
                <a:cubicBezTo>
                  <a:pt x="5854" y="13749"/>
                  <a:pt x="5854" y="13811"/>
                  <a:pt x="5854" y="13940"/>
                </a:cubicBezTo>
                <a:cubicBezTo>
                  <a:pt x="5854" y="14145"/>
                  <a:pt x="5843" y="14359"/>
                  <a:pt x="5879" y="14560"/>
                </a:cubicBezTo>
                <a:cubicBezTo>
                  <a:pt x="5899" y="14673"/>
                  <a:pt x="5952" y="14683"/>
                  <a:pt x="6003" y="14734"/>
                </a:cubicBezTo>
                <a:cubicBezTo>
                  <a:pt x="6148" y="14624"/>
                  <a:pt x="6249" y="14521"/>
                  <a:pt x="6350" y="14362"/>
                </a:cubicBezTo>
                <a:cubicBezTo>
                  <a:pt x="6450" y="14204"/>
                  <a:pt x="6540" y="14044"/>
                  <a:pt x="6598" y="13866"/>
                </a:cubicBezTo>
                <a:cubicBezTo>
                  <a:pt x="6642" y="13732"/>
                  <a:pt x="6608" y="13747"/>
                  <a:pt x="6573" y="13643"/>
                </a:cubicBezTo>
                <a:cubicBezTo>
                  <a:pt x="6459" y="13683"/>
                  <a:pt x="6402" y="13699"/>
                  <a:pt x="6325" y="13816"/>
                </a:cubicBezTo>
                <a:cubicBezTo>
                  <a:pt x="6244" y="13939"/>
                  <a:pt x="6216" y="14072"/>
                  <a:pt x="6201" y="14213"/>
                </a:cubicBezTo>
                <a:cubicBezTo>
                  <a:pt x="6201" y="14275"/>
                  <a:pt x="6191" y="14290"/>
                  <a:pt x="6226" y="14312"/>
                </a:cubicBezTo>
                <a:cubicBezTo>
                  <a:pt x="6355" y="14272"/>
                  <a:pt x="6398" y="14259"/>
                  <a:pt x="6474" y="14114"/>
                </a:cubicBezTo>
                <a:cubicBezTo>
                  <a:pt x="6542" y="13984"/>
                  <a:pt x="6601" y="13845"/>
                  <a:pt x="6672" y="13717"/>
                </a:cubicBezTo>
                <a:cubicBezTo>
                  <a:pt x="6680" y="13709"/>
                  <a:pt x="6689" y="13700"/>
                  <a:pt x="6697" y="13692"/>
                </a:cubicBezTo>
                <a:cubicBezTo>
                  <a:pt x="6654" y="13792"/>
                  <a:pt x="6625" y="13884"/>
                  <a:pt x="6598" y="13990"/>
                </a:cubicBezTo>
                <a:cubicBezTo>
                  <a:pt x="6565" y="14120"/>
                  <a:pt x="6556" y="14186"/>
                  <a:pt x="6623" y="14288"/>
                </a:cubicBezTo>
                <a:cubicBezTo>
                  <a:pt x="6631" y="14296"/>
                  <a:pt x="6640" y="14304"/>
                  <a:pt x="6648" y="14312"/>
                </a:cubicBezTo>
                <a:cubicBezTo>
                  <a:pt x="6787" y="14301"/>
                  <a:pt x="6861" y="14254"/>
                  <a:pt x="6970" y="14163"/>
                </a:cubicBezTo>
                <a:cubicBezTo>
                  <a:pt x="7036" y="14105"/>
                  <a:pt x="7103" y="14048"/>
                  <a:pt x="7169" y="13990"/>
                </a:cubicBezTo>
              </a:path>
              <a:path w="5161" h="2258">
                <a:moveTo>
                  <a:pt x="7689" y="13593"/>
                </a:moveTo>
                <a:cubicBezTo>
                  <a:pt x="7817" y="13540"/>
                  <a:pt x="7933" y="13522"/>
                  <a:pt x="8062" y="13494"/>
                </a:cubicBezTo>
                <a:cubicBezTo>
                  <a:pt x="8076" y="13491"/>
                  <a:pt x="8261" y="13427"/>
                  <a:pt x="8260" y="13494"/>
                </a:cubicBezTo>
                <a:cubicBezTo>
                  <a:pt x="8232" y="13494"/>
                  <a:pt x="8221" y="13496"/>
                  <a:pt x="8210" y="13519"/>
                </a:cubicBezTo>
              </a:path>
              <a:path w="5161" h="2258">
                <a:moveTo>
                  <a:pt x="7689" y="13841"/>
                </a:moveTo>
                <a:cubicBezTo>
                  <a:pt x="7813" y="13808"/>
                  <a:pt x="7939" y="13778"/>
                  <a:pt x="8062" y="13742"/>
                </a:cubicBezTo>
                <a:cubicBezTo>
                  <a:pt x="8177" y="13708"/>
                  <a:pt x="8293" y="13639"/>
                  <a:pt x="8409" y="13618"/>
                </a:cubicBezTo>
                <a:cubicBezTo>
                  <a:pt x="8477" y="13618"/>
                  <a:pt x="8496" y="13621"/>
                  <a:pt x="8533" y="135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Ink 21"/>
          <p:cNvSpPr/>
          <p:nvPr/>
        </p:nvSpPr>
        <p:spPr>
          <a:xfrm>
            <a:off x="3321000" y="4367160"/>
            <a:ext cx="1528920" cy="1008000"/>
          </a:xfrm>
          <a:custGeom>
            <a:avLst/>
            <a:gdLst/>
            <a:ahLst/>
            <a:rect l="l" t="t" r="r" b="b"/>
            <a:pathLst>
              <a:path w="4243" h="2804">
                <a:moveTo>
                  <a:pt x="9376" y="12973"/>
                </a:moveTo>
                <a:cubicBezTo>
                  <a:pt x="9367" y="13142"/>
                  <a:pt x="9314" y="13300"/>
                  <a:pt x="9302" y="13469"/>
                </a:cubicBezTo>
                <a:cubicBezTo>
                  <a:pt x="9281" y="13769"/>
                  <a:pt x="9227" y="14061"/>
                  <a:pt x="9227" y="14362"/>
                </a:cubicBezTo>
                <a:cubicBezTo>
                  <a:pt x="9227" y="14379"/>
                  <a:pt x="9227" y="14395"/>
                  <a:pt x="9227" y="14412"/>
                </a:cubicBezTo>
                <a:cubicBezTo>
                  <a:pt x="9241" y="14368"/>
                  <a:pt x="9271" y="14269"/>
                  <a:pt x="9277" y="14188"/>
                </a:cubicBezTo>
                <a:cubicBezTo>
                  <a:pt x="9298" y="13922"/>
                  <a:pt x="9328" y="13658"/>
                  <a:pt x="9376" y="13395"/>
                </a:cubicBezTo>
                <a:cubicBezTo>
                  <a:pt x="9398" y="13271"/>
                  <a:pt x="9445" y="13184"/>
                  <a:pt x="9500" y="13072"/>
                </a:cubicBezTo>
                <a:cubicBezTo>
                  <a:pt x="9518" y="13192"/>
                  <a:pt x="9538" y="13315"/>
                  <a:pt x="9525" y="13444"/>
                </a:cubicBezTo>
                <a:cubicBezTo>
                  <a:pt x="9507" y="13623"/>
                  <a:pt x="9482" y="13808"/>
                  <a:pt x="9500" y="13990"/>
                </a:cubicBezTo>
                <a:cubicBezTo>
                  <a:pt x="9500" y="14066"/>
                  <a:pt x="9501" y="14092"/>
                  <a:pt x="9525" y="14139"/>
                </a:cubicBezTo>
                <a:cubicBezTo>
                  <a:pt x="9567" y="14105"/>
                  <a:pt x="9574" y="14209"/>
                  <a:pt x="9649" y="14064"/>
                </a:cubicBezTo>
                <a:cubicBezTo>
                  <a:pt x="9727" y="13914"/>
                  <a:pt x="9790" y="13703"/>
                  <a:pt x="9847" y="13543"/>
                </a:cubicBezTo>
                <a:cubicBezTo>
                  <a:pt x="9903" y="13387"/>
                  <a:pt x="9941" y="13267"/>
                  <a:pt x="10021" y="13122"/>
                </a:cubicBezTo>
                <a:cubicBezTo>
                  <a:pt x="10013" y="13241"/>
                  <a:pt x="9993" y="13350"/>
                  <a:pt x="9971" y="13469"/>
                </a:cubicBezTo>
                <a:cubicBezTo>
                  <a:pt x="9942" y="13620"/>
                  <a:pt x="9887" y="13809"/>
                  <a:pt x="9922" y="13965"/>
                </a:cubicBezTo>
                <a:cubicBezTo>
                  <a:pt x="9945" y="14032"/>
                  <a:pt x="9950" y="14050"/>
                  <a:pt x="9971" y="14089"/>
                </a:cubicBezTo>
                <a:cubicBezTo>
                  <a:pt x="10090" y="14095"/>
                  <a:pt x="10123" y="14143"/>
                  <a:pt x="10244" y="14064"/>
                </a:cubicBezTo>
                <a:cubicBezTo>
                  <a:pt x="10424" y="13947"/>
                  <a:pt x="10582" y="13619"/>
                  <a:pt x="10641" y="13419"/>
                </a:cubicBezTo>
                <a:cubicBezTo>
                  <a:pt x="10664" y="13342"/>
                  <a:pt x="10637" y="13319"/>
                  <a:pt x="10641" y="13271"/>
                </a:cubicBezTo>
                <a:cubicBezTo>
                  <a:pt x="10533" y="13315"/>
                  <a:pt x="10526" y="13306"/>
                  <a:pt x="10418" y="13444"/>
                </a:cubicBezTo>
                <a:cubicBezTo>
                  <a:pt x="10329" y="13559"/>
                  <a:pt x="10258" y="13743"/>
                  <a:pt x="10269" y="13891"/>
                </a:cubicBezTo>
                <a:cubicBezTo>
                  <a:pt x="10275" y="13969"/>
                  <a:pt x="10302" y="13979"/>
                  <a:pt x="10319" y="14039"/>
                </a:cubicBezTo>
                <a:cubicBezTo>
                  <a:pt x="10472" y="13963"/>
                  <a:pt x="10499" y="13930"/>
                  <a:pt x="10592" y="13767"/>
                </a:cubicBezTo>
                <a:cubicBezTo>
                  <a:pt x="10642" y="13679"/>
                  <a:pt x="10676" y="13585"/>
                  <a:pt x="10716" y="13494"/>
                </a:cubicBezTo>
                <a:cubicBezTo>
                  <a:pt x="10660" y="13564"/>
                  <a:pt x="10606" y="13586"/>
                  <a:pt x="10567" y="13667"/>
                </a:cubicBezTo>
                <a:cubicBezTo>
                  <a:pt x="10527" y="13750"/>
                  <a:pt x="10507" y="13873"/>
                  <a:pt x="10517" y="13965"/>
                </a:cubicBezTo>
                <a:cubicBezTo>
                  <a:pt x="10525" y="13973"/>
                  <a:pt x="10534" y="13982"/>
                  <a:pt x="10542" y="13990"/>
                </a:cubicBezTo>
                <a:cubicBezTo>
                  <a:pt x="10640" y="13944"/>
                  <a:pt x="10679" y="13921"/>
                  <a:pt x="10765" y="13841"/>
                </a:cubicBezTo>
                <a:cubicBezTo>
                  <a:pt x="10900" y="13716"/>
                  <a:pt x="11027" y="13511"/>
                  <a:pt x="11112" y="13345"/>
                </a:cubicBezTo>
                <a:cubicBezTo>
                  <a:pt x="11139" y="13292"/>
                  <a:pt x="11239" y="13091"/>
                  <a:pt x="11212" y="13022"/>
                </a:cubicBezTo>
                <a:cubicBezTo>
                  <a:pt x="11179" y="13022"/>
                  <a:pt x="11162" y="13022"/>
                  <a:pt x="11137" y="13022"/>
                </a:cubicBezTo>
                <a:cubicBezTo>
                  <a:pt x="11004" y="13130"/>
                  <a:pt x="10893" y="13201"/>
                  <a:pt x="10815" y="13370"/>
                </a:cubicBezTo>
                <a:cubicBezTo>
                  <a:pt x="10754" y="13502"/>
                  <a:pt x="10676" y="13666"/>
                  <a:pt x="10716" y="13816"/>
                </a:cubicBezTo>
                <a:cubicBezTo>
                  <a:pt x="10746" y="13930"/>
                  <a:pt x="10769" y="13875"/>
                  <a:pt x="10840" y="13940"/>
                </a:cubicBezTo>
                <a:cubicBezTo>
                  <a:pt x="10938" y="13881"/>
                  <a:pt x="10993" y="13838"/>
                  <a:pt x="11063" y="13742"/>
                </a:cubicBezTo>
                <a:cubicBezTo>
                  <a:pt x="11163" y="13604"/>
                  <a:pt x="11207" y="13403"/>
                  <a:pt x="11261" y="13246"/>
                </a:cubicBezTo>
                <a:cubicBezTo>
                  <a:pt x="11228" y="13307"/>
                  <a:pt x="11161" y="13401"/>
                  <a:pt x="11137" y="13494"/>
                </a:cubicBezTo>
                <a:cubicBezTo>
                  <a:pt x="11065" y="13769"/>
                  <a:pt x="11043" y="14080"/>
                  <a:pt x="11038" y="14362"/>
                </a:cubicBezTo>
                <a:cubicBezTo>
                  <a:pt x="11035" y="14525"/>
                  <a:pt x="11084" y="14756"/>
                  <a:pt x="11013" y="14908"/>
                </a:cubicBezTo>
                <a:cubicBezTo>
                  <a:pt x="10997" y="14916"/>
                  <a:pt x="10980" y="14924"/>
                  <a:pt x="10964" y="14932"/>
                </a:cubicBezTo>
                <a:cubicBezTo>
                  <a:pt x="10901" y="14823"/>
                  <a:pt x="10828" y="14714"/>
                  <a:pt x="10790" y="14585"/>
                </a:cubicBezTo>
                <a:cubicBezTo>
                  <a:pt x="10747" y="14439"/>
                  <a:pt x="10742" y="14234"/>
                  <a:pt x="10790" y="14089"/>
                </a:cubicBezTo>
                <a:cubicBezTo>
                  <a:pt x="10833" y="13958"/>
                  <a:pt x="10926" y="13822"/>
                  <a:pt x="11013" y="13717"/>
                </a:cubicBezTo>
                <a:cubicBezTo>
                  <a:pt x="11148" y="13554"/>
                  <a:pt x="11316" y="13402"/>
                  <a:pt x="11460" y="13246"/>
                </a:cubicBezTo>
                <a:cubicBezTo>
                  <a:pt x="11494" y="13209"/>
                  <a:pt x="11534" y="13153"/>
                  <a:pt x="11559" y="13122"/>
                </a:cubicBezTo>
                <a:cubicBezTo>
                  <a:pt x="11512" y="13161"/>
                  <a:pt x="11406" y="13232"/>
                  <a:pt x="11361" y="13295"/>
                </a:cubicBezTo>
                <a:cubicBezTo>
                  <a:pt x="11301" y="13378"/>
                  <a:pt x="11200" y="13514"/>
                  <a:pt x="11187" y="13618"/>
                </a:cubicBezTo>
                <a:cubicBezTo>
                  <a:pt x="11187" y="13686"/>
                  <a:pt x="11184" y="13705"/>
                  <a:pt x="11212" y="13742"/>
                </a:cubicBezTo>
                <a:cubicBezTo>
                  <a:pt x="11281" y="13742"/>
                  <a:pt x="11321" y="13764"/>
                  <a:pt x="11410" y="13742"/>
                </a:cubicBezTo>
                <a:cubicBezTo>
                  <a:pt x="11563" y="13704"/>
                  <a:pt x="11602" y="13692"/>
                  <a:pt x="11733" y="13692"/>
                </a:cubicBezTo>
                <a:cubicBezTo>
                  <a:pt x="11733" y="13820"/>
                  <a:pt x="11725" y="13895"/>
                  <a:pt x="11683" y="14015"/>
                </a:cubicBezTo>
                <a:cubicBezTo>
                  <a:pt x="11620" y="14195"/>
                  <a:pt x="11563" y="14378"/>
                  <a:pt x="11509" y="14560"/>
                </a:cubicBezTo>
                <a:cubicBezTo>
                  <a:pt x="11480" y="14657"/>
                  <a:pt x="11444" y="14752"/>
                  <a:pt x="11385" y="14833"/>
                </a:cubicBezTo>
                <a:cubicBezTo>
                  <a:pt x="11377" y="14833"/>
                  <a:pt x="11369" y="14833"/>
                  <a:pt x="11361" y="14833"/>
                </a:cubicBezTo>
                <a:cubicBezTo>
                  <a:pt x="11368" y="14642"/>
                  <a:pt x="11385" y="14450"/>
                  <a:pt x="11435" y="14263"/>
                </a:cubicBezTo>
                <a:cubicBezTo>
                  <a:pt x="11483" y="14081"/>
                  <a:pt x="11551" y="13902"/>
                  <a:pt x="11708" y="13791"/>
                </a:cubicBezTo>
                <a:cubicBezTo>
                  <a:pt x="11763" y="13752"/>
                  <a:pt x="11819" y="13772"/>
                  <a:pt x="11881" y="13767"/>
                </a:cubicBezTo>
                <a:cubicBezTo>
                  <a:pt x="11977" y="13759"/>
                  <a:pt x="12004" y="13783"/>
                  <a:pt x="12080" y="13717"/>
                </a:cubicBezTo>
                <a:cubicBezTo>
                  <a:pt x="12177" y="13633"/>
                  <a:pt x="12195" y="13536"/>
                  <a:pt x="12229" y="13419"/>
                </a:cubicBezTo>
                <a:cubicBezTo>
                  <a:pt x="12261" y="13311"/>
                  <a:pt x="12236" y="13234"/>
                  <a:pt x="12229" y="13146"/>
                </a:cubicBezTo>
                <a:cubicBezTo>
                  <a:pt x="12175" y="13162"/>
                  <a:pt x="12162" y="13131"/>
                  <a:pt x="12080" y="13196"/>
                </a:cubicBezTo>
                <a:cubicBezTo>
                  <a:pt x="11965" y="13287"/>
                  <a:pt x="11991" y="13373"/>
                  <a:pt x="11956" y="13494"/>
                </a:cubicBezTo>
                <a:cubicBezTo>
                  <a:pt x="12024" y="13563"/>
                  <a:pt x="12020" y="13674"/>
                  <a:pt x="12179" y="13618"/>
                </a:cubicBezTo>
                <a:cubicBezTo>
                  <a:pt x="12379" y="13548"/>
                  <a:pt x="12563" y="13378"/>
                  <a:pt x="12700" y="13221"/>
                </a:cubicBezTo>
                <a:cubicBezTo>
                  <a:pt x="12790" y="13117"/>
                  <a:pt x="12854" y="12914"/>
                  <a:pt x="12824" y="12774"/>
                </a:cubicBezTo>
                <a:cubicBezTo>
                  <a:pt x="12824" y="12701"/>
                  <a:pt x="12825" y="12677"/>
                  <a:pt x="12774" y="12650"/>
                </a:cubicBezTo>
                <a:cubicBezTo>
                  <a:pt x="12617" y="12643"/>
                  <a:pt x="12545" y="12619"/>
                  <a:pt x="12427" y="12774"/>
                </a:cubicBezTo>
                <a:cubicBezTo>
                  <a:pt x="12335" y="12895"/>
                  <a:pt x="12242" y="13089"/>
                  <a:pt x="12278" y="13246"/>
                </a:cubicBezTo>
                <a:cubicBezTo>
                  <a:pt x="12310" y="13386"/>
                  <a:pt x="12442" y="13489"/>
                  <a:pt x="12576" y="13519"/>
                </a:cubicBezTo>
                <a:cubicBezTo>
                  <a:pt x="12811" y="13571"/>
                  <a:pt x="13168" y="13358"/>
                  <a:pt x="13320" y="13221"/>
                </a:cubicBezTo>
                <a:cubicBezTo>
                  <a:pt x="13419" y="13071"/>
                  <a:pt x="13453" y="13021"/>
                  <a:pt x="13469" y="12898"/>
                </a:cubicBezTo>
              </a:path>
              <a:path w="4243" h="2804">
                <a:moveTo>
                  <a:pt x="12254" y="12129"/>
                </a:moveTo>
                <a:cubicBezTo>
                  <a:pt x="12281" y="12185"/>
                  <a:pt x="12295" y="12202"/>
                  <a:pt x="12353" y="121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ciprocal Identi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92" name="Object 3"/>
          <p:cNvGraphicFramePr/>
          <p:nvPr/>
        </p:nvGraphicFramePr>
        <p:xfrm>
          <a:off x="990720" y="1752480"/>
          <a:ext cx="294624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2946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Object 4"/>
          <p:cNvGraphicFramePr/>
          <p:nvPr/>
        </p:nvGraphicFramePr>
        <p:xfrm>
          <a:off x="4876920" y="1752480"/>
          <a:ext cx="3016080" cy="452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752480"/>
                    <a:ext cx="301608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4:35:34Z</dcterms:created>
  <dc:creator>jnewman</dc:creator>
  <dc:description/>
  <dc:language>en-US</dc:language>
  <cp:lastModifiedBy>abeason</cp:lastModifiedBy>
  <dcterms:modified xsi:type="dcterms:W3CDTF">2009-11-04T13:56:00Z</dcterms:modified>
  <cp:revision>11</cp:revision>
  <dc:subject/>
  <dc:title>Lesson 5.1 part two</dc:title>
</cp:coreProperties>
</file>